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93420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933600" cy="9280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934320" cy="9280440"/>
          </a:xfrm>
          <a:custGeom>
            <a:avLst/>
            <a:gdLst>
              <a:gd name="textAreaLeft" fmla="*/ 360 w 6934320"/>
              <a:gd name="textAreaRight" fmla="*/ 6933960 w 6934320"/>
              <a:gd name="textAreaTop" fmla="*/ 360 h 9280440"/>
              <a:gd name="textAreaBottom" fmla="*/ 9280080 h 9280440"/>
            </a:gdLst>
            <a:ahLst/>
            <a:rect l="textAreaLeft" t="textAreaTop" r="textAreaRight" b="textAreaBottom"/>
            <a:pathLst>
              <a:path w="21600" h="28908">
                <a:moveTo>
                  <a:pt x="4" y="0"/>
                </a:moveTo>
                <a:arcTo wR="4" hR="4" stAng="16200000" swAng="-5400000"/>
                <a:lnTo>
                  <a:pt x="0" y="28904"/>
                </a:lnTo>
                <a:arcTo wR="4" hR="4" stAng="10800000" swAng="-5400000"/>
                <a:lnTo>
                  <a:pt x="21596" y="2890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6934320" cy="9280440"/>
          </a:xfrm>
          <a:custGeom>
            <a:avLst/>
            <a:gdLst>
              <a:gd name="textAreaLeft" fmla="*/ 360 w 6934320"/>
              <a:gd name="textAreaRight" fmla="*/ 6933960 w 6934320"/>
              <a:gd name="textAreaTop" fmla="*/ 360 h 9280440"/>
              <a:gd name="textAreaBottom" fmla="*/ 9280080 h 9280440"/>
            </a:gdLst>
            <a:ahLst/>
            <a:rect l="textAreaLeft" t="textAreaTop" r="textAreaRight" b="textAreaBottom"/>
            <a:pathLst>
              <a:path w="21600" h="28908">
                <a:moveTo>
                  <a:pt x="4" y="0"/>
                </a:moveTo>
                <a:arcTo wR="4" hR="4" stAng="16200000" swAng="-5400000"/>
                <a:lnTo>
                  <a:pt x="0" y="28904"/>
                </a:lnTo>
                <a:arcTo wR="4" hR="4" stAng="10800000" swAng="-5400000"/>
                <a:lnTo>
                  <a:pt x="21596" y="2890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6934320" cy="9280440"/>
          </a:xfrm>
          <a:custGeom>
            <a:avLst/>
            <a:gdLst>
              <a:gd name="textAreaLeft" fmla="*/ 360 w 6934320"/>
              <a:gd name="textAreaRight" fmla="*/ 6933960 w 6934320"/>
              <a:gd name="textAreaTop" fmla="*/ 360 h 9280440"/>
              <a:gd name="textAreaBottom" fmla="*/ 9280080 h 9280440"/>
            </a:gdLst>
            <a:ahLst/>
            <a:rect l="textAreaLeft" t="textAreaTop" r="textAreaRight" b="textAreaBottom"/>
            <a:pathLst>
              <a:path w="21600" h="28908">
                <a:moveTo>
                  <a:pt x="4" y="0"/>
                </a:moveTo>
                <a:arcTo wR="4" hR="4" stAng="16200000" swAng="-5400000"/>
                <a:lnTo>
                  <a:pt x="0" y="28904"/>
                </a:lnTo>
                <a:arcTo wR="4" hR="4" stAng="10800000" swAng="-5400000"/>
                <a:lnTo>
                  <a:pt x="21596" y="28908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hdr"/>
          </p:nvPr>
        </p:nvSpPr>
        <p:spPr>
          <a:xfrm>
            <a:off x="5640480" y="90000"/>
            <a:ext cx="63648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654120" y="90000"/>
            <a:ext cx="822240" cy="21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Img"/>
          </p:nvPr>
        </p:nvSpPr>
        <p:spPr>
          <a:xfrm>
            <a:off x="1152360" y="701640"/>
            <a:ext cx="4624560" cy="3463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923760" y="4408200"/>
            <a:ext cx="5081760" cy="41720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ftr" idx="5"/>
          </p:nvPr>
        </p:nvSpPr>
        <p:spPr>
          <a:xfrm>
            <a:off x="5357520" y="8984880"/>
            <a:ext cx="91908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 type="sldNum" idx="6"/>
          </p:nvPr>
        </p:nvSpPr>
        <p:spPr>
          <a:xfrm>
            <a:off x="3222360" y="8985240"/>
            <a:ext cx="50796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D4B5F43-0DDB-4706-A783-4F3FD39295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22520" y="898524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23960" y="8983800"/>
            <a:ext cx="54864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640" y="297000"/>
            <a:ext cx="5639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154160" y="701640"/>
            <a:ext cx="4626000" cy="34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body"/>
          </p:nvPr>
        </p:nvSpPr>
        <p:spPr>
          <a:xfrm>
            <a:off x="923760" y="4408200"/>
            <a:ext cx="508320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152360" y="701640"/>
            <a:ext cx="4629240" cy="34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body"/>
          </p:nvPr>
        </p:nvSpPr>
        <p:spPr>
          <a:xfrm>
            <a:off x="923760" y="4408200"/>
            <a:ext cx="508320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152360" y="701640"/>
            <a:ext cx="4629240" cy="34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23760" y="4408200"/>
            <a:ext cx="508320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52360" y="701640"/>
            <a:ext cx="4629240" cy="34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body"/>
          </p:nvPr>
        </p:nvSpPr>
        <p:spPr>
          <a:xfrm>
            <a:off x="923760" y="4408200"/>
            <a:ext cx="508320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152360" y="701640"/>
            <a:ext cx="4629240" cy="346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23760" y="4408200"/>
            <a:ext cx="5083200" cy="426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66D9-BEC7-479F-8545-6D9A611AE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4058-F0D6-4EA6-B8FD-4FE68C4AC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2FEC-5036-482B-99E0-324BFFC8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164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38200" y="198072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4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164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38200" y="4127400"/>
            <a:ext cx="250092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6E89-BD48-4DAF-B5E8-92494A18F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6E1D-6D70-4D08-8118-FF0E6A58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85B2-BC3B-497F-A9D6-21611A27F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35D3-ED54-4559-B796-51F80B06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B215-0FC9-4E76-8358-C056DDB3A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440" y="685800"/>
            <a:ext cx="7767720" cy="49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17B2-29BD-4AF5-B0BE-D15E990E2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8EF4-2692-4592-8E67-2CC7E734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41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5960" y="412740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048C-28F2-46D2-857E-2881424AE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5960" y="1980720"/>
            <a:ext cx="379044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440" y="4127400"/>
            <a:ext cx="7767720" cy="196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5A02-6894-4F90-8472-907E6336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767720" cy="106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7720" cy="411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96960" y="329760"/>
            <a:ext cx="1062000" cy="27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076960" y="6474960"/>
            <a:ext cx="461880" cy="1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44840" y="6475320"/>
            <a:ext cx="52560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A3C9F48F-A807-45BA-B5A5-89059A43D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408280" y="334800"/>
            <a:ext cx="2810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oc.: IEEE 802.11-10/0356r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480"/>
            <a:ext cx="777240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84720" y="6475320"/>
            <a:ext cx="713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85800" y="6477120"/>
            <a:ext cx="7848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0666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G11 response to Proposed 802 PAR - March Orlando Plenary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2437920"/>
            <a:ext cx="7772400" cy="39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te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010-03-1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3392640"/>
          <a:ext cx="8138880" cy="2498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392640"/>
                    <a:ext cx="8138880" cy="249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09480" y="30481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hor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9720" y="5349960"/>
            <a:ext cx="8001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his file pruned by Geoff Thompson to only include ES-ECSG cont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03BC-CBD6-4BEA-9B24-729FDAE0339B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Missing Requirement definition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600" spc="-1" strike="noStrike">
                <a:solidFill>
                  <a:srgbClr val="ff0000"/>
                </a:solidFill>
                <a:latin typeface="Times New Roman"/>
              </a:rPr>
              <a:t>EC-ECSG Response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57080"/>
            <a:ext cx="7772400" cy="456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4440" indent="-33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</a:rPr>
              <a:t>Regulatory Authorities’ requirements are not listed 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800" indent="-27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Request for specific requirements that can be identified to be listed in the PAR.  </a:t>
            </a:r>
            <a:br>
              <a:rPr sz="1800"/>
            </a:br>
            <a:r>
              <a:rPr b="0" lang="en-GB" sz="1800" spc="-1" strike="noStrike">
                <a:solidFill>
                  <a:srgbClr val="ff0000"/>
                </a:solidFill>
                <a:latin typeface="Times New Roman"/>
              </a:rPr>
              <a:t>Details at that level of specificity are not customary in a PA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ECRIT Requirements missing from PAR and 5c; Coordination with ECRIT did not occur in SG activities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800" indent="-27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c Requirements from ECRIT for 802 be included in P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800" indent="-27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c plan for coordination with ECR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0800" indent="-278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a Liaison relationship with ECRIT to ensure close coordination and cooperation with ECR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lease describe the plan for addressing these point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4440" indent="-33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Representatives of ES-ECSG will be joining the ECRIT meeting in Anaheim to establish the relationship and identify specific requirements.  It is a regrettable result of our mutual schedules that this interaction did not take place earlier.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AE2C-1A89-4418-841E-037C2946B3D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upport level is insufficient 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3200" spc="-1" strike="noStrike">
                <a:solidFill>
                  <a:srgbClr val="ff0000"/>
                </a:solidFill>
                <a:latin typeface="Times New Roman"/>
              </a:rPr>
              <a:t>ES-ECSG Response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7772400" cy="45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ncern: The participation level at the SG meetings has been fairly light.  Concern that for a new project that sufficient support be demonstrated to warrant the new effort.  Attendance by practical Experts is also a concern.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is is a legitimate concern but participation has been building. Several experts have said they will join as soon as the PAR is approved.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ggestion: delay the start of the WG/TG until more support is garnered.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EEE-SA rules limit the length of time that a group can work without a PAR Delaying PAR approval until a mid-project benchmark is not allowe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E9B9-C08F-479F-884E-61D96669E6C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93640"/>
            <a:ext cx="7772400" cy="946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iming of moving from SG to WG (TG)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ES-ECG Response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62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cern: The Study Group should continue to gather the complete set of requirements from Regulatory Authorities and ECRIT before progressing to a WG/TG.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This would not be appropriate under IEEE_SA rules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cern: IEEE-SA expects that the SG is convened for 6 months, and then a project is given opportunity to progress.  Without a PAR the group does not have full indemnity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Concern: Prior to creating a WG, the requirements of the Project should be defined.</a:t>
            </a:r>
            <a:endParaRPr b="1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-33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Please explain how the SG has evaluated the competing concerns.</a:t>
            </a:r>
            <a:br>
              <a:rPr sz="2200"/>
            </a:b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We are doing the best job we can to accomplish the task and operate within the rules of the IEEE-SA.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7130-4206-49FB-B2FF-7BEC5F931A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pecific Suggested PAR change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ES-ECSG)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8040" indent="-338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.1 …(Item Number and Explanation):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8.1 clause does not include an “Item Number” suggest “5.2 Scope” be inse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8360" indent="-2811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ACCEP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601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8040" indent="0">
              <a:spcBef>
                <a:spcPts val="499"/>
              </a:spcBef>
              <a:buNone/>
              <a:tabLst>
                <a:tab algn="l" pos="0"/>
                <a:tab algn="l" pos="338040"/>
                <a:tab algn="l" pos="450720"/>
                <a:tab algn="l" pos="907920"/>
                <a:tab algn="l" pos="1365120"/>
                <a:tab algn="l" pos="1822320"/>
                <a:tab algn="l" pos="2279520"/>
                <a:tab algn="l" pos="2736720"/>
                <a:tab algn="l" pos="3193920"/>
                <a:tab algn="l" pos="3651120"/>
                <a:tab algn="l" pos="4108320"/>
                <a:tab algn="l" pos="4565520"/>
                <a:tab algn="l" pos="5022720"/>
                <a:tab algn="l" pos="5479920"/>
                <a:tab algn="l" pos="5937120"/>
                <a:tab algn="l" pos="6394320"/>
                <a:tab algn="l" pos="6851520"/>
                <a:tab algn="l" pos="7308720"/>
                <a:tab algn="l" pos="7765920"/>
                <a:tab algn="l" pos="8223120"/>
                <a:tab algn="l" pos="8680320"/>
                <a:tab algn="l" pos="913752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on Rosdahl, CS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9B2A-0887-4C90-ACC0-62E3C4E8F04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rch 2010</a:t>
            </a: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2:37:11Z</dcterms:created>
  <dc:creator>Jon Rosdahl</dc:creator>
  <dc:description/>
  <dc:language>en-US</dc:language>
  <cp:lastModifiedBy>jr05</cp:lastModifiedBy>
  <cp:lastPrinted>1998-02-10T13:28:06Z</cp:lastPrinted>
  <dcterms:modified xsi:type="dcterms:W3CDTF">2010-03-16T16:37:08Z</dcterms:modified>
  <cp:revision>5</cp:revision>
  <dc:subject/>
  <dc:title>WG11 response to Proposed 802 PAR - March Orlando Plenary</dc:title>
</cp:coreProperties>
</file>