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0E322-534C-4506-9247-20CB04A70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BD850-08CC-4641-8A82-6850D3C2B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57FCF-AECE-46E6-8AD4-D8C0858A4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81F32-BA4C-4A00-8A97-BFA917238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A99D7-0BE4-4D1F-B976-DACC08458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1BE70-718F-46DD-97BE-AA554EF4F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86ACC-5302-480E-AF54-54424D1AD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66C38-08AA-4840-85DC-4369373BA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B0F43-D005-4444-98B7-ECA795E9A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F54D8-7CA8-433A-AFBF-863006E61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C190E-45D5-42F8-8DE9-6A670B389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C482B-55DE-4709-8F81-E8BCBE5AE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11EDC2-369C-4EF3-88DB-07233B07220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802 OM, Extracted from:</a:t>
            </a:r>
            <a:br>
              <a:rPr sz="4400"/>
            </a:br>
            <a:r>
              <a:rPr b="0" lang="en-US" sz="4400" spc="-1" strike="noStrike">
                <a:solidFill>
                  <a:srgbClr val="000000"/>
                </a:solidFill>
                <a:latin typeface="Arial"/>
              </a:rPr>
              <a:t>12.3 Plenary Review</a:t>
            </a:r>
            <a:endParaRPr b="0" lang="en-US" sz="4400" spc="-1" strike="noStrike">
              <a:solidFill>
                <a:srgbClr val="000000"/>
              </a:solidFill>
              <a:latin typeface="Arial"/>
            </a:endParaRPr>
          </a:p>
        </p:txBody>
      </p:sp>
      <p:sp>
        <p:nvSpPr>
          <p:cNvPr id="42" name="PlaceHolder 2"/>
          <p:cNvSpPr>
            <a:spLocks noGrp="1"/>
          </p:cNvSpPr>
          <p:nvPr>
            <p:ph/>
          </p:nvPr>
        </p:nvSpPr>
        <p:spPr>
          <a:xfrm>
            <a:off x="502920" y="1767960"/>
            <a:ext cx="9070920" cy="4899240"/>
          </a:xfrm>
          <a:prstGeom prst="rect">
            <a:avLst/>
          </a:prstGeom>
          <a:noFill/>
          <a:ln w="0">
            <a:noFill/>
          </a:ln>
        </p:spPr>
        <p:txBody>
          <a:bodyPr lIns="0" rIns="0" tIns="2124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Gs, other than the proposing WG, shall express concerns to the proposing WG as soon as possible and shall submit comments to the proposing WG and the Sponsor by e-mail not later than 5:00 p.m. on Tuesday of the plenary session. </a:t>
            </a:r>
            <a:endParaRPr b="0" lang="en-US" sz="2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The proposing WG shall post a response to commenting WG and to the Sponsor together with a Final PAR on a public website and circulate the relevant URL on the Sponsor reflector not later than 5:00 p.m. on Wednesday of the plenary session. </a:t>
            </a:r>
            <a:endParaRPr b="0" lang="en-US" sz="2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It will be assumed that insufficient coordination and/or inter-WG consideration had occurred prior to the submission of the PAR if this deadline is not met, and the proposed PAR will not be considered by the Sponsor at the closing Sponsor meeting.</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04:12:04Z</dcterms:created>
  <dc:creator>Geoff Thompson</dc:creator>
  <dc:description/>
  <dc:language>en-US</dc:language>
  <cp:lastModifiedBy/>
  <cp:revision>1</cp:revision>
  <dc:subject/>
  <dc:title/>
</cp:coreProperties>
</file>