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4" name=""/>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5" name=""/>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0" name=""/>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1" name=""/>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2" name=""/>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3" name=""/>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4" name=""/>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5" name="PlaceHolder 1"/>
          <p:cNvSpPr>
            <a:spLocks noGrp="1"/>
          </p:cNvSpPr>
          <p:nvPr>
            <p:ph type="sldImg"/>
          </p:nvPr>
        </p:nvSpPr>
        <p:spPr>
          <a:xfrm>
            <a:off x="1371600" y="763560"/>
            <a:ext cx="5006880" cy="374976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56" name="PlaceHolder 2"/>
          <p:cNvSpPr>
            <a:spLocks noGrp="1"/>
          </p:cNvSpPr>
          <p:nvPr>
            <p:ph type="body"/>
          </p:nvPr>
        </p:nvSpPr>
        <p:spPr>
          <a:xfrm>
            <a:off x="777600" y="4776840"/>
            <a:ext cx="6195960" cy="45036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7" name="PlaceHolder 3"/>
          <p:cNvSpPr>
            <a:spLocks noGrp="1"/>
          </p:cNvSpPr>
          <p:nvPr>
            <p:ph type="hdr"/>
          </p:nvPr>
        </p:nvSpPr>
        <p:spPr>
          <a:xfrm>
            <a:off x="-360" y="0"/>
            <a:ext cx="3351240" cy="48096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rPr>
              <a:t>&lt;header&gt;</a:t>
            </a:r>
            <a:endParaRPr b="0" lang="en-US" sz="1400" spc="-1" strike="noStrike">
              <a:solidFill>
                <a:srgbClr val="000000"/>
              </a:solidFill>
              <a:latin typeface="Arial"/>
            </a:endParaRPr>
          </a:p>
        </p:txBody>
      </p:sp>
      <p:sp>
        <p:nvSpPr>
          <p:cNvPr id="58" name="PlaceHolder 4"/>
          <p:cNvSpPr>
            <a:spLocks noGrp="1"/>
          </p:cNvSpPr>
          <p:nvPr>
            <p:ph type="dt" idx="4"/>
          </p:nvPr>
        </p:nvSpPr>
        <p:spPr>
          <a:xfrm>
            <a:off x="4398480" y="0"/>
            <a:ext cx="3351240" cy="480960"/>
          </a:xfrm>
          <a:prstGeom prst="rect">
            <a:avLst/>
          </a:prstGeom>
          <a:noFill/>
          <a:ln w="0">
            <a:noFill/>
          </a:ln>
        </p:spPr>
        <p:txBody>
          <a:bodyPr lIns="0" rIns="0" tIns="0" bIns="0" anchor="t">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59" name="PlaceHolder 5"/>
          <p:cNvSpPr>
            <a:spLocks noGrp="1"/>
          </p:cNvSpPr>
          <p:nvPr>
            <p:ph type="ftr" idx="5"/>
          </p:nvPr>
        </p:nvSpPr>
        <p:spPr>
          <a:xfrm>
            <a:off x="-360" y="9555120"/>
            <a:ext cx="3351240" cy="480960"/>
          </a:xfrm>
          <a:prstGeom prst="rect">
            <a:avLst/>
          </a:prstGeom>
          <a:noFill/>
          <a:ln w="0">
            <a:noFill/>
          </a:ln>
        </p:spPr>
        <p:txBody>
          <a:bodyPr lIns="0" rIns="0" tIns="0" bIns="0" anchor="b">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60" name="PlaceHolder 6"/>
          <p:cNvSpPr>
            <a:spLocks noGrp="1"/>
          </p:cNvSpPr>
          <p:nvPr>
            <p:ph type="sldNum" idx="6"/>
          </p:nvPr>
        </p:nvSpPr>
        <p:spPr>
          <a:xfrm>
            <a:off x="4398480" y="9555120"/>
            <a:ext cx="3351240" cy="480960"/>
          </a:xfrm>
          <a:prstGeom prst="rect">
            <a:avLst/>
          </a:prstGeom>
          <a:noFill/>
          <a:ln w="0">
            <a:noFill/>
          </a:ln>
        </p:spPr>
        <p:txBody>
          <a:bodyPr lIns="0" rIns="0" tIns="0" bIns="0" anchor="b">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69B1D40-164B-43F4-B611-D8D200B5D94A}"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1371600" y="763560"/>
            <a:ext cx="502920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PlaceHolder 1"/>
          <p:cNvSpPr>
            <a:spLocks noGrp="1"/>
          </p:cNvSpPr>
          <p:nvPr>
            <p:ph type="body"/>
          </p:nvPr>
        </p:nvSpPr>
        <p:spPr>
          <a:xfrm>
            <a:off x="777600" y="4776480"/>
            <a:ext cx="6197400" cy="45068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1371600" y="763560"/>
            <a:ext cx="502920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PlaceHolder 1"/>
          <p:cNvSpPr>
            <a:spLocks noGrp="1"/>
          </p:cNvSpPr>
          <p:nvPr>
            <p:ph type="body"/>
          </p:nvPr>
        </p:nvSpPr>
        <p:spPr>
          <a:xfrm>
            <a:off x="777600" y="4776480"/>
            <a:ext cx="6197400" cy="45068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1371600" y="763560"/>
            <a:ext cx="502920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4" name="PlaceHolder 1"/>
          <p:cNvSpPr>
            <a:spLocks noGrp="1"/>
          </p:cNvSpPr>
          <p:nvPr>
            <p:ph type="body"/>
          </p:nvPr>
        </p:nvSpPr>
        <p:spPr>
          <a:xfrm>
            <a:off x="777600" y="4776480"/>
            <a:ext cx="6197400" cy="45068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1371600" y="763560"/>
            <a:ext cx="502920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PlaceHolder 1"/>
          <p:cNvSpPr>
            <a:spLocks noGrp="1"/>
          </p:cNvSpPr>
          <p:nvPr>
            <p:ph type="body"/>
          </p:nvPr>
        </p:nvSpPr>
        <p:spPr>
          <a:xfrm>
            <a:off x="777960" y="4776840"/>
            <a:ext cx="6208560" cy="45180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200" spc="-1" strike="noStrike">
                <a:solidFill>
                  <a:srgbClr val="000000"/>
                </a:solidFill>
                <a:latin typeface="Times New Roman"/>
                <a:ea typeface="Arial Unicode MS"/>
              </a:rPr>
              <a:t>(GPS reliability in cities and inside buildings is a problem, as is spoofing.)</a:t>
            </a:r>
            <a:endParaRPr b="0" lang="en-US" sz="2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1371600" y="763560"/>
            <a:ext cx="502920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PlaceHolder 1"/>
          <p:cNvSpPr>
            <a:spLocks noGrp="1"/>
          </p:cNvSpPr>
          <p:nvPr>
            <p:ph type="body"/>
          </p:nvPr>
        </p:nvSpPr>
        <p:spPr>
          <a:xfrm>
            <a:off x="777600" y="4776480"/>
            <a:ext cx="6197400" cy="45068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1371600" y="763560"/>
            <a:ext cx="5011560" cy="3754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0" name="PlaceHolder 1"/>
          <p:cNvSpPr>
            <a:spLocks noGrp="1"/>
          </p:cNvSpPr>
          <p:nvPr>
            <p:ph type="body"/>
          </p:nvPr>
        </p:nvSpPr>
        <p:spPr>
          <a:xfrm>
            <a:off x="777600" y="4776480"/>
            <a:ext cx="6197400" cy="45068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p:nvPr/>
        </p:nvSpPr>
        <p:spPr>
          <a:xfrm>
            <a:off x="1371600" y="763560"/>
            <a:ext cx="5013360" cy="3755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2" name="PlaceHolder 1"/>
          <p:cNvSpPr>
            <a:spLocks noGrp="1"/>
          </p:cNvSpPr>
          <p:nvPr>
            <p:ph type="body"/>
          </p:nvPr>
        </p:nvSpPr>
        <p:spPr>
          <a:xfrm>
            <a:off x="777600" y="4776480"/>
            <a:ext cx="6197400" cy="45068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p:nvPr/>
        </p:nvSpPr>
        <p:spPr>
          <a:xfrm>
            <a:off x="1371600" y="763560"/>
            <a:ext cx="5013360" cy="3755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4" name="PlaceHolder 1"/>
          <p:cNvSpPr>
            <a:spLocks noGrp="1"/>
          </p:cNvSpPr>
          <p:nvPr>
            <p:ph type="body"/>
          </p:nvPr>
        </p:nvSpPr>
        <p:spPr>
          <a:xfrm>
            <a:off x="777600" y="4776480"/>
            <a:ext cx="6197400" cy="45068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1371600" y="763560"/>
            <a:ext cx="5013360" cy="3755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PlaceHolder 1"/>
          <p:cNvSpPr>
            <a:spLocks noGrp="1"/>
          </p:cNvSpPr>
          <p:nvPr>
            <p:ph type="body"/>
          </p:nvPr>
        </p:nvSpPr>
        <p:spPr>
          <a:xfrm>
            <a:off x="777600" y="4776480"/>
            <a:ext cx="6197400" cy="45068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8C6CD7-DCA2-4673-9F08-0D7123559B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680"/>
            <a:ext cx="9048600" cy="12398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48600" cy="2369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62840"/>
            <a:ext cx="9048600" cy="2369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AFA65E-9953-456F-A465-8EDCA77478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680"/>
            <a:ext cx="9048600" cy="12398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5400" cy="2369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9360" y="1768320"/>
            <a:ext cx="4415400" cy="2369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62840"/>
            <a:ext cx="4415400" cy="2369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9360" y="4362840"/>
            <a:ext cx="4415400" cy="2369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24D6C2-C9A7-45A6-9EC0-8335C93153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680"/>
            <a:ext cx="9048600" cy="12398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3480" cy="2369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62560" y="1768320"/>
            <a:ext cx="2913480" cy="2369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21840" y="1768320"/>
            <a:ext cx="2913480" cy="2369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62840"/>
            <a:ext cx="2913480" cy="2369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62560" y="4362840"/>
            <a:ext cx="2913480" cy="2369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21840" y="4362840"/>
            <a:ext cx="2913480" cy="2369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89EDE7-05DD-47B3-9340-3A9A139981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680"/>
            <a:ext cx="9048600" cy="12398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48600" cy="496728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2D00EB-1433-489C-B3BF-D77FF454F1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680"/>
            <a:ext cx="9048600" cy="12398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48600" cy="49672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77DBC9-C588-408B-826E-7977E18F1F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680"/>
            <a:ext cx="9048600" cy="12398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5400" cy="49672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9360" y="1768320"/>
            <a:ext cx="4415400" cy="49672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ADDA0E-ABA6-4EDE-B1EB-0F5906C8D6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680"/>
            <a:ext cx="9048600" cy="12398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B83C0C-9FF5-4BA4-86B0-2A4C4AC05F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680"/>
            <a:ext cx="9048600" cy="5748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0DB833-7AD7-4605-8152-607CCBAE71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680"/>
            <a:ext cx="9048600" cy="12398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5400" cy="2369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9360" y="1768320"/>
            <a:ext cx="4415400" cy="49672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62840"/>
            <a:ext cx="4415400" cy="2369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697700-20D6-41F0-9995-146CB2362D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680"/>
            <a:ext cx="9048600" cy="12398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5400" cy="49672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9360" y="1768320"/>
            <a:ext cx="4415400" cy="2369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9360" y="4362840"/>
            <a:ext cx="4415400" cy="2369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DA1C49-79ED-4DF4-B2B9-80EC25622D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680"/>
            <a:ext cx="9048600" cy="12398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5400" cy="2369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9360" y="1768320"/>
            <a:ext cx="4415400" cy="2369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62840"/>
            <a:ext cx="9048600" cy="2369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103AC0-5FA9-4DA0-B653-1611A7851F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680"/>
            <a:ext cx="9048600" cy="12398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48600" cy="496728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7157880"/>
            <a:ext cx="2325600" cy="300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rPr>
              <a:t>03/15/2010</a:t>
            </a:r>
            <a:endParaRPr b="0" lang="en-US" sz="1400" spc="-1" strike="noStrike">
              <a:solidFill>
                <a:srgbClr val="000000"/>
              </a:solidFill>
              <a:latin typeface="Arial"/>
            </a:endParaRPr>
          </a:p>
        </p:txBody>
      </p:sp>
      <p:sp>
        <p:nvSpPr>
          <p:cNvPr id="3" name="PlaceHolder 4"/>
          <p:cNvSpPr>
            <a:spLocks noGrp="1"/>
          </p:cNvSpPr>
          <p:nvPr>
            <p:ph type="ftr" idx="2"/>
          </p:nvPr>
        </p:nvSpPr>
        <p:spPr>
          <a:xfrm>
            <a:off x="3447720" y="7157880"/>
            <a:ext cx="3173400" cy="300240"/>
          </a:xfrm>
          <a:prstGeom prst="rect">
            <a:avLst/>
          </a:prstGeom>
          <a:noFill/>
          <a:ln w="0">
            <a:noFill/>
          </a:ln>
        </p:spPr>
        <p:txBody>
          <a:bodyPr lIns="0" rIns="0" tIns="0" bIns="0" anchor="t">
            <a:noAutofit/>
          </a:bodyPr>
          <a:lstStyle>
            <a:lvl1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defRPr>
            </a:lvl1pPr>
          </a:lstStyle>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rPr>
              <a:t>802 Emergency Services Tutorial</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360" y="7157880"/>
            <a:ext cx="2325960" cy="300240"/>
          </a:xfrm>
          <a:prstGeom prst="rect">
            <a:avLst/>
          </a:prstGeom>
          <a:noFill/>
          <a:ln w="0">
            <a:noFill/>
          </a:ln>
        </p:spPr>
        <p:txBody>
          <a:bodyPr lIns="0" rIns="0" tIns="0" bIns="0" anchor="t">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rPr>
              <a:t>##</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503280" y="301680"/>
            <a:ext cx="9070920" cy="1262160"/>
          </a:xfrm>
          <a:prstGeom prst="rect">
            <a:avLst/>
          </a:prstGeom>
          <a:noFill/>
          <a:ln w="0">
            <a:noFill/>
          </a:ln>
        </p:spPr>
        <p:style>
          <a:lnRef idx="0"/>
          <a:fillRef idx="0"/>
          <a:effectRef idx="0"/>
          <a:fontRef idx="minor"/>
        </p:style>
        <p:txBody>
          <a:bodyPr lIns="0" rIns="0" tIns="3888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General Security Topics</a:t>
            </a:r>
            <a:endParaRPr b="0" lang="en-US" sz="4400" spc="-1" strike="noStrike">
              <a:solidFill>
                <a:srgbClr val="000000"/>
              </a:solidFill>
              <a:latin typeface="Arial"/>
            </a:endParaRPr>
          </a:p>
        </p:txBody>
      </p:sp>
      <p:sp>
        <p:nvSpPr>
          <p:cNvPr id="62" name=""/>
          <p:cNvSpPr/>
          <p:nvPr/>
        </p:nvSpPr>
        <p:spPr>
          <a:xfrm>
            <a:off x="503280" y="301680"/>
            <a:ext cx="9053640" cy="6438960"/>
          </a:xfrm>
          <a:prstGeom prst="rect">
            <a:avLst/>
          </a:prstGeom>
          <a:noFill/>
          <a:ln w="0">
            <a:noFill/>
          </a:ln>
        </p:spPr>
        <p:style>
          <a:lnRef idx="0"/>
          <a:fillRef idx="0"/>
          <a:effectRef idx="0"/>
          <a:fontRef idx="minor"/>
        </p:style>
        <p:txBody>
          <a:bodyPr lIns="0" rIns="0" tIns="0" bIns="0" anchor="ctr">
            <a:noAutofit/>
          </a:bodyPr>
          <a:p>
            <a:pPr marL="411120" indent="-306360" algn="ctr">
              <a:lnSpc>
                <a:spcPct val="93000"/>
              </a:lnSpc>
              <a:spcAft>
                <a:spcPts val="1426"/>
              </a:spcAft>
              <a:tabLst>
                <a:tab algn="l" pos="0"/>
                <a:tab algn="l" pos="412920"/>
                <a:tab algn="l" pos="870120"/>
                <a:tab algn="l" pos="1327320"/>
                <a:tab algn="l" pos="1784520"/>
                <a:tab algn="l" pos="2241720"/>
                <a:tab algn="l" pos="2698920"/>
                <a:tab algn="l" pos="3156120"/>
                <a:tab algn="l" pos="3613320"/>
                <a:tab algn="l" pos="4070520"/>
                <a:tab algn="l" pos="4527720"/>
                <a:tab algn="l" pos="4984920"/>
                <a:tab algn="l" pos="5442120"/>
                <a:tab algn="l" pos="5899320"/>
                <a:tab algn="l" pos="6356520"/>
                <a:tab algn="l" pos="6813720"/>
                <a:tab algn="l" pos="7270920"/>
                <a:tab algn="l" pos="7728120"/>
                <a:tab algn="l" pos="8185320"/>
                <a:tab algn="l" pos="8642520"/>
                <a:tab algn="l" pos="9099720"/>
                <a:tab algn="l" pos="9556920"/>
                <a:tab algn="l" pos="9601200"/>
                <a:tab algn="l" pos="10058400"/>
                <a:tab algn="l" pos="10515600"/>
              </a:tabLst>
            </a:pPr>
            <a:endParaRPr b="0" lang="en-US" sz="2800" spc="-1" strike="noStrike">
              <a:solidFill>
                <a:srgbClr val="000000"/>
              </a:solidFill>
              <a:latin typeface="Arial"/>
            </a:endParaRPr>
          </a:p>
          <a:p>
            <a:pPr marL="411120" indent="-306360" algn="ctr">
              <a:lnSpc>
                <a:spcPct val="93000"/>
              </a:lnSpc>
              <a:spcAft>
                <a:spcPts val="1426"/>
              </a:spcAft>
              <a:buClr>
                <a:srgbClr val="000000"/>
              </a:buClr>
              <a:buSzPct val="45000"/>
              <a:buFont typeface="Wingdings" charset="2"/>
              <a:buChar char=""/>
              <a:tabLst>
                <a:tab algn="l" pos="412920"/>
                <a:tab algn="l" pos="870120"/>
                <a:tab algn="l" pos="1327320"/>
                <a:tab algn="l" pos="1784520"/>
                <a:tab algn="l" pos="2241720"/>
                <a:tab algn="l" pos="2698920"/>
                <a:tab algn="l" pos="3156120"/>
                <a:tab algn="l" pos="3613320"/>
                <a:tab algn="l" pos="4070520"/>
                <a:tab algn="l" pos="4527720"/>
                <a:tab algn="l" pos="4984920"/>
                <a:tab algn="l" pos="5442120"/>
                <a:tab algn="l" pos="5899320"/>
                <a:tab algn="l" pos="6356520"/>
                <a:tab algn="l" pos="6813720"/>
                <a:tab algn="l" pos="7270920"/>
                <a:tab algn="l" pos="7728120"/>
                <a:tab algn="l" pos="8185320"/>
                <a:tab algn="l" pos="8642520"/>
                <a:tab algn="l" pos="9099720"/>
                <a:tab algn="l" pos="9556920"/>
                <a:tab algn="l" pos="9601200"/>
                <a:tab algn="l" pos="10058400"/>
                <a:tab algn="l" pos="10515600"/>
              </a:tabLst>
            </a:pPr>
            <a:r>
              <a:rPr b="0" lang="en-US" sz="2800" spc="-1" strike="noStrike">
                <a:solidFill>
                  <a:srgbClr val="000000"/>
                </a:solidFill>
                <a:latin typeface="Arial"/>
              </a:rPr>
              <a:t>A dedicated VLAN sidesteps some of the issues associated with security.</a:t>
            </a:r>
            <a:endParaRPr b="0" lang="en-US" sz="2800" spc="-1" strike="noStrike">
              <a:solidFill>
                <a:srgbClr val="000000"/>
              </a:solidFill>
              <a:latin typeface="Arial"/>
            </a:endParaRPr>
          </a:p>
          <a:p>
            <a:pPr marL="411120" indent="-306360" algn="ctr">
              <a:lnSpc>
                <a:spcPct val="93000"/>
              </a:lnSpc>
              <a:spcAft>
                <a:spcPts val="1426"/>
              </a:spcAft>
              <a:buClr>
                <a:srgbClr val="000000"/>
              </a:buClr>
              <a:buSzPct val="45000"/>
              <a:buFont typeface="Wingdings" charset="2"/>
              <a:buChar char=""/>
              <a:tabLst>
                <a:tab algn="l" pos="412920"/>
                <a:tab algn="l" pos="870120"/>
                <a:tab algn="l" pos="1327320"/>
                <a:tab algn="l" pos="1784520"/>
                <a:tab algn="l" pos="2241720"/>
                <a:tab algn="l" pos="2698920"/>
                <a:tab algn="l" pos="3156120"/>
                <a:tab algn="l" pos="3613320"/>
                <a:tab algn="l" pos="4070520"/>
                <a:tab algn="l" pos="4527720"/>
                <a:tab algn="l" pos="4984920"/>
                <a:tab algn="l" pos="5442120"/>
                <a:tab algn="l" pos="5899320"/>
                <a:tab algn="l" pos="6356520"/>
                <a:tab algn="l" pos="6813720"/>
                <a:tab algn="l" pos="7270920"/>
                <a:tab algn="l" pos="7728120"/>
                <a:tab algn="l" pos="8185320"/>
                <a:tab algn="l" pos="8642520"/>
                <a:tab algn="l" pos="9099720"/>
                <a:tab algn="l" pos="9556920"/>
                <a:tab algn="l" pos="9601200"/>
                <a:tab algn="l" pos="10058400"/>
                <a:tab algn="l" pos="10515600"/>
              </a:tabLst>
            </a:pPr>
            <a:r>
              <a:rPr b="0" lang="en-US" sz="2800" spc="-1" strike="noStrike">
                <a:solidFill>
                  <a:srgbClr val="000000"/>
                </a:solidFill>
                <a:latin typeface="Arial"/>
              </a:rPr>
              <a:t>Providing location information is forbidden in some countries, mandatory in others.</a:t>
            </a:r>
            <a:endParaRPr b="0" lang="en-US" sz="2800" spc="-1" strike="noStrike">
              <a:solidFill>
                <a:srgbClr val="000000"/>
              </a:solidFill>
              <a:latin typeface="Arial"/>
            </a:endParaRPr>
          </a:p>
          <a:p>
            <a:pPr marL="411120" indent="-306360" algn="ctr">
              <a:lnSpc>
                <a:spcPct val="93000"/>
              </a:lnSpc>
              <a:spcAft>
                <a:spcPts val="1426"/>
              </a:spcAft>
              <a:buClr>
                <a:srgbClr val="000000"/>
              </a:buClr>
              <a:buSzPct val="45000"/>
              <a:buFont typeface="Wingdings" charset="2"/>
              <a:buChar char=""/>
              <a:tabLst>
                <a:tab algn="l" pos="412920"/>
                <a:tab algn="l" pos="870120"/>
                <a:tab algn="l" pos="1327320"/>
                <a:tab algn="l" pos="1784520"/>
                <a:tab algn="l" pos="2241720"/>
                <a:tab algn="l" pos="2698920"/>
                <a:tab algn="l" pos="3156120"/>
                <a:tab algn="l" pos="3613320"/>
                <a:tab algn="l" pos="4070520"/>
                <a:tab algn="l" pos="4527720"/>
                <a:tab algn="l" pos="4984920"/>
                <a:tab algn="l" pos="5442120"/>
                <a:tab algn="l" pos="5899320"/>
                <a:tab algn="l" pos="6356520"/>
                <a:tab algn="l" pos="6813720"/>
                <a:tab algn="l" pos="7270920"/>
                <a:tab algn="l" pos="7728120"/>
                <a:tab algn="l" pos="8185320"/>
                <a:tab algn="l" pos="8642520"/>
                <a:tab algn="l" pos="9099720"/>
                <a:tab algn="l" pos="9556920"/>
                <a:tab algn="l" pos="9601200"/>
                <a:tab algn="l" pos="10058400"/>
                <a:tab algn="l" pos="10515600"/>
              </a:tabLst>
            </a:pPr>
            <a:r>
              <a:rPr b="0" lang="en-US" sz="2800" spc="-1" strike="noStrike">
                <a:solidFill>
                  <a:srgbClr val="000000"/>
                </a:solidFill>
                <a:latin typeface="Arial"/>
              </a:rPr>
              <a:t>Provided location information is considered to be sensitive information.</a:t>
            </a:r>
            <a:endParaRPr b="0" lang="en-US" sz="2800" spc="-1" strike="noStrike">
              <a:solidFill>
                <a:srgbClr val="000000"/>
              </a:solidFill>
              <a:latin typeface="Arial"/>
            </a:endParaRPr>
          </a:p>
          <a:p>
            <a:pPr marL="411120" indent="-306360" algn="ctr">
              <a:lnSpc>
                <a:spcPct val="93000"/>
              </a:lnSpc>
              <a:spcAft>
                <a:spcPts val="1426"/>
              </a:spcAft>
              <a:buClr>
                <a:srgbClr val="000000"/>
              </a:buClr>
              <a:buSzPct val="45000"/>
              <a:buFont typeface="Wingdings" charset="2"/>
              <a:buChar char=""/>
              <a:tabLst>
                <a:tab algn="l" pos="412920"/>
                <a:tab algn="l" pos="870120"/>
                <a:tab algn="l" pos="1327320"/>
                <a:tab algn="l" pos="1784520"/>
                <a:tab algn="l" pos="2241720"/>
                <a:tab algn="l" pos="2698920"/>
                <a:tab algn="l" pos="3156120"/>
                <a:tab algn="l" pos="3613320"/>
                <a:tab algn="l" pos="4070520"/>
                <a:tab algn="l" pos="4527720"/>
                <a:tab algn="l" pos="4984920"/>
                <a:tab algn="l" pos="5442120"/>
                <a:tab algn="l" pos="5899320"/>
                <a:tab algn="l" pos="6356520"/>
                <a:tab algn="l" pos="6813720"/>
                <a:tab algn="l" pos="7270920"/>
                <a:tab algn="l" pos="7728120"/>
                <a:tab algn="l" pos="8185320"/>
                <a:tab algn="l" pos="8642520"/>
                <a:tab algn="l" pos="9099720"/>
                <a:tab algn="l" pos="9556920"/>
                <a:tab algn="l" pos="9601200"/>
                <a:tab algn="l" pos="10058400"/>
                <a:tab algn="l" pos="10515600"/>
              </a:tabLst>
            </a:pPr>
            <a:r>
              <a:rPr b="0" lang="en-US" sz="2800" spc="-1" strike="noStrike">
                <a:solidFill>
                  <a:srgbClr val="000000"/>
                </a:solidFill>
                <a:latin typeface="Arial"/>
              </a:rPr>
              <a:t>Information integrity across the call is a security issue.</a:t>
            </a:r>
            <a:endParaRPr b="0" lang="en-US" sz="2800" spc="-1" strike="noStrike">
              <a:solidFill>
                <a:srgbClr val="000000"/>
              </a:solidFill>
              <a:latin typeface="Arial"/>
            </a:endParaRPr>
          </a:p>
          <a:p>
            <a:pPr marL="411120" indent="-306360" algn="ctr">
              <a:lnSpc>
                <a:spcPct val="93000"/>
              </a:lnSpc>
              <a:spcAft>
                <a:spcPts val="1426"/>
              </a:spcAft>
              <a:buClr>
                <a:srgbClr val="000000"/>
              </a:buClr>
              <a:buSzPct val="45000"/>
              <a:buFont typeface="Wingdings" charset="2"/>
              <a:buChar char=""/>
              <a:tabLst>
                <a:tab algn="l" pos="412920"/>
                <a:tab algn="l" pos="870120"/>
                <a:tab algn="l" pos="1327320"/>
                <a:tab algn="l" pos="1784520"/>
                <a:tab algn="l" pos="2241720"/>
                <a:tab algn="l" pos="2698920"/>
                <a:tab algn="l" pos="3156120"/>
                <a:tab algn="l" pos="3613320"/>
                <a:tab algn="l" pos="4070520"/>
                <a:tab algn="l" pos="4527720"/>
                <a:tab algn="l" pos="4984920"/>
                <a:tab algn="l" pos="5442120"/>
                <a:tab algn="l" pos="5899320"/>
                <a:tab algn="l" pos="6356520"/>
                <a:tab algn="l" pos="6813720"/>
                <a:tab algn="l" pos="7270920"/>
                <a:tab algn="l" pos="7728120"/>
                <a:tab algn="l" pos="8185320"/>
                <a:tab algn="l" pos="8642520"/>
                <a:tab algn="l" pos="9099720"/>
                <a:tab algn="l" pos="9556920"/>
                <a:tab algn="l" pos="9601200"/>
                <a:tab algn="l" pos="10058400"/>
                <a:tab algn="l" pos="10515600"/>
              </a:tabLst>
            </a:pPr>
            <a:r>
              <a:rPr b="0" lang="en-US" sz="2800" spc="-1" strike="noStrike">
                <a:solidFill>
                  <a:srgbClr val="000000"/>
                </a:solidFill>
                <a:latin typeface="Arial"/>
              </a:rPr>
              <a:t>Information needed for call back is considered to be sensitive.</a:t>
            </a:r>
            <a:endParaRPr b="0" lang="en-US" sz="2800" spc="-1" strike="noStrike">
              <a:solidFill>
                <a:srgbClr val="000000"/>
              </a:solidFill>
              <a:latin typeface="Arial"/>
            </a:endParaRPr>
          </a:p>
          <a:p>
            <a:pPr marL="411120" indent="-306360" algn="ctr">
              <a:lnSpc>
                <a:spcPct val="93000"/>
              </a:lnSpc>
              <a:spcAft>
                <a:spcPts val="1426"/>
              </a:spcAft>
              <a:buClr>
                <a:srgbClr val="000000"/>
              </a:buClr>
              <a:buSzPct val="45000"/>
              <a:buFont typeface="Wingdings" charset="2"/>
              <a:buChar char=""/>
              <a:tabLst>
                <a:tab algn="l" pos="412920"/>
                <a:tab algn="l" pos="870120"/>
                <a:tab algn="l" pos="1327320"/>
                <a:tab algn="l" pos="1784520"/>
                <a:tab algn="l" pos="2241720"/>
                <a:tab algn="l" pos="2698920"/>
                <a:tab algn="l" pos="3156120"/>
                <a:tab algn="l" pos="3613320"/>
                <a:tab algn="l" pos="4070520"/>
                <a:tab algn="l" pos="4527720"/>
                <a:tab algn="l" pos="4984920"/>
                <a:tab algn="l" pos="5442120"/>
                <a:tab algn="l" pos="5899320"/>
                <a:tab algn="l" pos="6356520"/>
                <a:tab algn="l" pos="6813720"/>
                <a:tab algn="l" pos="7270920"/>
                <a:tab algn="l" pos="7728120"/>
                <a:tab algn="l" pos="8185320"/>
                <a:tab algn="l" pos="8642520"/>
                <a:tab algn="l" pos="9099720"/>
                <a:tab algn="l" pos="9556920"/>
                <a:tab algn="l" pos="9601200"/>
                <a:tab algn="l" pos="10058400"/>
                <a:tab algn="l" pos="10515600"/>
              </a:tabLst>
            </a:pPr>
            <a:r>
              <a:rPr b="0" lang="en-US" sz="2800" spc="-1" strike="noStrike">
                <a:solidFill>
                  <a:srgbClr val="000000"/>
                </a:solidFill>
                <a:latin typeface="Arial"/>
              </a:rPr>
              <a:t>The actual content of the call may be considered to be sensitive.</a:t>
            </a:r>
            <a:endParaRPr b="0" lang="en-US" sz="2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502920" y="8568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ecurity (2)</a:t>
            </a:r>
            <a:endParaRPr b="0" lang="en-US" sz="4400" spc="-1" strike="noStrike">
              <a:solidFill>
                <a:srgbClr val="000000"/>
              </a:solidFill>
              <a:latin typeface="Arial"/>
            </a:endParaRPr>
          </a:p>
        </p:txBody>
      </p:sp>
      <p:sp>
        <p:nvSpPr>
          <p:cNvPr id="64" name="PlaceHolder 2"/>
          <p:cNvSpPr>
            <a:spLocks noGrp="1"/>
          </p:cNvSpPr>
          <p:nvPr>
            <p:ph/>
          </p:nvPr>
        </p:nvSpPr>
        <p:spPr>
          <a:xfrm>
            <a:off x="503280" y="1134720"/>
            <a:ext cx="9097920" cy="5830920"/>
          </a:xfrm>
          <a:prstGeom prst="rect">
            <a:avLst/>
          </a:prstGeom>
          <a:noFill/>
          <a:ln w="0">
            <a:noFill/>
          </a:ln>
        </p:spPr>
        <p:txBody>
          <a:bodyPr lIns="0" rIns="0" tIns="21240" bIns="0" anchor="t">
            <a:normAutofit/>
          </a:bodyPr>
          <a:p>
            <a:pPr marL="411120" indent="0">
              <a:lnSpc>
                <a:spcPct val="93000"/>
              </a:lnSpc>
              <a:spcAft>
                <a:spcPts val="1426"/>
              </a:spcAft>
              <a:buNone/>
              <a:tabLst>
                <a:tab algn="l" pos="0"/>
                <a:tab algn="l" pos="412920"/>
                <a:tab algn="l" pos="525600"/>
                <a:tab algn="l" pos="982800"/>
                <a:tab algn="l" pos="1440000"/>
                <a:tab algn="l" pos="1897200"/>
                <a:tab algn="l" pos="2354400"/>
                <a:tab algn="l" pos="2811600"/>
                <a:tab algn="l" pos="3268800"/>
                <a:tab algn="l" pos="3726000"/>
                <a:tab algn="l" pos="4183200"/>
                <a:tab algn="l" pos="4640400"/>
                <a:tab algn="l" pos="5097600"/>
                <a:tab algn="l" pos="5554800"/>
                <a:tab algn="l" pos="6012000"/>
                <a:tab algn="l" pos="6469200"/>
                <a:tab algn="l" pos="6926400"/>
                <a:tab algn="l" pos="7383600"/>
                <a:tab algn="l" pos="7840800"/>
                <a:tab algn="l" pos="8298000"/>
                <a:tab algn="l" pos="8755200"/>
                <a:tab algn="l" pos="9212400"/>
                <a:tab algn="l" pos="9601200"/>
                <a:tab algn="l" pos="10058400"/>
                <a:tab algn="l" pos="10515600"/>
              </a:tabLst>
            </a:pPr>
            <a:endParaRPr b="0" lang="en-US" sz="2400" spc="-1" strike="noStrike">
              <a:solidFill>
                <a:srgbClr val="000000"/>
              </a:solidFill>
              <a:latin typeface="Arial"/>
            </a:endParaRPr>
          </a:p>
          <a:p>
            <a:pPr marL="411120" indent="-306360">
              <a:lnSpc>
                <a:spcPct val="93000"/>
              </a:lnSpc>
              <a:spcAft>
                <a:spcPts val="1426"/>
              </a:spcAft>
              <a:buClr>
                <a:srgbClr val="000000"/>
              </a:buClr>
              <a:buSzPct val="45000"/>
              <a:buFont typeface="Wingdings" charset="2"/>
              <a:buChar char=""/>
              <a:tabLst>
                <a:tab algn="l" pos="412920"/>
                <a:tab algn="l" pos="525600"/>
                <a:tab algn="l" pos="982800"/>
                <a:tab algn="l" pos="1440000"/>
                <a:tab algn="l" pos="1897200"/>
                <a:tab algn="l" pos="2354400"/>
                <a:tab algn="l" pos="2811600"/>
                <a:tab algn="l" pos="3268800"/>
                <a:tab algn="l" pos="3726000"/>
                <a:tab algn="l" pos="4183200"/>
                <a:tab algn="l" pos="4640400"/>
                <a:tab algn="l" pos="5097600"/>
                <a:tab algn="l" pos="5554800"/>
                <a:tab algn="l" pos="6012000"/>
                <a:tab algn="l" pos="6469200"/>
                <a:tab algn="l" pos="6926400"/>
                <a:tab algn="l" pos="7383600"/>
                <a:tab algn="l" pos="7840800"/>
                <a:tab algn="l" pos="8298000"/>
                <a:tab algn="l" pos="8755200"/>
                <a:tab algn="l" pos="9212400"/>
                <a:tab algn="l" pos="9601200"/>
                <a:tab algn="l" pos="10058400"/>
                <a:tab algn="l" pos="10515600"/>
              </a:tabLst>
            </a:pPr>
            <a:r>
              <a:rPr b="0" lang="en-US" sz="2400" spc="-1" strike="noStrike">
                <a:solidFill>
                  <a:srgbClr val="000000"/>
                </a:solidFill>
                <a:latin typeface="Arial"/>
              </a:rPr>
              <a:t>The security considerations for ECRIT are put forth</a:t>
            </a:r>
            <a:br>
              <a:rPr sz="2400"/>
            </a:br>
            <a:r>
              <a:rPr b="0" lang="en-US" sz="2400" spc="-1" strike="noStrike">
                <a:solidFill>
                  <a:srgbClr val="000000"/>
                </a:solidFill>
                <a:latin typeface="Arial"/>
              </a:rPr>
              <a:t>in IETF RFC-5069</a:t>
            </a:r>
            <a:endParaRPr b="0" lang="en-US" sz="2400" spc="-1" strike="noStrike">
              <a:solidFill>
                <a:srgbClr val="000000"/>
              </a:solidFill>
              <a:latin typeface="Arial"/>
            </a:endParaRPr>
          </a:p>
          <a:p>
            <a:pPr marL="411120" indent="-306360">
              <a:lnSpc>
                <a:spcPct val="93000"/>
              </a:lnSpc>
              <a:spcAft>
                <a:spcPts val="1426"/>
              </a:spcAft>
              <a:buClr>
                <a:srgbClr val="000000"/>
              </a:buClr>
              <a:buSzPct val="45000"/>
              <a:buFont typeface="Wingdings" charset="2"/>
              <a:buChar char=""/>
              <a:tabLst>
                <a:tab algn="l" pos="412920"/>
                <a:tab algn="l" pos="525600"/>
                <a:tab algn="l" pos="982800"/>
                <a:tab algn="l" pos="1440000"/>
                <a:tab algn="l" pos="1897200"/>
                <a:tab algn="l" pos="2354400"/>
                <a:tab algn="l" pos="2811600"/>
                <a:tab algn="l" pos="3268800"/>
                <a:tab algn="l" pos="3726000"/>
                <a:tab algn="l" pos="4183200"/>
                <a:tab algn="l" pos="4640400"/>
                <a:tab algn="l" pos="5097600"/>
                <a:tab algn="l" pos="5554800"/>
                <a:tab algn="l" pos="6012000"/>
                <a:tab algn="l" pos="6469200"/>
                <a:tab algn="l" pos="6926400"/>
                <a:tab algn="l" pos="7383600"/>
                <a:tab algn="l" pos="7840800"/>
                <a:tab algn="l" pos="8298000"/>
                <a:tab algn="l" pos="8755200"/>
                <a:tab algn="l" pos="9212400"/>
                <a:tab algn="l" pos="9601200"/>
                <a:tab algn="l" pos="10058400"/>
                <a:tab algn="l" pos="10515600"/>
              </a:tabLst>
            </a:pPr>
            <a:r>
              <a:rPr b="0" lang="en-US" sz="2400" spc="-1" strike="noStrike">
                <a:solidFill>
                  <a:srgbClr val="000000"/>
                </a:solidFill>
                <a:latin typeface="Arial"/>
              </a:rPr>
              <a:t>There are a few problems which seem to be intractable in a wireless environment with unauthenticated users.</a:t>
            </a:r>
            <a:endParaRPr b="0" lang="en-US" sz="2400" spc="-1" strike="noStrike">
              <a:solidFill>
                <a:srgbClr val="000000"/>
              </a:solidFill>
              <a:latin typeface="Arial"/>
            </a:endParaRPr>
          </a:p>
          <a:p>
            <a:pPr marL="411120" indent="-306360">
              <a:lnSpc>
                <a:spcPct val="93000"/>
              </a:lnSpc>
              <a:spcAft>
                <a:spcPts val="1426"/>
              </a:spcAft>
              <a:buClr>
                <a:srgbClr val="000000"/>
              </a:buClr>
              <a:buSzPct val="45000"/>
              <a:buFont typeface="Wingdings" charset="2"/>
              <a:buChar char=""/>
              <a:tabLst>
                <a:tab algn="l" pos="412920"/>
                <a:tab algn="l" pos="525600"/>
                <a:tab algn="l" pos="982800"/>
                <a:tab algn="l" pos="1440000"/>
                <a:tab algn="l" pos="1897200"/>
                <a:tab algn="l" pos="2354400"/>
                <a:tab algn="l" pos="2811600"/>
                <a:tab algn="l" pos="3268800"/>
                <a:tab algn="l" pos="3726000"/>
                <a:tab algn="l" pos="4183200"/>
                <a:tab algn="l" pos="4640400"/>
                <a:tab algn="l" pos="5097600"/>
                <a:tab algn="l" pos="5554800"/>
                <a:tab algn="l" pos="6012000"/>
                <a:tab algn="l" pos="6469200"/>
                <a:tab algn="l" pos="6926400"/>
                <a:tab algn="l" pos="7383600"/>
                <a:tab algn="l" pos="7840800"/>
                <a:tab algn="l" pos="8298000"/>
                <a:tab algn="l" pos="8755200"/>
                <a:tab algn="l" pos="9212400"/>
                <a:tab algn="l" pos="9601200"/>
                <a:tab algn="l" pos="10058400"/>
                <a:tab algn="l" pos="10515600"/>
              </a:tabLst>
            </a:pPr>
            <a:r>
              <a:rPr b="0" lang="en-US" sz="2400" spc="-1" strike="noStrike">
                <a:solidFill>
                  <a:srgbClr val="000000"/>
                </a:solidFill>
                <a:latin typeface="Arial"/>
              </a:rPr>
              <a:t>Originating call location information from unauthenticated users will be visible (“Hollywood Paparazzi Problem”) unless we encrypt (at least) the over-the-air portion of those calls.</a:t>
            </a:r>
            <a:endParaRPr b="0" lang="en-US" sz="2400" spc="-1" strike="noStrike">
              <a:solidFill>
                <a:srgbClr val="000000"/>
              </a:solidFill>
              <a:latin typeface="Arial"/>
            </a:endParaRPr>
          </a:p>
          <a:p>
            <a:pPr lvl="1" marL="843120" indent="-316080">
              <a:lnSpc>
                <a:spcPct val="93000"/>
              </a:lnSpc>
              <a:spcAft>
                <a:spcPts val="1137"/>
              </a:spcAft>
              <a:buClr>
                <a:srgbClr val="000000"/>
              </a:buClr>
              <a:buSzPct val="45000"/>
              <a:buFont typeface="Wingdings" charset="2"/>
              <a:buChar char=""/>
              <a:tabLst>
                <a:tab algn="l" pos="412920"/>
                <a:tab algn="l" pos="525600"/>
                <a:tab algn="l" pos="982800"/>
                <a:tab algn="l" pos="1440000"/>
                <a:tab algn="l" pos="1897200"/>
                <a:tab algn="l" pos="2354400"/>
                <a:tab algn="l" pos="2811600"/>
                <a:tab algn="l" pos="3268800"/>
                <a:tab algn="l" pos="3726000"/>
                <a:tab algn="l" pos="4183200"/>
                <a:tab algn="l" pos="4640400"/>
                <a:tab algn="l" pos="5097600"/>
                <a:tab algn="l" pos="5554800"/>
                <a:tab algn="l" pos="6012000"/>
                <a:tab algn="l" pos="6469200"/>
                <a:tab algn="l" pos="6926400"/>
                <a:tab algn="l" pos="7383600"/>
                <a:tab algn="l" pos="7840800"/>
                <a:tab algn="l" pos="8298000"/>
                <a:tab algn="l" pos="8755200"/>
                <a:tab algn="l" pos="9212400"/>
                <a:tab algn="l" pos="9601200"/>
                <a:tab algn="l" pos="10058400"/>
                <a:tab algn="l" pos="10515600"/>
              </a:tabLst>
            </a:pPr>
            <a:r>
              <a:rPr b="0" lang="en-US" sz="2400" spc="-1" strike="noStrike">
                <a:solidFill>
                  <a:srgbClr val="000000"/>
                </a:solidFill>
                <a:latin typeface="Arial"/>
              </a:rPr>
              <a:t>We believe that the current population of public access points has no way to provide encryption for unauthenticated users.</a:t>
            </a:r>
            <a:endParaRPr b="0" lang="en-US" sz="2400" spc="-1" strike="noStrike">
              <a:solidFill>
                <a:srgbClr val="000000"/>
              </a:solidFill>
              <a:latin typeface="Arial"/>
            </a:endParaRPr>
          </a:p>
          <a:p>
            <a:pPr lvl="1" marL="843120" indent="-316080">
              <a:lnSpc>
                <a:spcPct val="93000"/>
              </a:lnSpc>
              <a:spcAft>
                <a:spcPts val="1137"/>
              </a:spcAft>
              <a:buClr>
                <a:srgbClr val="000000"/>
              </a:buClr>
              <a:buSzPct val="45000"/>
              <a:buFont typeface="Wingdings" charset="2"/>
              <a:buChar char=""/>
              <a:tabLst>
                <a:tab algn="l" pos="412920"/>
                <a:tab algn="l" pos="525600"/>
                <a:tab algn="l" pos="982800"/>
                <a:tab algn="l" pos="1440000"/>
                <a:tab algn="l" pos="1897200"/>
                <a:tab algn="l" pos="2354400"/>
                <a:tab algn="l" pos="2811600"/>
                <a:tab algn="l" pos="3268800"/>
                <a:tab algn="l" pos="3726000"/>
                <a:tab algn="l" pos="4183200"/>
                <a:tab algn="l" pos="4640400"/>
                <a:tab algn="l" pos="5097600"/>
                <a:tab algn="l" pos="5554800"/>
                <a:tab algn="l" pos="6012000"/>
                <a:tab algn="l" pos="6469200"/>
                <a:tab algn="l" pos="6926400"/>
                <a:tab algn="l" pos="7383600"/>
                <a:tab algn="l" pos="7840800"/>
                <a:tab algn="l" pos="8298000"/>
                <a:tab algn="l" pos="8755200"/>
                <a:tab algn="l" pos="9212400"/>
                <a:tab algn="l" pos="9601200"/>
                <a:tab algn="l" pos="10058400"/>
                <a:tab algn="l" pos="10515600"/>
              </a:tabLst>
            </a:pPr>
            <a:r>
              <a:rPr b="0" lang="en-US" sz="2400" spc="-1" strike="noStrike">
                <a:solidFill>
                  <a:srgbClr val="000000"/>
                </a:solidFill>
                <a:latin typeface="Arial"/>
              </a:rPr>
              <a:t>We believe that the current population of 802.11 access points has no way to preserve security while switching SSIDs (for further investigation).</a:t>
            </a:r>
            <a:endParaRPr b="0" lang="en-US" sz="2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ecurity (3)</a:t>
            </a:r>
            <a:endParaRPr b="0" lang="en-US" sz="4400" spc="-1" strike="noStrike">
              <a:solidFill>
                <a:srgbClr val="000000"/>
              </a:solidFill>
              <a:latin typeface="Arial"/>
            </a:endParaRPr>
          </a:p>
        </p:txBody>
      </p:sp>
      <p:sp>
        <p:nvSpPr>
          <p:cNvPr id="66" name="PlaceHolder 2"/>
          <p:cNvSpPr>
            <a:spLocks noGrp="1"/>
          </p:cNvSpPr>
          <p:nvPr>
            <p:ph/>
          </p:nvPr>
        </p:nvSpPr>
        <p:spPr>
          <a:xfrm>
            <a:off x="503280" y="1026720"/>
            <a:ext cx="9097920" cy="6288120"/>
          </a:xfrm>
          <a:prstGeom prst="rect">
            <a:avLst/>
          </a:prstGeom>
          <a:noFill/>
          <a:ln w="0">
            <a:noFill/>
          </a:ln>
        </p:spPr>
        <p:txBody>
          <a:bodyPr lIns="0" rIns="0" tIns="23040" bIns="0" anchor="t">
            <a:normAutofit/>
          </a:bodyPr>
          <a:p>
            <a:pPr marL="411120" indent="0">
              <a:lnSpc>
                <a:spcPct val="93000"/>
              </a:lnSpc>
              <a:spcAft>
                <a:spcPts val="1426"/>
              </a:spcAft>
              <a:buNone/>
              <a:tabLst>
                <a:tab algn="l" pos="0"/>
                <a:tab algn="l" pos="412920"/>
                <a:tab algn="l" pos="525600"/>
                <a:tab algn="l" pos="982800"/>
                <a:tab algn="l" pos="1440000"/>
                <a:tab algn="l" pos="1897200"/>
                <a:tab algn="l" pos="2354400"/>
                <a:tab algn="l" pos="2811600"/>
                <a:tab algn="l" pos="3268800"/>
                <a:tab algn="l" pos="3726000"/>
                <a:tab algn="l" pos="4183200"/>
                <a:tab algn="l" pos="4640400"/>
                <a:tab algn="l" pos="5097600"/>
                <a:tab algn="l" pos="5554800"/>
                <a:tab algn="l" pos="6012000"/>
                <a:tab algn="l" pos="6469200"/>
                <a:tab algn="l" pos="6926400"/>
                <a:tab algn="l" pos="7383600"/>
                <a:tab algn="l" pos="7840800"/>
                <a:tab algn="l" pos="8298000"/>
                <a:tab algn="l" pos="8755200"/>
                <a:tab algn="l" pos="9212400"/>
                <a:tab algn="l" pos="9601200"/>
                <a:tab algn="l" pos="10058400"/>
                <a:tab algn="l" pos="10515600"/>
              </a:tabLst>
            </a:pPr>
            <a:endParaRPr b="0" lang="en-US" sz="2600" spc="-1" strike="noStrike">
              <a:solidFill>
                <a:srgbClr val="000000"/>
              </a:solidFill>
              <a:latin typeface="Arial"/>
            </a:endParaRPr>
          </a:p>
          <a:p>
            <a:pPr marL="411120" indent="-306360">
              <a:lnSpc>
                <a:spcPct val="93000"/>
              </a:lnSpc>
              <a:spcAft>
                <a:spcPts val="1426"/>
              </a:spcAft>
              <a:buClr>
                <a:srgbClr val="000000"/>
              </a:buClr>
              <a:buSzPct val="45000"/>
              <a:buFont typeface="Wingdings" charset="2"/>
              <a:buChar char=""/>
              <a:tabLst>
                <a:tab algn="l" pos="412920"/>
                <a:tab algn="l" pos="525600"/>
                <a:tab algn="l" pos="982800"/>
                <a:tab algn="l" pos="1440000"/>
                <a:tab algn="l" pos="1897200"/>
                <a:tab algn="l" pos="2354400"/>
                <a:tab algn="l" pos="2811600"/>
                <a:tab algn="l" pos="3268800"/>
                <a:tab algn="l" pos="3726000"/>
                <a:tab algn="l" pos="4183200"/>
                <a:tab algn="l" pos="4640400"/>
                <a:tab algn="l" pos="5097600"/>
                <a:tab algn="l" pos="5554800"/>
                <a:tab algn="l" pos="6012000"/>
                <a:tab algn="l" pos="6469200"/>
                <a:tab algn="l" pos="6926400"/>
                <a:tab algn="l" pos="7383600"/>
                <a:tab algn="l" pos="7840800"/>
                <a:tab algn="l" pos="8298000"/>
                <a:tab algn="l" pos="8755200"/>
                <a:tab algn="l" pos="9212400"/>
                <a:tab algn="l" pos="9601200"/>
                <a:tab algn="l" pos="10058400"/>
                <a:tab algn="l" pos="10515600"/>
              </a:tabLst>
            </a:pPr>
            <a:r>
              <a:rPr b="0" lang="en-US" sz="2400" spc="-1" strike="noStrike">
                <a:solidFill>
                  <a:srgbClr val="000000"/>
                </a:solidFill>
                <a:latin typeface="Arial"/>
              </a:rPr>
              <a:t>First hop encryption is a significant challenge.</a:t>
            </a:r>
            <a:endParaRPr b="0" lang="en-US" sz="2400" spc="-1" strike="noStrike">
              <a:solidFill>
                <a:srgbClr val="000000"/>
              </a:solidFill>
              <a:latin typeface="Arial"/>
            </a:endParaRPr>
          </a:p>
          <a:p>
            <a:pPr marL="411120" indent="-306360">
              <a:lnSpc>
                <a:spcPct val="93000"/>
              </a:lnSpc>
              <a:spcAft>
                <a:spcPts val="1426"/>
              </a:spcAft>
              <a:buClr>
                <a:srgbClr val="000000"/>
              </a:buClr>
              <a:buSzPct val="45000"/>
              <a:buFont typeface="Wingdings" charset="2"/>
              <a:buChar char=""/>
              <a:tabLst>
                <a:tab algn="l" pos="412920"/>
                <a:tab algn="l" pos="525600"/>
                <a:tab algn="l" pos="982800"/>
                <a:tab algn="l" pos="1440000"/>
                <a:tab algn="l" pos="1897200"/>
                <a:tab algn="l" pos="2354400"/>
                <a:tab algn="l" pos="2811600"/>
                <a:tab algn="l" pos="3268800"/>
                <a:tab algn="l" pos="3726000"/>
                <a:tab algn="l" pos="4183200"/>
                <a:tab algn="l" pos="4640400"/>
                <a:tab algn="l" pos="5097600"/>
                <a:tab algn="l" pos="5554800"/>
                <a:tab algn="l" pos="6012000"/>
                <a:tab algn="l" pos="6469200"/>
                <a:tab algn="l" pos="6926400"/>
                <a:tab algn="l" pos="7383600"/>
                <a:tab algn="l" pos="7840800"/>
                <a:tab algn="l" pos="8298000"/>
                <a:tab algn="l" pos="8755200"/>
                <a:tab algn="l" pos="9212400"/>
                <a:tab algn="l" pos="9601200"/>
                <a:tab algn="l" pos="10058400"/>
                <a:tab algn="l" pos="10515600"/>
              </a:tabLst>
            </a:pPr>
            <a:r>
              <a:rPr b="0" lang="en-US" sz="2400" spc="-1" strike="noStrike">
                <a:solidFill>
                  <a:srgbClr val="000000"/>
                </a:solidFill>
                <a:latin typeface="Arial"/>
              </a:rPr>
              <a:t>First hop encryption will possibly require changes from the wireless MAC groups.</a:t>
            </a:r>
            <a:endParaRPr b="0" lang="en-US" sz="2400" spc="-1" strike="noStrike">
              <a:solidFill>
                <a:srgbClr val="000000"/>
              </a:solidFill>
              <a:latin typeface="Arial"/>
            </a:endParaRPr>
          </a:p>
          <a:p>
            <a:pPr marL="411120" indent="-306360">
              <a:lnSpc>
                <a:spcPct val="93000"/>
              </a:lnSpc>
              <a:spcAft>
                <a:spcPts val="1426"/>
              </a:spcAft>
              <a:buClr>
                <a:srgbClr val="000000"/>
              </a:buClr>
              <a:buSzPct val="45000"/>
              <a:buFont typeface="Wingdings" charset="2"/>
              <a:buChar char=""/>
              <a:tabLst>
                <a:tab algn="l" pos="412920"/>
                <a:tab algn="l" pos="525600"/>
                <a:tab algn="l" pos="982800"/>
                <a:tab algn="l" pos="1440000"/>
                <a:tab algn="l" pos="1897200"/>
                <a:tab algn="l" pos="2354400"/>
                <a:tab algn="l" pos="2811600"/>
                <a:tab algn="l" pos="3268800"/>
                <a:tab algn="l" pos="3726000"/>
                <a:tab algn="l" pos="4183200"/>
                <a:tab algn="l" pos="4640400"/>
                <a:tab algn="l" pos="5097600"/>
                <a:tab algn="l" pos="5554800"/>
                <a:tab algn="l" pos="6012000"/>
                <a:tab algn="l" pos="6469200"/>
                <a:tab algn="l" pos="6926400"/>
                <a:tab algn="l" pos="7383600"/>
                <a:tab algn="l" pos="7840800"/>
                <a:tab algn="l" pos="8298000"/>
                <a:tab algn="l" pos="8755200"/>
                <a:tab algn="l" pos="9212400"/>
                <a:tab algn="l" pos="9601200"/>
                <a:tab algn="l" pos="10058400"/>
                <a:tab algn="l" pos="10515600"/>
              </a:tabLst>
            </a:pPr>
            <a:r>
              <a:rPr b="0" lang="en-US" sz="2400" spc="-1" strike="noStrike">
                <a:solidFill>
                  <a:srgbClr val="000000"/>
                </a:solidFill>
                <a:latin typeface="Arial"/>
              </a:rPr>
              <a:t>First hop encryption standardization should not be allowed to delay work on the primary functionality of “getting the call through”.</a:t>
            </a:r>
            <a:endParaRPr b="0" lang="en-US" sz="2400" spc="-1" strike="noStrike">
              <a:solidFill>
                <a:srgbClr val="000000"/>
              </a:solidFill>
              <a:latin typeface="Arial"/>
            </a:endParaRPr>
          </a:p>
          <a:p>
            <a:pPr marL="411120" indent="-306360">
              <a:lnSpc>
                <a:spcPct val="93000"/>
              </a:lnSpc>
              <a:spcAft>
                <a:spcPts val="1426"/>
              </a:spcAft>
              <a:buClr>
                <a:srgbClr val="000000"/>
              </a:buClr>
              <a:buSzPct val="45000"/>
              <a:buFont typeface="Wingdings" charset="2"/>
              <a:buChar char=""/>
              <a:tabLst>
                <a:tab algn="l" pos="412920"/>
                <a:tab algn="l" pos="525600"/>
                <a:tab algn="l" pos="982800"/>
                <a:tab algn="l" pos="1440000"/>
                <a:tab algn="l" pos="1897200"/>
                <a:tab algn="l" pos="2354400"/>
                <a:tab algn="l" pos="2811600"/>
                <a:tab algn="l" pos="3268800"/>
                <a:tab algn="l" pos="3726000"/>
                <a:tab algn="l" pos="4183200"/>
                <a:tab algn="l" pos="4640400"/>
                <a:tab algn="l" pos="5097600"/>
                <a:tab algn="l" pos="5554800"/>
                <a:tab algn="l" pos="6012000"/>
                <a:tab algn="l" pos="6469200"/>
                <a:tab algn="l" pos="6926400"/>
                <a:tab algn="l" pos="7383600"/>
                <a:tab algn="l" pos="7840800"/>
                <a:tab algn="l" pos="8298000"/>
                <a:tab algn="l" pos="8755200"/>
                <a:tab algn="l" pos="9212400"/>
                <a:tab algn="l" pos="9601200"/>
                <a:tab algn="l" pos="10058400"/>
                <a:tab algn="l" pos="10515600"/>
              </a:tabLst>
            </a:pPr>
            <a:r>
              <a:rPr b="0" lang="en-US" sz="2400" spc="-1" strike="noStrike">
                <a:solidFill>
                  <a:srgbClr val="000000"/>
                </a:solidFill>
                <a:latin typeface="Arial"/>
              </a:rPr>
              <a:t>Establishing first hop encryption should not be allowed to significantly delay the primary functionality of “getting the call through”.</a:t>
            </a:r>
            <a:endParaRPr b="0" lang="en-US" sz="2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502920" y="282600"/>
            <a:ext cx="9064440" cy="12952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Issues</a:t>
            </a:r>
            <a:endParaRPr b="0" lang="en-US" sz="4400" spc="-1" strike="noStrike">
              <a:solidFill>
                <a:srgbClr val="000000"/>
              </a:solidFill>
              <a:latin typeface="Arial"/>
            </a:endParaRPr>
          </a:p>
        </p:txBody>
      </p:sp>
      <p:sp>
        <p:nvSpPr>
          <p:cNvPr id="68" name="PlaceHolder 2"/>
          <p:cNvSpPr>
            <a:spLocks noGrp="1"/>
          </p:cNvSpPr>
          <p:nvPr>
            <p:ph type="subTitle"/>
          </p:nvPr>
        </p:nvSpPr>
        <p:spPr>
          <a:xfrm>
            <a:off x="502920" y="1461600"/>
            <a:ext cx="9064440" cy="5597640"/>
          </a:xfrm>
          <a:prstGeom prst="rect">
            <a:avLst/>
          </a:prstGeom>
          <a:noFill/>
          <a:ln w="0">
            <a:noFill/>
          </a:ln>
        </p:spPr>
        <p:txBody>
          <a:bodyPr lIns="0" rIns="0" tIns="0" bIns="0" anchor="ctr">
            <a:noAutofit/>
          </a:bodyPr>
          <a:p>
            <a:pPr marL="677880" indent="-677880">
              <a:lnSpc>
                <a:spcPct val="93000"/>
              </a:lnSpc>
              <a:spcAft>
                <a:spcPts val="1426"/>
              </a:spcAft>
              <a:buClr>
                <a:srgbClr val="000000"/>
              </a:buClr>
              <a:buFont typeface="Times New Roman"/>
              <a:buChar char="•"/>
              <a:tabLst>
                <a:tab algn="l" pos="677880"/>
                <a:tab algn="l" pos="790560"/>
                <a:tab algn="l" pos="1247760"/>
                <a:tab algn="l" pos="1704960"/>
                <a:tab algn="l" pos="2162160"/>
                <a:tab algn="l" pos="2619360"/>
                <a:tab algn="l" pos="3076560"/>
                <a:tab algn="l" pos="3533760"/>
                <a:tab algn="l" pos="3990960"/>
                <a:tab algn="l" pos="4448160"/>
                <a:tab algn="l" pos="4905360"/>
                <a:tab algn="l" pos="5362560"/>
                <a:tab algn="l" pos="5819760"/>
                <a:tab algn="l" pos="6276960"/>
                <a:tab algn="l" pos="6734160"/>
                <a:tab algn="l" pos="7191360"/>
                <a:tab algn="l" pos="7648560"/>
                <a:tab algn="l" pos="8105760"/>
                <a:tab algn="l" pos="8562960"/>
                <a:tab algn="l" pos="9020160"/>
                <a:tab algn="l" pos="9477360"/>
                <a:tab algn="l" pos="9601200"/>
                <a:tab algn="l" pos="10058400"/>
                <a:tab algn="l" pos="10515600"/>
              </a:tabLst>
            </a:pPr>
            <a:r>
              <a:rPr b="0" lang="en-US" sz="2800" spc="-1" strike="noStrike">
                <a:solidFill>
                  <a:srgbClr val="000000"/>
                </a:solidFill>
                <a:latin typeface="Arial"/>
              </a:rPr>
              <a:t>U.S. Public safety agency preference is for infrastructure based location over human supplied location and end station based location information.</a:t>
            </a:r>
            <a:endParaRPr b="0" lang="en-US" sz="2800" spc="-1" strike="noStrike">
              <a:solidFill>
                <a:srgbClr val="000000"/>
              </a:solidFill>
              <a:latin typeface="Arial"/>
            </a:endParaRPr>
          </a:p>
          <a:p>
            <a:pPr marL="677880" indent="-677880">
              <a:lnSpc>
                <a:spcPct val="93000"/>
              </a:lnSpc>
              <a:spcAft>
                <a:spcPts val="1426"/>
              </a:spcAft>
              <a:buClr>
                <a:srgbClr val="000000"/>
              </a:buClr>
              <a:buFont typeface="Times New Roman"/>
              <a:buChar char="•"/>
              <a:tabLst>
                <a:tab algn="l" pos="677880"/>
                <a:tab algn="l" pos="790560"/>
                <a:tab algn="l" pos="1247760"/>
                <a:tab algn="l" pos="1704960"/>
                <a:tab algn="l" pos="2162160"/>
                <a:tab algn="l" pos="2619360"/>
                <a:tab algn="l" pos="3076560"/>
                <a:tab algn="l" pos="3533760"/>
                <a:tab algn="l" pos="3990960"/>
                <a:tab algn="l" pos="4448160"/>
                <a:tab algn="l" pos="4905360"/>
                <a:tab algn="l" pos="5362560"/>
                <a:tab algn="l" pos="5819760"/>
                <a:tab algn="l" pos="6276960"/>
                <a:tab algn="l" pos="6734160"/>
                <a:tab algn="l" pos="7191360"/>
                <a:tab algn="l" pos="7648560"/>
                <a:tab algn="l" pos="8105760"/>
                <a:tab algn="l" pos="8562960"/>
                <a:tab algn="l" pos="9020160"/>
                <a:tab algn="l" pos="9477360"/>
                <a:tab algn="l" pos="9601200"/>
                <a:tab algn="l" pos="10058400"/>
                <a:tab algn="l" pos="10515600"/>
              </a:tabLst>
            </a:pPr>
            <a:r>
              <a:rPr b="0" lang="en-US" sz="2800" spc="-1" strike="noStrike">
                <a:solidFill>
                  <a:srgbClr val="000000"/>
                </a:solidFill>
                <a:latin typeface="Arial"/>
              </a:rPr>
              <a:t>802.11 service leaking into adjacent properties is a well known problem. That is, the goal is to provide the accurate street address information of the caller as opposed to that of the access point.</a:t>
            </a:r>
            <a:endParaRPr b="0" lang="en-US" sz="2800" spc="-1" strike="noStrike">
              <a:solidFill>
                <a:srgbClr val="000000"/>
              </a:solidFill>
              <a:latin typeface="Arial"/>
            </a:endParaRPr>
          </a:p>
          <a:p>
            <a:pPr marL="677880" indent="-677880">
              <a:lnSpc>
                <a:spcPct val="93000"/>
              </a:lnSpc>
              <a:spcAft>
                <a:spcPts val="1426"/>
              </a:spcAft>
              <a:buClr>
                <a:srgbClr val="000000"/>
              </a:buClr>
              <a:buFont typeface="Times New Roman"/>
              <a:buChar char="•"/>
              <a:tabLst>
                <a:tab algn="l" pos="677880"/>
                <a:tab algn="l" pos="790560"/>
                <a:tab algn="l" pos="1247760"/>
                <a:tab algn="l" pos="1704960"/>
                <a:tab algn="l" pos="2162160"/>
                <a:tab algn="l" pos="2619360"/>
                <a:tab algn="l" pos="3076560"/>
                <a:tab algn="l" pos="3533760"/>
                <a:tab algn="l" pos="3990960"/>
                <a:tab algn="l" pos="4448160"/>
                <a:tab algn="l" pos="4905360"/>
                <a:tab algn="l" pos="5362560"/>
                <a:tab algn="l" pos="5819760"/>
                <a:tab algn="l" pos="6276960"/>
                <a:tab algn="l" pos="6734160"/>
                <a:tab algn="l" pos="7191360"/>
                <a:tab algn="l" pos="7648560"/>
                <a:tab algn="l" pos="8105760"/>
                <a:tab algn="l" pos="8562960"/>
                <a:tab algn="l" pos="9020160"/>
                <a:tab algn="l" pos="9477360"/>
                <a:tab algn="l" pos="9601200"/>
                <a:tab algn="l" pos="10058400"/>
                <a:tab algn="l" pos="10515600"/>
              </a:tabLst>
            </a:pPr>
            <a:r>
              <a:rPr b="0" lang="en-US" sz="2800" spc="-1" strike="noStrike">
                <a:solidFill>
                  <a:srgbClr val="000000"/>
                </a:solidFill>
                <a:latin typeface="Arial"/>
              </a:rPr>
              <a:t>802.16 distance and angle measurements are not of sufficient accuracy to meet the requirements E911 &amp; NG911.</a:t>
            </a:r>
            <a:endParaRPr b="0" lang="en-US" sz="2800" spc="-1" strike="noStrike">
              <a:solidFill>
                <a:srgbClr val="000000"/>
              </a:solidFill>
              <a:latin typeface="Arial"/>
            </a:endParaRPr>
          </a:p>
          <a:p>
            <a:pPr marL="677880" indent="0" algn="ctr">
              <a:lnSpc>
                <a:spcPct val="93000"/>
              </a:lnSpc>
              <a:spcAft>
                <a:spcPts val="1426"/>
              </a:spcAft>
              <a:buNone/>
              <a:tabLst>
                <a:tab algn="l" pos="0"/>
                <a:tab algn="l" pos="677880"/>
                <a:tab algn="l" pos="790560"/>
                <a:tab algn="l" pos="1247760"/>
                <a:tab algn="l" pos="1704960"/>
                <a:tab algn="l" pos="2162160"/>
                <a:tab algn="l" pos="2619360"/>
                <a:tab algn="l" pos="3076560"/>
                <a:tab algn="l" pos="3533760"/>
                <a:tab algn="l" pos="3990960"/>
                <a:tab algn="l" pos="4448160"/>
                <a:tab algn="l" pos="4905360"/>
                <a:tab algn="l" pos="5362560"/>
                <a:tab algn="l" pos="5819760"/>
                <a:tab algn="l" pos="6276960"/>
                <a:tab algn="l" pos="6734160"/>
                <a:tab algn="l" pos="7191360"/>
                <a:tab algn="l" pos="7648560"/>
                <a:tab algn="l" pos="8105760"/>
                <a:tab algn="l" pos="8562960"/>
                <a:tab algn="l" pos="9020160"/>
                <a:tab algn="l" pos="9477360"/>
                <a:tab algn="l" pos="9601200"/>
                <a:tab algn="l" pos="10058400"/>
                <a:tab algn="l" pos="10515600"/>
              </a:tabLst>
            </a:pPr>
            <a:endParaRPr b="0" lang="en-US" sz="3200" spc="-1" strike="noStrike">
              <a:solidFill>
                <a:srgbClr val="000000"/>
              </a:solidFill>
              <a:latin typeface="Arial"/>
            </a:endParaRPr>
          </a:p>
          <a:p>
            <a:pPr marL="677880" indent="0" algn="ctr">
              <a:lnSpc>
                <a:spcPct val="93000"/>
              </a:lnSpc>
              <a:spcAft>
                <a:spcPts val="1426"/>
              </a:spcAft>
              <a:buNone/>
              <a:tabLst>
                <a:tab algn="l" pos="0"/>
                <a:tab algn="l" pos="677880"/>
                <a:tab algn="l" pos="790560"/>
                <a:tab algn="l" pos="1247760"/>
                <a:tab algn="l" pos="1704960"/>
                <a:tab algn="l" pos="2162160"/>
                <a:tab algn="l" pos="2619360"/>
                <a:tab algn="l" pos="3076560"/>
                <a:tab algn="l" pos="3533760"/>
                <a:tab algn="l" pos="3990960"/>
                <a:tab algn="l" pos="4448160"/>
                <a:tab algn="l" pos="4905360"/>
                <a:tab algn="l" pos="5362560"/>
                <a:tab algn="l" pos="5819760"/>
                <a:tab algn="l" pos="6276960"/>
                <a:tab algn="l" pos="6734160"/>
                <a:tab algn="l" pos="7191360"/>
                <a:tab algn="l" pos="7648560"/>
                <a:tab algn="l" pos="8105760"/>
                <a:tab algn="l" pos="8562960"/>
                <a:tab algn="l" pos="9020160"/>
                <a:tab algn="l" pos="9477360"/>
                <a:tab algn="l" pos="9601200"/>
                <a:tab algn="l" pos="10058400"/>
                <a:tab algn="l" pos="10515600"/>
              </a:tabLst>
            </a:pPr>
            <a:endParaRPr b="0" lang="en-US" sz="3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Issues (2)</a:t>
            </a:r>
            <a:endParaRPr b="0" lang="en-US" sz="4400" spc="-1" strike="noStrike">
              <a:solidFill>
                <a:srgbClr val="000000"/>
              </a:solidFill>
              <a:latin typeface="Arial"/>
            </a:endParaRPr>
          </a:p>
        </p:txBody>
      </p:sp>
      <p:sp>
        <p:nvSpPr>
          <p:cNvPr id="70" name="PlaceHolder 2"/>
          <p:cNvSpPr>
            <a:spLocks noGrp="1"/>
          </p:cNvSpPr>
          <p:nvPr>
            <p:ph/>
          </p:nvPr>
        </p:nvSpPr>
        <p:spPr>
          <a:xfrm>
            <a:off x="502920" y="1768320"/>
            <a:ext cx="9070920" cy="4989600"/>
          </a:xfrm>
          <a:prstGeom prst="rect">
            <a:avLst/>
          </a:prstGeom>
          <a:noFill/>
          <a:ln w="0">
            <a:noFill/>
          </a:ln>
        </p:spPr>
        <p:txBody>
          <a:bodyPr lIns="0" rIns="0" tIns="21240" bIns="0" anchor="t">
            <a:normAutofit/>
          </a:bodyPr>
          <a:p>
            <a:pPr marL="411120" indent="-306360">
              <a:lnSpc>
                <a:spcPct val="93000"/>
              </a:lnSpc>
              <a:spcAft>
                <a:spcPts val="1426"/>
              </a:spcAft>
              <a:buClr>
                <a:srgbClr val="000000"/>
              </a:buClr>
              <a:buSzPct val="45000"/>
              <a:buFont typeface="Wingdings" charset="2"/>
              <a:buChar char=""/>
              <a:tabLst>
                <a:tab algn="l" pos="411120"/>
                <a:tab algn="l" pos="523800"/>
                <a:tab algn="l" pos="981000"/>
                <a:tab algn="l" pos="1438200"/>
                <a:tab algn="l" pos="1895400"/>
                <a:tab algn="l" pos="2352600"/>
                <a:tab algn="l" pos="2809800"/>
                <a:tab algn="l" pos="3267000"/>
                <a:tab algn="l" pos="3724200"/>
                <a:tab algn="l" pos="4181400"/>
                <a:tab algn="l" pos="4638600"/>
                <a:tab algn="l" pos="5095800"/>
                <a:tab algn="l" pos="5553000"/>
                <a:tab algn="l" pos="6010200"/>
                <a:tab algn="l" pos="6467400"/>
                <a:tab algn="l" pos="6924600"/>
                <a:tab algn="l" pos="7381800"/>
                <a:tab algn="l" pos="7839000"/>
                <a:tab algn="l" pos="8296200"/>
                <a:tab algn="l" pos="8753400"/>
                <a:tab algn="l" pos="9210600"/>
                <a:tab algn="l" pos="9601200"/>
                <a:tab algn="l" pos="10058400"/>
                <a:tab algn="l" pos="10515600"/>
              </a:tabLst>
            </a:pPr>
            <a:r>
              <a:rPr b="0" lang="en-US" sz="2400" spc="-1" strike="noStrike">
                <a:solidFill>
                  <a:srgbClr val="000000"/>
                </a:solidFill>
                <a:latin typeface="Arial"/>
              </a:rPr>
              <a:t>Emergency Services and its features are all a contentious technical area, both from a feature/content point-of-view and from a division of work/layer/SDO assignment point-of-view.</a:t>
            </a:r>
            <a:endParaRPr b="0" lang="en-US" sz="2400" spc="-1" strike="noStrike">
              <a:solidFill>
                <a:srgbClr val="000000"/>
              </a:solidFill>
              <a:latin typeface="Arial"/>
            </a:endParaRPr>
          </a:p>
          <a:p>
            <a:pPr marL="411120" indent="-306360">
              <a:lnSpc>
                <a:spcPct val="93000"/>
              </a:lnSpc>
              <a:spcAft>
                <a:spcPts val="1426"/>
              </a:spcAft>
              <a:buClr>
                <a:srgbClr val="000000"/>
              </a:buClr>
              <a:buSzPct val="45000"/>
              <a:buFont typeface="Wingdings" charset="2"/>
              <a:buChar char=""/>
              <a:tabLst>
                <a:tab algn="l" pos="411120"/>
                <a:tab algn="l" pos="523800"/>
                <a:tab algn="l" pos="981000"/>
                <a:tab algn="l" pos="1438200"/>
                <a:tab algn="l" pos="1895400"/>
                <a:tab algn="l" pos="2352600"/>
                <a:tab algn="l" pos="2809800"/>
                <a:tab algn="l" pos="3267000"/>
                <a:tab algn="l" pos="3724200"/>
                <a:tab algn="l" pos="4181400"/>
                <a:tab algn="l" pos="4638600"/>
                <a:tab algn="l" pos="5095800"/>
                <a:tab algn="l" pos="5553000"/>
                <a:tab algn="l" pos="6010200"/>
                <a:tab algn="l" pos="6467400"/>
                <a:tab algn="l" pos="6924600"/>
                <a:tab algn="l" pos="7381800"/>
                <a:tab algn="l" pos="7839000"/>
                <a:tab algn="l" pos="8296200"/>
                <a:tab algn="l" pos="8753400"/>
                <a:tab algn="l" pos="9210600"/>
                <a:tab algn="l" pos="9601200"/>
                <a:tab algn="l" pos="10058400"/>
                <a:tab algn="l" pos="10515600"/>
              </a:tabLst>
            </a:pPr>
            <a:r>
              <a:rPr b="0" lang="en-US" sz="2400" spc="-1" strike="noStrike">
                <a:solidFill>
                  <a:srgbClr val="000000"/>
                </a:solidFill>
                <a:latin typeface="Arial"/>
              </a:rPr>
              <a:t>Just what are the regulatory requirements (from around the world)?</a:t>
            </a:r>
            <a:endParaRPr b="0" lang="en-US" sz="2400" spc="-1" strike="noStrike">
              <a:solidFill>
                <a:srgbClr val="000000"/>
              </a:solidFill>
              <a:latin typeface="Arial"/>
            </a:endParaRPr>
          </a:p>
          <a:p>
            <a:pPr marL="411120" indent="-306360">
              <a:lnSpc>
                <a:spcPct val="93000"/>
              </a:lnSpc>
              <a:spcAft>
                <a:spcPts val="1426"/>
              </a:spcAft>
              <a:buClr>
                <a:srgbClr val="000000"/>
              </a:buClr>
              <a:buSzPct val="45000"/>
              <a:buFont typeface="Wingdings" charset="2"/>
              <a:buChar char=""/>
              <a:tabLst>
                <a:tab algn="l" pos="411120"/>
                <a:tab algn="l" pos="523800"/>
                <a:tab algn="l" pos="981000"/>
                <a:tab algn="l" pos="1438200"/>
                <a:tab algn="l" pos="1895400"/>
                <a:tab algn="l" pos="2352600"/>
                <a:tab algn="l" pos="2809800"/>
                <a:tab algn="l" pos="3267000"/>
                <a:tab algn="l" pos="3724200"/>
                <a:tab algn="l" pos="4181400"/>
                <a:tab algn="l" pos="4638600"/>
                <a:tab algn="l" pos="5095800"/>
                <a:tab algn="l" pos="5553000"/>
                <a:tab algn="l" pos="6010200"/>
                <a:tab algn="l" pos="6467400"/>
                <a:tab algn="l" pos="6924600"/>
                <a:tab algn="l" pos="7381800"/>
                <a:tab algn="l" pos="7839000"/>
                <a:tab algn="l" pos="8296200"/>
                <a:tab algn="l" pos="8753400"/>
                <a:tab algn="l" pos="9210600"/>
                <a:tab algn="l" pos="9601200"/>
                <a:tab algn="l" pos="10058400"/>
                <a:tab algn="l" pos="10515600"/>
              </a:tabLst>
            </a:pPr>
            <a:r>
              <a:rPr b="0" lang="en-US" sz="2400" spc="-1" strike="noStrike">
                <a:solidFill>
                  <a:srgbClr val="000000"/>
                </a:solidFill>
                <a:latin typeface="Arial"/>
              </a:rPr>
              <a:t>What technical work needs to be done first/now? </a:t>
            </a:r>
            <a:br>
              <a:rPr sz="2400"/>
            </a:br>
            <a:r>
              <a:rPr b="0" lang="en-US" sz="2400" spc="-1" strike="noStrike">
                <a:solidFill>
                  <a:srgbClr val="000000"/>
                </a:solidFill>
                <a:latin typeface="Arial"/>
              </a:rPr>
              <a:t>(We can't just wait until everything is written in stone to start.)</a:t>
            </a:r>
            <a:endParaRPr b="0" lang="en-US" sz="2400" spc="-1" strike="noStrike">
              <a:solidFill>
                <a:srgbClr val="000000"/>
              </a:solidFill>
              <a:latin typeface="Arial"/>
            </a:endParaRPr>
          </a:p>
          <a:p>
            <a:pPr marL="411120" indent="-306360">
              <a:lnSpc>
                <a:spcPct val="93000"/>
              </a:lnSpc>
              <a:spcAft>
                <a:spcPts val="1426"/>
              </a:spcAft>
              <a:buClr>
                <a:srgbClr val="000000"/>
              </a:buClr>
              <a:buSzPct val="45000"/>
              <a:buFont typeface="Wingdings" charset="2"/>
              <a:buChar char=""/>
              <a:tabLst>
                <a:tab algn="l" pos="411120"/>
                <a:tab algn="l" pos="523800"/>
                <a:tab algn="l" pos="981000"/>
                <a:tab algn="l" pos="1438200"/>
                <a:tab algn="l" pos="1895400"/>
                <a:tab algn="l" pos="2352600"/>
                <a:tab algn="l" pos="2809800"/>
                <a:tab algn="l" pos="3267000"/>
                <a:tab algn="l" pos="3724200"/>
                <a:tab algn="l" pos="4181400"/>
                <a:tab algn="l" pos="4638600"/>
                <a:tab algn="l" pos="5095800"/>
                <a:tab algn="l" pos="5553000"/>
                <a:tab algn="l" pos="6010200"/>
                <a:tab algn="l" pos="6467400"/>
                <a:tab algn="l" pos="6924600"/>
                <a:tab algn="l" pos="7381800"/>
                <a:tab algn="l" pos="7839000"/>
                <a:tab algn="l" pos="8296200"/>
                <a:tab algn="l" pos="8753400"/>
                <a:tab algn="l" pos="9210600"/>
                <a:tab algn="l" pos="9601200"/>
                <a:tab algn="l" pos="10058400"/>
                <a:tab algn="l" pos="10515600"/>
              </a:tabLst>
            </a:pPr>
            <a:r>
              <a:rPr b="0" lang="en-US" sz="2400" spc="-1" strike="noStrike">
                <a:solidFill>
                  <a:srgbClr val="000000"/>
                </a:solidFill>
                <a:latin typeface="Arial"/>
              </a:rPr>
              <a:t>What pieces will get done:</a:t>
            </a:r>
            <a:endParaRPr b="0" lang="en-US" sz="2400" spc="-1" strike="noStrike">
              <a:solidFill>
                <a:srgbClr val="000000"/>
              </a:solidFill>
              <a:latin typeface="Arial"/>
            </a:endParaRPr>
          </a:p>
          <a:p>
            <a:pPr lvl="1" marL="843120" indent="-316080">
              <a:lnSpc>
                <a:spcPct val="93000"/>
              </a:lnSpc>
              <a:spcAft>
                <a:spcPts val="1137"/>
              </a:spcAft>
              <a:buClr>
                <a:srgbClr val="000000"/>
              </a:buClr>
              <a:buSzPct val="45000"/>
              <a:buFont typeface="Wingdings" charset="2"/>
              <a:buChar char=""/>
              <a:tabLst>
                <a:tab algn="l" pos="411120"/>
                <a:tab algn="l" pos="523800"/>
                <a:tab algn="l" pos="981000"/>
                <a:tab algn="l" pos="1438200"/>
                <a:tab algn="l" pos="1895400"/>
                <a:tab algn="l" pos="2352600"/>
                <a:tab algn="l" pos="2809800"/>
                <a:tab algn="l" pos="3267000"/>
                <a:tab algn="l" pos="3724200"/>
                <a:tab algn="l" pos="4181400"/>
                <a:tab algn="l" pos="4638600"/>
                <a:tab algn="l" pos="5095800"/>
                <a:tab algn="l" pos="5553000"/>
                <a:tab algn="l" pos="6010200"/>
                <a:tab algn="l" pos="6467400"/>
                <a:tab algn="l" pos="6924600"/>
                <a:tab algn="l" pos="7381800"/>
                <a:tab algn="l" pos="7839000"/>
                <a:tab algn="l" pos="8296200"/>
                <a:tab algn="l" pos="8753400"/>
                <a:tab algn="l" pos="9210600"/>
                <a:tab algn="l" pos="9601200"/>
                <a:tab algn="l" pos="10058400"/>
                <a:tab algn="l" pos="10515600"/>
              </a:tabLst>
            </a:pPr>
            <a:r>
              <a:rPr b="0" lang="en-US" sz="2400" spc="-1" strike="noStrike">
                <a:solidFill>
                  <a:srgbClr val="000000"/>
                </a:solidFill>
                <a:latin typeface="Arial"/>
              </a:rPr>
              <a:t>in what layer?</a:t>
            </a:r>
            <a:endParaRPr b="0" lang="en-US" sz="2400" spc="-1" strike="noStrike">
              <a:solidFill>
                <a:srgbClr val="000000"/>
              </a:solidFill>
              <a:latin typeface="Arial"/>
            </a:endParaRPr>
          </a:p>
          <a:p>
            <a:pPr lvl="1" marL="843120" indent="-316080">
              <a:lnSpc>
                <a:spcPct val="93000"/>
              </a:lnSpc>
              <a:spcAft>
                <a:spcPts val="1137"/>
              </a:spcAft>
              <a:buClr>
                <a:srgbClr val="000000"/>
              </a:buClr>
              <a:buSzPct val="45000"/>
              <a:buFont typeface="Wingdings" charset="2"/>
              <a:buChar char=""/>
              <a:tabLst>
                <a:tab algn="l" pos="411120"/>
                <a:tab algn="l" pos="523800"/>
                <a:tab algn="l" pos="981000"/>
                <a:tab algn="l" pos="1438200"/>
                <a:tab algn="l" pos="1895400"/>
                <a:tab algn="l" pos="2352600"/>
                <a:tab algn="l" pos="2809800"/>
                <a:tab algn="l" pos="3267000"/>
                <a:tab algn="l" pos="3724200"/>
                <a:tab algn="l" pos="4181400"/>
                <a:tab algn="l" pos="4638600"/>
                <a:tab algn="l" pos="5095800"/>
                <a:tab algn="l" pos="5553000"/>
                <a:tab algn="l" pos="6010200"/>
                <a:tab algn="l" pos="6467400"/>
                <a:tab algn="l" pos="6924600"/>
                <a:tab algn="l" pos="7381800"/>
                <a:tab algn="l" pos="7839000"/>
                <a:tab algn="l" pos="8296200"/>
                <a:tab algn="l" pos="8753400"/>
                <a:tab algn="l" pos="9210600"/>
                <a:tab algn="l" pos="9601200"/>
                <a:tab algn="l" pos="10058400"/>
                <a:tab algn="l" pos="10515600"/>
              </a:tabLst>
            </a:pPr>
            <a:r>
              <a:rPr b="0" lang="en-US" sz="2400" spc="-1" strike="noStrike">
                <a:solidFill>
                  <a:srgbClr val="000000"/>
                </a:solidFill>
                <a:latin typeface="Arial"/>
              </a:rPr>
              <a:t>In what SDO?</a:t>
            </a:r>
            <a:endParaRPr b="0" lang="en-US" sz="2400" spc="-1" strike="noStrike">
              <a:solidFill>
                <a:srgbClr val="000000"/>
              </a:solidFill>
              <a:latin typeface="Arial"/>
            </a:endParaRPr>
          </a:p>
          <a:p>
            <a:pPr marL="411120" indent="0">
              <a:lnSpc>
                <a:spcPct val="93000"/>
              </a:lnSpc>
              <a:spcAft>
                <a:spcPts val="1426"/>
              </a:spcAft>
              <a:buNone/>
              <a:tabLst>
                <a:tab algn="l" pos="0"/>
                <a:tab algn="l" pos="411120"/>
                <a:tab algn="l" pos="523800"/>
                <a:tab algn="l" pos="981000"/>
                <a:tab algn="l" pos="1438200"/>
                <a:tab algn="l" pos="1895400"/>
                <a:tab algn="l" pos="2352600"/>
                <a:tab algn="l" pos="2809800"/>
                <a:tab algn="l" pos="3267000"/>
                <a:tab algn="l" pos="3724200"/>
                <a:tab algn="l" pos="4181400"/>
                <a:tab algn="l" pos="4638600"/>
                <a:tab algn="l" pos="5095800"/>
                <a:tab algn="l" pos="5553000"/>
                <a:tab algn="l" pos="6010200"/>
                <a:tab algn="l" pos="6467400"/>
                <a:tab algn="l" pos="6924600"/>
                <a:tab algn="l" pos="7381800"/>
                <a:tab algn="l" pos="7839000"/>
                <a:tab algn="l" pos="8296200"/>
                <a:tab algn="l" pos="8753400"/>
                <a:tab algn="l" pos="9210600"/>
                <a:tab algn="l" pos="9601200"/>
                <a:tab algn="l" pos="10058400"/>
                <a:tab algn="l" pos="10515600"/>
              </a:tabLst>
            </a:pPr>
            <a:r>
              <a:rPr b="0" lang="en-US" sz="2400" spc="-1" strike="noStrike">
                <a:solidFill>
                  <a:srgbClr val="000000"/>
                </a:solidFill>
                <a:latin typeface="Arial"/>
              </a:rPr>
              <a:t>Getting good answers to all of these is the first task for the group.</a:t>
            </a:r>
            <a:endParaRPr b="0" lang="en-US" sz="2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547200" y="685440"/>
            <a:ext cx="9053640" cy="2266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0" spc="-1" strike="noStrike">
                <a:solidFill>
                  <a:srgbClr val="000000"/>
                </a:solidFill>
                <a:latin typeface="Arial"/>
              </a:rPr>
              <a:t>End of “technical presentation”</a:t>
            </a:r>
            <a:endParaRPr b="0" lang="en-US" sz="8000" spc="-1" strike="noStrike">
              <a:solidFill>
                <a:srgbClr val="000000"/>
              </a:solidFill>
              <a:latin typeface="Arial"/>
            </a:endParaRPr>
          </a:p>
        </p:txBody>
      </p:sp>
      <p:sp>
        <p:nvSpPr>
          <p:cNvPr id="72" name="PlaceHolder 2"/>
          <p:cNvSpPr>
            <a:spLocks noGrp="1"/>
          </p:cNvSpPr>
          <p:nvPr>
            <p:ph/>
          </p:nvPr>
        </p:nvSpPr>
        <p:spPr>
          <a:xfrm>
            <a:off x="1143000" y="3368520"/>
            <a:ext cx="7269120" cy="3260880"/>
          </a:xfrm>
          <a:prstGeom prst="rect">
            <a:avLst/>
          </a:prstGeom>
          <a:noFill/>
          <a:ln w="0">
            <a:noFill/>
          </a:ln>
        </p:spPr>
        <p:txBody>
          <a:bodyPr lIns="0" rIns="0" tIns="28080" bIns="0" anchor="t">
            <a:normAutofit/>
          </a:bodyPr>
          <a:p>
            <a:pPr marL="681120" indent="-681120">
              <a:lnSpc>
                <a:spcPct val="93000"/>
              </a:lnSpc>
              <a:spcAft>
                <a:spcPts val="1426"/>
              </a:spcAft>
              <a:buClr>
                <a:srgbClr val="000000"/>
              </a:buClr>
              <a:buFont typeface="Times New Roman"/>
              <a:buChar char="•"/>
              <a:tabLst>
                <a:tab algn="l" pos="68112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US" sz="3200" spc="-1" strike="noStrike">
                <a:solidFill>
                  <a:srgbClr val="000000"/>
                </a:solidFill>
                <a:latin typeface="Arial"/>
              </a:rPr>
              <a:t>We can discuss PAR if desired.</a:t>
            </a:r>
            <a:endParaRPr b="0" lang="en-US" sz="3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502920" y="166680"/>
            <a:ext cx="9055080" cy="11556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PAR Material</a:t>
            </a:r>
            <a:endParaRPr b="0" lang="en-US" sz="4400" spc="-1" strike="noStrike">
              <a:solidFill>
                <a:srgbClr val="000000"/>
              </a:solidFill>
              <a:latin typeface="Arial"/>
            </a:endParaRPr>
          </a:p>
        </p:txBody>
      </p:sp>
      <p:sp>
        <p:nvSpPr>
          <p:cNvPr id="74" name="PlaceHolder 2"/>
          <p:cNvSpPr>
            <a:spLocks noGrp="1"/>
          </p:cNvSpPr>
          <p:nvPr>
            <p:ph/>
          </p:nvPr>
        </p:nvSpPr>
        <p:spPr>
          <a:xfrm>
            <a:off x="322200" y="1479240"/>
            <a:ext cx="9577440" cy="6003720"/>
          </a:xfrm>
          <a:prstGeom prst="rect">
            <a:avLst/>
          </a:prstGeom>
          <a:noFill/>
          <a:ln w="0">
            <a:noFill/>
          </a:ln>
        </p:spPr>
        <p:txBody>
          <a:bodyPr lIns="0" rIns="0" tIns="28080" bIns="0" anchor="t">
            <a:normAutofit/>
          </a:bodyPr>
          <a:p>
            <a:pPr marL="679320" indent="-679320">
              <a:lnSpc>
                <a:spcPct val="93000"/>
              </a:lnSpc>
              <a:spcAft>
                <a:spcPts val="1426"/>
              </a:spcAft>
              <a:buClr>
                <a:srgbClr val="000000"/>
              </a:buClr>
              <a:buFont typeface="Times New Roman"/>
              <a:buChar char="•"/>
              <a:tabLst>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9594720"/>
                <a:tab algn="l" pos="10051920"/>
                <a:tab algn="l" pos="10509120"/>
                <a:tab algn="l" pos="10512360"/>
                <a:tab algn="l" pos="10515600"/>
              </a:tabLst>
            </a:pPr>
            <a:r>
              <a:rPr b="0" lang="en-US" sz="2800" spc="-1" strike="noStrike">
                <a:solidFill>
                  <a:srgbClr val="000000"/>
                </a:solidFill>
                <a:latin typeface="Arial"/>
              </a:rPr>
              <a:t>2.1 </a:t>
            </a:r>
            <a:r>
              <a:rPr b="0" lang="en-US" sz="2800" spc="-1" strike="noStrike">
                <a:solidFill>
                  <a:srgbClr val="000000"/>
                </a:solidFill>
                <a:latin typeface="Arial"/>
              </a:rPr>
              <a:t>	</a:t>
            </a:r>
            <a:r>
              <a:rPr b="0" lang="en-US" sz="2800" spc="-1" strike="noStrike">
                <a:solidFill>
                  <a:srgbClr val="000000"/>
                </a:solidFill>
                <a:latin typeface="Arial"/>
              </a:rPr>
              <a:t>Title: Standard for Local and Metropolitan Area Networks- Emergency Services for Internet Protocol (IP) Based Citizen to Authority Communications.</a:t>
            </a:r>
            <a:endParaRPr b="0" lang="en-US" sz="2800" spc="-1" strike="noStrike">
              <a:solidFill>
                <a:srgbClr val="000000"/>
              </a:solidFill>
              <a:latin typeface="Arial"/>
            </a:endParaRPr>
          </a:p>
          <a:p>
            <a:pPr marL="679320" indent="-679320">
              <a:lnSpc>
                <a:spcPct val="93000"/>
              </a:lnSpc>
              <a:spcAft>
                <a:spcPts val="1426"/>
              </a:spcAft>
              <a:buClr>
                <a:srgbClr val="000000"/>
              </a:buClr>
              <a:buFont typeface="Times New Roman"/>
              <a:buChar char="•"/>
              <a:tabLst>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9594720"/>
                <a:tab algn="l" pos="10051920"/>
                <a:tab algn="l" pos="10509120"/>
                <a:tab algn="l" pos="10512360"/>
                <a:tab algn="l" pos="10515600"/>
              </a:tabLst>
            </a:pPr>
            <a:r>
              <a:rPr b="0" lang="en-US" sz="2800" spc="-1" strike="noStrike">
                <a:solidFill>
                  <a:srgbClr val="000000"/>
                </a:solidFill>
                <a:latin typeface="Arial"/>
              </a:rPr>
              <a:t>5.2 Scope: This standard defines a mechanism that supports compliance within IEEE 802 to applicable civil authority requirements for citizen-to-authority emergency services packet data communications. Specifically, it supports the need for consistent data that is required for citizen-to-authority emergency services packet data encoded session initiation requests.</a:t>
            </a:r>
            <a:br>
              <a:rPr sz="2800"/>
            </a:br>
            <a:br>
              <a:rPr sz="2800"/>
            </a:br>
            <a:r>
              <a:rPr b="0" lang="en-US" sz="2800" spc="-1" strike="noStrike">
                <a:solidFill>
                  <a:srgbClr val="000000"/>
                </a:solidFill>
                <a:latin typeface="Arial"/>
              </a:rPr>
              <a:t>A new MAC or PHY is outside the scope of this effort.</a:t>
            </a:r>
            <a:endParaRPr b="0" lang="en-US" sz="2800" spc="-1" strike="noStrike">
              <a:solidFill>
                <a:srgbClr val="000000"/>
              </a:solidFill>
              <a:latin typeface="Arial"/>
            </a:endParaRPr>
          </a:p>
          <a:p>
            <a:pPr marL="679320" indent="0">
              <a:lnSpc>
                <a:spcPct val="93000"/>
              </a:lnSpc>
              <a:spcAft>
                <a:spcPts val="1426"/>
              </a:spcAft>
              <a:buNone/>
              <a:tabLst>
                <a:tab algn="l" pos="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9594720"/>
                <a:tab algn="l" pos="10051920"/>
                <a:tab algn="l" pos="10509120"/>
                <a:tab algn="l" pos="10512360"/>
                <a:tab algn="l" pos="10515600"/>
              </a:tabLst>
            </a:pPr>
            <a:endParaRPr b="0" lang="en-US" sz="2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502920" y="166680"/>
            <a:ext cx="9055080" cy="11556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PAR Material (2)</a:t>
            </a:r>
            <a:endParaRPr b="0" lang="en-US" sz="4400" spc="-1" strike="noStrike">
              <a:solidFill>
                <a:srgbClr val="000000"/>
              </a:solidFill>
              <a:latin typeface="Arial"/>
            </a:endParaRPr>
          </a:p>
        </p:txBody>
      </p:sp>
      <p:sp>
        <p:nvSpPr>
          <p:cNvPr id="76" name="PlaceHolder 2"/>
          <p:cNvSpPr>
            <a:spLocks noGrp="1"/>
          </p:cNvSpPr>
          <p:nvPr>
            <p:ph/>
          </p:nvPr>
        </p:nvSpPr>
        <p:spPr>
          <a:xfrm>
            <a:off x="322200" y="1479240"/>
            <a:ext cx="9577440" cy="6003720"/>
          </a:xfrm>
          <a:prstGeom prst="rect">
            <a:avLst/>
          </a:prstGeom>
          <a:noFill/>
          <a:ln w="0">
            <a:noFill/>
          </a:ln>
        </p:spPr>
        <p:txBody>
          <a:bodyPr lIns="0" rIns="0" tIns="28080" bIns="0" anchor="t">
            <a:normAutofit/>
          </a:bodyPr>
          <a:p>
            <a:pPr marL="679320" indent="-679320">
              <a:lnSpc>
                <a:spcPct val="93000"/>
              </a:lnSpc>
              <a:spcAft>
                <a:spcPts val="1426"/>
              </a:spcAft>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3200" spc="-1" strike="noStrike">
                <a:solidFill>
                  <a:srgbClr val="000000"/>
                </a:solidFill>
                <a:latin typeface="Arial"/>
              </a:rPr>
              <a:t>5.4 Purpose: The purpose of this standard is to support compliance to civil authority requirements complementary to IETF ECRIT specifications for citizen to authority emergency services functionality. This standard intends to encompass voice, data and multi-media requests across IEEE 802 using a new Layer 2 entity and associated behaviors and provide a uniform Structure of Management Information (SMI) for transferring required data for emergency services requests.</a:t>
            </a:r>
            <a:endParaRPr b="0" lang="en-US" sz="3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502920" y="166680"/>
            <a:ext cx="9055080" cy="11556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PAR Material (3)</a:t>
            </a:r>
            <a:endParaRPr b="0" lang="en-US" sz="4400" spc="-1" strike="noStrike">
              <a:solidFill>
                <a:srgbClr val="000000"/>
              </a:solidFill>
              <a:latin typeface="Arial"/>
            </a:endParaRPr>
          </a:p>
        </p:txBody>
      </p:sp>
      <p:sp>
        <p:nvSpPr>
          <p:cNvPr id="78" name="PlaceHolder 2"/>
          <p:cNvSpPr>
            <a:spLocks noGrp="1"/>
          </p:cNvSpPr>
          <p:nvPr>
            <p:ph/>
          </p:nvPr>
        </p:nvSpPr>
        <p:spPr>
          <a:xfrm>
            <a:off x="322200" y="1509480"/>
            <a:ext cx="9577440" cy="6003720"/>
          </a:xfrm>
          <a:prstGeom prst="rect">
            <a:avLst/>
          </a:prstGeom>
          <a:noFill/>
          <a:ln w="0">
            <a:noFill/>
          </a:ln>
        </p:spPr>
        <p:txBody>
          <a:bodyPr lIns="0" rIns="0" tIns="28080" bIns="0" anchor="t">
            <a:normAutofit/>
          </a:bodyPr>
          <a:p>
            <a:pPr marL="679320" indent="-679320">
              <a:lnSpc>
                <a:spcPct val="93000"/>
              </a:lnSpc>
              <a:spcAft>
                <a:spcPts val="1426"/>
              </a:spcAft>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3600" spc="-1" strike="noStrike">
                <a:solidFill>
                  <a:srgbClr val="000000"/>
                </a:solidFill>
                <a:latin typeface="Arial"/>
              </a:rPr>
              <a:t>5.5 Need for the Project: VoIP emergency calls are currently less effective than those provided by traditional wireline and cellular networks. Emergency calls across IEEE 802 technologies need to support regulatory requirements to assure successful completion (and all associated requirements) of these calls to the correct Public Service Access Point (PSAP), and to do so utilizing the existing set of IEEE 802 PHYs and MACs.</a:t>
            </a:r>
            <a:endParaRPr b="0" lang="en-US" sz="36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20T06:02:31Z</dcterms:created>
  <dc:creator>Geoff Thompson</dc:creator>
  <dc:description/>
  <dc:language>en-US</dc:language>
  <cp:lastModifiedBy>Geoff Thompson</cp:lastModifiedBy>
  <dcterms:modified xsi:type="dcterms:W3CDTF">2010-02-11T21:42:11Z</dcterms:modified>
  <cp:revision>272</cp:revision>
  <dc:subject/>
  <dc:title/>
</cp:coreProperties>
</file>