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1480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F0BEC-7A11-4C43-9B37-6DBF048EF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FB2A-45EC-404B-A65A-FA5C6333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06A8-77AA-423C-AD87-6E7C178C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80C-8148-4A79-9657-41CE86C5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08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08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1BF-27E7-4F16-BE6C-E30D95F6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C53-B29A-40BE-BEB3-4F527F8F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05A4-8906-423D-8639-DBF4672E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3667-4816-4ED3-975C-86281B53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159-1437-4D50-8BCF-DD95162E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565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E1F-4779-4AFA-B04B-E78CC4A0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90D-06E2-4508-AB2E-5DBB0C63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D16-7E2A-4BED-941D-ECA7CD95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687-4593-4DFE-8990-62387942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7157880"/>
            <a:ext cx="2333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7157880"/>
            <a:ext cx="31813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7157880"/>
            <a:ext cx="233388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cc.gov/cgb/consumerfacts/voip911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cc.gov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EMERGENCY SERVICES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802 needs an Emergency Services Project and what we think it should look lik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02 ES-ECS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ff Thompson/InterDigit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ott Henderson/RI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hen McCann/RIM for 802.1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il Barber/Huawei for 802.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 Problem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5119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the full scope of EMERGENCY SERVICES and THEIR (present and future) REGULATORY REQUIREMENTS FOR PACKET NETWORKS IS A HUGE, COMPLEX PROBLEM FOR WHICH THE PROBLEM ITSELF IS NOT YET FULLY DEFI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ope for this project is much smaller and well defined i.e.:</a:t>
            </a:r>
            <a:br>
              <a:rPr sz="44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nly support VoIP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tizen-to-authority cal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omple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pieces of the ES problem tha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well defined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existing regulatory (or derivative)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not addressed across 80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4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gest pie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originated (and VoIP originated) “calls” to the PSTN don't carry the information required (e.g. location) for emergency cal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re are proprietary excep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uncoordinated pieces within some W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existing IETF requirements for these ES calls that are not being me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409400"/>
            <a:ext cx="9070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4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VoIP doesn't work for ES calls 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net was designed to be “location neutr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“112/911” was designed around and serviced by a localized static wired infrastructure (end office circuit switched 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P services are highly decentralized and often cross national boundar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ulatory prob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Loc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409400"/>
            <a:ext cx="907092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VoIP doesn't work well for ES today (cont'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the VoIP service provider has no knowledge of the caller's location within the Internet (almost tru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SAP has no prior knowledge that a caller is within their service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associating caller and proper PSAP is a bi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P service providers are not sufficiently regulated to fully handle the ES problem; there are significant technical, geopolitical and legal jurisdiction problems involved (language to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TF &amp; Emergency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ETF – ECRIT group has taken on the task of solving this problem for the upper lay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.org/dyn/wg/charter/ecrit-charter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Internet drafts, 7 RF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“Requirements”, “Framework” and “Best Current Practic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lso R. Barnes/Hann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schofenig IET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so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priv.dreamhosters.com/esw6/PEACE-Vortrag_v5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8840" y="4172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R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584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TF – ECRIT group has taken on the task of solving this problem for the upper 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needs to liaise with ECRI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complete solution that encompasses 802 end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 precisely on requirements for 8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lution should look the same to ECRIT without regard to which 802 technology is in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RI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444320"/>
            <a:ext cx="9070920" cy="5159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14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does ECRIT need from 802 to meet these requirement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might IEEE 802 provide to ECRIT to meet these requirem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location of and/or to end s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er Layer 1 &amp; 2 element location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fer LOCAL connec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e.g. bypass various tunneling sche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service to unauthenticated use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Initiate &amp; handover/callbac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ofing and security are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371240"/>
            <a:ext cx="907092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Emergency Service ECS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ing for 802.11  - Stephen McC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ing for 802.16  - Phil Bar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Services EC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14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r 1/Geoff Thomp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14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r 2/Scott Hend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14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14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w Po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ical/Regulatory 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479240"/>
            <a:ext cx="907092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11360"/>
                <a:tab algn="l" pos="1434960"/>
                <a:tab algn="l" pos="217188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15280"/>
                <a:tab algn="l" pos="7226280"/>
                <a:tab algn="l" pos="7950240"/>
                <a:tab algn="l" pos="8674200"/>
                <a:tab algn="l" pos="9131400"/>
                <a:tab algn="l" pos="9588600"/>
                <a:tab algn="l" pos="100458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S Historical Case) 911 Call Origination Identific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based on the wireline legacy incumbent local exchange carriers' databases of thei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11360"/>
                <a:tab algn="l" pos="1434960"/>
                <a:tab algn="l" pos="217188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15280"/>
                <a:tab algn="l" pos="7226280"/>
                <a:tab algn="l" pos="7950240"/>
                <a:tab algn="l" pos="8674200"/>
                <a:tab algn="l" pos="9131400"/>
                <a:tab algn="l" pos="9588600"/>
                <a:tab algn="l" pos="100458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gacy system in its original form was seriously compromis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1360"/>
                <a:tab algn="l" pos="1434960"/>
                <a:tab algn="l" pos="217188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15280"/>
                <a:tab algn="l" pos="7226280"/>
                <a:tab algn="l" pos="7950240"/>
                <a:tab algn="l" pos="8674200"/>
                <a:tab algn="l" pos="9131400"/>
                <a:tab algn="l" pos="9588600"/>
                <a:tab algn="l" pos="100458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phone service ceased to be dominated by a wireline monop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1360"/>
                <a:tab algn="l" pos="1434960"/>
                <a:tab algn="l" pos="217188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15280"/>
                <a:tab algn="l" pos="7226280"/>
                <a:tab algn="l" pos="7950240"/>
                <a:tab algn="l" pos="8674200"/>
                <a:tab algn="l" pos="9131400"/>
                <a:tab algn="l" pos="9588600"/>
                <a:tab algn="l" pos="100458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phones became significant. (They had no built-in location mechanism. They also had a weakened sense of just where they wanted to call for 91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1360"/>
                <a:tab algn="l" pos="1434960"/>
                <a:tab algn="l" pos="217188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15280"/>
                <a:tab algn="l" pos="7226280"/>
                <a:tab algn="l" pos="7950240"/>
                <a:tab algn="l" pos="8674200"/>
                <a:tab algn="l" pos="9131400"/>
                <a:tab algn="l" pos="9588600"/>
                <a:tab algn="l" pos="100458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P phone services grew. VoIP has no inherent caller or call target physical location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1360"/>
                <a:tab algn="l" pos="1434960"/>
                <a:tab algn="l" pos="217188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15280"/>
                <a:tab algn="l" pos="7226280"/>
                <a:tab algn="l" pos="7950240"/>
                <a:tab algn="l" pos="8674200"/>
                <a:tab algn="l" pos="9131400"/>
                <a:tab algn="l" pos="9588600"/>
                <a:tab algn="l" pos="100458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inherent authentication was weak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ical 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407600"/>
            <a:ext cx="909792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1760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 Regulations require Emergency Service call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 directed to the appropriate PSA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rry originating location infor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vide sufficient information for PSAP call-back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 required but possibly desirable to consi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bscriber station authenti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rvice to unauthenticated users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though not in all countrie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sured access capability for Emergency Service ca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CC Consumer Info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4120" y="1373040"/>
            <a:ext cx="9385200" cy="2719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04720" y="463068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fcc.gov/cgb/consumerfacts/voip911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Example:) US Requirement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dapted from:</a:t>
            </a: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fcc.gov</a:t>
            </a: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 / cgb / consumerfacts / voip911.pd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US FCC has imposed the following requiremen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interconnected VoIP providers must automatically provide 911 service to all their customers as a standard, mandatory feature without customers having to specifically request this service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IP provider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ay no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llow their customers to “opt-out” of 911 serv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: Other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countries have similar requirem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national differences, especially with respect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mbers other than “911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 http://www.sccfd.org/travel.ht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have sever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prohibit location in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d Problem lies in Multiple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, routing and higher layer portions of the problem belong to the IET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roblems are being addressed primarily by IETF ECR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ow Layer 3 portion of the problem is for 802 to ad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and 802.16 have already done some explicit work in this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to be handled uniformly across 8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479240"/>
            <a:ext cx="907092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 needs a single standard so that IP applications “should” not need to know which 802 MAC is currently being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envisioned as a “shim layer” that goes between an 802 end station MAC and its upper layer cl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may be similar pieces required for 802.1 relays to add per-hop location infor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y be required for location back-up information when no end-location information is provid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