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19840" cy="37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384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420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6384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420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6E5C95-4C43-42D8-AC6F-194C98FAE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2CEC-2CF0-4FB4-9235-1CE70A60B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A783-BD4F-4DB4-BBD4-1767DFB8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4938-5FA6-4E8C-8A8B-22ECBD19B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048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048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88D5-DD3C-4D90-9DB0-C3EC320A4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C90B-8AAA-4134-AA44-BD4DBCAF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C34E-E3EB-4D4B-BE63-31AA9824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E043-F328-4BEC-8E7D-A5DBCA3B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14A5-88FE-4D79-B278-7E1BCC63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B068-C73F-4095-A589-2C718AB6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034F-CE2F-4FB4-AF66-24263C4C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3E8E-DFA5-4E90-B453-F26007BA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36F6-7370-4F06-9CA0-BDC85FE9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157520"/>
            <a:ext cx="2338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m/dd/yyy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7157520"/>
            <a:ext cx="3186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2 Emergency Services Tuto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7157520"/>
            <a:ext cx="2338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6 support for citizen-to-authority emergency servi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erminal currently disconnected from the net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indication during initial network entry to identify that the purpose of a network entry event is to make an emergency services VoIP c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currently active termin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encoding to identify that a specific service flow is identified for ES services; reserved for 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Location Based Services (LBS); GPS based, network based, and GPS with network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n+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6 air interface hooks are only part of a total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he network compon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MAX Forum, an industry forum implementing the 802.16 air interface, has created an end-to-end specification for 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n+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Forum end-to-end spe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initial network entry ES service indication bit/active terminal ES flow traffic indication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pass full subscription authentication in regulatory environments that require by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line the terminal to a local ES VoIP gateway server to direct the user traffic to the ES service; for INE ES events this is the only permitted service for unauthenticated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n+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MAX Forum end-to-end sp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has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ed to specific carrier supported VoIP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ed VoIP services vary across terminals and carr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unified, common VoIP service across all WiMAX networks/terminal form factors (laptop chipset, USB dongle for laptop, workpad, smartphone, SIM based phone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ersity of terminal form factors confounds common VoIP service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ail distribution model where operator does not have direct relationship with terminal vendor confounds VoIP service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n+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Forum end-to-end spe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al VoIP service requires common, certifiable VoIP implementation (default client basic functionality, voice CODEC, session protocol); still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06:02:31Z</dcterms:created>
  <dc:creator>Geoff Thompson</dc:creator>
  <dc:description/>
  <dc:language>en-US</dc:language>
  <cp:lastModifiedBy>Phillip Barber</cp:lastModifiedBy>
  <dcterms:modified xsi:type="dcterms:W3CDTF">2010-03-03T02:37:46Z</dcterms:modified>
  <cp:revision>280</cp:revision>
  <dc:subject/>
  <dc:title>TUTORIAL (n)</dc:title>
</cp:coreProperties>
</file>