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039CD87-8781-41C1-841D-791C07FC65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A04C7D-C54E-4C7A-A2EC-E896EB5A2E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77C181-9440-4BEB-9527-EF1E1CDA9C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3488DF-BE7F-484C-B6E0-D876861908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E4A5A9-B1D0-4DF0-A068-621ECBB6C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4D4C14-B72F-44C2-A375-B9BD1306CE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65DF4E-5CDD-499C-A055-8F391590A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BBF025-7865-47BD-84A9-11E42326F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43C-18F1-4243-A96C-CCB5F2BE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0E3-129F-4AAA-817A-B070CAD5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4362-C3AB-4144-96F1-E27332FA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190-83AD-4220-83DC-07EB00E4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BEB-B752-4CDB-9AEE-F1A25F70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E20F-1445-4F00-910B-7C8367D2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DEF-3BA2-4413-A618-BBD6C76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CAAB-9377-40DD-9E85-7FD1C2E8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E68-F0C2-411D-B231-DA88C9C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8A0-13B8-4FBB-AAFD-3EECC860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6D9-7B64-4288-8D18-D3E9C03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7E5-6CF5-4909-AE78-EA327C77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2BFC99-5F81-45CD-91A8-9C306944D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06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57A6904-5089-440E-8CDF-AD03C414A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520560" y="2274840"/>
          <a:ext cx="7974000" cy="22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74840"/>
                    <a:ext cx="79740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DA0916-5F3D-4362-9734-D8D722107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summary of IEEE 802.11 features which assist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EEE 802.11 infrastructure by itself cannot ensure that all factors are compatible for an Emergency Service call to actually take pl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lient device may have to register with a call manager (SIP agent or some other signaling endpoint) for the call to be placed successful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erent signaling systems such as SIP, H.323, etc., can be deployed for supporting Emergency Service call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layers can also verify an Emergency Service call is being placed so that appropriate level of resources can be granted to the emergency cal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ice endpoints (e.g., non-AP STAs) can use different codecs such as G.711, AMR, and iLB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AC295B2-6A50-403A-952E-5ABCA17EC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Calling (IEEE 802.11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mergency Call Number provisioning of 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signaling of Emergency Service to A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dited bandwidth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in Open Authentication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without proper security credentials, for secure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working information element which can be included in association request frames in order to bypass the IEEE 802.1X port at an AP for un-authenticated access to emergenc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6BFB1E-BC5A-4B25-9D93-C71B3E90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Services (IEEE 802.11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oth STA and AP lo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 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vic (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URI (provides location when de-referen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tion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TA mo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 ES SG and IEEE 802.11 held a joint meeting in January 2010. It conclu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u covers most emergency service MAC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v covers most loc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need to do anything el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76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uary 2010 Join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D67082-5F40-47AD-92DD-10C1BF681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TF ECR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from provided input to the IETF ECRIT document “draft-schulzrinne-ecrit-unauthenticated-access-07.txt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 emergency services architecture assumes that the calling device has acquired rights to use the access network or that no authentication is required for the access network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protocol interactions, location information, learning the address of the PSAP and the emergency call itself are decoupled from the underlying network access procedu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addresses devices which do not have credentials for network access, do not have a VoIP provider or application service provider, or the credentials have become invalid, e.g., because the user has exhausted their prepaid balance or the account has expi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09AE3F-2135-4714-9082-8BB467114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Alerts (IEEE 802.11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 of emergency al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ification avoids broadcast 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ailability of alert transmitted to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que hash to identify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9AFA74-E2C8-4D69-BB77-8EFAC5EDE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ther 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Service provisioning in IEEE 802.11 MESH (11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ke-on-LAN provision (energy sav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sation of IEEE 802.11 &amp; IEEE 802.1 location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0-03-14T17:16:47Z</dcterms:modified>
  <cp:revision>778</cp:revision>
  <dc:subject/>
  <dc:title>ETSI ERM Summary</dc:title>
</cp:coreProperties>
</file>