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EA89A-98C5-44FD-B2DC-10696FEE6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18F-A968-460F-846D-042695E4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1FD-66C2-43D0-8B6E-2BDC56BD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7E6-1F78-4BBC-A7D5-B64D94EC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C8B-AB90-4C8A-8338-3ADC331F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DE4-0EA0-4A90-88B5-3E666988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857-3FC5-42F2-8F78-91057416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2F4-F128-48DA-9D34-1E599783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97F-645C-488C-976A-A3A09F0D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D0F-0DC8-4588-BE86-7B90EF99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402-F4D3-4101-8ABF-88AD414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DA8-8EA6-4EBC-BBE1-6B7AD15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0FE-5B56-4640-8D42-246F750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cc.gov/cgb/consumerfacts/voip91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cc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/2010 Con Cal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version is Geoff's edits as taken in the conferenc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includes implementation of the editing instructions talked about in the 1/29 conferenc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through Feb 4 11:00 AM, 201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ff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its during conference call Feb 4, 201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:00 PM – 3:37 PM by Geoff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by Geoff Thompson in prep for Con Call 2:00 PM PST Feb 1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by Geoff Thompson since posted version and in prep for Con Call 2:00 PM PST Feb 1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meeting edits by Karen Randall and Geoff Thompson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d 4:30 PM PST, Feb 17, 2010 (Slides “X” in previous version were remov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needs a single standard so that IP applications “should” not need to know which 802 MAC is currently being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nvisioned as a “shim layer” that goes between an 802 end station MAC and its upper layer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y be similar pieces required for 802.1 relays to add per-hop location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 be required for location back-up information when no end-location information is provi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he full scope of EMERGENCY SERVICES and THEIR (present and future) REGULATORY REQUIREMENTS FOR PACKET NETWORKS IS A HUGE, COMPLEX PROBLEM FOR WHICH THE PROBLEM ITSELF IS NOT YET FULLY DEF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ope for this project is much smaller and well defined i.e.: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ly support VoIP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tizen-to-authority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mple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ieces of the ES problem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well defined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existing regulatory (or derivative)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 addressed across 80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pie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originated (and VoIP originated) “calls” to the PSTN don't carry the information required (e.g. location) for emergency ca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proprietary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coordinated pieces within some W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existing IETF requirements for these ES calls that are not being m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VoIP doesn't work for ES calls 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 was designed to be “location neut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“112/911” was designed around and serviced by a localized static wired infrastructure (end office circuit switch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P services are highly decentralized and often cross national bounda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ulatory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VoIP doesn't work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ll for 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(cont'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oIP service provider has no knowledge of the caller's location within the Internet (almost tr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AP has no prior knowledge that a caller is within their servi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ssociating caller and proper PSAP is a bi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service providers are not sufficiently regulated to fully handle the ES problem; there are significant technical, geopolitical and legal jurisdiction problems involv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(language to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&amp; Emergenc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.org/dyn/wg/charter/ecrit-chart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Internet drafts, 7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“Requirements”, “Framework” and “Best Current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R. Barnes/Han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chofenig IE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o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riv.dreamhosters.com/esw6/PEACE-Vortrag_v5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8840" y="4172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1584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needs to liaise with ECR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mplete solution that encompasses 802 end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precisely on requirements for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should look the same to ECRIT without regard to which 802 technology is in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159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es ECRIT need from 802 to meet these requir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can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EEE 802 provide to ECRIT to meet these requirem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location of and/or to end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 Layer 1 &amp; 2 element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 LOCAL connec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Initiate &amp; handover/call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MERGENCY SERVICES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802 needs an Emergency Services Project and what we think it should look lik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 ES-ECS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ff Thompson/InterDigi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Henderson/R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thers from .16 </a:t>
            </a:r>
            <a:r>
              <a:rPr b="0" lang="en-US" sz="4000" spc="-1" strike="noStrike">
                <a:solidFill>
                  <a:srgbClr val="23ff23"/>
                </a:solidFill>
                <a:latin typeface="Arial"/>
              </a:rPr>
              <a:t>(Barber)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&amp; .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ergency Service EC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ervices EC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1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2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/Regulatory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 Historical Case) 911 Call Origination Identif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based on the wireline legacy incumbent local exchange carriers' databases of thei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cy system in its original form was seriously compromi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hone service ceased to be dominated by a wireline monop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phones became significant. (They had no built-in location mechanism. They also had a weakened sense of just where they wanted to call for 91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P phone services grew. VoIP has no inherent caller or call target physical locatio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herent authentication was weak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407600"/>
            <a:ext cx="90979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22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 Regulations require Emergency Service cal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 directed to the appropriate PS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sufficient information for PSAP call-back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required but possibly desirable to consi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scriber station authent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rvice to unauthenticated use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though not in all countri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red access capability for Emergency Service ca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CC Consumer Info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4120" y="1373040"/>
            <a:ext cx="9385200" cy="271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4720" y="463068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cc.gov/cgb/consumerfacts/voip911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xample:) US Requirement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dapted from: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fcc.gov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/ cgb / consumerfacts / voip911.pd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S FCC has imposed the following requirem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interconnected VoIP providers must automatically provide 911 service to all their customers as a standard, mandatory feature without customers having to specifically request this servic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IP provider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ow their customers to “opt-out” of 911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: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ountries have similar require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national differences, especially with respec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mbers other than “911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http://www.sccfd.org/travel.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seve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prohibit location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Problem lies in Multiple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, routing and higher layer portions of the problem belong to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are being addressed primarily by IETF EC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ow Layer 3 portion of the problem is for 802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802.16 have already done some explicit work in this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handled uniformly across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