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E26C-040E-4BBC-A39B-61D7E14C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GPS reliability in cities and inside buildings is a problem, as is spoofing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763560"/>
            <a:ext cx="502272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DA6-6DD7-4BDE-B4D1-9536BFD9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ED3-65A5-45D6-AB86-21EFB260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A2A-1927-423A-8884-E4D9B18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8F7-F15B-4192-A396-468C50EA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B0D-1328-4A60-B7B2-129910CD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1F3-818C-428F-94E0-435E8BF3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94E-8A32-42D1-AE1C-F4A6103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1FB-E50A-41CB-8A16-F59DA47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F36-B2F0-40A7-886D-49D9428A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62C-E929-47AD-B3AA-8DC1978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BC1-5112-44B6-AAFE-CCFEA45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A1B-1EA9-4F0B-AA73-82284D3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67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45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71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Security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dicated VLAN sidesteps some of the issues associated with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location information is forbidden in some countries, mandatory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location information is considered to be sensiti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ntegrity across the call is a security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for call back is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ual content of the call may be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ES SIP Request to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s location information sent at this point or in subsequent packet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now, 802 has pretty much set up its job except when the time comes for Call-Back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andover and roaming problems exclu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vance information query can come back after call is establis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e need to say more about roaming and handover. Much study needed in multiple W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58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68560" y="5602320"/>
            <a:ext cx="2743200" cy="457200"/>
            <a:chOff x="1168560" y="5602320"/>
            <a:chExt cx="2743200" cy="457200"/>
          </a:xfrm>
        </p:grpSpPr>
        <p:sp>
          <p:nvSpPr>
            <p:cNvPr id="160" name=""/>
            <p:cNvSpPr/>
            <p:nvPr/>
          </p:nvSpPr>
          <p:spPr>
            <a:xfrm>
              <a:off x="116856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8520" y="3728880"/>
            <a:ext cx="175248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0160" y="3728880"/>
            <a:ext cx="175284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33720" y="3187800"/>
            <a:ext cx="394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 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/>
          <p:nvPr/>
        </p:nvCxnSpPr>
        <p:spPr>
          <a:xfrm flipV="1" rot="10800000">
            <a:off x="1888560" y="4238280"/>
            <a:ext cx="125460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134720"/>
            <a:ext cx="909792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considerations for ECRIT are put f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ETF RFC-50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problems which seem to be intractable in a wireless environment with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call location information from unauthenticated users will be visible (“Hollywood Paparazzi Problem”) unless we encrypt (at least) the over-the-air portion of those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public access points has no way to provide encryption for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802.11 access points has no way to preserve security while switching SSIDs (for further investi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is a significant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will possibly require changes from the wireless MA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standardization should not be allowed to delay work on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first hop encryption should not be allowed to significantly delay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00600" y="3429000"/>
            <a:ext cx="1440" cy="457200"/>
          </a:xfrm>
          <a:prstGeom prst="line">
            <a:avLst/>
          </a:prstGeom>
          <a:ln w="73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760" y="5597640"/>
            <a:ext cx="27432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68560" y="5602320"/>
            <a:ext cx="2260440" cy="457200"/>
            <a:chOff x="1168560" y="5602320"/>
            <a:chExt cx="2260440" cy="457200"/>
          </a:xfrm>
        </p:grpSpPr>
        <p:sp>
          <p:nvSpPr>
            <p:cNvPr id="63" name=""/>
            <p:cNvSpPr/>
            <p:nvPr/>
          </p:nvSpPr>
          <p:spPr>
            <a:xfrm>
              <a:off x="1168560" y="5602320"/>
              <a:ext cx="226044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/>
          <p:nvPr/>
        </p:nvCxnSpPr>
        <p:spPr>
          <a:xfrm rot="10800000">
            <a:off x="1888560" y="4731480"/>
            <a:ext cx="76428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234120" y="3402000"/>
            <a:ext cx="1009800" cy="2806560"/>
          </a:xfrm>
          <a:custGeom>
            <a:avLst/>
            <a:gdLst>
              <a:gd name="textAreaLeft" fmla="*/ 360 w 1009800"/>
              <a:gd name="textAreaRight" fmla="*/ 1009440 w 1009800"/>
              <a:gd name="textAreaTop" fmla="*/ 360 h 2806560"/>
              <a:gd name="textAreaBottom" fmla="*/ 2806200 h 2806560"/>
            </a:gdLst>
            <a:ahLst/>
            <a:rect l="textAreaLeft" t="textAreaTop" r="textAreaRight" b="textAreaBottom"/>
            <a:pathLst>
              <a:path w="21600" h="60020">
                <a:moveTo>
                  <a:pt x="33" y="0"/>
                </a:moveTo>
                <a:arcTo wR="33" hR="33" stAng="16200000" swAng="-5400000"/>
                <a:lnTo>
                  <a:pt x="0" y="59987"/>
                </a:lnTo>
                <a:arcTo wR="33" hR="33" stAng="10800000" swAng="-5400000"/>
                <a:lnTo>
                  <a:pt x="21567" y="60020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2200" y="311292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688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2200" y="327960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06880" y="324648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1320" y="311292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600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1320" y="327960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6000" y="324648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0400" y="2822400"/>
            <a:ext cx="277200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64240" y="284472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51560" y="191916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5440" y="1919160"/>
            <a:ext cx="132840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83740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86360" y="583740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7400" y="3957480"/>
            <a:ext cx="860400" cy="636840"/>
          </a:xfrm>
          <a:prstGeom prst="roundRect">
            <a:avLst>
              <a:gd name="adj" fmla="val 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220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544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220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132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456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132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0760" y="5413320"/>
            <a:ext cx="277164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24240" y="543564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544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7088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→ EC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00280" y="3908520"/>
            <a:ext cx="208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12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00200" y="5602320"/>
            <a:ext cx="2743200" cy="457200"/>
            <a:chOff x="1600200" y="5602320"/>
            <a:chExt cx="2743200" cy="457200"/>
          </a:xfrm>
        </p:grpSpPr>
        <p:sp>
          <p:nvSpPr>
            <p:cNvPr id="114" name=""/>
            <p:cNvSpPr/>
            <p:nvPr/>
          </p:nvSpPr>
          <p:spPr>
            <a:xfrm>
              <a:off x="160020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600200"/>
            <a:ext cx="192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70920" y="379728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8520" y="3909960"/>
            <a:ext cx="186516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90520"/>
            <a:ext cx="891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6600" y="6386400"/>
            <a:ext cx="1146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3800" y="3909960"/>
            <a:ext cx="186552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9360" y="3187800"/>
            <a:ext cx="2100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rela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828800"/>
            <a:ext cx="1440" cy="5257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1430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the time be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network to the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lin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ot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ecure on a ho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0960" y="205596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involvement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 w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is sepa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/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yp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64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22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Public safety agency preference is for infrastructure based location over human supplied location and end station based location information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1 service leaking into adjacent properties is a well known problem. That is, being able to provide accurate street address informat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f the cal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6 distance and angle measurement is not of sufficient accuracy to meet the requirements E911 &amp; NG9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mergency Services and its features are all a contentious technical area, both from a feature/content point-of-view and from a division of work/layer/SDO assignment point-of-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ust what are the regulatory requirements (from around the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technical work needs to be done first/now?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We can't just wait until everything is written in stone to st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pieces will get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S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tting good answers to all of this is the first task for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2.11 not 802.16 How to fi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-&gt;Sta Beacon of SSID for ES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picks a bea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“Authentic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“Associ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DHCP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DHCP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response contains IP address for station, gateway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ARP request with Gateway IP addr to get Gateway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ARP response from Gateway with its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can now communicate directly to Gateway via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