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70B0E-BB25-44DA-B6FB-F1E843297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6CB-3CD7-4F3B-B1C8-4700E4A2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633-5394-4A8D-B689-5C9FAC65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97C-EB4C-4142-8E85-5B23FB56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C76-B0C8-44CF-A296-6B8BE789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BBE-9F73-4BB4-8E8D-0C12F837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474-8903-496B-B410-1FAD1E61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B5A-C1AF-4F42-AA6F-42E15142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F1B-AC57-4C27-B76F-4C41425F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B6A-99CE-4FDC-96A5-61310DE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761-E8D7-4016-9EB2-AEB50E9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B48-D1E0-46BF-A5C6-C8E0F76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F69-C047-42CD-BDE4-B404B5B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372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Karen Randall</cp:lastModifiedBy>
  <dcterms:modified xsi:type="dcterms:W3CDTF">2010-02-17T23:01:13Z</dcterms:modified>
  <cp:revision>276</cp:revision>
  <dc:subject/>
  <dc:title>Regulatory Technical Problem Statement</dc:title>
</cp:coreProperties>
</file>