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19840" cy="37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6384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420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6384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420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016410-4865-4323-884B-179949DEFE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371600" y="763560"/>
            <a:ext cx="5022720" cy="376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AF12-BF93-41F7-98F4-829780F59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6968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EFAF-2F29-4543-98B9-86DF8CCE1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620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F142-A7E0-4735-9860-1633A91C5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52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048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52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048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872F-0EBE-4FBB-8567-83FD37D89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B14A-BB31-4239-AA1A-482BE0032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B484-130A-49F7-B123-CFD811DA4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D7B1-7760-4995-8E02-19ED9241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1AF1-0E4A-4351-91C8-FB731D933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82D3-B86E-45D1-A64F-82DEE8756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903D-F005-487C-BA73-B9AC278B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620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E297-DF43-4079-A55D-5DCC4E14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38B3-D9BD-4D0B-87C0-1830F697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157520"/>
            <a:ext cx="2338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m/dd/yyy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7157520"/>
            <a:ext cx="3186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2 Emergency Services Tuto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7157520"/>
            <a:ext cx="2338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2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3280" y="1026720"/>
            <a:ext cx="9097920" cy="62881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edicated VLAN sidesteps some of the issues associated with secur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location information is forbidden in some countries, mandatory in oth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d location information is considered to be sensitive in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integrity across the call is a security iss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needed for call back is considered to be sensi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ctual content of the call may be considered to be sensi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l sequence via wireless end li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2920" y="1336320"/>
            <a:ext cx="9070920" cy="597852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 sends ES SIP Request to Gate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Is location information sent at this point or in subsequent packets)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out now, 802 has pretty much set up its job except when the time comes for Call-Back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Handover and roaming problems exclude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Advance information query can come back after call is establish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We need to say more about roaming and handover. Much study needed in multiple W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5919840" y="5602320"/>
            <a:ext cx="2743200" cy="457200"/>
            <a:chOff x="5919840" y="5602320"/>
            <a:chExt cx="2743200" cy="457200"/>
          </a:xfrm>
        </p:grpSpPr>
        <p:sp>
          <p:nvSpPr>
            <p:cNvPr id="157" name=""/>
            <p:cNvSpPr/>
            <p:nvPr/>
          </p:nvSpPr>
          <p:spPr>
            <a:xfrm>
              <a:off x="5919840" y="5602320"/>
              <a:ext cx="274320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1168560" y="5602320"/>
            <a:ext cx="2743200" cy="457200"/>
            <a:chOff x="1168560" y="5602320"/>
            <a:chExt cx="2743200" cy="457200"/>
          </a:xfrm>
        </p:grpSpPr>
        <p:sp>
          <p:nvSpPr>
            <p:cNvPr id="159" name=""/>
            <p:cNvSpPr/>
            <p:nvPr/>
          </p:nvSpPr>
          <p:spPr>
            <a:xfrm>
              <a:off x="1168560" y="5602320"/>
              <a:ext cx="274320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430200" y="5543640"/>
            <a:ext cx="1781280" cy="24264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6680" y="5492880"/>
            <a:ext cx="1717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2920" y="1600200"/>
            <a:ext cx="1976400" cy="1747800"/>
          </a:xfrm>
          <a:prstGeom prst="roundRect">
            <a:avLst>
              <a:gd name="adj" fmla="val 88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orig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Layer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resumably I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270920" y="1600200"/>
            <a:ext cx="2514600" cy="1747800"/>
          </a:xfrm>
          <a:prstGeom prst="roundRect">
            <a:avLst>
              <a:gd name="adj" fmla="val 88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Layer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</a:t>
            </a:r>
            <a:r>
              <a:rPr b="0" lang="en-US" sz="1800" spc="-1" strike="noStrike" baseline="33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u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0200" y="5796000"/>
            <a:ext cx="1781280" cy="24300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36680" y="5745240"/>
            <a:ext cx="1681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30200" y="5543640"/>
            <a:ext cx="1781280" cy="24264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36680" y="5492880"/>
            <a:ext cx="1717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30200" y="5796000"/>
            <a:ext cx="1781280" cy="24300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36680" y="5745240"/>
            <a:ext cx="1681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166920" y="5543640"/>
            <a:ext cx="1781280" cy="24264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171960" y="5492880"/>
            <a:ext cx="1717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166920" y="5796000"/>
            <a:ext cx="1781280" cy="24300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173400" y="5745240"/>
            <a:ext cx="1681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38560" y="5543640"/>
            <a:ext cx="1781280" cy="24264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45040" y="5492880"/>
            <a:ext cx="1717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038560" y="5796000"/>
            <a:ext cx="1781280" cy="24300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45040" y="5745240"/>
            <a:ext cx="1681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666200" y="5543640"/>
            <a:ext cx="1780920" cy="24264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72320" y="5492880"/>
            <a:ext cx="17179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67640" y="5796000"/>
            <a:ext cx="1781280" cy="24300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672320" y="5745240"/>
            <a:ext cx="1681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164040" y="5100480"/>
            <a:ext cx="3657600" cy="457200"/>
          </a:xfrm>
          <a:prstGeom prst="roundRect">
            <a:avLst>
              <a:gd name="adj" fmla="val 34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038480" y="5135400"/>
            <a:ext cx="18828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y Sub-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4160" y="3728880"/>
            <a:ext cx="1636560" cy="1371600"/>
          </a:xfrm>
          <a:prstGeom prst="roundRect">
            <a:avLst>
              <a:gd name="adj" fmla="val 11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ncil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-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078520" y="3728880"/>
            <a:ext cx="1752480" cy="1371600"/>
          </a:xfrm>
          <a:prstGeom prst="roundRect">
            <a:avLst>
              <a:gd name="adj" fmla="val 11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ncil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-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260280"/>
            <a:ext cx="881532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EE 802 EMERGENCY SERVICES ARCHITECTU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: Location Deter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739880" y="6386400"/>
            <a:ext cx="3985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492960" y="6386400"/>
            <a:ext cx="14158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ir, wire or fi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70160" y="3728880"/>
            <a:ext cx="1752840" cy="1371600"/>
          </a:xfrm>
          <a:prstGeom prst="roundRect">
            <a:avLst>
              <a:gd name="adj" fmla="val 11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&amp; M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033720" y="3187800"/>
            <a:ext cx="39434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 baseline="33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ccess point for Wireless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/>
          <p:nvPr/>
        </p:nvCxnSpPr>
        <p:spPr>
          <a:xfrm flipV="1" rot="10800000">
            <a:off x="1888560" y="4238280"/>
            <a:ext cx="1254600" cy="496080"/>
          </a:xfrm>
          <a:prstGeom prst="curvedConnector5">
            <a:avLst>
              <a:gd name="adj1" fmla="val 50000"/>
              <a:gd name="adj2" fmla="val 49963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85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2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134720"/>
            <a:ext cx="9097920" cy="5830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 (2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curity considerations for ECRIT are put for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IETF RFC-506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a few problems which seem to be intractable in a wireless environment with unauthenticated us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ting call location information from unauthenticated users will be visible (“Hollywood Paparazzi Problem”) unless we encrypt (at least) the over-the-air portion of those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believe that the current population of public access points has no way to provide encryption for unauthenticated us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believe that the current population of 802.11 access points has no way to preserve security while switching SSIDs (for further investig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2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3280" y="1026720"/>
            <a:ext cx="9097920" cy="62881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urity (3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hop encryption is a significant challe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hop encryption will possibly require changes from the wireless MAC grou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hop encryption should not be allowed to delay work on the primary functionality of “getting the call through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800600" y="3429000"/>
            <a:ext cx="1440" cy="457200"/>
          </a:xfrm>
          <a:prstGeom prst="line">
            <a:avLst/>
          </a:prstGeom>
          <a:ln w="73080">
            <a:solidFill>
              <a:srgbClr val="8080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89760" y="5597640"/>
            <a:ext cx="27432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168560" y="5602320"/>
            <a:ext cx="2260440" cy="457200"/>
            <a:chOff x="1168560" y="5602320"/>
            <a:chExt cx="2260440" cy="457200"/>
          </a:xfrm>
        </p:grpSpPr>
        <p:sp>
          <p:nvSpPr>
            <p:cNvPr id="62" name=""/>
            <p:cNvSpPr/>
            <p:nvPr/>
          </p:nvSpPr>
          <p:spPr>
            <a:xfrm>
              <a:off x="1168560" y="5602320"/>
              <a:ext cx="226044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430200" y="5543640"/>
            <a:ext cx="1781280" cy="24264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36680" y="5492880"/>
            <a:ext cx="1717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2920" y="1600200"/>
            <a:ext cx="1976400" cy="1747800"/>
          </a:xfrm>
          <a:prstGeom prst="roundRect">
            <a:avLst>
              <a:gd name="adj" fmla="val 88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orig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Layer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resumably I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270920" y="1600200"/>
            <a:ext cx="2514600" cy="1747800"/>
          </a:xfrm>
          <a:prstGeom prst="roundRect">
            <a:avLst>
              <a:gd name="adj" fmla="val 88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Layer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</a:t>
            </a:r>
            <a:r>
              <a:rPr b="0" lang="en-US" sz="1800" spc="-1" strike="noStrike" baseline="33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u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30200" y="5796000"/>
            <a:ext cx="1781280" cy="24300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36680" y="5745240"/>
            <a:ext cx="1681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30200" y="5543640"/>
            <a:ext cx="1781280" cy="24264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36680" y="5492880"/>
            <a:ext cx="1717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30200" y="5796000"/>
            <a:ext cx="1781280" cy="24300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36680" y="5745240"/>
            <a:ext cx="1681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666200" y="5543640"/>
            <a:ext cx="1780920" cy="24264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72320" y="5492880"/>
            <a:ext cx="17179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67640" y="5796000"/>
            <a:ext cx="1781280" cy="24300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72320" y="5745240"/>
            <a:ext cx="1681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4160" y="3728880"/>
            <a:ext cx="1636560" cy="1371600"/>
          </a:xfrm>
          <a:prstGeom prst="roundRect">
            <a:avLst>
              <a:gd name="adj" fmla="val 11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ncil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-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60280"/>
            <a:ext cx="881532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EE 802 EMERGENCY SERVICES ARCHITECTU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: Location Deter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39880" y="6386400"/>
            <a:ext cx="3985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92960" y="6386400"/>
            <a:ext cx="14158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ir, wire or fi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/>
          <p:nvPr/>
        </p:nvCxnSpPr>
        <p:spPr>
          <a:xfrm rot="10800000">
            <a:off x="1888560" y="4731480"/>
            <a:ext cx="764280" cy="496080"/>
          </a:xfrm>
          <a:prstGeom prst="curvedConnector5">
            <a:avLst>
              <a:gd name="adj1" fmla="val 50000"/>
              <a:gd name="adj2" fmla="val 49963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234120" y="3402000"/>
            <a:ext cx="1009800" cy="2806560"/>
          </a:xfrm>
          <a:custGeom>
            <a:avLst/>
            <a:gdLst>
              <a:gd name="textAreaLeft" fmla="*/ 360 w 1009800"/>
              <a:gd name="textAreaRight" fmla="*/ 1009440 w 1009800"/>
              <a:gd name="textAreaTop" fmla="*/ 360 h 2806560"/>
              <a:gd name="textAreaBottom" fmla="*/ 2806200 h 2806560"/>
            </a:gdLst>
            <a:ahLst/>
            <a:rect l="textAreaLeft" t="textAreaTop" r="textAreaRight" b="textAreaBottom"/>
            <a:pathLst>
              <a:path w="21600" h="60020">
                <a:moveTo>
                  <a:pt x="33" y="0"/>
                </a:moveTo>
                <a:arcTo wR="33" hR="33" stAng="16200000" swAng="-5400000"/>
                <a:lnTo>
                  <a:pt x="0" y="59987"/>
                </a:lnTo>
                <a:arcTo wR="33" hR="33" stAng="10800000" swAng="-5400000"/>
                <a:lnTo>
                  <a:pt x="21567" y="60020"/>
                </a:lnTo>
                <a:arcTo wR="33" hR="33" stAng="5400000" swAng="-5400000"/>
                <a:lnTo>
                  <a:pt x="21600" y="33"/>
                </a:lnTo>
                <a:arcTo wR="33" hR="33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02200" y="3112920"/>
            <a:ext cx="1350720" cy="160560"/>
          </a:xfrm>
          <a:prstGeom prst="roundRect">
            <a:avLst>
              <a:gd name="adj" fmla="val 1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06880" y="3079800"/>
            <a:ext cx="13762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EE 802 M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102200" y="3279600"/>
            <a:ext cx="1350720" cy="160560"/>
          </a:xfrm>
          <a:prstGeom prst="roundRect">
            <a:avLst>
              <a:gd name="adj" fmla="val 1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106880" y="3246480"/>
            <a:ext cx="13460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EE 802 PH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521320" y="3112920"/>
            <a:ext cx="1351080" cy="160560"/>
          </a:xfrm>
          <a:prstGeom prst="roundRect">
            <a:avLst>
              <a:gd name="adj" fmla="val 1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526000" y="3079800"/>
            <a:ext cx="13762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EE 802 M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21320" y="3279600"/>
            <a:ext cx="1351080" cy="160560"/>
          </a:xfrm>
          <a:prstGeom prst="roundRect">
            <a:avLst>
              <a:gd name="adj" fmla="val 1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26000" y="3246480"/>
            <a:ext cx="13464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EE 802 PH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00400" y="2822400"/>
            <a:ext cx="2772000" cy="301680"/>
          </a:xfrm>
          <a:prstGeom prst="roundRect">
            <a:avLst>
              <a:gd name="adj" fmla="val 523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64240" y="2844720"/>
            <a:ext cx="15048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ay Sub-La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51560" y="1919160"/>
            <a:ext cx="1328760" cy="903240"/>
          </a:xfrm>
          <a:prstGeom prst="roundRect">
            <a:avLst>
              <a:gd name="adj" fmla="val 17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oncili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-La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105440" y="1919160"/>
            <a:ext cx="1328400" cy="903240"/>
          </a:xfrm>
          <a:prstGeom prst="roundRect">
            <a:avLst>
              <a:gd name="adj" fmla="val 17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oncili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-La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666880" y="5837400"/>
            <a:ext cx="13464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EE 802 PH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86360" y="5837400"/>
            <a:ext cx="13460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EE 802 PH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397400" y="3957480"/>
            <a:ext cx="860400" cy="636840"/>
          </a:xfrm>
          <a:prstGeom prst="roundRect">
            <a:avLst>
              <a:gd name="adj" fmla="val 25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62200" y="5705640"/>
            <a:ext cx="1351080" cy="160200"/>
          </a:xfrm>
          <a:prstGeom prst="roundRect">
            <a:avLst>
              <a:gd name="adj" fmla="val 1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65440" y="5672160"/>
            <a:ext cx="13762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EE 802 M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662200" y="5872320"/>
            <a:ext cx="1351080" cy="160200"/>
          </a:xfrm>
          <a:prstGeom prst="roundRect">
            <a:avLst>
              <a:gd name="adj" fmla="val 1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081320" y="5705640"/>
            <a:ext cx="1351080" cy="160200"/>
          </a:xfrm>
          <a:prstGeom prst="roundRect">
            <a:avLst>
              <a:gd name="adj" fmla="val 1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084560" y="5672160"/>
            <a:ext cx="13762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EE 802 M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81320" y="5872320"/>
            <a:ext cx="1351080" cy="160200"/>
          </a:xfrm>
          <a:prstGeom prst="roundRect">
            <a:avLst>
              <a:gd name="adj" fmla="val 1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660760" y="5413320"/>
            <a:ext cx="2771640" cy="301680"/>
          </a:xfrm>
          <a:prstGeom prst="roundRect">
            <a:avLst>
              <a:gd name="adj" fmla="val 523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324240" y="5435640"/>
            <a:ext cx="15048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ay Sub-La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11560" y="4510080"/>
            <a:ext cx="1328760" cy="903240"/>
          </a:xfrm>
          <a:prstGeom prst="roundRect">
            <a:avLst>
              <a:gd name="adj" fmla="val 17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oncili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-La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665440" y="4510080"/>
            <a:ext cx="1328760" cy="903240"/>
          </a:xfrm>
          <a:prstGeom prst="roundRect">
            <a:avLst>
              <a:gd name="adj" fmla="val 17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n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&amp; M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70880" y="3728880"/>
            <a:ext cx="1636560" cy="1371600"/>
          </a:xfrm>
          <a:prstGeom prst="roundRect">
            <a:avLst>
              <a:gd name="adj" fmla="val 11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2 → ECRI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ncil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-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600280" y="3908520"/>
            <a:ext cx="208908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 baseline="33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ccess point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reless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5919840" y="5602320"/>
            <a:ext cx="2743200" cy="457200"/>
            <a:chOff x="5919840" y="5602320"/>
            <a:chExt cx="2743200" cy="457200"/>
          </a:xfrm>
        </p:grpSpPr>
        <p:sp>
          <p:nvSpPr>
            <p:cNvPr id="111" name=""/>
            <p:cNvSpPr/>
            <p:nvPr/>
          </p:nvSpPr>
          <p:spPr>
            <a:xfrm>
              <a:off x="5919840" y="5602320"/>
              <a:ext cx="274320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600200" y="5602320"/>
            <a:ext cx="2743200" cy="457200"/>
            <a:chOff x="1600200" y="5602320"/>
            <a:chExt cx="2743200" cy="457200"/>
          </a:xfrm>
        </p:grpSpPr>
        <p:sp>
          <p:nvSpPr>
            <p:cNvPr id="113" name=""/>
            <p:cNvSpPr/>
            <p:nvPr/>
          </p:nvSpPr>
          <p:spPr>
            <a:xfrm>
              <a:off x="1600200" y="5602320"/>
              <a:ext cx="274320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395280" y="5543640"/>
            <a:ext cx="1781280" cy="24264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9960" y="5492880"/>
            <a:ext cx="17179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8920" y="1600200"/>
            <a:ext cx="1927080" cy="1143000"/>
          </a:xfrm>
          <a:prstGeom prst="roundRect">
            <a:avLst>
              <a:gd name="adj" fmla="val 13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l orig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Layer 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resumably 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270920" y="3797280"/>
            <a:ext cx="2514600" cy="1747800"/>
          </a:xfrm>
          <a:prstGeom prst="roundRect">
            <a:avLst>
              <a:gd name="adj" fmla="val 88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Layer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</a:t>
            </a:r>
            <a:r>
              <a:rPr b="0" lang="en-US" sz="1800" spc="-1" strike="noStrike" baseline="33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u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5280" y="5796000"/>
            <a:ext cx="1781280" cy="24300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9960" y="5745240"/>
            <a:ext cx="1681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5543640"/>
            <a:ext cx="1781280" cy="24264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9960" y="5492880"/>
            <a:ext cx="17179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" y="5796000"/>
            <a:ext cx="1781280" cy="24300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9960" y="5745240"/>
            <a:ext cx="1681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66920" y="5543640"/>
            <a:ext cx="1781280" cy="24264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71960" y="5492880"/>
            <a:ext cx="1717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66920" y="5796000"/>
            <a:ext cx="1781280" cy="24300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173400" y="5745240"/>
            <a:ext cx="1681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38560" y="5543640"/>
            <a:ext cx="1781280" cy="24264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045040" y="5492880"/>
            <a:ext cx="1717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38560" y="5796000"/>
            <a:ext cx="1781280" cy="24300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45040" y="5745240"/>
            <a:ext cx="1681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66200" y="5543640"/>
            <a:ext cx="1780920" cy="24264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2320" y="5492880"/>
            <a:ext cx="17179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67640" y="5796000"/>
            <a:ext cx="1781280" cy="24300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672320" y="5745240"/>
            <a:ext cx="1681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64040" y="5100480"/>
            <a:ext cx="3657600" cy="457200"/>
          </a:xfrm>
          <a:prstGeom prst="roundRect">
            <a:avLst>
              <a:gd name="adj" fmla="val 34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038480" y="5135400"/>
            <a:ext cx="18828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y Sub-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8520" y="3909960"/>
            <a:ext cx="1865160" cy="1071720"/>
          </a:xfrm>
          <a:prstGeom prst="roundRect">
            <a:avLst>
              <a:gd name="adj" fmla="val 148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ncil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-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290520"/>
            <a:ext cx="8910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EE 802 EMERGENCY SERVICES ARCHITECTU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: Location Deter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36600" y="6386400"/>
            <a:ext cx="11462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ire or fi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492960" y="6386400"/>
            <a:ext cx="14158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ir, wire or fi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033800" y="3909960"/>
            <a:ext cx="1865520" cy="1071720"/>
          </a:xfrm>
          <a:prstGeom prst="roundRect">
            <a:avLst>
              <a:gd name="adj" fmla="val 148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ncil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-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789360" y="3187800"/>
            <a:ext cx="21002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ic relay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743200" y="1828800"/>
            <a:ext cx="1440" cy="5257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971800" y="1143000"/>
            <a:ext cx="2971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for the time be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network to the righ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de of the line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Not dynam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Secure on a hop b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p ba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230960" y="2055960"/>
            <a:ext cx="2514600" cy="16002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2 involvement end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1</a:t>
            </a:r>
            <a:r>
              <a:rPr b="0" lang="en-US" sz="1800" spc="-1" strike="noStrike" baseline="33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uter wh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rame is separate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A/D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amp; Type fie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2920" y="282600"/>
            <a:ext cx="90644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44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3720" indent="-31896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.S. Government preference is for infrastructure based location over that from end station based location information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GPS reliability in cities and inside buildings is a problem, as is spoofing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802.16 distance and angle measurement is not of sufficient accuracy to meet the requirements E911 &amp; NG91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802.11 service leaking into adjacent properties is a well known problem for which we have no solution. That is, being able to provide accurate street address information 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of the call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This is all a contentious technical area, both from a feature/content point-of-view and from a division of work/layer/SDO assignment point-of-vie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Just what are the regulatory requirements (from around the world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What technical work needs to be done first/now? </a:t>
            </a:r>
            <a:br>
              <a:rPr sz="2400"/>
            </a:b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(We can't just wait until everything is written in stone to star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What pieces will get d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in what lay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In what S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Getting good answers to all of this is the first task for the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6444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 SL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ll sequence via wireless end link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802.11 not 802.16 How to fi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2920" y="1336320"/>
            <a:ext cx="9070920" cy="597852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-&gt;Sta Beacon of SSID for ES V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 picks a beac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 sends “Authenticate request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 sends “Authenticate reply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 send “Associate request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 sends “Authenticate reply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 sends DHCP requ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 passes back DHCP respon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HCP response contains IP address for station, gateway IP add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 send ARP request with Gateway IP addr to get Gateway 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 passes back ARP response from Gateway with its 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 can now communicate directly to Gateway via I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0T06:02:31Z</dcterms:created>
  <dc:creator>Geoff Thompson</dc:creator>
  <dc:description/>
  <dc:language>en-US</dc:language>
  <cp:lastModifiedBy>Geoff Thompson</cp:lastModifiedBy>
  <dcterms:modified xsi:type="dcterms:W3CDTF">2010-02-11T21:42:11Z</dcterms:modified>
  <cp:revision>272</cp:revision>
  <dc:subject/>
  <dc:title/>
</cp:coreProperties>
</file>