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BF501-BA2F-427E-A9F5-D451DEDDC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F2C-5B04-45AA-84FA-3E5227E0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7C1-766D-4241-9692-46EB0244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EF7-7282-48DA-9765-5D0C3020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199-6DE1-4ADC-8B02-7E11E5CE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F79-1431-46C7-AFD8-30D19C4C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D35-7F9D-4284-B892-92F07742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560-060B-4385-BA42-310EEEB0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145-7FDE-4034-AACF-18DCB7A2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A12-F83C-493A-ADC2-7D047DF2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FF9-6F8F-4AA5-8260-09E91823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CBD-B522-438A-A18B-D0BFA57A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D8F-A008-4650-9854-68FC01D3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cc.gov/cgb/consumerfacts/voip911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cc.gov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/2010 Con Call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is version is Geoff's edits as taken in the conference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includes implementation of the editing instructions talked about in the 1/29 conferenc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rther edits through Feb 4 11:00 AM, 201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ff Tho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its during conference call Feb 4, 201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:00 PM – 3:37 PM by Geoff Tho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rther Edits by Geoff Thompson in prep for Con Call 2:00 PM PST Feb 11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rther Edits by Geoff Thompson since posted version and in prep for Con Call 2:00 PM PST Feb 17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meeting edits by Karen Randall and Geoff Thompson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ted 4:30 PM PST, Feb 17, 2010 (Slides “X” in previous version were remov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 needs a single standard so that IP applications “should” not need to know which 802 MAC is currently being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nvisioned as a “shim layer” that goes between an 802 end station MAC and its upper layer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ay be similar pieces required for 802.1 relays to add per-hop location infor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y be required for location back-up information when no end-location information is provid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Problem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11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the full scope of EMERGENCY SERVICES and THEIR (present and future) REGULATORY REQUIREMENTS FOR PACKET NETWORKS IS A HUGE, COMPLEX PROBLEM FOR WHICH THE PROBLEM ITSELF IS NOT YET FULLY DEFI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ope for this project is much smaller and well defined i.e.:</a:t>
            </a: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ly support VoIP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tizen-to-authority ca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mple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pieces of the ES problem tha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well defined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existing regulatory (or derivative)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not addressed across 80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4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st pie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originated (and VoIP originated) “calls” to the PSTN don't carry the information required (e.g. location) for emergency cal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are proprietary exce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coordinated pieces within some W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existing IETF requirements for these ES calls that are not being me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9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VoIP doesn't work for ES calls 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net was designed to be “location neut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“112/911” was designed around and serviced by a localized static wired infrastructure (end office circuit switched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P services are highly decentralized and often cross national boundar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ulatory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Loc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VoIP doesn't work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ll for 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day (cont'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the VoIP service provider has no knowledge of the caller's location within the Internet (almost tr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SAP has no prior knowledge that a caller is within their servic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associating caller and proper PSAP is a bi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P service providers are not sufficiently regulated to fully handle the ES problem; there are significant technical, geopolitical and legal jurisdiction problems involv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(language to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TF &amp; Emergenc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.org/dyn/wg/charter/ecrit-charter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Internet drafts, 7 RF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“Requirements”, “Framework” and “Best Current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R. Barnes/Hann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chofenig IET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o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priv.dreamhosters.com/esw6/PEACE-Vortrag_v5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8840" y="4172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1584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needs to liaise with ECRI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complete solution that encompasses 802 end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precisely on requirements for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ution should look the same to ECRIT without regard to which 802 technology is in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I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159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19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oes ECRIT need from 802 to meet these requirement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can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EEE 802 provide to ECRIT to meet these requirem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location of and/or to end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 Layer 1 &amp; 2 element location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r LOCAL connec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Initiate &amp; handover/callb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MERGENCY SERVICES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802 needs an Emergency Services Project and what we think it should look lik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02 ES-ECS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ff Thompson/InterDigit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tt Henderson/R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thers from .16 </a:t>
            </a:r>
            <a:r>
              <a:rPr b="0" lang="en-US" sz="4000" spc="-1" strike="noStrike">
                <a:solidFill>
                  <a:srgbClr val="23ff23"/>
                </a:solidFill>
                <a:latin typeface="Arial"/>
              </a:rPr>
              <a:t>(Barber)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&amp; .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371240"/>
            <a:ext cx="907092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ergency Service EC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ing for 802.1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ing for 802.16  - Phil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Services EC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 1/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 2/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 Po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/Regulatory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S Historical Case) 911 Call Origination Identific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based on the wireline legacy incumbent local exchange carriers' databases of thei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gacy system in its original form was seriously compromis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phone service ceased to be dominated by a wireline monop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phones became significant. (They had no built-in location mechanism. They also had a weakened sense of just where they wanted to call for 91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P phone services grew. VoIP has no inherent caller or call target physical location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6040"/>
                <a:tab algn="l" pos="1440000"/>
                <a:tab algn="l" pos="217188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15280"/>
                <a:tab algn="l" pos="7230960"/>
                <a:tab algn="l" pos="7954920"/>
                <a:tab algn="l" pos="8678880"/>
                <a:tab algn="l" pos="9136080"/>
                <a:tab algn="l" pos="959328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inherent authentication was weak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407600"/>
            <a:ext cx="90979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22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 Regulations require Emergency Service call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 directed to the appropriate PSA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rry originating location in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vide sufficient information for PSAP call-back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 required but possibly desirable to consi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bscriber station authent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rvice to unauthenticated users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though not in all countri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ured access capability for Emergency Service ca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CC Consumer Info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4120" y="1373040"/>
            <a:ext cx="9385200" cy="271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4720" y="463068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fcc.gov/cgb/consumerfacts/voip911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xample:) US Requirement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dapted from: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fcc.gov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/ cgb / consumerfacts / voip911.pd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US FCC has imposed the following requiremen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interconnected VoIP providers must automatically provide 911 service to all their customers as a standard, mandatory feature without customers having to specifically request this service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IP provider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y 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llow their customers to “opt-out” of 911 serv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: Other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countries have similar requirem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national differences, especially with respect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mbers other than “911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 http://www.sccfd.org/travel.ht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have sever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prohibit location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 Problem lies in Multiple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, routing and higher layer portions of the problem belong to the IET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roblems are being addressed primarily by IETF ECR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ow Layer 3 portion of the problem is for 802 to 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and 802.16 have already done some explicit work in this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to be handled uniformly across 8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