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D1FD0-24E5-47AF-88B6-77C25809B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CCA-5F48-4AFD-86F7-CCB90122B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BFA-CB56-4888-AD9D-EE805CA1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3A6-465B-45BA-9B52-A8BD1B71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1D20-00F5-4EFB-979D-1CDE825E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EF9-8CF2-4CF8-9D82-D8DDD068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EF13-E995-4893-A51F-95CE28C1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12D-68C7-4129-836E-9C5561F3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4477-57DF-4AB4-B5FF-42F78284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D05-61FB-4AD4-8D25-FBF2FCE9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8D95-54E7-46CE-A19B-F4883724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FC3-C33F-4D88-BF5F-E87EB64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F2D-434B-4687-B698-4D1D310B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y offer to improve the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erhap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94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400" indent="-3157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ill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</a:t>
            </a:r>
            <a:r>
              <a:rPr b="0" lang="en-US" sz="3200" spc="-1" strike="noStrike">
                <a:solidFill>
                  <a:srgbClr val="ff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 cellular systems.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uld 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