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7B7F8-64D1-47E2-A3C6-F98845546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763560"/>
            <a:ext cx="5022720" cy="376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8220-1282-40B3-8BE1-02B35644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26F-1EA9-4BF5-AC75-CB18A9ED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E938-A188-40E9-9D5E-1B9E96D2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36B-E53B-48FB-9A44-9D69D0E6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72D4-F419-422E-838A-1AD9DF2E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BA10-F441-40B1-A9D8-D40E15DF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6A4-92CC-439A-AD17-C5EDFE30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4AA-0D16-49C7-BA48-ED570FB9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CE6-907C-407D-A8B6-DA37CC93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DAD-0060-461D-95CB-D8D3DF5E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209-00BD-405A-920D-CF343662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603-029C-4C43-AE40-349A714F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dicated VLAN sidesteps some of the issues associated with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location information is forbidden in some countries, mandatory i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location information is considered to be sensitive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integrity across the call is a security iss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needed for call back is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tual content of the call may be considered to be sensi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ES SIP Request to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s location information sent at this point or in subsequent packets)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now, 802 has pretty much set up its job except when the time comes for Call-Back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andover and roaming problems exclud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dvance information query can come back after call is establish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e need to say more about roaming and handover. Much study needed in multiple W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57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168560" y="5602320"/>
            <a:ext cx="2743200" cy="457200"/>
            <a:chOff x="1168560" y="5602320"/>
            <a:chExt cx="2743200" cy="457200"/>
          </a:xfrm>
        </p:grpSpPr>
        <p:sp>
          <p:nvSpPr>
            <p:cNvPr id="159" name=""/>
            <p:cNvSpPr/>
            <p:nvPr/>
          </p:nvSpPr>
          <p:spPr>
            <a:xfrm>
              <a:off x="116856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8520" y="3728880"/>
            <a:ext cx="175248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70160" y="3728880"/>
            <a:ext cx="175284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33720" y="3187800"/>
            <a:ext cx="394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 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/>
          <p:nvPr/>
        </p:nvCxnSpPr>
        <p:spPr>
          <a:xfrm flipV="1" rot="10800000">
            <a:off x="1888560" y="4238280"/>
            <a:ext cx="125460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85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134720"/>
            <a:ext cx="9097920" cy="58309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urity considerations for ECRIT are put for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ETF RFC-50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few problems which seem to be intractable in a wireless environment with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ing call location information from unauthenticated users will be visible (“Hollywood Paparazzi Problem”) unless we encrypt (at least) the over-the-air portion of those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public access points has no way to provide encryption for unauthenticated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believe that the current population of 802.11 access points has no way to preserve security while switching SSIDs (for further investi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026720"/>
            <a:ext cx="9097920" cy="6288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(3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is a significant challe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will possibly require changes from the wireless MA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hop encryption should not be allowed to delay work on the primary functionality of “getting the call through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800600" y="3429000"/>
            <a:ext cx="1440" cy="457200"/>
          </a:xfrm>
          <a:prstGeom prst="line">
            <a:avLst/>
          </a:prstGeom>
          <a:ln w="73080">
            <a:solidFill>
              <a:srgbClr val="8080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9760" y="5597640"/>
            <a:ext cx="27432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168560" y="5602320"/>
            <a:ext cx="2260440" cy="457200"/>
            <a:chOff x="1168560" y="5602320"/>
            <a:chExt cx="2260440" cy="457200"/>
          </a:xfrm>
        </p:grpSpPr>
        <p:sp>
          <p:nvSpPr>
            <p:cNvPr id="62" name=""/>
            <p:cNvSpPr/>
            <p:nvPr/>
          </p:nvSpPr>
          <p:spPr>
            <a:xfrm>
              <a:off x="1168560" y="5602320"/>
              <a:ext cx="226044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1600200"/>
            <a:ext cx="19764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0920" y="160020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020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68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020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668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416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60280"/>
            <a:ext cx="88153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39880" y="6386400"/>
            <a:ext cx="398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/>
          <p:nvPr/>
        </p:nvCxnSpPr>
        <p:spPr>
          <a:xfrm rot="10800000">
            <a:off x="1888560" y="4731480"/>
            <a:ext cx="764280" cy="496080"/>
          </a:xfrm>
          <a:prstGeom prst="curvedConnector5">
            <a:avLst>
              <a:gd name="adj1" fmla="val 50000"/>
              <a:gd name="adj2" fmla="val 49963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234120" y="3402000"/>
            <a:ext cx="1009800" cy="2806560"/>
          </a:xfrm>
          <a:custGeom>
            <a:avLst/>
            <a:gdLst>
              <a:gd name="textAreaLeft" fmla="*/ 360 w 1009800"/>
              <a:gd name="textAreaRight" fmla="*/ 1009440 w 1009800"/>
              <a:gd name="textAreaTop" fmla="*/ 360 h 2806560"/>
              <a:gd name="textAreaBottom" fmla="*/ 2806200 h 2806560"/>
            </a:gdLst>
            <a:ahLst/>
            <a:rect l="textAreaLeft" t="textAreaTop" r="textAreaRight" b="textAreaBottom"/>
            <a:pathLst>
              <a:path w="21600" h="60020">
                <a:moveTo>
                  <a:pt x="33" y="0"/>
                </a:moveTo>
                <a:arcTo wR="33" hR="33" stAng="16200000" swAng="-5400000"/>
                <a:lnTo>
                  <a:pt x="0" y="59987"/>
                </a:lnTo>
                <a:arcTo wR="33" hR="33" stAng="10800000" swAng="-5400000"/>
                <a:lnTo>
                  <a:pt x="21567" y="60020"/>
                </a:lnTo>
                <a:arcTo wR="33" hR="33" stAng="5400000" swAng="-5400000"/>
                <a:lnTo>
                  <a:pt x="21600" y="33"/>
                </a:lnTo>
                <a:arcTo wR="33" hR="33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02200" y="311292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0688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02200" y="3279600"/>
            <a:ext cx="135072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06880" y="324648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21320" y="311292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26000" y="307980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21320" y="3279600"/>
            <a:ext cx="1351080" cy="16056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26000" y="324648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00400" y="2822400"/>
            <a:ext cx="277200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64240" y="284472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51560" y="191916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05440" y="1919160"/>
            <a:ext cx="132840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5837400"/>
            <a:ext cx="13464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86360" y="5837400"/>
            <a:ext cx="134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97400" y="3957480"/>
            <a:ext cx="860400" cy="636840"/>
          </a:xfrm>
          <a:prstGeom prst="roundRect">
            <a:avLst>
              <a:gd name="adj" fmla="val 25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220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6544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220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570564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84560" y="5672160"/>
            <a:ext cx="137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81320" y="5872320"/>
            <a:ext cx="1351080" cy="160200"/>
          </a:xfrm>
          <a:prstGeom prst="roundRect">
            <a:avLst>
              <a:gd name="adj" fmla="val 1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0760" y="5413320"/>
            <a:ext cx="2771640" cy="301680"/>
          </a:xfrm>
          <a:prstGeom prst="roundRect">
            <a:avLst>
              <a:gd name="adj" fmla="val 52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5435640"/>
            <a:ext cx="1504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156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5440" y="4510080"/>
            <a:ext cx="1328760" cy="903240"/>
          </a:xfrm>
          <a:prstGeom prst="roundRect">
            <a:avLst>
              <a:gd name="adj" fmla="val 17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&amp; M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70880" y="3728880"/>
            <a:ext cx="1636560" cy="1371600"/>
          </a:xfrm>
          <a:prstGeom prst="roundRect">
            <a:avLst>
              <a:gd name="adj" fmla="val 1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→ EC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3908520"/>
            <a:ext cx="20890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ccess poin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le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5919840" y="5602320"/>
            <a:ext cx="2743200" cy="457200"/>
            <a:chOff x="5919840" y="5602320"/>
            <a:chExt cx="2743200" cy="457200"/>
          </a:xfrm>
        </p:grpSpPr>
        <p:sp>
          <p:nvSpPr>
            <p:cNvPr id="111" name=""/>
            <p:cNvSpPr/>
            <p:nvPr/>
          </p:nvSpPr>
          <p:spPr>
            <a:xfrm>
              <a:off x="591984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600200" y="5602320"/>
            <a:ext cx="2743200" cy="457200"/>
            <a:chOff x="1600200" y="5602320"/>
            <a:chExt cx="2743200" cy="457200"/>
          </a:xfrm>
        </p:grpSpPr>
        <p:sp>
          <p:nvSpPr>
            <p:cNvPr id="113" name=""/>
            <p:cNvSpPr/>
            <p:nvPr/>
          </p:nvSpPr>
          <p:spPr>
            <a:xfrm>
              <a:off x="1600200" y="5602320"/>
              <a:ext cx="274320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1600200"/>
            <a:ext cx="192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 orig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sumably 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70920" y="3797280"/>
            <a:ext cx="2514600" cy="174780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Layer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96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96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692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7196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692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7340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38560" y="5543640"/>
            <a:ext cx="178128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45040" y="5492880"/>
            <a:ext cx="1717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856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66200" y="5543640"/>
            <a:ext cx="1780920" cy="24264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2320" y="5492880"/>
            <a:ext cx="1717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67640" y="5796000"/>
            <a:ext cx="1781280" cy="243000"/>
          </a:xfrm>
          <a:prstGeom prst="roundRect">
            <a:avLst>
              <a:gd name="adj" fmla="val 65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72320" y="5745240"/>
            <a:ext cx="1681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802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4040" y="5100480"/>
            <a:ext cx="3657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5135400"/>
            <a:ext cx="1882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 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8520" y="3909960"/>
            <a:ext cx="186516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90520"/>
            <a:ext cx="891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 EMERGENCY SERVICES ARCHITECTU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: Location Deter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36600" y="6386400"/>
            <a:ext cx="11462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92960" y="6386400"/>
            <a:ext cx="1415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ir, wire or fi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3800" y="3909960"/>
            <a:ext cx="1865520" cy="1071720"/>
          </a:xfrm>
          <a:prstGeom prst="roundRect">
            <a:avLst>
              <a:gd name="adj" fmla="val 14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cil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9360" y="3187800"/>
            <a:ext cx="2100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ic relay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1828800"/>
            <a:ext cx="1440" cy="5257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114300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for the time be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network to the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f the lin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Not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Secure on a hop 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230960" y="2055960"/>
            <a:ext cx="2514600" cy="1600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 involvement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1</a:t>
            </a:r>
            <a:r>
              <a:rPr b="0" lang="en-US" sz="1800" spc="-1" strike="noStrike" baseline="33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 wh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 is separa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A/D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 Typ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282600"/>
            <a:ext cx="9064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644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.S. Government preference is for infrastructure based location over that from end station based location informatio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GPS reliability in cities and inside buildings is a problem, as is spoofing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6 distance and angle measurement is not of sufficient accuracy to meet the requirements E911 &amp; NG91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 algn="ctr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02.11 service leaking into adjacent properties is a well known problem for which we have no solution. That is, being able to provide accurate street address information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f the call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all a contentious technical area, both from a feature/content point-of-view and from a division of work/layer/SDO assignment point-of-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Just what are the regulatory requirements (from around the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technical work needs to be done first/now? </a:t>
            </a:r>
            <a:br>
              <a:rPr sz="2400"/>
            </a:b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We can't just wait until everything is written in stone to star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What pieces will get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lay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n what S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etting good answers to all of this is the first task for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6444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ll sequence via wireless end link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2.11 not 802.16 How to fi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2920" y="1336320"/>
            <a:ext cx="9070920" cy="5978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-&gt;Sta Beacon of SSID for ES V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picks a beac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“Authentic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“Associate reques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sends “Authenticate repl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s DHCP requ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DHCP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response contains IP address for station, gateway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send ARP request with Gateway IP addr to get Gateway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 passes back ARP response from Gateway with its 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3720"/>
                <a:tab algn="l" pos="536400"/>
                <a:tab algn="l" pos="993600"/>
                <a:tab algn="l" pos="1450800"/>
                <a:tab algn="l" pos="1908000"/>
                <a:tab algn="l" pos="2365200"/>
                <a:tab algn="l" pos="2822400"/>
                <a:tab algn="l" pos="3279600"/>
                <a:tab algn="l" pos="3736800"/>
                <a:tab algn="l" pos="4194000"/>
                <a:tab algn="l" pos="4651200"/>
                <a:tab algn="l" pos="5108400"/>
                <a:tab algn="l" pos="5565600"/>
                <a:tab algn="l" pos="6022800"/>
                <a:tab algn="l" pos="6480000"/>
                <a:tab algn="l" pos="6937200"/>
                <a:tab algn="l" pos="7394400"/>
                <a:tab algn="l" pos="7851600"/>
                <a:tab algn="l" pos="8308800"/>
                <a:tab algn="l" pos="8766000"/>
                <a:tab algn="l" pos="92232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 can now communicate directly to Gateway via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