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1280" cy="37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564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24746-E865-4EF7-88B6-CB899F870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er RFC 5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ocation (civic or geographic) is required for two separate purpos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 support routing to appropriate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To display the caller’s location to the call t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(Emergency Service Number) What lay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i.e. “visited emergency dial string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(Servicing PSAP) What lay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"Infrastructure Based Emergency Call Routing”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 RFC 5012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For infrastructure-based emergency call routing (in contrast to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-based emergency call routing)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ergency call routing support entity needs to forward the call to the PSA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Infrastructure based location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- Infrastucture 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termination of appropriate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outing to P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5D5-D773-47E7-A1EE-A73227F6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BA81-DA4B-4F31-AB48-7E4EBDF6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1EE-E416-4CD4-AF12-600EF3AB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9170-37CE-43BC-8EA0-96886D2E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4EC-110E-45D9-9A19-068D12F6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1137-1AA7-4B0D-91F9-A5AE4939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AD2-CE77-4DF4-96D9-FA4C9DBA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175-B320-4B70-857B-CB9FFA12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008D-3A74-43D2-98AB-946C1F4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FF4-7312-443C-A221-F1A5825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571-C6C1-43EE-85FF-E36DC8B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951-8F16-4758-8A26-C861971D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400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78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880"/>
            <a:ext cx="2340000" cy="3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/2010 Con Cal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version is Geoff's edits as taken in the conference c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 includes implementation of the editing instructions talked about in the 1/29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rther edits through Feb 4 11:00 AM, 201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off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dits during conference call Feb 4, 2010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:00 PM – 3:37 PM by Geoff Thomp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urther Edits by Geoff Thompson in prep for Con Call 2:00 PM PST Feb 11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urther Edits by Geoff Thompson since posted version and in prep for Con Call 2:00 PM PST Feb 17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y b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OF EMERGENCY SERVICES and THEIR (present and future) REQUIREMENTS FOR PACKET NETWORKS IS A HUGE, COMPLEX PROBLEM FOR WHICH THE PROBLEM ITSELF IS NOT YET FULLY DEFINE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ccessful Emergency Call depends on all layers of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our proposed scope we feel that the problem is fully defin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57200"/>
            <a:ext cx="9372600" cy="685800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1080" y="1169640"/>
            <a:ext cx="9601200" cy="618156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w Comple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 (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(6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TORIAL (7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(language too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 (8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Requirements”,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ORIAL (9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gree precisely on requirements from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thers from .16 </a:t>
            </a:r>
            <a:r>
              <a:rPr b="0" lang="en-US" sz="4000" spc="-1" strike="noStrike">
                <a:solidFill>
                  <a:srgbClr val="23ff23"/>
                </a:solidFill>
                <a:latin typeface="Arial"/>
              </a:rPr>
              <a:t>(Barber)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&amp; .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ORIAL (10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can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and/or 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05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reak up in to separate presentations and 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o will present for ES and how will the tutorial be broken into presen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457200"/>
            <a:ext cx="9372600" cy="6858000"/>
          </a:xfrm>
          <a:prstGeom prst="line">
            <a:avLst/>
          </a:prstGeom>
          <a:ln w="2926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1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esenter 2/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120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7480"/>
                <a:tab algn="l" pos="1441440"/>
                <a:tab algn="l" pos="2171880"/>
                <a:tab algn="l" pos="2889360"/>
                <a:tab algn="l" pos="3613320"/>
                <a:tab algn="l" pos="4336920"/>
                <a:tab algn="l" pos="5060880"/>
                <a:tab algn="l" pos="5784840"/>
                <a:tab algn="l" pos="6515280"/>
                <a:tab algn="l" pos="7232760"/>
                <a:tab algn="l" pos="7956720"/>
                <a:tab algn="l" pos="8680320"/>
                <a:tab algn="l" pos="9137520"/>
                <a:tab algn="l" pos="9594720"/>
                <a:tab algn="l" pos="1005192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ulatory 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ergency Services calls ne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be directed to the appropriate PSA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ide sufficient information for PSAP call-bac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rther (possible future but not current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 are required to provide service to any user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uthorized subscriber or not) some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rioritization capability should be conside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964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55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