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5640120" y="97200"/>
            <a:ext cx="64116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53760" y="972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54160" y="701280"/>
            <a:ext cx="462600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5357880" y="8984880"/>
            <a:ext cx="9237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83575FA-017A-4977-8D15-6459358708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2520" y="898524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92ADE04-3DF0-4273-A231-E3F6913812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357880" y="8984880"/>
            <a:ext cx="9237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640120" y="97200"/>
            <a:ext cx="64116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53760" y="972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624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564A835-F222-4333-830B-F9B74D7E3D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357880" y="8984880"/>
            <a:ext cx="9237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640120" y="97200"/>
            <a:ext cx="64116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53760" y="972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624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3D5EE60-FA51-4A60-BC88-F770CB6F70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57880" y="8984880"/>
            <a:ext cx="9237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640120" y="97200"/>
            <a:ext cx="64116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53760" y="972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624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07EF961-F0C5-469E-A336-BE90A53FE6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357880" y="8984880"/>
            <a:ext cx="9237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640120" y="97200"/>
            <a:ext cx="64116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53760" y="972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624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EBC03B6-6563-4D48-84DF-C074F82928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357880" y="8984880"/>
            <a:ext cx="9237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640120" y="97200"/>
            <a:ext cx="64116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53760" y="972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624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36AC44A-018F-456C-A86E-235E182DF9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57880" y="8984880"/>
            <a:ext cx="9237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640120" y="97200"/>
            <a:ext cx="64116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53760" y="972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624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4F69-1E82-44A3-B192-999F36A88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8AD6-6D83-474D-A211-A52BFC1F4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241F-063F-4699-9446-99E93D6B4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E221-5EDE-46CA-A5C7-441D84C24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EA1D-85E8-4D30-A0B6-6F94FCC9A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ECAE-69BB-4BC9-B06E-AA363D6EA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6860-92FF-4244-9C78-39651CF28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FCB7-17AA-4D98-A761-6EA6E7172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65C5-44AA-4485-A622-2132E90E9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B0D0-F91F-419F-826C-89B41384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1465-EA1C-4D6C-B062-91170348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81EA-9631-4EBD-9249-FE0A3AEB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39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E2607DE-B601-4151-8AF5-86269BE91E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898240" y="396000"/>
            <a:ext cx="2567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2/712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benveniste@ieee.org" TargetMode="External"/><Relationship Id="rId2" Type="http://schemas.openxmlformats.org/officeDocument/2006/relationships/hyperlink" Target="mailto:benveniste@ieee.org" TargetMode="External"/><Relationship Id="rId3" Type="http://schemas.openxmlformats.org/officeDocument/2006/relationships/hyperlink" Target="mailto:benveniste@ieee.org" TargetMode="External"/><Relationship Id="rId4" Type="http://schemas.openxmlformats.org/officeDocument/2006/relationships/hyperlink" Target="mailto:benveniste@ieee.org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802.11e features for the enterpri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41460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Mathilde Benveni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benveniste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@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ieee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ahoma"/>
                <a:hlinkClick r:id="rId4"/>
              </a:rPr>
              <a:t>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vaya Labs - 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Benveniste, Avaya Labs Researc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E697-81CA-47D4-BC0B-19559FEC2C0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Our Objectiv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802.11e features for APs and clients appropriate for the enterprise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Benveniste, Avaya Lab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CA70-E4D3-4D73-8A13-59C25C3F0DD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5480" y="539640"/>
            <a:ext cx="883908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Performance criteria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2400"/>
            </a:b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5480" y="1390320"/>
            <a:ext cx="8553240" cy="434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1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prise APs must operate with both EDCF and HCF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CF clients used in the home will be brought to the offi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hieving greatest throughput, subject to QoS requirements, is the ultimate go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EDCF and HCF protocols must be designed for the greatest channel use 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-term implementations will be the future legacy population which, because of backward compatibility requirements, must b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Benveniste, Avaya Lab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A8CD-7254-4BB5-AE6B-5876252AE32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5480" y="749160"/>
            <a:ext cx="883908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Market Segmentation vs Technology</a:t>
            </a:r>
            <a:br>
              <a:rPr sz="2400"/>
            </a:b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5480" y="1491840"/>
            <a:ext cx="8553240" cy="434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4d4d4d"/>
                </a:solidFill>
                <a:uFillTx/>
                <a:latin typeface="Arial"/>
              </a:rPr>
              <a:t>Small syst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One or a few BSSs; single owner; no channel reuse; no BSA overla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Residential/Entertainment Center (controlled RF spectrum usage; few traffic streams – some heav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65120" indent="-507960">
              <a:lnSpc>
                <a:spcPct val="90000"/>
              </a:lnSpc>
              <a:spcBef>
                <a:spcPts val="400"/>
              </a:spcBef>
              <a:buClr>
                <a:srgbClr val="4d4d4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HCF (CFBs and HCF polling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OHO (controlled RF spectrum usage; few traffic streams) </a:t>
            </a:r>
            <a:r>
              <a:rPr b="0" lang="en-US" sz="2000" spc="-1" strike="noStrike">
                <a:solidFill>
                  <a:srgbClr val="3333cc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65120" indent="-50796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EDCF is adequat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Alternatively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365120" indent="-50796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downlink by HCF (CFB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365120" indent="-50796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uplink data by EDCF or polled HC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365120" indent="-50796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uplink voice by polled HC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365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365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Wingdings"/>
                <a:ea typeface="Wingdings"/>
              </a:rPr>
              <a:t>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Enterprise segments in bl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Benveniste, Avaya Lab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C884-31BF-4C2F-9DB7-7437C8719DB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5480" y="539640"/>
            <a:ext cx="883908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ont’ed</a:t>
            </a:r>
            <a:br>
              <a:rPr sz="2400"/>
            </a:b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5480" y="1390320"/>
            <a:ext cx="8553240" cy="434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611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4d4d4d"/>
                </a:solidFill>
                <a:uFillTx/>
                <a:latin typeface="Arial"/>
              </a:rPr>
              <a:t>Large Syst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11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Many BSSs reuse channels; overlapping BS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11640" indent="-611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Enterprise/Campus/Public spaces – single owner (controlled RF spectrum usage; multiple traffic streams; heavy load) </a:t>
            </a:r>
            <a:r>
              <a:rPr b="0" lang="en-US" sz="2000" spc="-1" strike="noStrike">
                <a:solidFill>
                  <a:srgbClr val="3333cc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73960" indent="-4366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downlink by HCF (CFB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73960" indent="-4366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uplink data by EDCF or polled HC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73960" indent="-4366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uplink voice by polled HC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11640" indent="-611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Office park - independent owners (uncontrolled RF spectrum usage; multiple traffic streams; heavy load) </a:t>
            </a:r>
            <a:r>
              <a:rPr b="0" lang="en-US" sz="2000" spc="-1" strike="noStrike">
                <a:solidFill>
                  <a:srgbClr val="3333cc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73960" indent="-4366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downlink by HCF (CFB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73960" indent="-4366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mix of EDCF and polled HC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11640" indent="-611640"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Multi-dwelling unit – independent BSS ownership (uncontrolled RF spectrum usage; multiple traffic streams; heavy loa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73960" indent="-436680">
              <a:lnSpc>
                <a:spcPct val="90000"/>
              </a:lnSpc>
              <a:spcBef>
                <a:spcPts val="400"/>
              </a:spcBef>
              <a:buClr>
                <a:srgbClr val="4d4d4d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downlink by HCF (CFB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73960" indent="-436680">
              <a:lnSpc>
                <a:spcPct val="90000"/>
              </a:lnSpc>
              <a:spcBef>
                <a:spcPts val="400"/>
              </a:spcBef>
              <a:buClr>
                <a:srgbClr val="4d4d4d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mix of EDCF and polled HC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73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11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Wingdings"/>
                <a:ea typeface="Wingdings"/>
              </a:rPr>
              <a:t>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Enterprise segments in bl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Benveniste, Avaya Lab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1868-AC97-4FC2-9B2A-FB43F2075E8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5480" y="539640"/>
            <a:ext cx="883908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Technology interests for the enterprise</a:t>
            </a:r>
            <a:br>
              <a:rPr sz="2400"/>
            </a:b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5480" y="1390320"/>
            <a:ext cx="8553240" cy="434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P Mandatory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CF CFB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led HCF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C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CF-Client Mandatory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SPE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EDCF-RR (QoS null frame sent by WSTA and ShortInactivityTimer at the AP, own top-priority TC with PF=0.5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ponse to pol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DCF-Client Mandatory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 Differentiation by AIFS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nd P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 parameters:  MSDULifetime, CWmin, CWma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Benveniste, Avaya Lab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A695-10D5-4F56-B6ED-379034318CE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5480" y="539640"/>
            <a:ext cx="883908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EDCF-RR for HCF clients</a:t>
            </a:r>
            <a:br>
              <a:rPr sz="2400"/>
            </a:b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5480" y="1390320"/>
            <a:ext cx="8553240" cy="434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647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CF-RR enables statistical multiplexing of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056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, at least 2 voice calls can be accommodated in place of 1 voic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47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CF-RR Mechanism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056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SPEC used to set up sessi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7056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rtInactivityTimer is used to drop inactive TID from polling li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7056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SPEC is not cancelled due to WSTA short-term in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7056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pt of an RR by the AP will cause the return of TID to the polling li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7056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RR function will be achieved by an WSTA’s QoS null frame, which will use its own top-priority TC (PF=0.5 and the shortest AIF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4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4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4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*For more detailed discussion see 01/409r1, 02/525r1, and 02/594r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Benveniste, Avaya Lab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3F4A-740E-41BA-AADA-7AE07580B86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480" y="539640"/>
            <a:ext cx="883908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PF for EDCF clients</a:t>
            </a:r>
            <a:br>
              <a:rPr sz="2400"/>
            </a:b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2560" y="1390320"/>
            <a:ext cx="8553240" cy="434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618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Fs are needed for priority different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27720" indent="-52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s can be differentiated better (a different PF for each T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27720" indent="-52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out PFs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fferenti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TCs above BE is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ot possib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the presence of legacy ST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18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Fs reduce delay and jitter for high priority T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18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Fs are easy to implement (see example for values like 0.5, 1, 1.5, and 2) *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18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Fs cause no overhead; remain constant over time (PF need not adapt to traffi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18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d alternative approach, namely differentiation by CWmax, can increase collisions if there is no contention window adaptation to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18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18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*For more detailed discussion see 01/409r0 and 01/409r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18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Benveniste, Avaya Lab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294A-17F4-453F-BCA5-C08221CE92E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achieve enterprise performance goals, it is proposed that w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EDCF/RR mechanism in 02/525r1 for polling-list mana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introduce persistence factors in 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implified for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posed in 409r1 for improved EDCF perform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Benveniste, Avaya Lab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9E37-6546-4285-9D73-A0F46FA61B7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1T18:58:09Z</dcterms:created>
  <dc:creator>Mathilde Benveniste</dc:creator>
  <dc:description/>
  <dc:language>en-US</dc:language>
  <cp:lastModifiedBy>Avayalabs Research</cp:lastModifiedBy>
  <cp:lastPrinted>1998-02-10T13:28:06Z</cp:lastPrinted>
  <dcterms:modified xsi:type="dcterms:W3CDTF">2002-11-13T06:52:32Z</dcterms:modified>
  <cp:revision>40</cp:revision>
  <dc:subject/>
  <dc:title>No Slide Title</dc:title>
</cp:coreProperties>
</file>