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48C-8B97-4630-A355-D73B6C4D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FE1-7017-4FC3-A968-B4BD1F32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D053-C2B9-4BB1-9C57-E2E9D01C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3140-5C2E-45CD-8FA1-294A038F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994C-DD80-4F61-A5B6-115ABDDA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4B71-C101-46B6-9AA6-35B8CFE4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5D13-A7F9-4C5D-8941-DDA915CAC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BE0E-71B9-4CB2-95E0-889AFCCF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461B1-B9C5-44F6-A310-DBA01B7E8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43E7F-865B-4848-B0C0-2000022F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DC54-234B-42DE-8C1A-33C20770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A2B-738C-4E4B-B9C1-C5FA8913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96571-A263-4848-B3D5-CA164645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95D38-3229-4809-AB27-99BD973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4229-9949-429D-B1FF-07723447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3778-3D2E-4FEC-AD4C-12171B8F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FED0-8E39-46C8-B694-E75E0DC6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1151-7E21-406F-90B6-CF3D2CB1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2E5D-4FA6-4488-B741-3D3351F2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7463-F0E5-4884-94F9-B7C02A7F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C85-6B77-4F11-B907-5BE8AB634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5DEB-E2DF-4336-9EFB-105185EC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12C4-1EB9-4855-B17B-79C19850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4D85-58F4-49E6-9028-C676D69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9886-911D-4FBF-806F-E4953D679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E84141-8DC6-4DBF-B4D6-EACAEC826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547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alidating Disassociate and Deauthenticate mess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C41F-5815-45C0-9B8A-6A33BF9BB7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1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981080"/>
          <a:ext cx="624852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81080"/>
                    <a:ext cx="624852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D6CE-1ABD-4EB1-B377-472333F879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zation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 or AP can delete state asynchronous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ity check of disassociate and deauthenticate cannot work under al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when keys ar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K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case 802.11 state machine needs to check if keys available before accepting disassociate or deauthenticat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844A-E909-4273-9612-72FCE2B43A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802.11 state mach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371600" y="1905120"/>
          <a:ext cx="64008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64008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A7FD-F273-4494-914C-3C4D8C256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ity ch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format for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E to messages containing Integrity ch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KIP/WRAP/CC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B40B-3811-46EA-94E4-2EF8850596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KM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4-way handshake on receiving disassociate or deauthenticate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Supplicant and Authenticator state machines to run 4-way handshake on receiving disassociate or de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 DeauthenticateRequest from DISCONNECTED state to PTKSTART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l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new state DISCONNECT. Sends EAPOL-Key Request. Timeout on completing 4-way handshake. Timeout goes to DISCONNECTED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52B2-33FF-4747-9D34-F33714942A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9:29:32Z</dcterms:created>
  <dc:creator>Tim</dc:creator>
  <dc:description/>
  <dc:language>en-US</dc:language>
  <cp:lastModifiedBy>at&amp;t user</cp:lastModifiedBy>
  <dcterms:modified xsi:type="dcterms:W3CDTF">2002-09-12T04:37:21Z</dcterms:modified>
  <cp:revision>31</cp:revision>
  <dc:subject/>
  <dc:title>Suggested Changes to RSN</dc:title>
</cp:coreProperties>
</file>