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960-4841-483B-B64A-91F38805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D5F-A93D-4B71-AD59-18E44169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6DA-F075-4B54-9600-AA82A63D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1C1-C5C4-479C-AC73-164BE454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C2C4-C245-4B95-9609-E421A413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84B1-8C91-400D-BF4B-428096C2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D8F7-AC21-4EB7-B38B-823D3EE1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CDE1-2DC0-4218-A348-9C4F4267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E688-6237-453C-BED2-85803913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5FD0-6071-4875-AD4D-D10A91D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0B4C-CFEA-4C4C-B1BC-1F09643A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94E-FFD1-4099-91A4-CC60674C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186E-A41E-4560-911D-848434A8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2972-FE79-416F-B829-5E97E74C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10BE-4C46-4379-9900-7F7B76F7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20E9-4BE7-4586-AFC7-DCCEC3F0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E447-FC44-40FC-9382-00834E54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278-06CC-46AF-B61E-517A0516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64A-8ED7-4125-93CF-AB313454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5C7-C5AE-4432-AC12-84D7B3DB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502-2D87-4459-A690-15BCC28C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D53-DBB1-44A0-929E-60578A8A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FD1-6121-448F-AEE6-41280898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AA1-9165-44D2-8492-A17E16E5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10D9-D819-49BB-9111-9018E72AB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686745-D44B-406C-9E76-0E8CC9DE8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545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password to P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Whiting, Hi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sse Walker,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C211-4640-4D63-8005-3250DBFBA6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 how to generate a 256 bit PSK from an ASCII 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posal uses PBKDF2 from PKCS #5 v2.0: Password-based Cryptography Standard, also RFC28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SK = PBKDF2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sid, ssidlengt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409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2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s the SSID so PSK different for different SS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once when password is sa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includes example code and test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025F-91A0-451A-870E-B7FA8AE54C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K = T1 || T2 – concatenate to 256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)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x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x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HMAC-Sha1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In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= HMAC-Sha1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HMAC-Sha1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s 40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8C3C-A9CE-4D3D-9A3A-A54314B1A5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to incorporate document 545 as an normative ann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DC78-0F05-4771-8CF7-CA90AA8BD7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9:29:32Z</dcterms:created>
  <dc:creator>Tim</dc:creator>
  <dc:description/>
  <dc:language>en-US</dc:language>
  <cp:lastModifiedBy>at&amp;t user</cp:lastModifiedBy>
  <dcterms:modified xsi:type="dcterms:W3CDTF">2002-09-12T04:35:06Z</dcterms:modified>
  <cp:revision>37</cp:revision>
  <dc:subject/>
  <dc:title>Suggested Changes to RSN</dc:title>
</cp:coreProperties>
</file>