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95B2B-0648-4E14-84D4-17115BFA8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21EF-AA07-40AD-9A93-FADEA4593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7B4C6-3E33-4F43-BC01-AE07A23AD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F1C31-AC30-4DE2-8F09-6AD241911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B0C74-93A3-48E1-A488-B1F38731D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D4D6C-75EF-4F99-BAF9-CB61514A6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BF3DC-E4F6-4123-9C16-939508528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A29DF-A15B-40E2-AF06-EEBEB8912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127B3-A245-436E-BD59-1560AF953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8BB33-6C38-466A-884B-11FA4F1FC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E51AD-5195-42AC-B9A0-020BFC800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E5150-BA19-40DA-918B-D7788DCEA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09056-D514-474E-97B3-42CB4B05C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BB265-652B-46BA-8C38-81EFD74B8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34D8A-1E39-47F8-BDF3-38EE21667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01E79-F59B-4E69-A17F-6A9C56C7C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87EE9-2EB6-4DEE-840C-FD00EF73A6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07F7D-8698-4BBF-8F35-D72B38E6C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7CC8-38C4-46A8-8C22-7B7A7A54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F5631-C25B-420A-8D47-EDF3466AF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075BC-5EE0-4FD5-BFCC-4CE9C5C3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3171-66B5-4B5E-8F2F-E680C3009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CD51-E661-410F-A554-A1BA644BE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08B7-6F3D-4B03-8934-1941ED92F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A6866-0A4C-40A0-B25B-BADF02307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3" name="PlaceHolder 3"/>
          <p:cNvSpPr>
            <a:spLocks noGrp="1"/>
          </p:cNvSpPr>
          <p:nvPr>
            <p:ph type="dt" idx="4"/>
          </p:nvPr>
        </p:nvSpPr>
        <p:spPr>
          <a:xfrm>
            <a:off x="609480" y="228600"/>
            <a:ext cx="190512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September 2002</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5486400" y="6399360"/>
            <a:ext cx="3124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Tim Moore, Microsof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3657600" y="6399360"/>
            <a:ext cx="190512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9BDC7444-60E0-48EB-A4E2-A371A37BE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499r1</a:t>
            </a:r>
            <a:endParaRPr b="0" lang="en-US" sz="1400" spc="-1" strike="noStrike">
              <a:solidFill>
                <a:srgbClr val="000000"/>
              </a:solidFill>
              <a:latin typeface="Arial"/>
            </a:endParaRPr>
          </a:p>
        </p:txBody>
      </p:sp>
      <p:sp>
        <p:nvSpPr>
          <p:cNvPr id="47"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67800" y="6477120"/>
            <a:ext cx="1018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miss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of-802.1X-with-IBSS</a:t>
            </a:r>
            <a:endParaRPr b="0" lang="en-US" sz="36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Moore</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B38D73F9-BD25-4B54-9DCB-6E067DD69F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to include document 02/499r1 into TGi draft</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9E03402-2261-4E9B-8971-4F5917A484D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Objectives of proposal</a:t>
            </a:r>
            <a:endParaRPr b="0" lang="en-US" sz="3600" spc="-1" strike="noStrike">
              <a:solidFill>
                <a:srgbClr val="000000"/>
              </a:solidFill>
              <a:latin typeface="Times New Roman"/>
            </a:endParaRPr>
          </a:p>
        </p:txBody>
      </p:sp>
      <p:sp>
        <p:nvSpPr>
          <p:cNvPr id="89" name="PlaceHolder 2"/>
          <p:cNvSpPr>
            <a:spLocks noGrp="1"/>
          </p:cNvSpPr>
          <p:nvPr>
            <p:ph/>
          </p:nvPr>
        </p:nvSpPr>
        <p:spPr>
          <a:xfrm>
            <a:off x="1042920" y="1916280"/>
            <a:ext cx="7415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 “ad-hoc” nature of IB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stent with ESS solution in approac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s Pre-shared Master key and live session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lution provides for both Pairwise and Group key</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B8513AA2-4526-47EC-AB56-3A3F60B8FE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IBSS Security Model</a:t>
            </a:r>
            <a:endParaRPr b="0" lang="en-US" sz="2800" spc="-1" strike="noStrike">
              <a:solidFill>
                <a:srgbClr val="000000"/>
              </a:solidFill>
              <a:latin typeface="Times New Roman"/>
            </a:endParaRPr>
          </a:p>
        </p:txBody>
      </p:sp>
      <p:sp>
        <p:nvSpPr>
          <p:cNvPr id="91" name="PlaceHolder 2"/>
          <p:cNvSpPr>
            <a:spLocks noGrp="1"/>
          </p:cNvSpPr>
          <p:nvPr>
            <p:ph/>
          </p:nvPr>
        </p:nvSpPr>
        <p:spPr>
          <a:xfrm>
            <a:off x="611280" y="1989000"/>
            <a:ext cx="8278560" cy="36086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y Distributed (no mast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client has an 802.1X Authentication Server combined with an 802.1X Authenticator (abbreviated AS/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A simple to implement with pre-shared master ke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client </a:t>
            </a:r>
            <a:r>
              <a:rPr b="1" lang="en-US" sz="2000" spc="-1" strike="noStrike">
                <a:solidFill>
                  <a:srgbClr val="000000"/>
                </a:solidFill>
                <a:latin typeface="Times New Roman"/>
              </a:rPr>
              <a:t>also</a:t>
            </a:r>
            <a:r>
              <a:rPr b="0" lang="en-US" sz="2000" spc="-1" strike="noStrike">
                <a:solidFill>
                  <a:srgbClr val="000000"/>
                </a:solidFill>
                <a:latin typeface="Times New Roman"/>
              </a:rPr>
              <a:t> has an 802.1X Supplicant (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air of stations must authenticate and share keys both ways: each must be successful supplicant to the oth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 client’s AS/A has authenticated a supplicant, it will unblock traffic and may communicate with the supplicant.</a:t>
            </a: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2D7654B9-4351-44D9-8ADB-C16533E25B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Server combined with an authenticator</a:t>
            </a:r>
            <a:endParaRPr b="0" lang="en-US" sz="2800" spc="-1" strike="noStrike">
              <a:solidFill>
                <a:srgbClr val="000000"/>
              </a:solidFill>
              <a:latin typeface="Times New Roman"/>
            </a:endParaRPr>
          </a:p>
        </p:txBody>
      </p:sp>
      <p:sp>
        <p:nvSpPr>
          <p:cNvPr id="93" name="PlaceHolder 2"/>
          <p:cNvSpPr>
            <a:spLocks noGrp="1"/>
          </p:cNvSpPr>
          <p:nvPr>
            <p:ph/>
          </p:nvPr>
        </p:nvSpPr>
        <p:spPr>
          <a:xfrm>
            <a:off x="755640" y="1916280"/>
            <a:ext cx="7772400" cy="27367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uthentication server does not need to be a RADIUS serve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case of IBSS, there isn’t any RADIUS communicati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AS/A authenticates each supplicant, 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 IBSS, each client has a supplica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 IBSS, the supplicant is insufficient for communicat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lient must also have an AS:A</a:t>
            </a:r>
            <a:endParaRPr b="0" lang="en-US" sz="1800" spc="-1" strike="noStrike">
              <a:solidFill>
                <a:srgbClr val="000000"/>
              </a:solidFill>
              <a:latin typeface="Times New Roman"/>
            </a:endParaRPr>
          </a:p>
        </p:txBody>
      </p:sp>
      <p:sp>
        <p:nvSpPr>
          <p:cNvPr id="94" name=""/>
          <p:cNvSpPr/>
          <p:nvPr/>
        </p:nvSpPr>
        <p:spPr>
          <a:xfrm>
            <a:off x="971640" y="5157720"/>
            <a:ext cx="1871640" cy="115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35640" y="5157720"/>
            <a:ext cx="1871640" cy="115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 name=""/>
          <p:cNvGrpSpPr/>
          <p:nvPr/>
        </p:nvGrpSpPr>
        <p:grpSpPr>
          <a:xfrm>
            <a:off x="1547640" y="5229360"/>
            <a:ext cx="720720" cy="503280"/>
            <a:chOff x="1547640" y="5229360"/>
            <a:chExt cx="720720" cy="503280"/>
          </a:xfrm>
        </p:grpSpPr>
        <p:sp>
          <p:nvSpPr>
            <p:cNvPr id="97" name=""/>
            <p:cNvSpPr/>
            <p:nvPr/>
          </p:nvSpPr>
          <p:spPr>
            <a:xfrm>
              <a:off x="1547640" y="522936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620720" y="53006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A</a:t>
              </a:r>
              <a:endParaRPr b="0" lang="en-US" sz="1400" spc="-1" strike="noStrike">
                <a:solidFill>
                  <a:srgbClr val="000000"/>
                </a:solidFill>
                <a:latin typeface="Arial"/>
              </a:endParaRPr>
            </a:p>
          </p:txBody>
        </p:sp>
      </p:grpSp>
      <p:grpSp>
        <p:nvGrpSpPr>
          <p:cNvPr id="99" name=""/>
          <p:cNvGrpSpPr/>
          <p:nvPr/>
        </p:nvGrpSpPr>
        <p:grpSpPr>
          <a:xfrm>
            <a:off x="1547640" y="5734080"/>
            <a:ext cx="720720" cy="503280"/>
            <a:chOff x="1547640" y="5734080"/>
            <a:chExt cx="720720" cy="503280"/>
          </a:xfrm>
        </p:grpSpPr>
        <p:sp>
          <p:nvSpPr>
            <p:cNvPr id="100" name=""/>
            <p:cNvSpPr/>
            <p:nvPr/>
          </p:nvSpPr>
          <p:spPr>
            <a:xfrm>
              <a:off x="1547640" y="573408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765080" y="580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Arial"/>
              </a:endParaRPr>
            </a:p>
          </p:txBody>
        </p:sp>
      </p:grpSp>
      <p:grpSp>
        <p:nvGrpSpPr>
          <p:cNvPr id="102" name=""/>
          <p:cNvGrpSpPr/>
          <p:nvPr/>
        </p:nvGrpSpPr>
        <p:grpSpPr>
          <a:xfrm>
            <a:off x="6012000" y="5734080"/>
            <a:ext cx="720720" cy="503280"/>
            <a:chOff x="6012000" y="5734080"/>
            <a:chExt cx="720720" cy="503280"/>
          </a:xfrm>
        </p:grpSpPr>
        <p:sp>
          <p:nvSpPr>
            <p:cNvPr id="103" name=""/>
            <p:cNvSpPr/>
            <p:nvPr/>
          </p:nvSpPr>
          <p:spPr>
            <a:xfrm>
              <a:off x="6012000" y="573408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085080" y="580536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A</a:t>
              </a:r>
              <a:endParaRPr b="0" lang="en-US" sz="1400" spc="-1" strike="noStrike">
                <a:solidFill>
                  <a:srgbClr val="000000"/>
                </a:solidFill>
                <a:latin typeface="Arial"/>
              </a:endParaRPr>
            </a:p>
          </p:txBody>
        </p:sp>
      </p:grpSp>
      <p:grpSp>
        <p:nvGrpSpPr>
          <p:cNvPr id="105" name=""/>
          <p:cNvGrpSpPr/>
          <p:nvPr/>
        </p:nvGrpSpPr>
        <p:grpSpPr>
          <a:xfrm>
            <a:off x="6012000" y="5229360"/>
            <a:ext cx="720720" cy="503280"/>
            <a:chOff x="6012000" y="5229360"/>
            <a:chExt cx="720720" cy="503280"/>
          </a:xfrm>
        </p:grpSpPr>
        <p:sp>
          <p:nvSpPr>
            <p:cNvPr id="106" name=""/>
            <p:cNvSpPr/>
            <p:nvPr/>
          </p:nvSpPr>
          <p:spPr>
            <a:xfrm>
              <a:off x="6012000" y="5229360"/>
              <a:ext cx="72072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229440" y="5300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t>
              </a:r>
              <a:endParaRPr b="0" lang="en-US" sz="1400" spc="-1" strike="noStrike">
                <a:solidFill>
                  <a:srgbClr val="000000"/>
                </a:solidFill>
                <a:latin typeface="Arial"/>
              </a:endParaRPr>
            </a:p>
          </p:txBody>
        </p:sp>
      </p:grpSp>
      <p:sp>
        <p:nvSpPr>
          <p:cNvPr id="108" name=""/>
          <p:cNvSpPr/>
          <p:nvPr/>
        </p:nvSpPr>
        <p:spPr>
          <a:xfrm flipH="1">
            <a:off x="2339640" y="5445000"/>
            <a:ext cx="360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340000" y="5950080"/>
            <a:ext cx="360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972720" y="5589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1</a:t>
            </a:r>
            <a:endParaRPr b="0" lang="en-US" sz="1400" spc="-1" strike="noStrike">
              <a:solidFill>
                <a:srgbClr val="000000"/>
              </a:solidFill>
              <a:latin typeface="Arial"/>
            </a:endParaRPr>
          </a:p>
        </p:txBody>
      </p:sp>
      <p:sp>
        <p:nvSpPr>
          <p:cNvPr id="111" name=""/>
          <p:cNvSpPr/>
          <p:nvPr/>
        </p:nvSpPr>
        <p:spPr>
          <a:xfrm>
            <a:off x="6660720" y="5589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2</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9C987710-7C67-45E1-9471-AF2900462A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BSS keying</a:t>
            </a:r>
            <a:endParaRPr b="0" lang="en-US" sz="3600" spc="-1" strike="noStrike">
              <a:solidFill>
                <a:srgbClr val="000000"/>
              </a:solidFill>
              <a:latin typeface="Times New Roman"/>
            </a:endParaRPr>
          </a:p>
        </p:txBody>
      </p:sp>
      <p:sp>
        <p:nvSpPr>
          <p:cNvPr id="113" name="PlaceHolder 2"/>
          <p:cNvSpPr>
            <a:spLocks noGrp="1"/>
          </p:cNvSpPr>
          <p:nvPr>
            <p:ph/>
          </p:nvPr>
        </p:nvSpPr>
        <p:spPr>
          <a:xfrm>
            <a:off x="2050920" y="2637000"/>
            <a:ext cx="4749840" cy="19526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rwise key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keying</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43A8503-1541-496A-9F37-08EBA25AFF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airwise Key Exchange</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 same approach as for ESS but with subtle difference as below:</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pair of stations perform key exchange separately in each direction (since each acts as supplicant in tur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fore two sets of pairwise keys are produc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cast messages are encrypted with key from the Authenticator with the lower MAC address</a:t>
            </a: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ECD6F6E7-F75F-4243-9432-505D125FE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roup key</a:t>
            </a:r>
            <a:endParaRPr b="0" lang="en-US" sz="3600" spc="-1" strike="noStrike">
              <a:solidFill>
                <a:srgbClr val="000000"/>
              </a:solidFill>
              <a:latin typeface="Times New Roman"/>
            </a:endParaRPr>
          </a:p>
        </p:txBody>
      </p:sp>
      <p:sp>
        <p:nvSpPr>
          <p:cNvPr id="117" name="PlaceHolder 2"/>
          <p:cNvSpPr>
            <a:spLocks noGrp="1"/>
          </p:cNvSpPr>
          <p:nvPr>
            <p:ph/>
          </p:nvPr>
        </p:nvSpPr>
        <p:spPr>
          <a:xfrm>
            <a:off x="755640" y="184464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STA uses its own group key for its multicast transmissions – this is same concept as in ESS AP cas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ider STAx. All other STAs that want to communicate with STAx must first exchange keys. STAx sends its multicasts using its own group key. All valid STAs can understand if they know STAx’s group ke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true for every STA – it has own group key and shares it only with those STAs that exchange pairwise ke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thod for creating and sending group key is the same as for ESS case (AP to 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7C8D2FFA-0436-4AB2-816F-98640742F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AKMP None – not requi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measures – same as ESS except add clarification that EAPOL-Key Requests are to go to the Authenticator that supplied the ke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y – when should a station authenticate to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a packet from an unknown MAC addre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 negoti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KMP and multicast must be the sa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 negotiation is in the 4-way handshake</a:t>
            </a: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50BFBE9C-EB07-4B12-B72A-0C4D70411F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or state machin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to check MAC addresses before setting the Pair variable (install Pairwise key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checks in Tx/Rx Pseudo code to check for RSN/IBSS and change key mapping rules to match for broadcast packe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variable to MIB d</a:t>
            </a:r>
            <a:r>
              <a:rPr b="0" lang="en-GB" sz="2400" spc="-1" strike="noStrike">
                <a:solidFill>
                  <a:srgbClr val="000000"/>
                </a:solidFill>
                <a:latin typeface="Times New Roman"/>
              </a:rPr>
              <a:t>ot11WEPKeyMappingsKeyBroadcast used to check if a key mapping key is for unicast or broadca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flag to SetFlags – keys now come from Authenticator or Supplicant and Michael key changes</a:t>
            </a:r>
            <a:endParaRPr b="0" lang="en-US" sz="2400" spc="-1" strike="noStrike">
              <a:solidFill>
                <a:srgbClr val="000000"/>
              </a:solidFill>
              <a:latin typeface="Times New Roman"/>
            </a:endParaRPr>
          </a:p>
        </p:txBody>
      </p:sp>
      <p:sp>
        <p:nvSpPr>
          <p:cNvPr id="4" name="PlaceHolder 3"/>
          <p:cNvSpPr>
            <a:spLocks noGrp="1"/>
          </p:cNvSpPr>
          <p:nvPr>
            <p:ph type="sldNum" idx="6"/>
          </p:nvPr>
        </p:nvSpPr>
        <p:spPr/>
        <p:txBody>
          <a:bodyPr/>
          <a:p>
            <a:fld id="{A98D7A68-68B1-47CB-BB47-13D39BDB1B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19:29:32Z</dcterms:created>
  <dc:creator>Tim</dc:creator>
  <dc:description/>
  <dc:language>en-US</dc:language>
  <cp:lastModifiedBy>at&amp;t user</cp:lastModifiedBy>
  <dcterms:modified xsi:type="dcterms:W3CDTF">2002-09-12T04:11:38Z</dcterms:modified>
  <cp:revision>24</cp:revision>
  <dc:subject/>
  <dc:title>Suggested Changes to RSN</dc:title>
</cp:coreProperties>
</file>