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EF9-418F-4F1E-866C-E53968C5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2B2-249B-4BA4-BF3D-82EDB0F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197-2582-4916-A453-F8C3C5AF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0E8-EB26-4E8E-863D-0C217A52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8B7-6026-473E-AE13-9E1401E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1B1-0E06-4EC7-8F53-B7DFB36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37E-E4EB-4A3E-AF57-0C21241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0DD-A042-4786-8357-176E0792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A41-8F36-47EA-8716-5AC3C29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174-A4FF-46A5-A20C-CAF4331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B7B-87FC-4851-8E7A-8988AC5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DAA-1A2D-46F7-AB11-0F44636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ymbol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B43F06-545C-46E6-A2AA-6AAC2D505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2286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477r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70680" y="65023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Informative Schemes for Generating Random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Whiting, Hi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t Chaplin, Symbol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A89-8427-4512-87A6-0B12EFB682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domness Nee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key generation, randomness is needed in the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mplementations may not have a good source of random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that we add an informative appendix with possible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CD8-772C-4248-A320-F2C9A84F89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locks cannot be perfectly cor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idely separated clocks have more de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enough samples, can get enough random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 could not perfectly match AP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samples from wired side if available (heavy broadcast traffic on most normal networks), otherwise create traffic on wireless side using first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6C3-8BD9-4335-B36E-D0AE33814B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itialize result to empty ar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oopCounter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ait until ethernet traffic or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peat until global key counter "random enough" or 32 time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ult = PRF-256(0, "Init Counter", Local Mac Address || Time || result || LoopCou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oopCounter+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peat 32 time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ethernet traffic available 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time when ethernet packet is s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atenate the seen time onto res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rt 4-way handshake, but only to reception of mess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time of when message 1 is 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time of when message 2 is 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RSSI from mess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SNonce from mess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atenate the sent time; receive time, RSSI and SNonce onto res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lobal key counter = result = PRF-256(0, "Init Counter", Local Mac Address || Time || result || LoopCou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54B-99C8-4B0F-84E5-B853247BA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dware Assist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ring oscillators, separated as much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 in another source of randomness, if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lip-Flops to avoid metastabl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 to maximum cycle length LF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FSR multiple times, and hash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428-3D82-4F7E-A856-FE3EACF0A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dware Assist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868400" y="1676520"/>
          <a:ext cx="540720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1676520"/>
                    <a:ext cx="540720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2EF-C018-40E9-A3F1-3030AFEFF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for Hardware Assist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ialize result to empty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eat 1024 tim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d LF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 = result | LF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it a tim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key counter = PRF-256(0, "Init Counter", resul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486-D969-422B-9FFD-83855BC650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for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that the editor incorporate into the draft document 02-477 as an informational append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ilbert2001182781025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715000" cy="200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5AA-D901-4E92-918F-17C7073A0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7:56:19Z</dcterms:created>
  <dc:creator>Tim</dc:creator>
  <dc:description/>
  <dc:language>en-US</dc:language>
  <cp:lastModifiedBy>at&amp;t user</cp:lastModifiedBy>
  <dcterms:modified xsi:type="dcterms:W3CDTF">2002-09-12T03:56:22Z</dcterms:modified>
  <cp:revision>33</cp:revision>
  <dc:subject/>
  <dc:title>AP to AP security</dc:title>
</cp:coreProperties>
</file>