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ECE-449E-4CB2-8585-BDB90E7A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2D9-D597-4F6E-8BA4-822FFAE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F35-2769-40FE-918D-21CD0014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967-2C1F-47A7-8A9B-80651BEF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ECF-1CFD-4429-8E82-D64EBF2D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5B6-C057-47AF-BDC7-6A57261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45A-167C-42CD-AE26-1BB132DC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292-5DDB-4298-979A-404A3983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CAF-E172-4DB0-B116-6B08B7C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C8E-EDF1-412A-A846-A7E1FBB3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BCC-59B1-44E0-8A75-AC5A056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8E5-3185-4772-BCF8-3D661BC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nt Chaplin, Symbo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066793-F02F-4B0F-B9E4-A47671040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477r0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Informative Schemes for Generating Random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Whiting, Hi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t Chaplin, Symbol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A75-33CF-4920-88EB-667BC1B12C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domness Nee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key generation, randomness is needed in the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mplementations may not have a good source of random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that we add an informative appendix with possible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2BD-091D-4C68-BB8E-86E0AB9048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itialize result to empty ar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oopCounter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ait until ethernet traffic or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peat until global key counter "random enough" or 32 time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ult = PRF-256(0, "Init Counter", Local Mac Address || Time || result || LoopCou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oopCounter+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peat 32 time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ethernet traffic available 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time when ethernet packet is s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atenate the seen time onto res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rt 4-way handshake, but only to reception of mess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time of when message 1 is 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time of when message 2 is 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lowest byte of RSSI from mess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e SNonce from mess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atenate the sent time; receive time, RSSI and SNonce onto res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lobal key counter = result = PRF-256(0, "Init Counter", Local Mac Address || Time || result || LoopCou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CDC-9E18-4C5D-B026-4BF7C4A2D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dware Assist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87480" y="1600200"/>
          <a:ext cx="53672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7480" y="1600200"/>
                    <a:ext cx="53672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65F-B346-45AD-9F21-F86CD31A9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for Hardware Assist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ialize result to empty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eat 1024 tim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d LF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 = result | LF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it a tim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key counter = PRF-256(0, "Init Counter", resul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250-53CD-4429-B777-D77C709A7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for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that the editor incorporate into the draft document 02-xxx as an informational append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494-7C41-4546-8FCB-58D609937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7:56:19Z</dcterms:created>
  <dc:creator>Tim</dc:creator>
  <dc:description/>
  <dc:language>en-US</dc:language>
  <cp:lastModifiedBy>at&amp;t user</cp:lastModifiedBy>
  <dcterms:modified xsi:type="dcterms:W3CDTF">2002-07-11T23:37:01Z</dcterms:modified>
  <cp:revision>29</cp:revision>
  <dc:subject/>
  <dc:title>AP to AP security</dc:title>
</cp:coreProperties>
</file>