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2465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91CF-3AC0-4345-A2F1-6AFFB1DB62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66D7-A8F8-4256-B148-8BC65FC4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70EB-BDF9-4B10-8EDA-2B212D58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284C-8910-4F39-B857-CC6B1B99FC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5470-3385-4442-AB8C-2349DC01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B0E7-49F4-493F-B68F-12A4C409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F682-EEA5-4ED5-A34B-4909535F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2AF6-121F-464D-A56D-02479B75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0694-4AC0-432C-87F4-61908B6D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E26A-B4EB-49CE-8FD3-DE84A406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1509-128B-41C9-AB5A-5ABB3ADD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F465-48A0-4FD8-8A04-94DF90A3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1371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u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558098-218E-4B6B-AEC3-1DA49EB07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70r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867280" y="6492960"/>
            <a:ext cx="28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chard van Nee, Sean Coff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hort Slot Time Option for TGg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Updated Ve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252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ichard van Nee, Woodsid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an Coffey, Texas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0A75-E577-4227-8EE9-8E1C8D5463EC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Gg Slot Time Proposal Con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2520" indent="-338040">
              <a:lnSpc>
                <a:spcPct val="100000"/>
              </a:lnSpc>
              <a:spcBef>
                <a:spcPts val="3900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ong support for enhancing .11g throughput by introducing the possibility for short slot ti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y issues were raised regarding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 proposed text addressed thos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2316-74EE-4E95-8C47-3DDCD80D180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Gg Slot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2520" indent="-338040">
              <a:lnSpc>
                <a:spcPct val="100000"/>
              </a:lnSpc>
              <a:spcBef>
                <a:spcPts val="3900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rrent draft of 11g uses pure IEEE 802.11a,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cep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or slot time which is the longer 802.11b slo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longer slot time significantly reduces the maximum throughput compared to 802.11a at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Gg currently has no migration path toward an  11g-only network that is as fast as 802.11a at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2785-E676-4324-8B28-6C1ACE82124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990720"/>
            <a:ext cx="60418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3720" y="5043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69960" y="5043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85840" y="50436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1720" y="50436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28760" y="50436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44640" y="50436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60520" y="50436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76760" y="50436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4880" y="5195880"/>
            <a:ext cx="213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w Data Rate [Mbp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36800" y="2739600"/>
            <a:ext cx="19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roughput [Mbp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roughput .11g versus .11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4864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2520" indent="-338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 Mbps throughput for .11a versu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ess than 25 Mbps for .11g at 54 Mbps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7590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172200"/>
            <a:ext cx="800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2520" indent="-3380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ahoma"/>
              </a:rPr>
              <a:t>Note: Throughput estimates without RTS/CTS using 1500 bytes packet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44720" y="1352520"/>
            <a:ext cx="4854600" cy="36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23880" y="1523520"/>
            <a:ext cx="4647960" cy="3429000"/>
            <a:chOff x="1523880" y="1523520"/>
            <a:chExt cx="4647960" cy="3429000"/>
          </a:xfrm>
        </p:grpSpPr>
        <p:sp>
          <p:nvSpPr>
            <p:cNvPr id="68" name=""/>
            <p:cNvSpPr/>
            <p:nvPr/>
          </p:nvSpPr>
          <p:spPr>
            <a:xfrm>
              <a:off x="1523880" y="1523880"/>
              <a:ext cx="4647960" cy="342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3880" y="1523880"/>
              <a:ext cx="4647960" cy="34268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3880" y="1523880"/>
              <a:ext cx="464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3880" y="1523880"/>
              <a:ext cx="4647960" cy="34268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523880" y="1523520"/>
              <a:ext cx="1440" cy="342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4950720"/>
              <a:ext cx="464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523880" y="1523520"/>
              <a:ext cx="1440" cy="342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038680" y="4911480"/>
              <a:ext cx="144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38680" y="15238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555280" y="4911480"/>
              <a:ext cx="144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55280" y="15238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070440" y="4911480"/>
              <a:ext cx="144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70440" y="15238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585240" y="4911480"/>
              <a:ext cx="144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5240" y="15238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10120" y="4911480"/>
              <a:ext cx="144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10120" y="15238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627080" y="4911480"/>
              <a:ext cx="144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27080" y="15238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141880" y="4911480"/>
              <a:ext cx="144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1880" y="15238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657040" y="4911480"/>
              <a:ext cx="144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57040" y="152388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49507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128640" y="49507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3880" y="4459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128640" y="4459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3976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128640" y="3976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3880" y="34837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128640" y="34837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29908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128640" y="29908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24994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128640" y="24994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20170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128640" y="20170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15238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128640" y="15238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1523880"/>
              <a:ext cx="464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3880" y="1523880"/>
              <a:ext cx="4647960" cy="34268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10160" y="4439160"/>
              <a:ext cx="118080" cy="511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0160" y="4439160"/>
              <a:ext cx="118080" cy="511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25320" y="4228200"/>
              <a:ext cx="118080" cy="7221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25320" y="4228200"/>
              <a:ext cx="118080" cy="722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40120" y="4027320"/>
              <a:ext cx="118080" cy="9230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40120" y="4027320"/>
              <a:ext cx="118080" cy="923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57080" y="3694680"/>
              <a:ext cx="116280" cy="12556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57080" y="3694680"/>
              <a:ext cx="116280" cy="1255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71880" y="3423240"/>
              <a:ext cx="118440" cy="15271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71880" y="3423240"/>
              <a:ext cx="118440" cy="1527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87040" y="3001680"/>
              <a:ext cx="118440" cy="19486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87040" y="3001680"/>
              <a:ext cx="118440" cy="1948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01840" y="2680200"/>
              <a:ext cx="118080" cy="22701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01840" y="2680200"/>
              <a:ext cx="118080" cy="2270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28520" y="2549160"/>
              <a:ext cx="118440" cy="2401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28520" y="2549160"/>
              <a:ext cx="118440" cy="2401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0200" y="4409280"/>
              <a:ext cx="118440" cy="541080"/>
            </a:xfrm>
            <a:prstGeom prst="rect">
              <a:avLst/>
            </a:prstGeom>
            <a:solidFill>
              <a:srgbClr val="8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0200" y="4409280"/>
              <a:ext cx="118440" cy="54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75080" y="4176720"/>
              <a:ext cx="118440" cy="773640"/>
            </a:xfrm>
            <a:prstGeom prst="rect">
              <a:avLst/>
            </a:prstGeom>
            <a:solidFill>
              <a:srgbClr val="8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5080" y="4176720"/>
              <a:ext cx="118440" cy="773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2040" y="3945960"/>
              <a:ext cx="116280" cy="1004400"/>
            </a:xfrm>
            <a:prstGeom prst="rect">
              <a:avLst/>
            </a:prstGeom>
            <a:solidFill>
              <a:srgbClr val="8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2040" y="3945960"/>
              <a:ext cx="116280" cy="100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06840" y="3544920"/>
              <a:ext cx="118440" cy="1405440"/>
            </a:xfrm>
            <a:prstGeom prst="rect">
              <a:avLst/>
            </a:prstGeom>
            <a:solidFill>
              <a:srgbClr val="8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6840" y="3544920"/>
              <a:ext cx="118440" cy="1405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22000" y="3182760"/>
              <a:ext cx="118440" cy="1767600"/>
            </a:xfrm>
            <a:prstGeom prst="rect">
              <a:avLst/>
            </a:prstGeom>
            <a:solidFill>
              <a:srgbClr val="8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22000" y="3182760"/>
              <a:ext cx="118440" cy="1767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36800" y="2589840"/>
              <a:ext cx="118440" cy="2360520"/>
            </a:xfrm>
            <a:prstGeom prst="rect">
              <a:avLst/>
            </a:prstGeom>
            <a:solidFill>
              <a:srgbClr val="8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6800" y="2589840"/>
              <a:ext cx="118440" cy="236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51960" y="2107800"/>
              <a:ext cx="118440" cy="2842560"/>
            </a:xfrm>
            <a:prstGeom prst="rect">
              <a:avLst/>
            </a:prstGeom>
            <a:solidFill>
              <a:srgbClr val="8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1960" y="2107800"/>
              <a:ext cx="118440" cy="284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66760" y="1906200"/>
              <a:ext cx="118440" cy="3044160"/>
            </a:xfrm>
            <a:prstGeom prst="rect">
              <a:avLst/>
            </a:prstGeom>
            <a:solidFill>
              <a:srgbClr val="8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66760" y="1906200"/>
              <a:ext cx="118440" cy="3044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352160" y="49150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52160" y="4387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76200" y="39067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6200" y="3405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76200" y="28954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76200" y="2422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76200" y="19494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6200" y="14320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057400"/>
            <a:ext cx="2895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252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d: 9µs slot tim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  (.11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blue: 20µs slot tim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  (current .11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D5E3-0712-41A6-9E3E-56E9CAFFBE7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hort Slot Time O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roduce a Short Slot Time Subfield in Capability Information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Access Point signals the short slot time mode in the beacon by setting Short Slot Time Subfield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on-short slot time devi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* associates, the Access Point sets Short Slot Time Subfield to 0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.11g STAs change their slot time when a change in the beacon Short Slot Time Subfield is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*  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non-short slot time device: Legacy 11b device or 11g device with Short Slot Time Subfield = 0 in its association reques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BDD2-F2E6-4ABB-8FFC-0CAA0F73ACB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mmary of Key Issues Addre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SS shall revert to 2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 slot time when a non-short slot device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lapping BSS: recommended practice to revert back to 2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 slot time in case of overlap with a co-channel long-slot time 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BSS mode: recommended practice to use 2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 slot tim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1E9A-1EAC-4C98-B3AC-12FFCE8051E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otion to Am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523880"/>
            <a:ext cx="830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mend motion to: ‘include the proposed text in document IEEE802.11-02/470r0 in the TGg draft tex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7840-10FD-4AF4-A5F3-DFF81FBFBD2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t&amp;t user</cp:lastModifiedBy>
  <cp:lastPrinted>2002-03-07T14:31:37Z</cp:lastPrinted>
  <dcterms:modified xsi:type="dcterms:W3CDTF">2002-07-11T23:41:07Z</dcterms:modified>
  <cp:revision>10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93592919</vt:r8>
  </property>
  <property fmtid="{D5CDD505-2E9C-101B-9397-08002B2CF9AE}" pid="3" name="_AuthorEmail">
    <vt:lpwstr>RolfDevegt@WoodsideNet.Com</vt:lpwstr>
  </property>
  <property fmtid="{D5CDD505-2E9C-101B-9397-08002B2CF9AE}" pid="4" name="_AuthorEmailDisplayName">
    <vt:lpwstr>Rolf Devegt</vt:lpwstr>
  </property>
  <property fmtid="{D5CDD505-2E9C-101B-9397-08002B2CF9AE}" pid="5" name="_EmailSubject">
    <vt:lpwstr>Text for the TGg short slot time proposal</vt:lpwstr>
  </property>
  <property fmtid="{D5CDD505-2E9C-101B-9397-08002B2CF9AE}" pid="6" name="_PreviousAdHocReviewCycleID">
    <vt:r8>-1867565737</vt:r8>
  </property>
</Properties>
</file>