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820-9EC7-4483-94D3-65CF3A17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604-5D82-4EE8-8552-99BF6B48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63F-565E-4900-A4F0-BE3A680D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DFA-1E99-4310-BDC0-FFBA9366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DD5-F669-4D50-BA86-89B3441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EAB-8B55-4097-B2EF-23951FE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AE3-3931-42D3-955F-5EB346F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BA0-A67D-459B-ACDA-EE231DB0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B2B-E81D-42F9-AEE8-5E0022A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A16-D906-4261-9C69-A25D773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F5D-E7CD-4FA7-BBBF-0FD0EA1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6F3-9019-4DD6-8449-DFAF875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1552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329520" y="6474960"/>
            <a:ext cx="228096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inivas Kandala, Sharp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7941F9-7945-475D-A235-0F418959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438r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to WA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nivas Kandala (Sharp Laborato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ian P. Stephens (Mobilian Corpo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ni@sharplab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EB5-75FE-42FC-90E0-85FD859D5C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 of the name of the p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i has a similarly sounding protocol – W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Tge to change the protocol name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changing the nam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al address resolution function is being performed – a misn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’s re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the name to Direct Link Protocol (D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355-7762-4323-B91E-B060F17D7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WA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overhead is too high to discover the capabilities of the target dest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clear if the power save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may be significant delay between the time the PS-Poll frame sent by the target destination and the sender actually receiving the notification. There is no guarantee that the target DA can be aw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could be multiple WSTAs wanting to communicate with the target power-saving DA exacerbating the si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where in the draft it is mentioned that the Direct links are not allowed with the PS de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ly that the data that needs to be sent to a PS would be high enough to justify the establishment of a direct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2A0-5212-4ADC-9135-547D73A5E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the proposed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registration, status notification and wake not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location discovery, so that the sender can initiate negotiation with the target destination, with the aid of the Q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anges to direct negotiation proced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security framework may be needed. Work in progress in Tg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FE9-020C-41A8-A764-358693E144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 after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: Location Discovery Request frame from WSTA1 to Q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: Location Discovery Request frame forwarded by QAP to W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: Location Discovery Response frame from WSTA2 to Q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4: Location Discovery Response frame forwarded by QAP to W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: Direct Communication Request frame from WSTA1 to W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: Direct Communication Response frame from WSTA2 to W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33720" y="1600200"/>
          <a:ext cx="47988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7988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91E-B2A4-4FEB-8030-D2603A3ED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for discovering the destination and if the destination is in PS-mode, it can change its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BSS relay of management frames is not possible, the request and response frames are overloaded to achieve the desired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AE6-360E-4984-812E-6665D9128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 of Direct L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A can terminate the direct link by sending a direct link termination request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906-0443-4ECC-8570-492E0A33F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 the editor to incorporate the normative text in doc 02/438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318-3C34-40B5-9224-B2770CF809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22:21:38Z</dcterms:created>
  <dc:creator>Srinivas Kandala</dc:creator>
  <dc:description/>
  <dc:language>en-US</dc:language>
  <cp:lastModifiedBy>Srinivas Kandala</cp:lastModifiedBy>
  <dcterms:modified xsi:type="dcterms:W3CDTF">2002-07-10T23:37:08Z</dcterms:modified>
  <cp:revision>4</cp:revision>
  <dc:subject/>
  <dc:title>Changes to WARP</dc:title>
</cp:coreProperties>
</file>