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CA1C-FAE6-4FFE-9234-04E924D0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F400-E4F9-43D7-A0D0-00CFE442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DFE-0AB9-47B9-849C-CAB88DAE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8EDC-267C-474E-B0E8-19266B84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9868-6FA8-4E6E-BDB7-BD016CF4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C493-1D87-4B61-BDED-6EE24578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4A7-4A61-48D5-9603-A7E153BB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1B1-3FE6-47B2-B005-6177B1D4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0220-8D71-4658-B758-BCDD31F3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E14-6AC1-4F52-B0D5-F74213E5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06C-2AB2-4CDA-9537-700602FE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EA0-4968-4AC0-9920-15851FF2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F040B84-CADC-4DD8-B01B-F18DE39C4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08960" y="396000"/>
            <a:ext cx="26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02/415r0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1676160"/>
            <a:ext cx="67053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voiding scrambler seed transmission err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4800600"/>
            <a:ext cx="35053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ricsson Microelectronics A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afjordsgatan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-164 81 Kista, 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46 8 7575018,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ke.lewis@mic.ericsson.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327672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ke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reless System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Lewis, Ericsson Microelectronics A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7B9-7E3E-415E-9904-757BA79D611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crambler seed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rambler seed for 802.11a shall “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be set to a pseudo random non-zero stat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mission errors of the seed information cause well-known problems combined with MAC-level F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lution: provide the receiver with a way to deduce the initial stat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other than the transmitted inform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Lewis, Ericsson Microelectronic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B009-5229-45E4-9BD9-CFB681BDB8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reconditions for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 sender: possibility to set OFDM PHY scrambler initial state prior to T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 receiver: possibility to determine initial state used by Rx descrambler in OFDM P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tirely optional at receiver, maintains current (draft 3.0) MAC FEC frame 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Lewis, Ericsson Microelectronic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883-97FB-43F9-A975-751CF5A347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roposed method: transmit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intain a list of &lt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e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gt; pairs  for each recipien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1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DA / RA / BSSID) to which FEC traffic has been 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n be a unicast, broadcast or multicas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en sending FEC traffic, for each MPDU sent, check for a list entry corresponding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list entry does not exist, initialise it with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ddress1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se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eed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a pseudo-random non-zero val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value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e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rresponding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o initialise the OFDM PHY layer scrambler for sending the MP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pdate the value of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eed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o be the state of the OFDM PHY scrambler after one iteration with initial state set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e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e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, as required, a pseudo-random non-zero val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Lewis, Ericsson Microelectronic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1584-4981-4B49-B053-4D8687C43E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roposed method: receive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intain a list of &lt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2, se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gt; triplets for each recipien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1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DA/RA/BSSID) and sender Address2 (SA/BSSID/TA) for which FEC traffic has been recei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ddress1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n be a unicast, broadcast or multicas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ddress2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s always an individual add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n MPDU is received successfully (after possible error corr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pdate (or create if it does not exist) an entry in the list corresponding to &lt;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ddress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ddress2, seed’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gt;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eed’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s generated by taking the valu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x_seed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sed to initialise the OFDM PHY descrambler and updating it according to the algorithm used to generat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eed’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t the transmit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causes seed generation at the receiver to be synchronised with that at the transmitter for all &lt;receiver,transmitter&gt; combin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Lewis, Ericsson Microelectronic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D89A-655B-48FD-9119-A7EE094720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roposed method: receive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n MPDU cannot be received correctly, even after attempted error correctio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sume that the cause is scrambler error propa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termine the received scrambler seed valu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x_se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used to initialise the 802.11a PHY descrambl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n’t read address fields in corrupted message, so must search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 an intelligent search of the &lt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2, se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gt; 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 each entry searched, compensate the received MPDU for the difference in descrambler output when using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e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stead o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x_seed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 the 802.11a PHY lay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e if the compensated MPDU is successfully error-corrected by F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compensated MPDU is successfully corrected and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pdate &lt;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ddress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ddress2, seed’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gt; based o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e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value used to successfully decode the mess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Lewis, Ericsson Microelectronic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7457-AD26-4432-9D36-9167A65C07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erformance of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l &lt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2, se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gt;  values are stored, and a full search is performed, seed errors can always be corrected for if the previous MPDU was successfully recei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ance can be modelled as a 2-state Markov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bability of error in current MPDU depends only on whether last MPDU was successfully received or not (seed values synchronis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ulting packet error rate i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y clos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performance of FEC code without scrambler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Lewis, Ericsson Microelectronic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629-B620-4C86-9A24-92F7CFEEA7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erformance of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90480" y="1676520"/>
          <a:ext cx="776304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676520"/>
                    <a:ext cx="776304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84880" y="4965840"/>
            <a:ext cx="55785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R based on 1000 byte packets, with independent bit erro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R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FE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: ideal PER with FEC and no scrambler propagation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R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Markov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: Steady-state PER with full search method i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Lewis, Ericsson Microelectronics A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C80-D838-4BBC-B49D-C27C31F75C5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imiting search ext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ly maintain records for FEC frames directed to the 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ly try to correct header part of message while searching: look for matching receive address after compensation / error corre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duces number of entries for a WSTA to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ccept loss of NAV data for a small number of 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arch through all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&lt;Address1,Address2&gt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pairs rarely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STA will often be receiving data from Q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AP will often be receiving data after granting a TX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imilar MAC-level information can be used to guide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n also search based on minimum non-zero Hamming distance between stored and received s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Lewis, Ericsson Microelectronic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FD4-8CCC-46B4-B9E8-01FC715F16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2:56:43Z</dcterms:created>
  <dc:creator>Mike Lewis</dc:creator>
  <dc:description/>
  <dc:language>en-US</dc:language>
  <cp:lastModifiedBy>at&amp;t user</cp:lastModifiedBy>
  <cp:lastPrinted>1998-02-10T13:28:06Z</cp:lastPrinted>
  <dcterms:modified xsi:type="dcterms:W3CDTF">2002-07-05T18:32:55Z</dcterms:modified>
  <cp:revision>16</cp:revision>
  <dc:subject/>
  <dc:title>Avoiding scrambler seed propagation errors</dc:title>
</cp:coreProperties>
</file>