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8BF60-BD57-4646-87A1-E6500F121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A5971-1CA8-433A-8ACA-56123552F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D0E70-9EC8-4612-8326-EF17FCE8C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934DA-404E-4F1E-9CCB-2E57F90DD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959CD-BF90-405E-90BA-AD699C4E7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9FD78-19E9-4AAC-8BD4-19E29807D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3FD59-F6AA-4543-9BEC-9E74B769A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10A91-1EBF-4E1D-9296-EBF2F3BE2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693DA-92A4-451D-978D-EAC15E654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A06DA-4D87-42C8-A7AE-2F366069D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8DEF3-8B79-4BFB-A97A-FCAA807FE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0AA7A-D265-487C-9BD3-A6D141640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379800"/>
            <a:ext cx="160020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ULY 20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5320"/>
            <a:ext cx="31240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ham Melville, Symbol Technolog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rian Stephens, Mobilian Corpo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98385107-F87A-4B8B-993B-3501726262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962520" y="396000"/>
            <a:ext cx="449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2/406r0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resentation on Normative Text for TSPEC in support of Coexist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78920" y="1773360"/>
            <a:ext cx="8713800" cy="346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raham Melville, Symbol Technolog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melville@sj.symbol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drian Stephens, Mobilian Corpo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drian.stephens@mobilian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esentation associated with draft normative text located in document 11-02-406r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30200" y="5013360"/>
            <a:ext cx="8713800" cy="21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ccff"/>
                </a:solidFill>
                <a:latin typeface="Arial"/>
              </a:rPr>
              <a:t>\\</a:t>
            </a:r>
            <a:r>
              <a:rPr b="0" lang="en-GB" sz="3200" spc="-1" strike="noStrike">
                <a:solidFill>
                  <a:srgbClr val="00cc99"/>
                </a:solidFill>
                <a:latin typeface="Arial"/>
              </a:rPr>
              <a:t>Venus1\Documents\802-11Documents\July2002\Pre-Meeting\11-02-406r0-E-Normative Text for TSPE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02930-32FE-42F7-8473-A9645B087BA6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Behavioural Chang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upport for AWMA is optional in both HC and S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C provides NAV protection of any schedules it gr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WMA stations share the same schedule, identified by a well-defined ID (actually a particular registered multicast MAC address) in the schedule requ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5AAD0-E9F3-4AE8-8204-29355DE7707E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Why is this relevant to TGe 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802.15.2 has defined mechanisms that reduce interference to both 802.15.1 and 802.11 de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duced interference means more predictability and a better chance of meeting QoS commit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duced interference means more available bandwid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16FB2-6417-4F32-9CC2-6B3EE31CA281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989520" y="2587680"/>
            <a:ext cx="612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326280" y="2587680"/>
            <a:ext cx="612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77720" y="5224320"/>
            <a:ext cx="7999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5556240" y="3200400"/>
            <a:ext cx="3587760" cy="2365200"/>
            <a:chOff x="5556240" y="3200400"/>
            <a:chExt cx="3587760" cy="2365200"/>
          </a:xfrm>
        </p:grpSpPr>
        <p:sp>
          <p:nvSpPr>
            <p:cNvPr id="54" name=""/>
            <p:cNvSpPr/>
            <p:nvPr/>
          </p:nvSpPr>
          <p:spPr>
            <a:xfrm>
              <a:off x="5600520" y="3219480"/>
              <a:ext cx="3440160" cy="2346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602320" y="3200400"/>
              <a:ext cx="354168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Bluetoot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Packets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M5, 2871 bit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ffered Load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0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CO Packets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HV1, 366 bit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x Power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 m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802.1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Rate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1 Mbits/s, 1 Mbits/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odes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irect Sequence, F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cket Size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2000 bit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ffered Load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0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x Power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5 m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556240" y="4273560"/>
              <a:ext cx="346860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702480" y="1498680"/>
            <a:ext cx="2147760" cy="1575000"/>
            <a:chOff x="6702480" y="1498680"/>
            <a:chExt cx="2147760" cy="1575000"/>
          </a:xfrm>
        </p:grpSpPr>
        <p:sp>
          <p:nvSpPr>
            <p:cNvPr id="58" name=""/>
            <p:cNvSpPr/>
            <p:nvPr/>
          </p:nvSpPr>
          <p:spPr>
            <a:xfrm>
              <a:off x="7566120" y="1609560"/>
              <a:ext cx="1440" cy="1089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19880" y="2523960"/>
              <a:ext cx="120492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flipV="1">
              <a:off x="7651800" y="1696680"/>
              <a:ext cx="1440" cy="40644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948360" y="2614680"/>
              <a:ext cx="891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cc"/>
                  </a:solidFill>
                  <a:latin typeface="Arial"/>
                </a:rPr>
                <a:t>Bluetoot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cc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3333cc"/>
                  </a:solidFill>
                  <a:latin typeface="Arial"/>
                </a:rPr>
                <a:t>Slav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916760" y="2577960"/>
              <a:ext cx="9334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cc"/>
                  </a:solidFill>
                  <a:latin typeface="Arial"/>
                </a:rPr>
                <a:t>Bluetooth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cc"/>
                  </a:solidFill>
                  <a:latin typeface="Arial"/>
                </a:rPr>
                <a:t>Master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775560" y="1498680"/>
              <a:ext cx="676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cc33"/>
                  </a:solidFill>
                  <a:latin typeface="Arial"/>
                </a:rPr>
                <a:t>802.11 A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702480" y="2073240"/>
              <a:ext cx="6984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cc33"/>
                  </a:solidFill>
                  <a:latin typeface="Arial"/>
                </a:rPr>
                <a:t>802.11 Mobil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>
              <a:off x="7862760" y="1688760"/>
              <a:ext cx="1800" cy="40644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7296840" y="2206440"/>
              <a:ext cx="6544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800000"/>
                  </a:solidFill>
                  <a:latin typeface="Arial"/>
                </a:rPr>
                <a:t>d=1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" name=""/>
          <p:cNvGrpSpPr/>
          <p:nvPr/>
        </p:nvGrpSpPr>
        <p:grpSpPr>
          <a:xfrm>
            <a:off x="304920" y="2514600"/>
            <a:ext cx="5257440" cy="3886200"/>
            <a:chOff x="304920" y="2514600"/>
            <a:chExt cx="5257440" cy="3886200"/>
          </a:xfrm>
        </p:grpSpPr>
        <p:sp>
          <p:nvSpPr>
            <p:cNvPr id="68" name=""/>
            <p:cNvSpPr/>
            <p:nvPr/>
          </p:nvSpPr>
          <p:spPr>
            <a:xfrm>
              <a:off x="4346640" y="5627520"/>
              <a:ext cx="1011240" cy="38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 fontScale="80000"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rial"/>
                </a:rPr>
                <a:t>5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338640" y="5627520"/>
              <a:ext cx="1007640" cy="38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 fontScale="80000"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0000"/>
                  </a:solidFill>
                  <a:latin typeface="Arial"/>
                </a:rPr>
                <a:t>2.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25600" y="5627520"/>
              <a:ext cx="1013040" cy="38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 fontScale="80000"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Voi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6640" y="4851720"/>
              <a:ext cx="1011240" cy="3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 fontScale="80000"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rial"/>
                </a:rPr>
                <a:t>4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338640" y="4851720"/>
              <a:ext cx="1007640" cy="3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 fontScale="80000"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0000"/>
                  </a:solidFill>
                  <a:latin typeface="Arial"/>
                </a:rPr>
                <a:t>1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325600" y="4851720"/>
              <a:ext cx="1013040" cy="3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 fontScale="80000"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Voi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346640" y="4075920"/>
              <a:ext cx="1011240" cy="38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 fontScale="80000"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rial"/>
                </a:rPr>
                <a:t>9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338640" y="4075920"/>
              <a:ext cx="1007640" cy="38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 fontScale="80000"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0000"/>
                  </a:solidFill>
                  <a:latin typeface="Arial"/>
                </a:rPr>
                <a:t>1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325600" y="4075920"/>
              <a:ext cx="1013040" cy="38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 fontScale="80000"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Voi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346640" y="6014160"/>
              <a:ext cx="101124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 fontScale="80000"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rial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338640" y="6014160"/>
              <a:ext cx="100764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 fontScale="80000"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0000"/>
                  </a:solidFill>
                  <a:latin typeface="Arial"/>
                </a:rPr>
                <a:t>2.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325600" y="6014160"/>
              <a:ext cx="101304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 fontScale="80000"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04920" y="5627520"/>
              <a:ext cx="2020680" cy="77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rm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 Mbit/s F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04920" y="4075920"/>
              <a:ext cx="2020680" cy="77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rm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 Mbit/s D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04920" y="4851720"/>
              <a:ext cx="2020680" cy="77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rm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1 Mbit/s D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346640" y="5239440"/>
              <a:ext cx="1011240" cy="38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 fontScale="80000"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rial"/>
                </a:rPr>
                <a:t>1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338640" y="5239440"/>
              <a:ext cx="1007640" cy="38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 fontScale="80000"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0000"/>
                  </a:solidFill>
                  <a:latin typeface="Arial"/>
                </a:rPr>
                <a:t>1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325600" y="5239440"/>
              <a:ext cx="1013040" cy="38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 fontScale="80000"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346640" y="4464000"/>
              <a:ext cx="1011240" cy="38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 fontScale="80000"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rial"/>
                </a:rPr>
                <a:t>3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338640" y="4464000"/>
              <a:ext cx="1007640" cy="38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 fontScale="80000"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0000"/>
                  </a:solidFill>
                  <a:latin typeface="Arial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325600" y="4464000"/>
              <a:ext cx="1013040" cy="38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 fontScale="80000"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312440" y="3130920"/>
              <a:ext cx="1249920" cy="94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802.1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38640" y="3130920"/>
              <a:ext cx="1007640" cy="94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B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325600" y="3130920"/>
              <a:ext cx="1284480" cy="94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BT Traffi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04920" y="3130920"/>
              <a:ext cx="2020680" cy="94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rm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802.11 Typ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4920" y="3130920"/>
              <a:ext cx="505296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04920" y="6400800"/>
              <a:ext cx="505296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04920" y="3130920"/>
              <a:ext cx="0" cy="326952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338640" y="3130920"/>
              <a:ext cx="0" cy="3269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346640" y="3130920"/>
              <a:ext cx="0" cy="3269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357880" y="3130920"/>
              <a:ext cx="0" cy="326952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325600" y="3130920"/>
              <a:ext cx="0" cy="3269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04920" y="5627520"/>
              <a:ext cx="5052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04920" y="4851720"/>
              <a:ext cx="5052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04920" y="4075920"/>
              <a:ext cx="5052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325600" y="4464000"/>
              <a:ext cx="303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325600" y="5239440"/>
              <a:ext cx="303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325600" y="6014160"/>
              <a:ext cx="303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267280" y="2514600"/>
              <a:ext cx="3065760" cy="65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% of Packet Los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267280" y="2514600"/>
              <a:ext cx="306576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267280" y="3168720"/>
              <a:ext cx="306576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267280" y="2514600"/>
              <a:ext cx="0" cy="65412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333040" y="2514600"/>
              <a:ext cx="0" cy="65412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685800" y="68580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ypical Modeling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8C275-0FF0-4FAC-8B8A-95572BABA505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00000" y="981000"/>
            <a:ext cx="76964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802.15.2 Alternating Wireless Medium Access – What is it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62120" y="2060640"/>
            <a:ext cx="7772400" cy="36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802.15.2 Collaborative Coexistence Mechanism for Collocated IEEE 802.11b and Bluetoo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th in the same laptop or handhe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iminates WLAN/WPAN interference due to no temporal overl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for high-density of WLAN/WPAN uni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7A29D-839B-4C52-9273-C5AEA9B9C48A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838080" y="685800"/>
            <a:ext cx="76964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lternating Wireless Medium Access (AWMA) – How does it work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09480" y="1905120"/>
            <a:ext cx="77724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ordinated (collocated) MAC Lay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hared Timeb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divided WLAN Beacon Interv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LAN Interv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PAN Interv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8A366-24DA-4E1E-90A2-6082BA9F498F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Requirements for Support in 802.1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common time-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predictable periodic allocation for AWMA de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uppression of 802.11 transmission during this peri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ignalling of the AWMA timing by the HC to AWMA de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quest for AWMA period by STA or a MIB interf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9591D-7920-4F43-9A0B-516D105B07F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Proposed TSPEC Chang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ew Traffic Type (not specific to AWM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cheduled”.  A repeating time period relative to the CFP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ew Parame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FP Offset, Du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ew TSPEC structure (“Field Map”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 avoid overhead for stations that don’t support AW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88F6A-211F-4572-A422-645FC3608DE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ther “Almost Editorial” TSPEC Chan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ll time fields in the same units (u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abular definitions of fiel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ll fields shown as Optional/Mandatory/Not-permitted according to traffic ty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98331-B8AD-412C-AF80-937C6D27989A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TSPEC Ele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684360" y="1989000"/>
          <a:ext cx="7772400" cy="1438200"/>
        </p:xfrm>
        <a:graphic>
          <a:graphicData uri="http://schemas.openxmlformats.org/drawingml/2006/table">
            <a:tbl>
              <a:tblPr/>
              <a:tblGrid>
                <a:gridCol w="1366920"/>
                <a:gridCol w="1244520"/>
                <a:gridCol w="1254240"/>
                <a:gridCol w="1954080"/>
                <a:gridCol w="19526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ctets: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lement ID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3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S Info</a:t>
                      </a:r>
                      <a:br>
                        <a:rPr sz="2000"/>
                      </a:br>
                      <a:br>
                        <a:rPr sz="2000"/>
                      </a:b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ield Ma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S Fields 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3B1A7-40D9-46A7-ACC1-A169CB07C558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5T16:01:39Z</dcterms:created>
  <dc:creator>Steve Shellhammer</dc:creator>
  <dc:description>&lt;doc#&gt;</dc:description>
  <dc:language>en-US</dc:language>
  <cp:lastModifiedBy>Adrian P Stephens</cp:lastModifiedBy>
  <cp:lastPrinted>2002-03-08T20:04:23Z</cp:lastPrinted>
  <dcterms:modified xsi:type="dcterms:W3CDTF">2002-07-09T18:59:09Z</dcterms:modified>
  <cp:revision>442</cp:revision>
  <dc:subject>IEEE 802.15 &lt;subject&gt;</dc:subject>
  <dc:title>IEEE P802.15 Working Group for Wireless Personal Area Networks</dc:title>
</cp:coreProperties>
</file>