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352-EC03-4E96-8E0A-39869447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E6BC-5228-49B9-A086-012EFFB0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67A-B369-4543-B7D2-B67CD5E8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87D-408D-43E3-A61C-222C049F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35AE-F957-4DC9-B1A2-3204BDE0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D76-E4F7-4828-B422-F4FFBA3C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5238-AB59-46FA-B569-30A6F38A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FDF-705F-4806-9CAC-A59ACCFE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091-03D9-47F6-970A-E4C15663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2D3C-316D-4D19-BD73-4A192E77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AB78-00FF-415A-95D8-6BD5E5D6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EB4-FB80-4FA9-988C-C6EED419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D23F9F1-D656-4BFC-955A-D5E9DBF92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38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67800" y="64771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X Pre-Authent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nard Abo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BD0-CF6F-4BAB-8715-D9536D661B6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1 EAP Method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376280"/>
            <a:ext cx="853272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“What role does EAP have in 802.11 security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method requirements (from RFC 2284bi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ual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der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tionary attack re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for fast reconn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stion: is 2.5 round trips “fast”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ed EAP conver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discu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phersuite negoti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activatio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9EB2-0334-45CA-BBD7-B094DD69F64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ats Addressed by EAP Reqm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9280" y="1665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ooping, modification or injection of data packets (802.11 ciph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sonation of legitimate 802.11 STA or AP (802.11 ciph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Modification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or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control/management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jection of forg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or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control/management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nial of service, including resource sta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ruption of security negot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Capabilities adverti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Ciphersui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authentication nego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B662-73B6-4892-AB77-F5CE95B0F92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ndatory Auth Method: Im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6360" y="1267920"/>
            <a:ext cx="7772400" cy="49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uarantee that STA and AP can successfully authent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gurations without a backen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enticator can’t just implement the mandatory method; needs to support commonly deployed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: AP may need constant code changes to support new auth methods – what EAP was designed to preven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 through” configuration is easier to imp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SS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uarantee that two STAs can authenticate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s on 802.1X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end authentication server originally an optional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ally possible to “Colocate AS and AP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EAP, AS and client are assumed to be extensible but AP is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tive discussion of AAA attributes and protoco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longs in a non-normative Appendix, not within the main specif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47DB-6582-47CA-9918-57D0E354001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ion of Management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7240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ociation/Reassociation Request/Response, Deauthenticate, Disassoc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protec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acon, Probe Request/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uld need to protect Beacon with multicast key; would not prevent forg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protect contents of Beacon, Probe Response later on in order to detect forg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ing of unauthenticated management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 can discard unauthenticated Deauthenticate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 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s change to key hierar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KIP/WRAP applied to MP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change required to key hierar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s changes to cip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B416-9650-49B1-B35B-4A5BE6E752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ection of Control Fra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issues to management frame protection but fewer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frames are higher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penalty of not reusing TKIP and WRAP ciphersuites is prohib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 MIC not a viable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ntrol frame protection,  need ciphersuites operating on MP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2EC-D063-4ABA-AFF3-E257E615FC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ts Addressed by Mgmt/Cntrl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9280" y="1665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ooping, modification or injection of data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sonation of legitimate 802.11 STA or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 of authentication or control/management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jection of forged authentication or control/management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nial of service, including resource sta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ruption of security negot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Capabilities adverti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Ciphersui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authentication nego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42F-FD70-4CE6-9475-C46E2866664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ed Negot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phersuite nego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phersuite negotiation needs to occur before ciphersuites ar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iphersuite used to protect management messages, then negotiation needs to occur prior to Association/Reassociation Request/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enticated Association/Reassociation Request/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o late if Assoc/Reassoc protected by TKIP or WRAP ciphersu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-way handsh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rly in conver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c to 802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 to create new EAP method to handle th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s support for multiple media (PPP, 802.11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nego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ed by EAP protectio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062-E47A-4B0E-B705-1C8E81EDCBC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ts Addressed by Protected 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9280" y="1665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ooping, modification or injection of data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sonation of legitimate 802.11 STA or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 of authentication or control/management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jection of forged authentication or control/management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nial of service, including resource sta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ruption of security negot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bilities adverti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phersuite or authentication nego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0A01-352F-42DB-9001-5206446B973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y Acti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5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s when “FC” WEP bit can be set to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way handsh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“FC” WEP bit to be turned on prior to completion of EAP exchange (e.g. to cover Success/Failure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ed Association/Reassociation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” WEP bit only turned on in “associated” pre-a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 protection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activate keys in 802.11-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24F-F3A7-40E7-AC3C-B9EA36B06A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1305000"/>
          <a:ext cx="7772400" cy="4824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hr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itigation alterna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ent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02.1X pre-authent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.1X post-authent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ed capabilities negot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-way handsh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enticated Association/Reassoc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ac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-way handsh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enticated Association/Reassoc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frame authent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iphers operating over MP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enticator Information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frame authent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iphers operating over MP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661-BFEA-4698-B3FD-FC8B0EB8CA1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view of pre-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 requi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fram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fram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ed negot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B20-4947-4218-B512-A885FBF8BB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944800" y="1941480"/>
            <a:ext cx="2922480" cy="3468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67200" y="838080"/>
            <a:ext cx="257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ba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2CE-2D18-46C7-A1DD-5D3E25F41753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esent a strawman threat model for IEEE 802.11 T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 Moore to present detailed threat analysis on Thurs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nderstand the implications of IEEE 802.1X pre-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authentication supported in 802.11i Draft 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nalyze solutions to potential thr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ed capabilities nego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frame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frame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48F-172B-4F2B-AD72-2AF2DD24EC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6360" y="1233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i needs a threat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out a threat model, you never know when you’re don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802.1X could use a formal threat model too (to avoid misunderstanding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X pre-authentication with 802.11 introduces some new wrink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licant-only init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on authenticated to multiple Authenticators simultaneous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controlled and uncontrolled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1 state machine controls access, not 802.1X stat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802.1X frames have a unicast DA and may be forwar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X pre-authentication has substantial advantages for 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-authentication enables a station to authenticate to multiple APs, which is not possible when 802.1X occur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soci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s connectivity loss during roa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802.1X pre-auth makes it possible to authenticate and derive keys early on, use keys to protect as many messages a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management and control frames can be protected, with the exception of Beacon and Probe Request/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556-AD1C-4AEC-BB1E-D1C2FA24B7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87280" y="1376280"/>
            <a:ext cx="3743640" cy="37432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48000" y="1305000"/>
            <a:ext cx="3743640" cy="37432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X Pre-Authent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735280" y="2673360"/>
          <a:ext cx="635040" cy="3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5280" y="2673360"/>
                    <a:ext cx="6350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176720" y="2889360"/>
            <a:ext cx="855720" cy="69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5940360" y="2709720"/>
          <a:ext cx="635040" cy="35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40360" y="2709720"/>
                    <a:ext cx="6350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82560" y="3395520"/>
            <a:ext cx="712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24360" y="2997360"/>
            <a:ext cx="0" cy="396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64360" y="2997360"/>
            <a:ext cx="0" cy="396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816000" y="328464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01080" y="159372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40720" y="163044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70520" y="35384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5240" y="353844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4005360"/>
            <a:ext cx="777240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6000"/>
          </a:bodyPr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 authenticates and associates to AP A on Channel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X data frames with “From DS” and “To DS” set to false (Class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 does passive or active scan, moves, selects AP B as “potential ro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 authenticates to AP B before connectivity is lost to AP A (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&lt; c/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send unicast 802.1X data frames to AP B, forwarded by AP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1508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DS” or “To DS” set to true (Class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tune radio to Channel 11 (if B &gt;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 reassociates to A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79240" y="3537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97440" y="2851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28720" y="2133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284360" y="26002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150560" y="3465360"/>
            <a:ext cx="3745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454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F5F-A2B0-45AC-AFE6-86768C3A97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9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oblem Sp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1341360"/>
            <a:ext cx="0" cy="323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458136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17840" y="580536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1800" y="526572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74880" y="52657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est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7600" y="526572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216720" y="21297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3465360"/>
            <a:ext cx="28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924360" y="144900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3573360"/>
            <a:ext cx="21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t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85840" y="2457360"/>
            <a:ext cx="25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+ Pre-auth 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5440" y="3033720"/>
            <a:ext cx="55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10160" y="4545000"/>
            <a:ext cx="55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2360" y="2852640"/>
            <a:ext cx="20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 authentication &amp; Advertisement over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43280" y="497664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34653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119640" y="144900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54320" y="4616280"/>
            <a:ext cx="10447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ss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50497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84720" y="2816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ciation not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0680" y="526572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F1C-82A5-46EB-B1BE-6161F66C6FD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1233360"/>
          <a:ext cx="4494240" cy="51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33360"/>
                    <a:ext cx="4494240" cy="51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59280" y="1268280"/>
            <a:ext cx="45007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802.11 state machine can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X data frames can be sent in State 1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S, From DS 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ssociated pre-aut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X data frames can be sent in Stat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S or From DS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ciated Pre-aut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uthenticated Deauth can be silently discarded by 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02B8-0181-4240-B04E-D5397A68BC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-Authentication State Mach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7640" y="144936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“controlled” and “uncontrolled”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fact, no “ports” at al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 doesn’t exist until Association/Reassociation ex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US Access-Request contains no NAS-Port 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ing START sent after successful Association/Reassociation Response w/NAS-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cant initiation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licant authenticates to APs that it is likely to roam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ce roaming decision made by STA, it also handle auth init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solicited EAP-Request/Identity frames are silently discar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 state machine governs frame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1-1999 state machine already supports pre-authentication, no change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X “auth complete” an input to 802.11 stat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rse of 802.1X after Association, where 802.11 events are inputs to 802.1X stat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45F-0853-41B1-AE2B-FE85CA243D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awman Threat Model for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9280" y="1665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ooping, modification or injection of data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sonation of legitimate 802.11 STA or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 of authentication or control/management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jection of forged authentication or control/management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service, including resource sta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ruption of security negot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bilities adverti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phersuite or authentication nego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8545-5EF7-4A09-9311-341EB62E30F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ernard Aboba</dc:creator>
  <dc:description/>
  <dc:language>en-US</dc:language>
  <cp:lastModifiedBy>at&amp;t user</cp:lastModifiedBy>
  <cp:lastPrinted>2000-08-12T19:25:02Z</cp:lastPrinted>
  <dcterms:modified xsi:type="dcterms:W3CDTF">2002-07-15T19:02:54Z</dcterms:modified>
  <cp:revision>539</cp:revision>
  <dc:subject/>
  <dc:title>Issues with 802.1X State Machine</dc:title>
</cp:coreProperties>
</file>