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BE47D-5308-475D-8095-12B97DABA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127A1-D6DA-46E6-84D4-A2315FEC3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3CBDD-0A67-4132-81C7-EB7ED9655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AAC33-FECC-4046-AEFE-DD58EEE8D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6BD04-9316-44D8-BBF0-078100362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99927-1B6A-44FF-B600-AC1F8395D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3E387-50D3-4AF5-8123-B820143E9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EEC68-8E04-4733-A605-54A23B0FA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6F271-EA27-4146-B921-9E426E749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8B23-9D72-4505-B70D-DF96811A6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0C37-F4EF-40C0-A99D-29AA92F5C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E4F41-90C0-49F5-951F-21E2894B4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87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5360" y="6474960"/>
            <a:ext cx="465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615E1C-ED63-4C0B-9D8B-30B660D48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08960" y="396000"/>
            <a:ext cx="26571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348r1a</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ian.stephens@mobilian.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cussion Introduction to Consolidated TS Normative Text</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rian P Stephens, Mobilian Corpor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u="sng">
                <a:solidFill>
                  <a:srgbClr val="ccccff"/>
                </a:solidFill>
                <a:uFillTx/>
                <a:latin typeface="Times New Roman"/>
                <a:hlinkClick r:id="rId1"/>
              </a:rPr>
              <a:t>adrian.stephens@mobilian.com</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urpo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get consensus on the essential features of a Traffic Spec (TSPE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cument 802.11-02/348 (without “a”) will eventually contain normative text for the TGe draf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5FD09C82-B35B-4D81-B9DE-C88EF94D6EFC}" type="slidenum">
              <a:t>1</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TSPEC?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ffic Specification (TSPEC) describes the QoS characteristics of a traffic stream.   The purpose of the TSPEC is to reserve resources within the HC and modify the HCs scheduling behavior.  It also controls the transmit lifetime and use of FEC and ACK policy in the downlink (defined below).</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F2B28951-F884-4B59-8931-6F0389F863D0}" type="slidenum">
              <a:t>2</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TSPEC? - II</a:t>
            </a:r>
            <a:endParaRPr b="0" lang="en-US" sz="4400" spc="-1" strike="noStrike">
              <a:solidFill>
                <a:srgbClr val="000000"/>
              </a:solidFill>
              <a:latin typeface="Times New Roman"/>
            </a:endParaRPr>
          </a:p>
        </p:txBody>
      </p:sp>
      <p:sp>
        <p:nvSpPr>
          <p:cNvPr id="50" name="PlaceHolder 2"/>
          <p:cNvSpPr>
            <a:spLocks noGrp="1"/>
          </p:cNvSpPr>
          <p:nvPr>
            <p:ph/>
          </p:nvPr>
        </p:nvSpPr>
        <p:spPr>
          <a:xfrm>
            <a:off x="179280" y="1557360"/>
            <a:ext cx="8856720" cy="4896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types of TSPEC exist – specifying downlink, sidelink and uplink traffic.  Uplink and sidelink TSPECs cause the HC to allocate polled TXOPS to meet a specified QoS commitment.   All types of TSPEC control tx lifetime, FEC and ack policy. A TSPEC can have an optional “liveness” timer that is used to destroy a TSPEC when no traffic is exchanged on the link.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specifies the properties of a direct link between receiver and transmitter.  In the case of a relay, each WSTA separately negotiates any QoS it needs for its lin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7CD80BE7-7A03-42B0-937F-78C75A105A33}" type="slidenum">
              <a:t>3</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179280" y="189000"/>
          <a:ext cx="6588360" cy="6495840"/>
        </p:xfrm>
        <a:graphic>
          <a:graphicData uri="http://schemas.openxmlformats.org/presentationml/2006/ole">
            <p:oleObj r:id="rId1" spid="">
              <p:embed/>
              <p:pic>
                <p:nvPicPr>
                  <p:cNvPr id="52" name="" descr=""/>
                  <p:cNvPicPr/>
                  <p:nvPr/>
                </p:nvPicPr>
                <p:blipFill>
                  <a:blip r:embed="rId2">
                    <a:alphaModFix amt="48000"/>
                  </a:blip>
                  <a:stretch/>
                </p:blipFill>
                <p:spPr>
                  <a:xfrm>
                    <a:off x="179280" y="189000"/>
                    <a:ext cx="6588360" cy="6495840"/>
                  </a:xfrm>
                  <a:prstGeom prst="rect">
                    <a:avLst/>
                  </a:prstGeom>
                  <a:ln w="0">
                    <a:noFill/>
                  </a:ln>
                </p:spPr>
              </p:pic>
            </p:oleObj>
          </a:graphicData>
        </a:graphic>
      </p:graphicFrame>
      <p:sp>
        <p:nvSpPr>
          <p:cNvPr id="53" name="PlaceHolder 1"/>
          <p:cNvSpPr>
            <a:spLocks noGrp="1"/>
          </p:cNvSpPr>
          <p:nvPr>
            <p:ph type="title"/>
          </p:nvPr>
        </p:nvSpPr>
        <p:spPr>
          <a:xfrm>
            <a:off x="6588000" y="685800"/>
            <a:ext cx="2556000" cy="4903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SPEC Lifecycle – Graphic</a:t>
            </a:r>
            <a:br>
              <a:rPr sz="4000"/>
            </a:br>
            <a:br>
              <a:rPr sz="4000"/>
            </a:br>
            <a:r>
              <a:rPr b="0" lang="en-US" sz="4000" spc="-1" strike="noStrike">
                <a:solidFill>
                  <a:srgbClr val="000000"/>
                </a:solidFill>
                <a:latin typeface="Times New Roman"/>
              </a:rPr>
              <a:t>(HMSC format from ITU Z120)</a:t>
            </a:r>
            <a:endParaRPr b="0" lang="en-US" sz="4000" spc="-1" strike="noStrike">
              <a:solidFill>
                <a:srgbClr val="000000"/>
              </a:solidFill>
              <a:latin typeface="Times New Roman"/>
            </a:endParaRPr>
          </a:p>
        </p:txBody>
      </p:sp>
      <p:sp>
        <p:nvSpPr>
          <p:cNvPr id="54" name=""/>
          <p:cNvSpPr/>
          <p:nvPr/>
        </p:nvSpPr>
        <p:spPr>
          <a:xfrm>
            <a:off x="0" y="110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drian Stephens, Mobilian Corporation</a:t>
            </a:r>
          </a:p>
        </p:txBody>
      </p:sp>
      <p:sp>
        <p:nvSpPr>
          <p:cNvPr id="4" name="PlaceHolder 3"/>
          <p:cNvSpPr>
            <a:spLocks noGrp="1"/>
          </p:cNvSpPr>
          <p:nvPr>
            <p:ph type="sldNum" idx="3"/>
          </p:nvPr>
        </p:nvSpPr>
        <p:spPr/>
        <p:txBody>
          <a:bodyPr/>
          <a:p>
            <a:fld id="{BABBEEAC-ABFF-4D7A-9C4C-CBA9A507A3D2}" type="slidenum">
              <a:t>4</a:t>
            </a:fld>
          </a:p>
        </p:txBody>
      </p:sp>
      <p:sp>
        <p:nvSpPr>
          <p:cNvPr id="5" name="PlaceHolder 4"/>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SPEC Lifecycl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SPEC is created by a request to the WSTA MLME,  is transferred on-air using management frames containing the TSPEC element,  is indicated via the QAP MLME to its SME.  The SME’s response is carried in a management frame and generates a confirm in the WSTA MLME.   This process can fail because of transmit failures,  lack of response by HC, refusal by HC.   The HC can propose an alternative QoS if the request is not acceptab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SPEC is identified by a combination of an ID chosen by the WSTA and the WSTA’s AI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D092D37F-83F3-4E53-A44D-6B91AD702C60}" type="slidenum">
              <a:t>5</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SPEC Lifecycle - I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can be re-negotiated at any time, and the re-negotiation can result in an acceptance, refusal or counter proposa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can be destroyed using an MLME primitive at either HC or WSTA that causes a management frame to be sent. There is no negoti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SPEC may be implicitly destroyed at the HC by expiry of a liveness timer causing a TSPEC destroy notice from the H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B681B2D3-AE73-4F5E-AF99-A79448E602DF}" type="slidenum">
              <a:t>6</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SPEC Operat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a TSPEC exists, the HC will attempt to service the TSPEC by scheduling either TXOPs of the transmission of buffered MPDUs for that 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HC fails to meet the quality commitment, it may generate an indication via its MLME to its SME.   This is optional. The HC does not attempt to monitor a sidelin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WSTA detects that the HC has failed to meet a TSPEC, it may generate an indication via its MLME to its SME. This is option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7067DFBE-2AF8-4894-A928-8F6CC32D9C15}" type="slidenum">
              <a:t>7</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98100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action of Q-State Element and TSPEC</a:t>
            </a:r>
            <a:br>
              <a:rPr sz="4000"/>
            </a:br>
            <a:r>
              <a:rPr b="0" lang="en-US" sz="4000" spc="-1" strike="noStrike">
                <a:solidFill>
                  <a:srgbClr val="000000"/>
                </a:solidFill>
                <a:latin typeface="Times New Roman"/>
              </a:rPr>
              <a:t>(This section TBD)</a:t>
            </a:r>
            <a:endParaRPr b="0" lang="en-US" sz="4000" spc="-1" strike="noStrike">
              <a:solidFill>
                <a:srgbClr val="000000"/>
              </a:solidFill>
              <a:latin typeface="Times New Roman"/>
            </a:endParaRPr>
          </a:p>
        </p:txBody>
      </p:sp>
      <p:sp>
        <p:nvSpPr>
          <p:cNvPr id="62" name="PlaceHolder 2"/>
          <p:cNvSpPr>
            <a:spLocks noGrp="1"/>
          </p:cNvSpPr>
          <p:nvPr>
            <p:ph/>
          </p:nvPr>
        </p:nvSpPr>
        <p:spPr>
          <a:xfrm>
            <a:off x="755640" y="234936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Q-state element is an alternative to TSPEC that offers a connectionless means of specifying a reoccurring TXOP requ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valid (and there should be no way to signal this in the spec) to specify a Q-state element that identifies a 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AC15EBF2-9E67-418D-9406-2B30FC71A507}" type="slidenum">
              <a:t>8</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action of TXOP request and TSPEC (This section highly TBD)</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TSPEC: periodic and non-period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iffer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it valid to request a TXOP on a TSPE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 allows your scheduler to do a better job</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drian Stephens, Mobilian Corporation</a:t>
            </a:r>
          </a:p>
        </p:txBody>
      </p:sp>
      <p:sp>
        <p:nvSpPr>
          <p:cNvPr id="5" name="PlaceHolder 4"/>
          <p:cNvSpPr>
            <a:spLocks noGrp="1"/>
          </p:cNvSpPr>
          <p:nvPr>
            <p:ph type="sldNum" idx="3"/>
          </p:nvPr>
        </p:nvSpPr>
        <p:spPr/>
        <p:txBody>
          <a:bodyPr/>
          <a:p>
            <a:fld id="{130663BA-71B4-4049-AAA4-C3D3CFC42FA9}" type="slidenum">
              <a:t>9</a:t>
            </a:fld>
          </a:p>
        </p:txBody>
      </p:sp>
      <p:sp>
        <p:nvSpPr>
          <p:cNvPr id="6" name="PlaceHolder 5"/>
          <p:cNvSpPr>
            <a:spLocks noGrp="1"/>
          </p:cNvSpPr>
          <p:nvPr>
            <p:ph type="dt" idx="1"/>
          </p:nvPr>
        </p:nvSpPr>
        <p:spPr/>
        <p:txBody>
          <a:bodyPr/>
          <a:p>
            <a:r>
              <a:rPr lang="en-US"/>
              <a:t>May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07:06:42Z</dcterms:created>
  <dc:creator>Adrian P Stephens</dc:creator>
  <dc:description/>
  <dc:language>en-US</dc:language>
  <cp:lastModifiedBy>Adrian P Stephens - 2</cp:lastModifiedBy>
  <cp:lastPrinted>1998-02-10T13:28:06Z</cp:lastPrinted>
  <dcterms:modified xsi:type="dcterms:W3CDTF">2002-05-15T04:47:26Z</dcterms:modified>
  <cp:revision>8</cp:revision>
  <dc:subject/>
  <dc:title>Consolidated TS Normative Text</dc:title>
</cp:coreProperties>
</file>