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FE6B-724A-4A60-BAA2-CDC29DC5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14AF-7472-4E7A-8E08-F8729071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03F5-46DF-4665-B991-9E1AB2FD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F5FD-7D65-49E9-9E40-670F7AC0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4469-3A2B-4AAD-BADE-E489D37D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6FF8-297D-4987-ABDA-351B8C41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0CCD-F10C-4F12-8FF3-C6C40F79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7E59-8DEE-4054-9860-B061B023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4103-6246-45CD-9373-983E8369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E4F5-5D5C-44A4-A5D6-0DFBEC3A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9BDD-EB0C-4BAB-BC9B-77313A3C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E47A-400E-440F-964B-C2899D6E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3B3F-53B7-4F1E-ACF3-60648CFF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F6B2-D7CD-4ECA-B4EE-E7D0E2C3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5FA6-1DFB-4BA0-B8B8-4B00D1CA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E7B8-B2AC-4E40-AFC1-153802C4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5A07-B611-497D-8250-1A299947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9D17-843D-479E-AAF3-20521C09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53A6-887E-44C0-98FE-2FA07B6D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5825-CBD9-478C-AB3A-41DCBD54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CF1A-B1CF-4712-AEA3-7C5537D1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B7F2-ECEB-47D3-81E9-3DFBA3D8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C64-8788-4A8C-97C4-F9043F71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B2A2-FFF0-4934-AB8A-C09546C2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F956-89B0-4B21-87DB-D7F9A26E8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 Moore, Microso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0755E70-AC9C-4877-A53D-F7AAC6A32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2/298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7800" y="64771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ggested Changes to RS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 Mo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7674-A784-461D-A3F6-6CD7C88050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dates from r3 to r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integrity reporting clar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confusing, rewrote with help from Dorot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key sequence counter security 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g/Jesse pointed out problem with Group key for stations associating sometime after GTK generated. Fix to pass sequence counter in Group key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ed a parameter to the EAPOL-Key message to pass the Sequence cou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a parameter to SetKeys to pass receive sequence cou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Tx/Rx 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chael key selection logic didn’t work for Group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w use supplicant/authenticator to select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a parameter to SetKeys to pass supplicant/authentic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766E-7200-45D2-B085-CAECAD70E7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dates from r3 to r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fy use of multicast cipher in associate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the same as from the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fixes in the Authenticator 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on no key in 802.1X authentication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/Octet convention issue, 298 referred to 802.11 for one field but one others, 802.1X uses a different convention for other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fields EAPOL-Key use 802.1X con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EAPOL-Key MIC to HMAC-MD5 for AES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sse pointed out a problem. When added information element to 4-way handshake to fix the negotiation security problem caused a problem with using AES-CBC for EAPOL-Key MIC. Fix change it to use HMAC-MD5 same as TKIP EAPOL-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AA87-DA80-48B6-B8EE-9E931EA048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to incorporate changes in 02-298r4 into TGi 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52E0-28EB-42BA-9E90-C516981F27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19:29:32Z</dcterms:created>
  <dc:creator>Tim</dc:creator>
  <dc:description/>
  <dc:language>en-US</dc:language>
  <cp:lastModifiedBy>at&amp;t user</cp:lastModifiedBy>
  <dcterms:modified xsi:type="dcterms:W3CDTF">2002-09-11T22:09:16Z</dcterms:modified>
  <cp:revision>23</cp:revision>
  <dc:subject/>
  <dc:title>Suggested Changes to RSN</dc:title>
</cp:coreProperties>
</file>