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4987-7E8D-4D80-A39F-7A0D6D8A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0594-3AD8-4BE1-BF4A-3B7D4D9C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6A04-7725-4168-BFA9-925529CA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7931-1243-44ED-8A84-680B37E0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B50D-6D5C-4278-BE9F-936CAF61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D88F-0F90-4225-98B0-EC8729C9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00A7-71DD-414D-B682-53219EC1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55C2-9B80-46D1-B964-2752B1E1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C794-B75C-4A6A-9CF2-2931F1AB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C025-B87B-4832-A9F0-C223F84B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1A07-FBDC-4E46-9A73-974F5352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77C1-B326-4AFC-AA2D-E43C1732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C854-96C2-4B45-A009-84CCCA16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C0E5-7C49-4717-B48B-6E2B9728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0095-0F91-4C37-9A42-6A70D087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AC13-66B8-4A31-B59F-859F7A25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F96C-B38F-4DC4-83B6-6E42B65C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267B-1597-4C17-A027-2C3D19D9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2ECF-3298-43C0-814D-AD3284FB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08F-73B6-4DF8-AB3C-C74A2B64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DE86-64A3-4140-89E9-F169BCB2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B358-1F88-44B4-906B-F6806DB1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8766-9FB7-422E-8E95-BE4140FF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205A-4DED-46CD-8EE1-D5F46410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7388-F46E-4D5D-82E6-2EBA73367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 Moore, Microso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06C8430-905B-4807-A0D1-86B58DFE1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2/298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7800" y="64771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ggested Changes to RS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 Mo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E7F1-9F04-401F-AC35-888CF90AC1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implementation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k TGi draft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ed 48bit IV TKIP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d 1X rekeying for Pairwise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mpted to imp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ing document as ran in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10A8-2E76-4234-AEB9-CA1DD02772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 com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 to fo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wrote large pieces of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clarifications for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cy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 to specify what combinations of legacy/RSN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015A-EDBF-4DE7-B37C-9426A8A0C6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nt back to 802.11 open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ted 802.11 state machine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 1X as an authenticated key management protocol over a 802.11 data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issues in 1X 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issues in the way eapol-key message wa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 1X with key mapping key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’t start a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sociation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CE56-3CB1-4699-8582-5B4724DB8E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ormation el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 to work out valid combi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able of combinations and referen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pre-shared key is a special case fo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 to add an auth type to make this easy for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7F6A-3F0A-44CA-8237-B1C90D0605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reference code and test v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A57F-56BF-4404-A5B9-F1063FEFD4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K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48 bit 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rame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7A94-5C56-4710-9FC6-E1BC9CDCD6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s unicast keys with a different integrity in each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cast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ntegrity key since can’t use different integrity keys for broadcast in IB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er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ing to stop handling out new keys for the attacker to at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her than stopping the MAC, stop handing out k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ttacker is attacking one station doesn’t affec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26C0-7CC0-4B9A-944E-20020D68AB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ditional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SN information e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rify which fields are 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rify that it is also in the re-association request mes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rify the use of WEP for multicast cipher suite is for legacy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.1X key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ed ReAuthenticationRequest event to Authenticator key state machine to trigger 4-way handshake on 802.1X re-authentic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ed the RSN IE in the 2nd and 3rd EAPOL-Key message of the 4-way handshake to fix a security issue of attacking security by modifying the RSN 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lso required for pre-authentication so new AP knows the cipher to allow it to send the correct keying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d some text about the checks the Supplicant and Authenticator should carry out as part of the keying state mach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dated Authenticator state machine to correct an error in the handling of the EAPOL-Key message with the Request bit set t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rify the use of the secure bit in the EAPOL-Key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K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anged the TKIP frame format to send RC4KEY[0-2] in the WEP IV field and the upper 4 octets of the TSC in the E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ocument 02/281 was different than suggested in 02/282 (TKIP 48bit IV)(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d text noting the increased data payload length due to the MIC and fragmentation may occur because of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ed a table of Required, Recommended, Optional functional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neral editorial clar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FADD-2069-4024-8C81-DC6174DB40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19:29:32Z</dcterms:created>
  <dc:creator>Tim</dc:creator>
  <dc:description/>
  <dc:language>en-US</dc:language>
  <cp:lastModifiedBy>at&amp;t user</cp:lastModifiedBy>
  <dcterms:modified xsi:type="dcterms:W3CDTF">2002-07-09T00:28:39Z</dcterms:modified>
  <cp:revision>14</cp:revision>
  <dc:subject/>
  <dc:title>Suggested Changes to RSN</dc:title>
</cp:coreProperties>
</file>