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44B5-2EE8-4973-B1D6-D5E89FB5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6FA-AD00-4035-9F90-1AC6FCB0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B25-CFA0-4C85-812D-C0D8604C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1F2-A831-404E-AC9F-35D6EB49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118-70C4-492E-9F7C-E430C8F8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0B6-C964-4C61-BA58-43E75143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45C-874C-43B2-8A66-1347E80B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4D6-7AD2-4713-8880-7951036D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2A3-A9D4-4923-A26A-969618E3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038F-87BE-419D-B959-97F3D04C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66B-51AC-405F-AF1A-801EEE60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0B0-7BB9-4102-AA37-0C27F178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 Moore, Micro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6972343-68FF-4A76-A01E-9E04AEF37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298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67800" y="64771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ggested Changes to RS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 Mo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935-89B2-4DC8-A2D4-BF0D4C1295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implementation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k TGi draf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48bit IV TKIP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d 1X rekeying for Pairwise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ed to imp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ing document as ran in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993F-45E6-474D-8D1F-2D63113F77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 com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 to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ote large pieces of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clarifications for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cy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to specify what combinations of legacy/RSN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956-D569-4C52-918B-BA92EA4513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nt back to 802.11 open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ted 802.11 state machine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 1X as an authenticated key management protocol over a 802.11 data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issues in 1X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issues in the way eapol-key message wa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 1X with key mapping key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’t start a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sociation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BB0-58E5-4AE3-BD59-539E96C4EB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ormation 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 to work out valid comb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able of combinations and referen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pre-shared key is a special case fo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to add an auth type to make this easy for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C3E-D8A7-4FAD-A6CC-3BCD8ACB9B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reference code and test 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552-2DA1-44BC-ABAE-6CD08475D5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K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48 bit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ram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4C3D-9952-40AB-A351-7442F61206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unicast keys with a different integrity in each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cast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ntegrity key since can’t use different integrity keys for broadcast in IB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ing to stop handling out new keys for the attacker to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her than stopping the MAC, stop handing out k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ttacker is attacking one station doesn’t affec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329-8EF8-4593-91BB-60737A84B5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17:56:19Z</dcterms:created>
  <dc:creator>Tim</dc:creator>
  <dc:description/>
  <dc:language>en-US</dc:language>
  <cp:lastModifiedBy>at&amp;t user</cp:lastModifiedBy>
  <dcterms:modified xsi:type="dcterms:W3CDTF">2002-05-14T06:44:58Z</dcterms:modified>
  <cp:revision>24</cp:revision>
  <dc:subject/>
  <dc:title>AP to AP security</dc:title>
</cp:coreProperties>
</file>