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52F-2632-4E09-8883-F95A70D2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ECA-8964-4F5C-956F-4A637067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D95-4F62-4F3A-BD8A-EDADA075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2B5-666E-4F7B-9EE2-7BAF95E6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401-1BF8-42BF-9E3C-740CBE99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09F-903F-4C3A-BDF1-740899A0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DFA-C8B9-46D7-BEED-596DD23B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7FF-84AA-4D5D-94BB-59C9B0D8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B3F-DD7F-4320-8F21-C9B11584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CC9-69B5-4D66-9C57-641BB54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3CA-1649-42FC-A6BD-48B432B1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1F7-CBB0-46FF-8C5B-3DF98F6C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C6F342-04DB-41B9-9325-6396100C1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135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 Ack Recommendation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inivas Kandala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p Laborat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: srini@sharplabs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e Burst Ack ad hoc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4D3-43CC-471D-B9EE-29796F61BA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ait bit in Frame Control for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CK frame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try bit will never be used in ACK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propose to use this for indicating Wait functiona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Control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CK frames, the Wait bit is set to 1 to indicate to the recipient to re-send the immediate burst Ack frame (in the form of a QoS Null with Ack Policy in QoS Control set to 1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2895480"/>
          <a:ext cx="6848640" cy="16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6848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FAE-12AB-4DFF-9ED3-8687D096ED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AckReq fram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ame used for requesting Burst 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st Ack Policy is set to 1 for immediate and 0 for delay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09800" y="2286000"/>
          <a:ext cx="7696080" cy="211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2286000"/>
                    <a:ext cx="76960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872-CF3B-4DEC-9B3E-4DDA55B5BB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Ack fram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ame which actually sends the acknowledge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ded to use a constant bitmap size as a variable bitmap size will raise questions on how to set the du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map works as bef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2286000"/>
          <a:ext cx="813420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8134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65A-9425-4CCF-9CE6-877A83388E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ultirate support for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urstAckReq and BurstAck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frames are restricted to the use of the rates in BSSBasicRateS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ason to have the same restriction on BurstAckReq and BurstAck frames as they are more like the Data frames in na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transmitting BurstAckReq and BurstAck frames at the same rate as Data MPDU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9B7-3A23-4FF9-8F88-1C2BE511BD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ta transfer and acknowledgement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mediate Burst AC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QoS Data frames shall be sent with the Ack Policy of 1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ransmitting the burst, the transmitter shall send a Burst Ack Request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eiver shall respond with a Burst Ack or with an ACK frame with Wait bit set to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receiver responds with ACK frame with Wait bit set to 1, then the transmitter will retransmit the Burst Ack Request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is no response from the receiver, the transmitter may retry la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AA0-95A6-4876-AC6C-E94A3B72F4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ta transfer and acknowledgement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layed Burst AC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Data frames shall be sent with Ack Policy set to 0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ansmitter seeks the Burst Ack through a Burst Ack Request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eiver shall respond with a ACK or a QoS(+) CF-Ack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ceiver shall send the Burst Ack subsequently to which the transmitter shall acknowledge with a ACK or a QoS(+)CF-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on reception of a request, the receiver shall endeavor to expedite the delivery of the burst Ack by placing it at the head of the queue of the highest prior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667-D045-4348-BFF9-F1ACF0724F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ta transfer and acknowledgement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solicited Burst Ac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ransmission failures or lack of TXOPs, it is possible that the final frame never gets received at the recei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the receiver may send the Burst Ack frame unsolici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F49-5E1D-4410-921B-69ABB7F1EC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66688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0160" y="14461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16800">
            <a:off x="1249920" y="1647720"/>
            <a:ext cx="8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26708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86728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0481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16800">
            <a:off x="2142000" y="324756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20960" y="30495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16800">
            <a:off x="2829240" y="324900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6760" y="30495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16800">
            <a:off x="3515040" y="324900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2560" y="304956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16800">
            <a:off x="3999600" y="333864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648320"/>
            <a:ext cx="3049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16800">
            <a:off x="4815360" y="4967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30481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16800">
            <a:off x="5142600" y="333864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64832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16800">
            <a:off x="5937120" y="51134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9800" y="1523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93720" y="278460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3280" y="44197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ip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4800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 Policy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58672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84" y="80"/>
                  <a:pt x="24" y="160"/>
                  <a:pt x="0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609588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26708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0"/>
                </a:moveTo>
                <a:cubicBezTo>
                  <a:pt x="228" y="140"/>
                  <a:pt x="72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267080"/>
            <a:ext cx="1295280" cy="5335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816" y="0"/>
                </a:moveTo>
                <a:cubicBezTo>
                  <a:pt x="476" y="136"/>
                  <a:pt x="136" y="272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267080"/>
            <a:ext cx="2057400" cy="53352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1296" y="0"/>
                </a:moveTo>
                <a:cubicBezTo>
                  <a:pt x="756" y="140"/>
                  <a:pt x="216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205740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12193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14479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02600" y="7761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Bu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13360" y="108108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rst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20574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OP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8195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9200" y="266688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V Re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28600"/>
            <a:ext cx="41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ypical Burst Sequence with Immediate Burst Ack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AD8-5D30-4FC0-B936-180CA03D0EB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30240" y="27288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7400" y="150804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16800">
            <a:off x="1037160" y="1709640"/>
            <a:ext cx="8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F-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30240" y="4329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30240" y="592920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0960" y="3110040"/>
            <a:ext cx="612720" cy="121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16800">
            <a:off x="1929240" y="330948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08200" y="311148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16800">
            <a:off x="2616480" y="331092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94000" y="311148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16800">
            <a:off x="3302280" y="3310920"/>
            <a:ext cx="5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79800" y="3111480"/>
            <a:ext cx="612720" cy="121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16800">
            <a:off x="3771000" y="341496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40120" y="4710240"/>
            <a:ext cx="304920" cy="121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16800">
            <a:off x="4602600" y="50295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1720" y="4710240"/>
            <a:ext cx="613080" cy="121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16800">
            <a:off x="5937120" y="519012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47040" y="19670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01720" y="28051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50520" y="4481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ip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4876920"/>
            <a:ext cx="16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 Policy = 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40120" y="59292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84" y="80"/>
                  <a:pt x="24" y="160"/>
                  <a:pt x="0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25720" y="6157800"/>
            <a:ext cx="105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16040" y="432900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0"/>
                </a:moveTo>
                <a:cubicBezTo>
                  <a:pt x="228" y="140"/>
                  <a:pt x="72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16040" y="4329000"/>
            <a:ext cx="1295280" cy="5335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816" y="0"/>
                </a:moveTo>
                <a:cubicBezTo>
                  <a:pt x="476" y="136"/>
                  <a:pt x="136" y="272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16040" y="4329000"/>
            <a:ext cx="2057400" cy="53352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1296" y="0"/>
                </a:moveTo>
                <a:cubicBezTo>
                  <a:pt x="756" y="140"/>
                  <a:pt x="216" y="28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68320" y="21193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44640" y="128124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35760" y="150984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89840" y="83808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 Bu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2080" y="1128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rst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02040" y="211932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OP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90920" y="2881080"/>
            <a:ext cx="260640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6440" y="2728800"/>
            <a:ext cx="17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V Re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654520" y="2576520"/>
            <a:ext cx="228600" cy="304560"/>
            <a:chOff x="5654520" y="2576520"/>
            <a:chExt cx="228600" cy="304560"/>
          </a:xfrm>
        </p:grpSpPr>
        <p:sp>
          <p:nvSpPr>
            <p:cNvPr id="169" name=""/>
            <p:cNvSpPr/>
            <p:nvPr/>
          </p:nvSpPr>
          <p:spPr>
            <a:xfrm>
              <a:off x="5654520" y="2576520"/>
              <a:ext cx="15264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30840" y="25765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883120" y="27288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654520" y="4176720"/>
            <a:ext cx="228600" cy="304560"/>
            <a:chOff x="5654520" y="4176720"/>
            <a:chExt cx="228600" cy="304560"/>
          </a:xfrm>
        </p:grpSpPr>
        <p:sp>
          <p:nvSpPr>
            <p:cNvPr id="173" name=""/>
            <p:cNvSpPr/>
            <p:nvPr/>
          </p:nvSpPr>
          <p:spPr>
            <a:xfrm>
              <a:off x="5654520" y="4176720"/>
              <a:ext cx="15264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30840" y="4176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883120" y="4329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654520" y="5776920"/>
            <a:ext cx="228600" cy="304560"/>
            <a:chOff x="5654520" y="5776920"/>
            <a:chExt cx="228600" cy="304560"/>
          </a:xfrm>
        </p:grpSpPr>
        <p:sp>
          <p:nvSpPr>
            <p:cNvPr id="177" name=""/>
            <p:cNvSpPr/>
            <p:nvPr/>
          </p:nvSpPr>
          <p:spPr>
            <a:xfrm>
              <a:off x="5654520" y="5776920"/>
              <a:ext cx="15264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30840" y="57769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0"/>
                  </a:moveTo>
                  <a:cubicBezTo>
                    <a:pt x="48" y="12"/>
                    <a:pt x="0" y="24"/>
                    <a:pt x="0" y="48"/>
                  </a:cubicBezTo>
                  <a:cubicBezTo>
                    <a:pt x="0" y="72"/>
                    <a:pt x="96" y="120"/>
                    <a:pt x="96" y="144"/>
                  </a:cubicBezTo>
                  <a:cubicBezTo>
                    <a:pt x="96" y="168"/>
                    <a:pt x="16" y="184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883120" y="59292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73840" y="3110040"/>
            <a:ext cx="304920" cy="121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16800">
            <a:off x="6736320" y="3429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1720" y="288144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228600"/>
            <a:ext cx="413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ypical Burst Sequence with Delayed Burst Ack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5053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cubicBezTo>
                  <a:pt x="84" y="80"/>
                  <a:pt x="24" y="160"/>
                  <a:pt x="0" y="1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37339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8F0-104A-415E-A8FB-20D2C561859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ssue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map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y Limit for BurstAckRe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 functionality in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ing Unsolicited Burst Ack with Immediate Burst Ack poli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8E3-FACB-4516-9AF3-CB7DE6E121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hanges from Dallas Meeting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a capability bit el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the handshaking through management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 the No Ack bit in QoS Control with a 2-bit Ack Poli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he Wait functionality by reinterpreting one of the unused bits of the ACK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y the Buffer size stat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BurstAckReq and BurstAck control frames be sent at the same rates as Data MPDU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 the restriction of “Retransmitted burst data MPDUs shall preserve their original relative order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d because some non-hardware implementations may need time to search for the earliest frame that needs to be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8B4-4A37-4571-B4F5-080D38EA19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wo types of Burst Ack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urst Ack shall be sent immediately after being solici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 ready, the receiver shall send an ACK (to be expanded later) seeking further action from the transmit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urst Ack shall be sent when the receiver has finished processing all the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983-5A7A-4F25-9F90-F2111190D9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andshaking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up and tear down of Burst Ack is through QoS Action management fr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ate QoS Action codes and use QoS Action management fram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52480" y="2819520"/>
          <a:ext cx="5639040" cy="35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819520"/>
                    <a:ext cx="5639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553080" y="495288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2720" y="502920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8A1-7A08-4698-9C51-3EB7021277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e Burst Ack Reques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body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token can be of any value but the same value should be used in all future ex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st Ack policy = 1 means immediate, 0 means delay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D is the value of the TC or TS of the traffi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0200" y="1828800"/>
          <a:ext cx="7086600" cy="23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70866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3B9-2F99-42EA-9A94-3D9BEA5C9B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e Burst Ack Respons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body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Token &amp; TID shall be same as the request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Reject bit is set to 1, the burst Ack is not allow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st Ack policy may be same as the request frame or may be changed depending on the capabilities of the recei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ordering buffer size is the number of 2304 octet buffers that are avail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MPDU (or MSDU) uses one buffer irrespective of the size of the MPD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ceiver may send the frame unsolicited if it desires to change parameters or to terminate its participation in Burst 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66720" y="1295280"/>
          <a:ext cx="8477280" cy="24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1295280"/>
                    <a:ext cx="847728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6A4-93EC-44A5-AAAA-6B7504755A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lete Burst Ack reques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Body Form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token and TID shall be same as in the associated Define Burst Ack requ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ame is sent only by the originat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recipient desires to end the participation in the burst, it sends a Define Burst Ack response QoS Action frame with Reject field set to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43000" y="2133720"/>
          <a:ext cx="7048440" cy="140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70484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FA3-730A-422B-B816-3C8956E33A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ck Policy in QoS Contro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 a single-bit No Ack bit with the two-bit Ack Policy in QoS Control in QoS data fra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Final bit has no normative behavior and is being recommended to be removed by other ad hoc grou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eld format of QoS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k policy subfield interpretations are given in next sl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3581280"/>
          <a:ext cx="622944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81280"/>
                    <a:ext cx="62294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6F5-5910-4D3B-887E-54BC3ABA33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ck Policy in QoS Contro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380880" y="1295280"/>
          <a:ext cx="9924840" cy="52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295280"/>
                    <a:ext cx="992484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rinivas Kandala, Sharp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96D-A43A-4F42-A1B5-5239D3BE00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1:06:25Z</dcterms:created>
  <dc:creator>Srinivas Kandala</dc:creator>
  <dc:description/>
  <dc:language>en-US</dc:language>
  <cp:lastModifiedBy>at&amp;t user</cp:lastModifiedBy>
  <cp:lastPrinted>1998-02-10T13:28:06Z</cp:lastPrinted>
  <dcterms:modified xsi:type="dcterms:W3CDTF">2002-03-01T17:32:30Z</dcterms:modified>
  <cp:revision>35</cp:revision>
  <dc:subject/>
  <dc:title>Burst Ack Recommendations</dc:title>
</cp:coreProperties>
</file>