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1A7E-801F-4882-BEDD-603096D7C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439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131B-43BA-4234-8634-A762467AD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D465-C59F-490C-AB28-82FB6174B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6761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6761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43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43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43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8277-FE4D-4601-88E8-B48BC4727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3655-C1DF-4042-B48D-5466512B3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7BFE-87BD-4849-8523-713088C91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95CF-7AB5-4A63-8A50-8A95E4466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E246-EE4A-4966-AFBF-AECD752DF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1D5B-20B3-4406-97E6-6DC3ED512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E5B0-3336-45A6-88A2-58E43866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E30D-B644-4D9F-B906-5C63968C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439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8654-82E8-4247-BA39-828165A3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39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66826B7-8D76-4227-BF78-BFD2FF2333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898240" y="396000"/>
            <a:ext cx="2567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2/135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Burst Ack Recommendations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rinivas Kandala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arp Laborator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-Mail: srini@sharplabs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e Burst Ack ad hoc grou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rinivas Kandala, Sharp Lab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A347-E21D-41FE-B3C3-58290BA6194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Wait bit in Frame Control for 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ACK frames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try bit will never be used in ACK fram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propose to use this for indicating Wait functionalit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Control Forma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CK frames, the Wait bit is set to 1 to indicate to the recipient to re-send the immediate burst Ack frame (in the form of a QoS Null with Ack Policy in QoS Control set to 10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066680" y="2895480"/>
          <a:ext cx="6848640" cy="163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895480"/>
                    <a:ext cx="684864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rinivas Kandala, Sharp Lab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1A99-1138-44A0-A287-A6DE69FC47B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Burst Ack Request frame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rame used for requesting Burst Ack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Forma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rst Ack Policy is set to 1 for immediate and 0 for delay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009800" y="2286000"/>
          <a:ext cx="7696080" cy="211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9800" y="2286000"/>
                    <a:ext cx="7696080" cy="21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rinivas Kandala, Sharp Lab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D7E8-5DB9-478D-ADD6-2ACA1E95F46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Burst Ack frame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rame which actually sends the acknowledgement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Forma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ided to use a constant bitmap size as a variable bitmap size will raise questions on how to set the dura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tmap works as befor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85800" y="2286000"/>
          <a:ext cx="8134200" cy="243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86000"/>
                    <a:ext cx="81342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rinivas Kandala, Sharp Lab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3DB0-DBBF-45D1-8F4F-34E5EB55799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Data transfer and acknowledgements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mmediate Burst ACK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QoS Data frames shall be sent with the Ack Policy of 10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ter transmitting the burst, the transmitter shall send a Burst Ack Request fram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ceiver shall respond with a Burst Ack or with an ACK frame with Wait bit set to 1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the receiver responds with ACK frame with Wait bit set to 1, then the transmitter will retransmit the Burst Ack Request fram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there is no response from the receiver, the transmitter may retry lat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rinivas Kandala, Sharp Lab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61F6-7670-4B6C-9681-CF30794546D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Data transfer and acknowledgements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elayed Burst ACK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Data frames shall be sent with Ack Policy set to 01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ransmitter seeks the Burst Ack through a Burst Ack Request fram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ceiver shall respond with a ACK or a QoS(+) CF-Ack fram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ceiver shall send the Burst Ack subsequently to which the transmitter shall acknowledge with a ACK or a QoS(+)CF-Ack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on reception of a request, the receiver shall endeavor to expedite the delivery of the burst Ack by placing it at the head of the queue of the highest priorit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rinivas Kandala, Sharp Lab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A2FA-CA27-46A2-8681-32132D01D05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Data transfer and acknowledgements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solicited Burst Ack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e to transmission failures or lack of TXOPs, it is possible that the final frame never gets received at the receiv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n the receiver may send the Burst Ack frame unsolicit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rinivas Kandala, Sharp Lab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3A4B-8CDF-474E-841C-2A1D0E6E982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143000" y="2666880"/>
            <a:ext cx="6477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70160" y="1446120"/>
            <a:ext cx="612720" cy="1216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6216800">
            <a:off x="1249920" y="1647720"/>
            <a:ext cx="82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F-Po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4267080"/>
            <a:ext cx="6477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5867280"/>
            <a:ext cx="6477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33720" y="3048120"/>
            <a:ext cx="612720" cy="1216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6216800">
            <a:off x="2142000" y="3247560"/>
            <a:ext cx="56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20960" y="3049560"/>
            <a:ext cx="612720" cy="1216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16800">
            <a:off x="2829240" y="3249000"/>
            <a:ext cx="56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506760" y="3049560"/>
            <a:ext cx="612720" cy="1216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16800">
            <a:off x="3515040" y="3249000"/>
            <a:ext cx="56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92560" y="3049560"/>
            <a:ext cx="612720" cy="1216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16800">
            <a:off x="3999600" y="3338640"/>
            <a:ext cx="95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r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4648320"/>
            <a:ext cx="304920" cy="1216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16800">
            <a:off x="4815360" y="496764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4120" y="3048120"/>
            <a:ext cx="612720" cy="1216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16800">
            <a:off x="5142600" y="3338640"/>
            <a:ext cx="95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r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5880" y="4648320"/>
            <a:ext cx="612720" cy="1216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6216800">
            <a:off x="5937120" y="5113440"/>
            <a:ext cx="95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r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9800" y="15238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993720" y="278460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ig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163280" y="441972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cip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19320" y="48006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k Policy =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52880" y="5867280"/>
            <a:ext cx="228600" cy="30492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144" y="0"/>
                </a:moveTo>
                <a:cubicBezTo>
                  <a:pt x="84" y="80"/>
                  <a:pt x="24" y="160"/>
                  <a:pt x="0" y="19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38480" y="6095880"/>
            <a:ext cx="13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it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4267080"/>
            <a:ext cx="609480" cy="533520"/>
          </a:xfrm>
          <a:custGeom>
            <a:avLst/>
            <a:gdLst/>
            <a:ahLst/>
            <a:rect l="l" t="t" r="r" b="b"/>
            <a:pathLst>
              <a:path w="384" h="336">
                <a:moveTo>
                  <a:pt x="384" y="0"/>
                </a:moveTo>
                <a:cubicBezTo>
                  <a:pt x="228" y="140"/>
                  <a:pt x="72" y="280"/>
                  <a:pt x="0" y="33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28800" y="4267080"/>
            <a:ext cx="1295280" cy="533520"/>
          </a:xfrm>
          <a:custGeom>
            <a:avLst/>
            <a:gdLst/>
            <a:ahLst/>
            <a:rect l="l" t="t" r="r" b="b"/>
            <a:pathLst>
              <a:path w="816" h="336">
                <a:moveTo>
                  <a:pt x="816" y="0"/>
                </a:moveTo>
                <a:cubicBezTo>
                  <a:pt x="476" y="136"/>
                  <a:pt x="136" y="272"/>
                  <a:pt x="0" y="33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828800" y="4267080"/>
            <a:ext cx="2057400" cy="533520"/>
          </a:xfrm>
          <a:custGeom>
            <a:avLst/>
            <a:gdLst/>
            <a:ahLst/>
            <a:rect l="l" t="t" r="r" b="b"/>
            <a:pathLst>
              <a:path w="1296" h="336">
                <a:moveTo>
                  <a:pt x="1296" y="0"/>
                </a:moveTo>
                <a:cubicBezTo>
                  <a:pt x="756" y="140"/>
                  <a:pt x="216" y="280"/>
                  <a:pt x="0" y="33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81080" y="2057400"/>
            <a:ext cx="5410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57400" y="121932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91120" y="1447920"/>
            <a:ext cx="2438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02600" y="776160"/>
            <a:ext cx="137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 Bur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13360" y="1081080"/>
            <a:ext cx="129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rst 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14800" y="2057400"/>
            <a:ext cx="155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XOP Li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19520" y="281952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69200" y="2666880"/>
            <a:ext cx="178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AV Reserv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133720" y="228600"/>
            <a:ext cx="413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Typical Burst Sequence with Immediate Burst Ack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rinivas Kandala, Sharp Lab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FF04-7C4D-4596-AF8C-667544BBB406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930240" y="2728800"/>
            <a:ext cx="4724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57400" y="1508040"/>
            <a:ext cx="612720" cy="1216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16216800">
            <a:off x="1037160" y="1709640"/>
            <a:ext cx="82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F-Po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30240" y="4329000"/>
            <a:ext cx="4724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30240" y="5929200"/>
            <a:ext cx="4800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20960" y="3110040"/>
            <a:ext cx="612720" cy="1215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16216800">
            <a:off x="1929240" y="3309480"/>
            <a:ext cx="56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08200" y="3111480"/>
            <a:ext cx="612720" cy="1216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16216800">
            <a:off x="2616480" y="3310920"/>
            <a:ext cx="56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94000" y="3111480"/>
            <a:ext cx="612720" cy="1216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16216800">
            <a:off x="3302280" y="3310920"/>
            <a:ext cx="56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79800" y="3111480"/>
            <a:ext cx="612720" cy="1216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16216800">
            <a:off x="3771000" y="3414960"/>
            <a:ext cx="95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r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40120" y="4710240"/>
            <a:ext cx="304920" cy="1215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6216800">
            <a:off x="4602600" y="502956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11720" y="4710240"/>
            <a:ext cx="613080" cy="1215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16216800">
            <a:off x="5937120" y="5190120"/>
            <a:ext cx="95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r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647040" y="196704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101720" y="280512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ig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950520" y="448164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cip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90720" y="4876920"/>
            <a:ext cx="166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k Policy = 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740120" y="5929200"/>
            <a:ext cx="228600" cy="30492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144" y="0"/>
                </a:moveTo>
                <a:cubicBezTo>
                  <a:pt x="84" y="80"/>
                  <a:pt x="24" y="160"/>
                  <a:pt x="0" y="19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25720" y="6157800"/>
            <a:ext cx="105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it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16040" y="4329000"/>
            <a:ext cx="609480" cy="533520"/>
          </a:xfrm>
          <a:custGeom>
            <a:avLst/>
            <a:gdLst/>
            <a:ahLst/>
            <a:rect l="l" t="t" r="r" b="b"/>
            <a:pathLst>
              <a:path w="384" h="336">
                <a:moveTo>
                  <a:pt x="384" y="0"/>
                </a:moveTo>
                <a:cubicBezTo>
                  <a:pt x="228" y="140"/>
                  <a:pt x="72" y="280"/>
                  <a:pt x="0" y="33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16040" y="4329000"/>
            <a:ext cx="1295280" cy="533520"/>
          </a:xfrm>
          <a:custGeom>
            <a:avLst/>
            <a:gdLst/>
            <a:ahLst/>
            <a:rect l="l" t="t" r="r" b="b"/>
            <a:pathLst>
              <a:path w="816" h="336">
                <a:moveTo>
                  <a:pt x="816" y="0"/>
                </a:moveTo>
                <a:cubicBezTo>
                  <a:pt x="476" y="136"/>
                  <a:pt x="136" y="272"/>
                  <a:pt x="0" y="33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16040" y="4329000"/>
            <a:ext cx="2057400" cy="533520"/>
          </a:xfrm>
          <a:custGeom>
            <a:avLst/>
            <a:gdLst/>
            <a:ahLst/>
            <a:rect l="l" t="t" r="r" b="b"/>
            <a:pathLst>
              <a:path w="1296" h="336">
                <a:moveTo>
                  <a:pt x="1296" y="0"/>
                </a:moveTo>
                <a:cubicBezTo>
                  <a:pt x="756" y="140"/>
                  <a:pt x="216" y="280"/>
                  <a:pt x="0" y="33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768320" y="2119320"/>
            <a:ext cx="33530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44640" y="128124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35760" y="150984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89840" y="838080"/>
            <a:ext cx="137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 Bur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112080" y="1128600"/>
            <a:ext cx="129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rst 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02040" y="2119320"/>
            <a:ext cx="155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XOP Li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2590920" y="2881080"/>
            <a:ext cx="2606400" cy="14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56440" y="2728800"/>
            <a:ext cx="178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AV Reserv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5654520" y="2576520"/>
            <a:ext cx="228600" cy="304560"/>
            <a:chOff x="5654520" y="2576520"/>
            <a:chExt cx="228600" cy="304560"/>
          </a:xfrm>
        </p:grpSpPr>
        <p:sp>
          <p:nvSpPr>
            <p:cNvPr id="167" name=""/>
            <p:cNvSpPr/>
            <p:nvPr/>
          </p:nvSpPr>
          <p:spPr>
            <a:xfrm>
              <a:off x="5654520" y="2576520"/>
              <a:ext cx="152640" cy="304560"/>
            </a:xfrm>
            <a:custGeom>
              <a:avLst/>
              <a:gdLst/>
              <a:ahLst/>
              <a:rect l="l" t="t" r="r" b="b"/>
              <a:pathLst>
                <a:path w="96" h="192">
                  <a:moveTo>
                    <a:pt x="96" y="0"/>
                  </a:moveTo>
                  <a:cubicBezTo>
                    <a:pt x="48" y="12"/>
                    <a:pt x="0" y="24"/>
                    <a:pt x="0" y="48"/>
                  </a:cubicBezTo>
                  <a:cubicBezTo>
                    <a:pt x="0" y="72"/>
                    <a:pt x="96" y="120"/>
                    <a:pt x="96" y="144"/>
                  </a:cubicBezTo>
                  <a:cubicBezTo>
                    <a:pt x="96" y="168"/>
                    <a:pt x="16" y="184"/>
                    <a:pt x="0" y="19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30840" y="2576520"/>
              <a:ext cx="152280" cy="304560"/>
            </a:xfrm>
            <a:custGeom>
              <a:avLst/>
              <a:gdLst/>
              <a:ahLst/>
              <a:rect l="l" t="t" r="r" b="b"/>
              <a:pathLst>
                <a:path w="96" h="192">
                  <a:moveTo>
                    <a:pt x="96" y="0"/>
                  </a:moveTo>
                  <a:cubicBezTo>
                    <a:pt x="48" y="12"/>
                    <a:pt x="0" y="24"/>
                    <a:pt x="0" y="48"/>
                  </a:cubicBezTo>
                  <a:cubicBezTo>
                    <a:pt x="0" y="72"/>
                    <a:pt x="96" y="120"/>
                    <a:pt x="96" y="144"/>
                  </a:cubicBezTo>
                  <a:cubicBezTo>
                    <a:pt x="96" y="168"/>
                    <a:pt x="16" y="184"/>
                    <a:pt x="0" y="19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5883120" y="272880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5654520" y="4176720"/>
            <a:ext cx="228600" cy="304560"/>
            <a:chOff x="5654520" y="4176720"/>
            <a:chExt cx="228600" cy="304560"/>
          </a:xfrm>
        </p:grpSpPr>
        <p:sp>
          <p:nvSpPr>
            <p:cNvPr id="171" name=""/>
            <p:cNvSpPr/>
            <p:nvPr/>
          </p:nvSpPr>
          <p:spPr>
            <a:xfrm>
              <a:off x="5654520" y="4176720"/>
              <a:ext cx="152640" cy="304560"/>
            </a:xfrm>
            <a:custGeom>
              <a:avLst/>
              <a:gdLst/>
              <a:ahLst/>
              <a:rect l="l" t="t" r="r" b="b"/>
              <a:pathLst>
                <a:path w="96" h="192">
                  <a:moveTo>
                    <a:pt x="96" y="0"/>
                  </a:moveTo>
                  <a:cubicBezTo>
                    <a:pt x="48" y="12"/>
                    <a:pt x="0" y="24"/>
                    <a:pt x="0" y="48"/>
                  </a:cubicBezTo>
                  <a:cubicBezTo>
                    <a:pt x="0" y="72"/>
                    <a:pt x="96" y="120"/>
                    <a:pt x="96" y="144"/>
                  </a:cubicBezTo>
                  <a:cubicBezTo>
                    <a:pt x="96" y="168"/>
                    <a:pt x="16" y="184"/>
                    <a:pt x="0" y="19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730840" y="4176720"/>
              <a:ext cx="152280" cy="304560"/>
            </a:xfrm>
            <a:custGeom>
              <a:avLst/>
              <a:gdLst/>
              <a:ahLst/>
              <a:rect l="l" t="t" r="r" b="b"/>
              <a:pathLst>
                <a:path w="96" h="192">
                  <a:moveTo>
                    <a:pt x="96" y="0"/>
                  </a:moveTo>
                  <a:cubicBezTo>
                    <a:pt x="48" y="12"/>
                    <a:pt x="0" y="24"/>
                    <a:pt x="0" y="48"/>
                  </a:cubicBezTo>
                  <a:cubicBezTo>
                    <a:pt x="0" y="72"/>
                    <a:pt x="96" y="120"/>
                    <a:pt x="96" y="144"/>
                  </a:cubicBezTo>
                  <a:cubicBezTo>
                    <a:pt x="96" y="168"/>
                    <a:pt x="16" y="184"/>
                    <a:pt x="0" y="19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5883120" y="432900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5654520" y="5776920"/>
            <a:ext cx="228600" cy="304560"/>
            <a:chOff x="5654520" y="5776920"/>
            <a:chExt cx="228600" cy="304560"/>
          </a:xfrm>
        </p:grpSpPr>
        <p:sp>
          <p:nvSpPr>
            <p:cNvPr id="175" name=""/>
            <p:cNvSpPr/>
            <p:nvPr/>
          </p:nvSpPr>
          <p:spPr>
            <a:xfrm>
              <a:off x="5654520" y="5776920"/>
              <a:ext cx="152640" cy="304560"/>
            </a:xfrm>
            <a:custGeom>
              <a:avLst/>
              <a:gdLst/>
              <a:ahLst/>
              <a:rect l="l" t="t" r="r" b="b"/>
              <a:pathLst>
                <a:path w="96" h="192">
                  <a:moveTo>
                    <a:pt x="96" y="0"/>
                  </a:moveTo>
                  <a:cubicBezTo>
                    <a:pt x="48" y="12"/>
                    <a:pt x="0" y="24"/>
                    <a:pt x="0" y="48"/>
                  </a:cubicBezTo>
                  <a:cubicBezTo>
                    <a:pt x="0" y="72"/>
                    <a:pt x="96" y="120"/>
                    <a:pt x="96" y="144"/>
                  </a:cubicBezTo>
                  <a:cubicBezTo>
                    <a:pt x="96" y="168"/>
                    <a:pt x="16" y="184"/>
                    <a:pt x="0" y="19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730840" y="5776920"/>
              <a:ext cx="152280" cy="304560"/>
            </a:xfrm>
            <a:custGeom>
              <a:avLst/>
              <a:gdLst/>
              <a:ahLst/>
              <a:rect l="l" t="t" r="r" b="b"/>
              <a:pathLst>
                <a:path w="96" h="192">
                  <a:moveTo>
                    <a:pt x="96" y="0"/>
                  </a:moveTo>
                  <a:cubicBezTo>
                    <a:pt x="48" y="12"/>
                    <a:pt x="0" y="24"/>
                    <a:pt x="0" y="48"/>
                  </a:cubicBezTo>
                  <a:cubicBezTo>
                    <a:pt x="0" y="72"/>
                    <a:pt x="96" y="120"/>
                    <a:pt x="96" y="144"/>
                  </a:cubicBezTo>
                  <a:cubicBezTo>
                    <a:pt x="96" y="168"/>
                    <a:pt x="16" y="184"/>
                    <a:pt x="0" y="19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5883120" y="592920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3840" y="3110040"/>
            <a:ext cx="304920" cy="1215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16216800">
            <a:off x="6736320" y="342936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11720" y="2881440"/>
            <a:ext cx="10670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133720" y="228600"/>
            <a:ext cx="413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Typical Burst Sequence with Delayed Burst Ack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629400" y="3505320"/>
            <a:ext cx="228600" cy="30456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144" y="0"/>
                </a:moveTo>
                <a:cubicBezTo>
                  <a:pt x="84" y="80"/>
                  <a:pt x="24" y="160"/>
                  <a:pt x="0" y="19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15000" y="3733920"/>
            <a:ext cx="105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it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rinivas Kandala, Sharp Lab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A80A-DC64-49A3-B615-08D712C08AE5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ssues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rates for the control fram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est BSSBasicRate or the same rate as MPDU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-ordering Buffer Size in Burst A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it needed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rification on Capability Inform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ransmitted burst data MPDUs shall preserve their original relative ord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out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rinivas Kandala, Sharp Lab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4100-F42E-4A66-A0A1-2DA90BEB882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Changes from Dallas Meeting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a capability bit elemen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ablish the handshaking through management fram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lace the No Ack bit in QoS Control with a 2-bit Ack Polic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t the Wait functionality by reinterpreting one of the unused bits of the ACK fram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rify the Buffer size statemen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sues to be resolv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rinivas Kandala, Sharp Lab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3835-6D25-4982-8DCB-F4F082E3C66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Two types of Burst Ack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medi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Burst Ack shall be sent immediately after being solicit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not ready, the receiver shall send an ACK (to be expanded later) seeking further action from the transmitt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ay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Burst Ack shall be sent when the receiver has finished processing all the fram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rinivas Kandala, Sharp Lab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AC24-8705-4020-925E-5D2A1028B22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Handshaking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t up and tear down of Burst Ack is through QoS Action management fram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ate QoS Action codes and use QoS Action management fram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752480" y="2819520"/>
          <a:ext cx="5639040" cy="358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819520"/>
                    <a:ext cx="563904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6553080" y="4952880"/>
            <a:ext cx="76320" cy="914400"/>
          </a:xfrm>
          <a:custGeom>
            <a:avLst/>
            <a:gdLst>
              <a:gd name="textAreaLeft" fmla="*/ 0 w 76320"/>
              <a:gd name="textAreaRight" fmla="*/ 27360 w 763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552720" y="5029200"/>
            <a:ext cx="136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rodu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rinivas Kandala, Sharp Lab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8653-406E-4425-8506-474B96EC734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Define Burst Ack Request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body forma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alog token can be of any value but the same value should be used in all future exchang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rst Ack policy = 1 means immediate, 0 means delay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D is the value of the TC or TS of the traffi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600200" y="1828800"/>
          <a:ext cx="7086600" cy="238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828800"/>
                    <a:ext cx="7086600" cy="23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rinivas Kandala, Sharp Lab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184A-2856-4812-86F5-75B0C7ED120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Define Burst Ack Response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body Forma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alog Token &amp; TID shall be same as the request fram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Reject bit is set to 1, the burst Ack is not allow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rst Ack policy may be same as the request frame or may be changed depending on the capabilities of the receiv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-ordering buffer size is the number of 2304 octet buffers that are availabl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MPDU (or MSDU) uses one buffer irrespective of the size of the MPDU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receiver may send the frame unsolicited if it desires to change parameters or to terminate its participation in Burst Ack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66720" y="1295280"/>
          <a:ext cx="8477280" cy="247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6720" y="1295280"/>
                    <a:ext cx="8477280" cy="24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rinivas Kandala, Sharp Lab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00B1-F5B1-4697-A9AA-C22ABF272DA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Delete Burst Ack request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Body Forma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alog token and TID shall be same as in the associated Define Burst Ack reques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frame is sent only by the originato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the recipient desires to end the participation in the burst, it sends a Define Burst Ack response QoS Action frame with Reject field set to 1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143000" y="2133720"/>
          <a:ext cx="7048440" cy="140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133720"/>
                    <a:ext cx="7048440" cy="14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rinivas Kandala, Sharp Lab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9697-EE0B-422A-B301-F4AF6F8B0A6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Ack Policy in QoS Control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lace a single-bit No Ack bit with the two-bit Ack Policy in QoS Control in QoS data fram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Final bit has no normative behavior and is being recommended to be removed by other ad hoc group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eld format of QoS Contro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k policy subfield interpretations are given in next slid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295280" y="3581280"/>
          <a:ext cx="6229440" cy="118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581280"/>
                    <a:ext cx="622944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rinivas Kandala, Sharp Lab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E045-ACDC-4AD9-A957-8FE7920DCBD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Ack Policy in QoS Control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-380880" y="1295280"/>
          <a:ext cx="9924840" cy="529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1295280"/>
                    <a:ext cx="9924840" cy="52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rinivas Kandala, Sharp Lab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1FDE-D475-49C0-898B-01A8C1D9716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4T01:06:25Z</dcterms:created>
  <dc:creator>Srinivas Kandala</dc:creator>
  <dc:description/>
  <dc:language>en-US</dc:language>
  <cp:lastModifiedBy>at&amp;t user</cp:lastModifiedBy>
  <cp:lastPrinted>1998-02-10T13:28:06Z</cp:lastPrinted>
  <dcterms:modified xsi:type="dcterms:W3CDTF">2002-02-28T17:11:57Z</dcterms:modified>
  <cp:revision>28</cp:revision>
  <dc:subject/>
  <dc:title>Burst Ack Recommendations</dc:title>
</cp:coreProperties>
</file>