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C8C-2EF6-4ACA-ABE0-EB50D884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15F-A351-4C6D-8086-18ADAF43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ADA-BE84-4119-AE0D-54B42E42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94F-7ED9-4421-A6D5-CB86E50A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7B9-56CB-4CA7-996C-61F0C21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65E-8424-4142-BE17-F69AEF19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199-6DAC-4803-975A-8F68FA6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1BE-26B7-4986-9E36-AB91425D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D0A-F63A-44B0-9F42-F2D3ACB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467-38F6-426E-ADCB-03114AB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5E8-F274-46C2-916A-E8BDCA2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E46-8EC1-42B5-908B-F8116D8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436386D-555D-48A2-89EE-C5A906F8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3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Recommendation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inivas Kandal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Labora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e Burst Ack ad hoc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E4B-AEE8-4E70-9DCF-8C95344C2F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bit in Frame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from the previous sli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-457200" y="2286000"/>
          <a:ext cx="99252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286000"/>
                    <a:ext cx="9925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8FD-0BB0-4C2F-8FBD-FD7A027663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bit for ACK fram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CK frames, the Burst Ack bit can be set to 1 to indicate to the recipient to re-send the immediate burst ack frame (usually in the form of a QoS Null with No Ack bit and Burst Ack bit both set to 1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4D9-0A4C-4377-9A96-B3C20D1591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fram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ame which actually sends the acknowledg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map size works as bef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133720"/>
          <a:ext cx="813456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13456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03F-F899-4964-914A-22A24BE1B8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QoS Data frames in the burst except for the last one are sent with No Ack bit set to 1 and Burst Ack bit set to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mediate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l frame shall be sent with No Ack bit set to 1 and Burst Ack bit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respond with a Burst Ack or with an ACK frame with Burst Ack bit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receiver responds with ACK frame with Burst Ack bit set to 1, then the transmitter will transmit a QoS Null frame with same TID, and No Ack bit set to 1 and Burst Ack bit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no response from the receiver, the transmitter may retry l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212-DD45-49EC-92DD-4311235B38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ayed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l frame shall be sent with No Ack bit set to 0 and Burst Ack bit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respond with a ACK or a QoS(+) CF-Ack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send the Burst Ack subsequently to which the transmitter shall acknowledge with a ACK or a QoS(+)CF-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solicited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ransmission failures or lack of TXOPs, it is possible that the final frame never gets received at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the receiver may send the Burst Ack frame unsolici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95A-EC0B-4FE9-B6BA-1CECAA09A1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26668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0160" y="1446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16800">
            <a:off x="1249920" y="164772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2670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58672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048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16800">
            <a:off x="2142000" y="324756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09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16800">
            <a:off x="2829240" y="324900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67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16800">
            <a:off x="3515040" y="324900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25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16800">
            <a:off x="4200840" y="324756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648320"/>
            <a:ext cx="3049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16800">
            <a:off x="4815360" y="4967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048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16800">
            <a:off x="5351400" y="3244320"/>
            <a:ext cx="5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6483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16800">
            <a:off x="6072840" y="4841280"/>
            <a:ext cx="6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9800" y="152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93720" y="27846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3280" y="44197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4800600"/>
            <a:ext cx="13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Ack 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 Ack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9240" y="480060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Ack 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 Ack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5867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60958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 Ack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426708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228" y="140"/>
                  <a:pt x="72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26708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816" y="0"/>
                </a:moveTo>
                <a:cubicBezTo>
                  <a:pt x="476" y="136"/>
                  <a:pt x="136" y="272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26708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0"/>
                </a:moveTo>
                <a:cubicBezTo>
                  <a:pt x="756" y="140"/>
                  <a:pt x="216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267080"/>
            <a:ext cx="83808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08" y="140"/>
                  <a:pt x="88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267080"/>
            <a:ext cx="1981080" cy="533520"/>
          </a:xfrm>
          <a:custGeom>
            <a:avLst/>
            <a:gdLst/>
            <a:ahLst/>
            <a:rect l="l" t="t" r="r" b="b"/>
            <a:pathLst>
              <a:path w="1248" h="336">
                <a:moveTo>
                  <a:pt x="1248" y="0"/>
                </a:moveTo>
                <a:cubicBezTo>
                  <a:pt x="728" y="140"/>
                  <a:pt x="208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0574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2193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1447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02600" y="7761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108108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0574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OP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28195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819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8195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9200" y="266688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2860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ypical Burst Sequence with Immediate Burst Ack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37F-7582-4370-A104-AE4F214300D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2520" y="265284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09680" y="1432080"/>
            <a:ext cx="6127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16800">
            <a:off x="1189440" y="163368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2520" y="425304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82520" y="585324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73240" y="30337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16800">
            <a:off x="2081520" y="323316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60840" y="30351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16800">
            <a:off x="2769120" y="323532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6640" y="30351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16800">
            <a:off x="3454920" y="323532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2440" y="30351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16800">
            <a:off x="4140720" y="323316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4633920"/>
            <a:ext cx="30456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16800">
            <a:off x="4754880" y="4953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73640" y="30337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16800">
            <a:off x="5291280" y="3229920"/>
            <a:ext cx="5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35760" y="46339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16800">
            <a:off x="6012360" y="4827600"/>
            <a:ext cx="6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99320" y="1509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3600" y="27702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02800" y="4405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58840" y="4786200"/>
            <a:ext cx="13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Ack 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 Ack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8760" y="478620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Ack 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 Ack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92760" y="585324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8360" y="60818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 Ack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8320" y="4253040"/>
            <a:ext cx="60984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228" y="140"/>
                  <a:pt x="72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8320" y="4253040"/>
            <a:ext cx="1295640" cy="53316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816" y="0"/>
                </a:moveTo>
                <a:cubicBezTo>
                  <a:pt x="476" y="136"/>
                  <a:pt x="136" y="272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8320" y="4253040"/>
            <a:ext cx="2057400" cy="53316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0"/>
                </a:moveTo>
                <a:cubicBezTo>
                  <a:pt x="756" y="140"/>
                  <a:pt x="216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97120" y="4253040"/>
            <a:ext cx="838440" cy="53316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08" y="140"/>
                  <a:pt x="88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97120" y="4253040"/>
            <a:ext cx="1981440" cy="533160"/>
          </a:xfrm>
          <a:custGeom>
            <a:avLst/>
            <a:gdLst/>
            <a:ahLst/>
            <a:rect l="l" t="t" r="r" b="b"/>
            <a:pathLst>
              <a:path w="1248" h="336">
                <a:moveTo>
                  <a:pt x="1248" y="0"/>
                </a:moveTo>
                <a:cubicBezTo>
                  <a:pt x="728" y="140"/>
                  <a:pt x="208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20960" y="20430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12049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30640" y="1433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2120" y="76212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3240" y="106668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54680" y="20430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OP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5360" y="28051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68520" y="2805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54320" y="28051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7320" y="2805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09080" y="265284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2860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ypical Burst Sequence with Delayed Burst Ack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4B7-100F-4BB3-94B6-1C816B886D3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ordering Buffer Size in Burst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ication on Capability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for a quicker update of Starting Sequence Control in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haps re-use bits in QoS Control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3A6-3A9F-4075-9907-6DCE60389E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anges from Dallas Meet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a capability bit el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he handshaking through management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a Burst Ack Request frame with a QoS Data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two bits, No Ack and Burst Ack in frame contr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d No Ack bit from QoS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Wait functionality by reinterpreting one of the unused bits of the ACK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the Buffer size stat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 to be resol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E40-2CAC-4E44-9DCE-B11D938BA1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wo types of Burst Ack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rst Ack shall be sent immediately after being solici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ready, the receiver shall send an ACK (to be expanded later) seeking further action from the transmi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rst Ack shall be sent when the receiver has finished processing all the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20A-7E22-40E7-BB9F-4B4F0351D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ndshak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ate QoS Action codes and use QoS Action management fram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52480" y="2419200"/>
          <a:ext cx="563904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19200"/>
                    <a:ext cx="56390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553080" y="44197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2720" y="44956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768-BCD4-46D2-A75B-550297CD93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e Burst Ack Reques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can be of any value but the same value should be used in all future ex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 policy = 1 means immediate, 0 means delay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D is the value of the TC or TS of the traff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ing Sequence Control has the sequence number and the fragment number of the fir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transmitter predict its value? Jump to a particular numb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722600"/>
          <a:ext cx="8134200" cy="23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22600"/>
                    <a:ext cx="81342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3A5-F869-45DB-985A-77DD07A714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e Burst Ack Respons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&amp; TID shall be same as the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Reject bit is set to 1, the burst Ack is not allow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 policy may be same as the request frame or may be changed depending on the capabilities of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ordering buffer size is the number of 2312 buffers that are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MPDU (or MSDU) uses one buffer irrespective of the size of the MPD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ceiver may send the frame unsolicited if it desires to chang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66720" y="1295280"/>
          <a:ext cx="8477280" cy="24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295280"/>
                    <a:ext cx="84772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909-6DB8-46A6-996F-9AB912FF58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lete Burst Ack reques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same as in the Define Burst Ack requ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ame could be sent by the originator of the burst or the recipi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D is used to identify the traffic to indicate the sou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 also use a bit to indicate the same information. Don’t feel very strongly about ei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81080" y="2133720"/>
          <a:ext cx="5905800" cy="116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9058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7D8-6DEA-4DA2-8DEA-25FF0F13AE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 Ack and Burst Ack bits in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rame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or has indicated that two bits - retry and More Data will not be used in IEEE 802.11e and suggested using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Control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y bit and More Data will have meaning only for lega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QoS Data type frames, when No Ack = 1, then there will not be an ACK or QoS (+)CF-Ack after SIFS duration. However, there could be some other frame as explained in the next slide. When No Ack = 0, the recipient shall respond with either ACK or QoS (+)CF-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Ack is reserved for all other frames and set to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2743200"/>
          <a:ext cx="7162560" cy="150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16256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3FC-EBC2-49EC-A373-6BE2D662DB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bit in Frame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QoS Data frames, the interpretation depends on No Ack bit as shown in the following tab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380880" y="2438280"/>
          <a:ext cx="9924840" cy="36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438280"/>
                    <a:ext cx="99248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, Laborato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1D6-3DC3-4CD1-8A4E-D7C5EDEC95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1:06:25Z</dcterms:created>
  <dc:creator>Srinivas Kandala</dc:creator>
  <dc:description/>
  <dc:language>en-US</dc:language>
  <cp:lastModifiedBy>at&amp;t user</cp:lastModifiedBy>
  <cp:lastPrinted>1998-02-10T13:28:06Z</cp:lastPrinted>
  <dcterms:modified xsi:type="dcterms:W3CDTF">2002-02-21T22:03:09Z</dcterms:modified>
  <cp:revision>8</cp:revision>
  <dc:subject/>
  <dc:title>Burst Ack Recommendations</dc:title>
</cp:coreProperties>
</file>