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F59C-5DEB-417B-89FC-49126109D2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82FE-A535-4CB1-9856-13C8542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383F-8C1D-4515-B205-0D3F038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F80D-DD5D-4949-8270-B02791972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A2EC-43C7-4FF4-9221-81C30256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DC92-5934-47C4-9F4B-F9E56898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6AFE-EDED-4194-BFB5-AD8D908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2BA7-BEF0-4F96-AC68-271FFEFF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F60C-3E84-4FA0-B63A-EB42538F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CC5B-100B-4271-9086-84AAFA5C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3A3E-98C0-433D-AF02-C759F455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65E9-965E-45D5-A61D-601B61D1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1371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CBD164-D7CE-4C22-8488-56A04D25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12r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9296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Choi, Philip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nghyun.choi@philip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91440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Times New Roman"/>
              </a:rPr>
              <a:t>Fixing Some EDCF Problems 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8954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nghyun Choi, Jin-Meng Ho*, Javier del Prado, and Sai Shan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hilips Research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iarcliff Manor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sunghyun.choi@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*Texa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llas,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inmengho@t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1FE0-8E06-4017-B35F-D7AE8804E36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DCF provides differentiated, distributed access to the WM for eight user priorities. EDCF channel access shall use at most eight prioritized output queues for up to eight user priorities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lau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.1.3.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D51A-6873-41EF-AA42-CBA4B1F3EF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At Least 4 Queues in QAP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eems that QAP will not rely on EDCF as it has highest prioritized channel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lear why “9.1.3.1 HCF contention-based channel access” states that QAP shall provide at least 4 physical que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requirement should be rem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moved to a relevant clause if 4 queue requirement is not for EDCF conten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B408-5695-4C99-89B8-BF33FC0D17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V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 the editor to remove the sentence “A QAP shall provide at least 4 physical queues.” in Clause 9.1.3.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2237-A928-4BA0-942B-137B447F69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inimum Value of AIFS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te in 9.2.10 states that the default value of AIFS[.] is DI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ms that the minimum value of AIFS also should be DIFS in order to give the prioritized channel access to H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1E07-DF83-4C2F-8948-B0F7F8384C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V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 the editor to add the following after the last sentence of the note at the end of 9.2.10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value for dot11AIFS[UP] shall be 2 for each user priority (UP). This restriction enables prioritized channel access by the HC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E1AC-09BA-401C-9B62-7EDDCD3DEB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AIFS[TC] or AIFS[UP]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2.0a defines user priority (UP), and its mapping from T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is mapped into a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rdingly, all the instances of xxx[TC] should be replaced by xxx[UP]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1E23-E3A8-48FC-BC6B-BF01FD1FA8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apping per D2.0a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16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585880"/>
          <a:ext cx="826128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85880"/>
                    <a:ext cx="826128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5594-3097-4594-8AF5-99927F303B8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on: empower the editor to change all xxx[TC], including AIFS[TC], CWmin[TC], and Cwmax[TC], to xxx[UP] after defining the acronym UP, and to change wording to make the revised draft to be consistent with the above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48D4-B94C-4F71-8A77-A3380F4A6F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Which EDCF Parameters to Use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with QSTA with less than 8 output que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D2.0, AIFS[TC], where TC is the traffic category of the highest priority mapped to the queue,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oncerns many voters as it will make implementing fewer queues better, and essentially EDCF usel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DF9D-BF95-4102-A4E4-ECE89B31DE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Frame at the Head of Queue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use the EDCF parameters corresponding to the frame at the head of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queue is empty (i.e., in case of post-backoff), the EDCF parameters corresponding to the latest frame that was in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multiple user priorities are placed into queue[i], the dot11AIFS[UP], aCWmin[UP], and aCWmax[UP] are used for the contention of the queue, where UP is the user priority of the frame at the head of the queue[i] or the latest frame that was in queue[i] if the queue is empty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775-E7DE-407E-B3FA-703C9F93AE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the editor to incorporate the normative text changes found in the word document 01/112r2, and to change wording to make the revised draft to be consistent with the above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32A9-7C85-4612-B13A-1BCD4DA1AF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dot11PriorityMapping MIB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t11PriorityMapping MIB ties the backoff procedure to the queue, rather than to each fr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DCF behavior is sensitive to the number of queues impleme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proposed remedy ties the backoff procedure directly to the frame to be transmitted (at head of the queu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akes the EDCF behavior normative (no longer dependent on the number of physical queu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also removes the need for defining and implementing the dot11PriorityMapp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1CC1-A097-41A8-AB2A-600393F4D5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I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 the editor the re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DCF provides differentiated, distributed access to the WM for 8 user priorities. EDCF channel access will use at most 8 prioritized output queues, one for each delivery priority. A QSTA or QAP may implement fewer than 8 physical queues and shall provide a mapping from user priorities to the available queues by means of the dot11PriorityMapping table in the MAC MIB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3000-6616-423E-B6A3-413F6ED170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9:46:50Z</dcterms:created>
  <dc:creator>Sunghyun Choi</dc:creator>
  <dc:description>S. Choi, Philips</dc:description>
  <dc:language>en-US</dc:language>
  <cp:lastModifiedBy>Sunghyun Choi</cp:lastModifiedBy>
  <cp:lastPrinted>2001-07-06T20:14:10Z</cp:lastPrinted>
  <dcterms:modified xsi:type="dcterms:W3CDTF">2002-01-24T21:08:02Z</dcterms:modified>
  <cp:revision>162</cp:revision>
  <dc:subject>Submissions</dc:subject>
  <dc:title>Fixing Some EDCF Problems</dc:title>
</cp:coreProperties>
</file>