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9BB8-4E24-497B-BF01-E2C409CFB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1976-CA33-4F6A-BFB0-39AF3F47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C947-1939-4B05-B20E-28B1534F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532A-6F13-4130-8924-5673B952B2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4223-10F9-4925-9A30-87EFF7F4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A5AF-68EF-47CD-88E1-773B26B0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00AD-077E-4A49-9DCF-41A08ED2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3AF2-D98B-4AA0-8488-EDCC8BEC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7CFF-C6FC-4EFE-BED9-0376AE4B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6B01-BCF6-4D51-BBA4-23965CF9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725A7-24F3-4A9B-ADCA-7BCAF44C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83A17-B537-4C51-AE89-05ECC9C5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1371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FAD57D-D378-463F-A659-773718EB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112r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867280" y="649296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Choi, Philips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unghyun.choi@philips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752480"/>
            <a:ext cx="80769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Times New Roman"/>
              </a:rPr>
              <a:t>Fixing Some EDCF Problems  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65760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nghyun Choi, Javier del Prado, and Sai Shank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hilips Research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iarcliff Manor, New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sunghyun.choi@philip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B78E-DAC3-4101-B584-4E6C54D9838E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inimum Value of AIFS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ote in 9.2.10 states that the default value of AIFS[.] is DIF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ms that the minimum value of AIFS also should be DIFS in order to give the prioritized channel access to H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D7BB-3C52-4AF8-A726-078D73DD5CC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V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 the editor to add the following after the last sentence of the note at the end of 9.2.10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nimum value for dot11AIFS[UP] is also 2 for each user priority (UP). The minimum value enables the prioritized channel access by HC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16F50-BD21-4490-9CF1-5E0966847E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AIFS[TC] or AIFS[UP]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2.0 defines user priority (UP), and its mapping from TI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is mapped into a U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rdingly, all the instances of xxx[TC] should be replaced by xxx[UP]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6665-FA8F-4D4D-B5B0-8D204C5737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apping per D2.0a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716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585880"/>
          <a:ext cx="8261280" cy="34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85880"/>
                    <a:ext cx="826128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D92C-C6BC-4C8F-98F3-2E709DEBF3C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on: empower the editor to change all xxx[TC], including AIFS[TC], CWmin[TC], and Cwmax[TC], to xxx[UP] after defining the acronym UP, and to change wording to make the revised draft to be consistent with the above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22ADB-21A5-4CE6-8D1E-255834C28A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Which EDCF Parameters to Use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with QSTA with less than 8 output que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 D2.0, AIFS[TC], where TC is the traffic category of the highest priority mapped to the queue, is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oncerns many voters as it will make implementing fewer queues better, and essentially EDCF usel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C129-2E0F-473C-9CD5-8A0C811265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Frame at the Head of Queue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use the EDCF parameters corresponding to the frame at the head of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queue is empty (i.e., in case of post-backoff), the EDCF parameters corresponding to the latest frame which was in the que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multiple user priorities are placed into queue[i], the dot11AIFS[UP], aCWmin[UP], and aCWmax[UP] are used for the contention of the queue, where UP is the user priority of the frame at the head of the queue[i] or the latest frame which was in queue[i] in the queue is empty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1CB4-16E4-4190-B8D6-E347BC6B1A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I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the editor to incorporate the normative text changes found in the word document 01/112r1, and to change wording to make the revised draft to be consistent with the above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F5E6-ADF9-4967-A9E9-50B5D07413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At Least 4 Queues in QAP?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eems that QAP will not rely on EDCF as it has highest prioritized channel ac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lear why “9.1.3.1 HCF contention-based channel access” states that QAP shall provide at least 4 physical que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requirement should be remov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moved to a relevant clause if 4 queue requirement is not for EDCF conten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561E-8614-4C01-B647-ADE095A287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Motion III</a:t>
            </a:r>
            <a:endParaRPr b="0" lang="en-US" sz="40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 the editor to remove the sentence “A QAP shall provide at least 4 physical queues.” in Clause 9.1.3.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D8CF-DA37-4EFE-A3F6-D8DEFF96E6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9:46:50Z</dcterms:created>
  <dc:creator>Sunghyun Choi</dc:creator>
  <dc:description>S. Choi, Philips</dc:description>
  <dc:language>en-US</dc:language>
  <cp:lastModifiedBy>Sunghyun Choi</cp:lastModifiedBy>
  <cp:lastPrinted>2001-07-06T20:14:10Z</cp:lastPrinted>
  <dcterms:modified xsi:type="dcterms:W3CDTF">2002-01-24T17:42:14Z</dcterms:modified>
  <cp:revision>153</cp:revision>
  <dc:subject>Submissions</dc:subject>
  <dc:title>Fixing Some EDCF Problems</dc:title>
</cp:coreProperties>
</file>