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59DA-8F1F-481C-A116-D6E121302D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0D7D-F051-49D9-A71B-46353E9E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0296-4828-442E-953A-DFD1EBFA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BF1E-68EC-43AC-BB9E-3572DCB074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D1DF-2F6B-42EA-9550-45938A41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9CC6-078E-4B52-B63F-0045D3A8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D833-8FB7-42BE-8035-B61823E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E9F5-7C94-4218-8B24-2F30DD7F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1565-F5B9-45F3-B7E4-DE7CE756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8F7B-C746-4FD8-A4E7-1FC6EFA2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D7F9-CF39-4575-B490-FB637AE2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A875-48EE-4D67-81ED-4E8DEFEB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1371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937BEE-B10F-47D9-BFD1-90A945243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112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867280" y="649296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Choi, Philips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nghyun.choi@philips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752480"/>
            <a:ext cx="807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Times New Roman"/>
              </a:rPr>
              <a:t>Fixing Some EDCF Problems  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65760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nghyun Choi, Javier del Prado, and Sai Shank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hilips Research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iarcliff Manor,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sunghyun.choi@philip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3F58-7657-464D-9146-1B67E7FA778A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inimum Value of AIFS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te in 9.2.10 states that the default value of AIFS[.] is DIF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ms that the minimum value of AIFS also should be DIFS in order to give the prioritized channel access to H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CB4D-5E94-400C-8033-89732CA591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V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 the editor to add the following after the last sentence of the note at the end of 9.2.10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nimum value for dot11AIFS[UP] is also 2 for each user priority (UP). The minimum value enables the prioritized channel access by HC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B919-6CD5-43DE-B5BC-913A850227C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AIFS[TC] or AIFS[UP]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2.0 defines user priority (UP), and its mapping from TI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is mapped into a 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rdingly, all the instances of xxx[TC] should be replaced by xxx[UP]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E547-17BB-4272-9DF7-A7BBCC838C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apping per D2.0a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16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820880"/>
          <a:ext cx="853452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0880"/>
                    <a:ext cx="853452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0BB3-E70A-43D3-91D2-B1A5B502E95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on: empower the editor to change all xxx[TC], including AIFS[TC], CWmin[TC], and Cwmax[TC], to xxx[UP] after defining the acronym UP, and to change wording to make the revised draft to be consistent with the above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8CD1-542D-429F-AA40-37AD3BC9FC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Which EDCF Parameters to Use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with QSTA with less than 8 output que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D2.0, AIFS[TC], where TC is the traffic category of the highest priority mapped to the queue, is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oncerns many voters as it will make implementing fewer queues better, and essentially EDCF usel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2EE6-417D-4A3C-9991-AB4DBBA39F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Frame at the Head of Queue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use the EDCF parameters corresponding to the frame at the head of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queue is empty (i.e., in case of post-backoff), the EDCF parameters corresponding to the latest frame which was in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multiple user priorities are mapped into a output queue, the dot11AIFS[UP], aCWmin[UP], and aCWmax[UP] are used for the contention of the queue, where UP is the user priority of the frame at the head of the queue[i] or the latest frame which was in queue[i] in the queue is empty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A8C7-F389-4E6B-8B5D-4378E8EC7B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I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the editor to incorporate the normative text changes found in the word document 01/xxxr0, and to change wording to make the revised draft to be consistent with the above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ABF8-1326-44B6-9BDB-3E080A0153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At Least 4 Queues in QAP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eems that QAP will not rely on EDCF as it has highest prioritized channel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lear why “9.1.3.1 HCF contention-based channel access” states that QAP shall provide at least 4 physical que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requirement should be remov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moved to a relevant clause if 4 queue requirement is not for EDCF conten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5DAE-4D19-49F0-BFA4-24BF8577C0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II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 the editor to remove the sentence “A QAP shall provide at least 4 physical queues.” in Clause 9.1.3.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60E1-8554-427B-B2B3-1F2446C9C3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9:46:50Z</dcterms:created>
  <dc:creator>Sunghyun Choi</dc:creator>
  <dc:description>S. Choi, Philips</dc:description>
  <dc:language>en-US</dc:language>
  <cp:lastModifiedBy>Sunghyun Choi</cp:lastModifiedBy>
  <cp:lastPrinted>2001-07-06T20:14:10Z</cp:lastPrinted>
  <dcterms:modified xsi:type="dcterms:W3CDTF">2002-01-24T16:42:59Z</dcterms:modified>
  <cp:revision>149</cp:revision>
  <dc:subject>Submissions</dc:subject>
  <dc:title>Fixing Some EDCF Problems</dc:title>
</cp:coreProperties>
</file>