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D6D7C-A314-4DB5-942D-87FBBDB6D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685800" y="1676160"/>
            <a:ext cx="7772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685800" y="4143960"/>
            <a:ext cx="7772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531E6-9BF9-4578-8179-D62542573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685800" y="16761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68480" y="16761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85800" y="41439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68480" y="41439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04ADE-F8C4-4D24-9833-7F52B7224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685800" y="1676160"/>
            <a:ext cx="250236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313800" y="1676160"/>
            <a:ext cx="250236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5941440" y="1676160"/>
            <a:ext cx="250236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685800" y="4143960"/>
            <a:ext cx="250236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313800" y="4143960"/>
            <a:ext cx="250236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5941440" y="4143960"/>
            <a:ext cx="250236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76AC7-6D8D-46E4-9523-3BE875756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685800" y="1676160"/>
            <a:ext cx="77724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A4066-2B6C-4420-BA21-B5FF52F64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A594F-EC99-45D0-9800-2307BF76B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685800" y="1676160"/>
            <a:ext cx="37926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68480" y="1676160"/>
            <a:ext cx="37926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415BC-B834-42AD-93C8-6E35FF458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B575C-7899-47D2-9942-D7227D93D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C9F3F-F66C-41FD-91B1-EB78F825A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685800" y="16761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68480" y="1676160"/>
            <a:ext cx="37926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685800" y="41439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EB496-D068-47E2-9D3F-BC7EF5078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685800" y="1676160"/>
            <a:ext cx="37926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68480" y="16761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68480" y="41439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87363-50C8-4E28-A8F2-2C11E0EBD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685800" y="16761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68480" y="1676160"/>
            <a:ext cx="37926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685800" y="4143960"/>
            <a:ext cx="7772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56F4A-7DF2-42E5-BFD0-014B79DD7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857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42884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771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771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771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609120" y="182520"/>
            <a:ext cx="10321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5293D9-CB15-40DC-B2E3-26CFD3287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898240" y="396000"/>
            <a:ext cx="25671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1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abling direct WSTA-WSTA transmissions in a QBSS</a:t>
            </a:r>
            <a:endParaRPr b="1" lang="en-US" sz="3200" spc="-1" strike="noStrike">
              <a:solidFill>
                <a:srgbClr val="000000"/>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rinivas Kandala</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p Laboratories of America, Inc.</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srini@sharplabs.com</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rinivas Kandala, Sharp Labs</a:t>
            </a:r>
          </a:p>
        </p:txBody>
      </p:sp>
      <p:sp>
        <p:nvSpPr>
          <p:cNvPr id="5" name="PlaceHolder 4"/>
          <p:cNvSpPr>
            <a:spLocks noGrp="1"/>
          </p:cNvSpPr>
          <p:nvPr>
            <p:ph type="sldNum" idx="3"/>
          </p:nvPr>
        </p:nvSpPr>
        <p:spPr/>
        <p:txBody>
          <a:bodyPr/>
          <a:p>
            <a:fld id="{1B00CDE8-CC7F-4A4A-9F3D-2CC14774C22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1" lang="en-US" sz="3200" spc="-1" strike="noStrike">
              <a:solidFill>
                <a:srgbClr val="000000"/>
              </a:solidFill>
              <a:latin typeface="Arial"/>
            </a:endParaRPr>
          </a:p>
        </p:txBody>
      </p:sp>
      <p:sp>
        <p:nvSpPr>
          <p:cNvPr id="4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WSTA-WSTA transmission is allowed in IEEE 802.11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not yet specified is how it will be initiated/use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propose two tool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irst based on the pending traffic queued.</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based on management primitives received.</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rinivas Kandala, Sharp Labs</a:t>
            </a:r>
          </a:p>
        </p:txBody>
      </p:sp>
      <p:sp>
        <p:nvSpPr>
          <p:cNvPr id="5" name="PlaceHolder 4"/>
          <p:cNvSpPr>
            <a:spLocks noGrp="1"/>
          </p:cNvSpPr>
          <p:nvPr>
            <p:ph type="sldNum" idx="3"/>
          </p:nvPr>
        </p:nvSpPr>
        <p:spPr/>
        <p:txBody>
          <a:bodyPr/>
          <a:p>
            <a:fld id="{EED7BF81-2C70-44B3-B724-E318B38514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ol 1</a:t>
            </a:r>
            <a:endParaRPr b="1" lang="en-US" sz="3200" spc="-1" strike="noStrike">
              <a:solidFill>
                <a:srgbClr val="000000"/>
              </a:solidFill>
              <a:latin typeface="Arial"/>
            </a:endParaRPr>
          </a:p>
        </p:txBody>
      </p:sp>
      <p:sp>
        <p:nvSpPr>
          <p:cNvPr id="50"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WSTA maintains a Connectivity table containing the MAC address and if the traffic is to be sent directly or through the AP.</a:t>
            </a:r>
            <a:endParaRPr b="1"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Connectivity table as shown below:</a:t>
            </a:r>
            <a:endParaRPr b="1"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packet arrives to the head of the queue, it determines if the destination address (DA) has an entry in the table.</a:t>
            </a:r>
            <a:endParaRPr b="1"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re is an entry, it transmits the packet based on that entry.</a:t>
            </a:r>
            <a:endParaRPr b="1"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51" name=""/>
          <p:cNvGraphicFramePr/>
          <p:nvPr/>
        </p:nvGraphicFramePr>
        <p:xfrm>
          <a:off x="914400" y="2666880"/>
          <a:ext cx="8020080" cy="2400480"/>
        </p:xfrm>
        <a:graphic>
          <a:graphicData uri="http://schemas.openxmlformats.org/presentationml/2006/ole">
            <p:oleObj progId="Word.Document.12" r:id="rId1" spid="">
              <p:embed/>
              <p:pic>
                <p:nvPicPr>
                  <p:cNvPr id="52" name="" descr=""/>
                  <p:cNvPicPr/>
                  <p:nvPr/>
                </p:nvPicPr>
                <p:blipFill>
                  <a:blip r:embed="rId2"/>
                  <a:stretch/>
                </p:blipFill>
                <p:spPr>
                  <a:xfrm>
                    <a:off x="914400" y="2666880"/>
                    <a:ext cx="8020080" cy="2400480"/>
                  </a:xfrm>
                  <a:prstGeom prst="rect">
                    <a:avLst/>
                  </a:prstGeom>
                  <a:ln w="0">
                    <a:noFill/>
                  </a:ln>
                </p:spPr>
              </p:pic>
            </p:oleObj>
          </a:graphicData>
        </a:graphic>
      </p:graphicFrame>
      <p:sp>
        <p:nvSpPr>
          <p:cNvPr id="4" name="PlaceHolder 3"/>
          <p:cNvSpPr>
            <a:spLocks noGrp="1"/>
          </p:cNvSpPr>
          <p:nvPr>
            <p:ph type="ftr" idx="2"/>
          </p:nvPr>
        </p:nvSpPr>
        <p:spPr/>
        <p:txBody>
          <a:bodyPr/>
          <a:p>
            <a:r>
              <a:t>Srinivas Kandala, Sharp Labs</a:t>
            </a:r>
          </a:p>
        </p:txBody>
      </p:sp>
      <p:sp>
        <p:nvSpPr>
          <p:cNvPr id="5" name="PlaceHolder 4"/>
          <p:cNvSpPr>
            <a:spLocks noGrp="1"/>
          </p:cNvSpPr>
          <p:nvPr>
            <p:ph type="sldNum" idx="3"/>
          </p:nvPr>
        </p:nvSpPr>
        <p:spPr/>
        <p:txBody>
          <a:bodyPr/>
          <a:p>
            <a:fld id="{E8E37FDD-6A21-4BC3-937A-16A8851681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ol 1</a:t>
            </a:r>
            <a:endParaRPr b="1" lang="en-US" sz="3200" spc="-1" strike="noStrike">
              <a:solidFill>
                <a:srgbClr val="000000"/>
              </a:solidFill>
              <a:latin typeface="Arial"/>
            </a:endParaRPr>
          </a:p>
        </p:txBody>
      </p:sp>
      <p:sp>
        <p:nvSpPr>
          <p:cNvPr id="54"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re is no such entry, then it transmits a directed probe request at the highest rate to the DA.</a:t>
            </a:r>
            <a:endParaRPr b="1"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DA is in the range, the DA shall send a directed probe response. The WSTA will make an entry “direct” into the table and send the packet to the DA. The WSTA whose MAC address shall also make an entry “direct” for the sending WSTA MAC into its own table.</a:t>
            </a:r>
            <a:endParaRPr b="1"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f there is no response, the DA shall retransmit the probe request at the next highest rate and will repeat the process until it gets a response or the rate that it has to send falls below half the highest rate in the BSSBasicRateSet.</a:t>
            </a:r>
            <a:endParaRPr b="1"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WSTA does not receive the probe response for any rate, it will make an entry of “distribution” into the table and will transmit the packet to the AP for forwarding.</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rinivas Kandala, Sharp Labs</a:t>
            </a:r>
          </a:p>
        </p:txBody>
      </p:sp>
      <p:sp>
        <p:nvSpPr>
          <p:cNvPr id="5" name="PlaceHolder 4"/>
          <p:cNvSpPr>
            <a:spLocks noGrp="1"/>
          </p:cNvSpPr>
          <p:nvPr>
            <p:ph type="sldNum" idx="3"/>
          </p:nvPr>
        </p:nvSpPr>
        <p:spPr/>
        <p:txBody>
          <a:bodyPr/>
          <a:p>
            <a:fld id="{77831737-C1F9-45DB-BE97-A6034CCDFB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ol 2</a:t>
            </a:r>
            <a:endParaRPr b="1" lang="en-US" sz="3200" spc="-1" strike="noStrike">
              <a:solidFill>
                <a:srgbClr val="000000"/>
              </a:solidFill>
              <a:latin typeface="Arial"/>
            </a:endParaRPr>
          </a:p>
        </p:txBody>
      </p:sp>
      <p:sp>
        <p:nvSpPr>
          <p:cNvPr id="56" name="PlaceHolder 2"/>
          <p:cNvSpPr>
            <a:spLocks noGrp="1"/>
          </p:cNvSpPr>
          <p:nvPr>
            <p:ph/>
          </p:nvPr>
        </p:nvSpPr>
        <p:spPr>
          <a:xfrm>
            <a:off x="685800" y="1447560"/>
            <a:ext cx="777240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a higher layer protocol (or application) might want to determine if direct transmission is possibl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formulate an appropriate bandwidth reques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causes the SME to generate a MLME-CONNECTIVITY. request with the destination address as the paramete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C will first check its Connectivity table. If there is an entry for the MAC address it will generate a MLME-CONNECTIVITY.response with the MAC address, Connection Type and PHY rate as the arguments. The Connection Type will be either “direct” or “distribute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re is no entry, the MAC will initiate a probe request /response exchange as described in mechanism 1. After completing the exchange it will update its Connectivity table and generate the MLME-CONNECTIVITY.respons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rinivas Kandala, Sharp Labs</a:t>
            </a:r>
          </a:p>
        </p:txBody>
      </p:sp>
      <p:sp>
        <p:nvSpPr>
          <p:cNvPr id="5" name="PlaceHolder 4"/>
          <p:cNvSpPr>
            <a:spLocks noGrp="1"/>
          </p:cNvSpPr>
          <p:nvPr>
            <p:ph type="sldNum" idx="3"/>
          </p:nvPr>
        </p:nvSpPr>
        <p:spPr/>
        <p:txBody>
          <a:bodyPr/>
          <a:p>
            <a:fld id="{616D9A3A-D3EE-4C59-96D8-E48ED519AB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ion</a:t>
            </a:r>
            <a:endParaRPr b="1" lang="en-US" sz="3200" spc="-1" strike="noStrike">
              <a:solidFill>
                <a:srgbClr val="000000"/>
              </a:solidFill>
              <a:latin typeface="Arial"/>
            </a:endParaRPr>
          </a:p>
        </p:txBody>
      </p:sp>
      <p:sp>
        <p:nvSpPr>
          <p:cNvPr id="5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to incorporate the text in 02/018r0</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rinivas Kandala, Sharp Labs</a:t>
            </a:r>
          </a:p>
        </p:txBody>
      </p:sp>
      <p:sp>
        <p:nvSpPr>
          <p:cNvPr id="5" name="PlaceHolder 4"/>
          <p:cNvSpPr>
            <a:spLocks noGrp="1"/>
          </p:cNvSpPr>
          <p:nvPr>
            <p:ph type="sldNum" idx="3"/>
          </p:nvPr>
        </p:nvSpPr>
        <p:spPr/>
        <p:txBody>
          <a:bodyPr/>
          <a:p>
            <a:fld id="{70D8A535-8FF5-4F45-AFF8-F7672323BA10}"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8T23:57:48Z</dcterms:created>
  <dc:creator>Srinivas Kandala</dc:creator>
  <dc:description/>
  <dc:language>en-US</dc:language>
  <cp:lastModifiedBy>at&amp;t user</cp:lastModifiedBy>
  <cp:lastPrinted>2001-01-17T00:39:26Z</cp:lastPrinted>
  <dcterms:modified xsi:type="dcterms:W3CDTF">2002-01-17T15:40:59Z</dcterms:modified>
  <cp:revision>6</cp:revision>
  <dc:subject/>
  <dc:title>Enabling direct WSTA-WSTA transmissions in a QBSS</dc:title>
</cp:coreProperties>
</file>