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88782-DB25-43EC-A910-16E3A4B73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0619C-65C5-4AA8-837B-55CEA3A15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24F28-1173-47C2-BBDB-0214E3125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6AE63-670F-41E1-B55E-6B0A88847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409DE-7071-43B9-A96E-3844DAE0B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91118-605E-480B-9599-66B6FF828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E9D00-5A91-4D93-BD90-051696657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AB9A3-77D1-4712-8395-0A3F746A0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91D17-0806-4812-9FA2-6EA6CA215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ED2E4-3CF9-40FA-8311-40C516766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118DB-5DF3-4F15-B412-4B093DD25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F0A2B-A070-4195-95BD-61C7FD92E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120" y="182520"/>
            <a:ext cx="1171800" cy="42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i-FI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December 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338960" y="6474960"/>
            <a:ext cx="127152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Mika Kasslin; Nok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28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9F50865D-223F-48CD-AC7A-3240B6F7F9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067080" y="396000"/>
            <a:ext cx="2397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66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472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Times New Roman"/>
              </a:rPr>
              <a:t>BRAN#26 Report to TG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Mika Kassl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TGh Cha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A4E67-DCD5-4451-AD51-C81E587EA697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BRAN#26 meeting in Sophia Antipolis, Framce, December 4-7, 2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wo TGh related groups m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Times New Roman"/>
              </a:rPr>
              <a:t>Hiperlan Spectru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Times New Roman"/>
              </a:rPr>
              <a:t>Radio Conformance Test (RC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0713E-CAD7-4232-8BF7-200CADD58D60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Times New Roman"/>
              </a:rPr>
              <a:t>RCT and the Harmonized Standard (H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he RCT is responsible for developing a Harmonized Standard (a.k.a Radio Conformance Test Specificatio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Times New Roman"/>
              </a:rPr>
              <a:t>Contains essential radio requirements and related radio test sui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Times New Roman"/>
              </a:rPr>
              <a:t>First draft in Public Enquiry early 2001; revised draft in process since June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Times New Roman"/>
              </a:rPr>
              <a:t>The objective is to finalize the HS in BRAN#28 in April 200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A2FDA-5714-4859-8C10-E4CB85087E9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Times New Roman"/>
              </a:rPr>
              <a:t>Spectrum Group Deci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rmonised Standards should not be restrictive as to which technologies are permitted, hence an interpretation which is applied by CEPT states will be helpful in assuring uniform implem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was agreed that the interpretation of ERC decision (99)23 should be as follows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B7866-818E-4913-9345-100202F012A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ERC(99)23 stat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CIDES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at for the purpose of this Decision High Performance Radio Local Area Networks (HIPERLANs Types 1 and 2) shall mean equipment complying with the relevant European Telecommunications Standards;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"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elevant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ropean Telecommunications Standard for HIPERLAN Type 2 developed by ETSI is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301 893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'Radio Conformance Test'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5143F-5F6D-43C8-8287-0029006ECF85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Times New Roman"/>
              </a:rPr>
              <a:t>What Does It Mea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Harmonised Standard EN 301 893 is currently being revised, and therefore becomes a key reference document in this interpreta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S will be standard indepen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Times New Roman"/>
              </a:rPr>
              <a:t>Any 5 GHz high performance RLAN conforming to the HS is allowed to operate in CEPT count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F6F52-EB11-4AD0-B830-75CA68A2004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Times New Roman"/>
              </a:rPr>
              <a:t>Open Questions in H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P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Times New Roman"/>
              </a:rPr>
              <a:t>TPC dynamic range requi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DF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Times New Roman"/>
              </a:rPr>
              <a:t>Both the requirements and the test suite are still working assumptions and under stu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Times New Roman"/>
              </a:rPr>
              <a:t>Set of parameters related to the requir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818A7-6CBD-4F89-AF11-DFE80DB900A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Times New Roman"/>
              </a:rPr>
              <a:t>Tasks for TG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Review the revised HS and provide your comments to BRAN#2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Study the DFS in the HS an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Times New Roman"/>
              </a:rPr>
              <a:t>consider its suitability to 802.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Times New Roman"/>
              </a:rPr>
              <a:t>study open ques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onsider TPC requir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200" spc="-1" strike="noStrike" u="sng">
                <a:solidFill>
                  <a:srgbClr val="000000"/>
                </a:solidFill>
                <a:uFillTx/>
                <a:latin typeface="Times New Roman"/>
              </a:rPr>
              <a:t>Contribute to BRAN#2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26455-A589-4041-83A9-4283534D18BA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13T14:25:51Z</dcterms:created>
  <dc:creator>Mika Kasslin</dc:creator>
  <dc:description/>
  <dc:language>en-US</dc:language>
  <cp:lastModifiedBy>Mika Kasslin</cp:lastModifiedBy>
  <cp:lastPrinted>1998-02-10T13:28:06Z</cp:lastPrinted>
  <dcterms:modified xsi:type="dcterms:W3CDTF">2001-12-19T20:06:40Z</dcterms:modified>
  <cp:revision>25</cp:revision>
  <dc:subject/>
  <dc:title>BRAN#26 Report to TGh</dc:title>
</cp:coreProperties>
</file>