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E95-4C3D-41D2-B744-F32EC085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BE3-A38A-4CCB-BBFD-EB673460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0B4-CC9F-408F-9CF0-070E9355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000-176A-4BD7-98C3-A9379931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51F-99EE-4897-9833-19A3D63B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FDD-393E-435A-AA67-C239BB3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6CC-EE6B-43EA-B378-3AC460F3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129-08F7-4D86-A551-90E4A29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202-4F85-427E-BFB7-B49B54A1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9AD-BAF8-47BC-BCDE-2D185362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D14-BC87-4912-964D-01A2AE22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C69-BCC4-4D57-BEBB-A97115F4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9432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14960" y="6474960"/>
            <a:ext cx="159516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onghun Jang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8E3C0A-D6A7-4318-9CC7-8328FB11A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doc.: IEEE 802.11-01/517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P-DCF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or supporting Qo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yunghun Jang (Khjang@samsung.co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oSun Hwang (hshwang@sait.samsung.co.k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ngSoo Kim (sunvale@sait.samsung.co.k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nHyoung Park (whpark@samsung.co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4800" y="41911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46200" y="5257800"/>
            <a:ext cx="607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7400" y="466236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7400" y="511956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7480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8320" y="4038480"/>
            <a:ext cx="4572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65520" y="4191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495680"/>
            <a:ext cx="8380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4648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95320" y="38862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18880" y="391644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20800" y="437364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46200" y="4800600"/>
            <a:ext cx="607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46200" y="4343400"/>
            <a:ext cx="607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3962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91520" y="3962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54864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5334120"/>
            <a:ext cx="1371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-DCF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4952880"/>
            <a:ext cx="8380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21000" y="483084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2240" y="52117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4038480"/>
            <a:ext cx="6858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ly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k Policy - 2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AckBu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AP can optionally transmit ACK burst for all frames at the end of MP-DCF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It can effectively use the wireles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149400" y="2701800"/>
          <a:ext cx="8899200" cy="12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2701800"/>
                    <a:ext cx="889920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lti-Poll Fram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2" marL="9878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Count : CW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Policy : LegacyAck or DelayedAck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996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ID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체"/>
              </a:rPr>
              <a:t>STA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996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ackoffNumber, Time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5240" y="1676520"/>
            <a:ext cx="31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Policy(0) : n =  Record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Policy(1) : n = RecordCount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352680" y="2437920"/>
            <a:ext cx="2895840" cy="419040"/>
            <a:chOff x="3352680" y="2437920"/>
            <a:chExt cx="2895840" cy="419040"/>
          </a:xfrm>
        </p:grpSpPr>
        <p:sp>
          <p:nvSpPr>
            <p:cNvPr id="277" name=""/>
            <p:cNvSpPr/>
            <p:nvPr/>
          </p:nvSpPr>
          <p:spPr>
            <a:xfrm rot="16200000">
              <a:off x="4019400" y="1999440"/>
              <a:ext cx="190440" cy="152424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114800" y="2437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4800" y="24382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2438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layedAckBurst Fram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Count : the number of Ack-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D : ID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체"/>
              </a:rPr>
              <a:t>the STA received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33520" y="1508040"/>
          <a:ext cx="8458200" cy="126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08040"/>
                    <a:ext cx="845820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143000" y="4343400"/>
          <a:ext cx="7924680" cy="188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343400"/>
                    <a:ext cx="792468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essage of Supporting Qo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6920" y="2209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41360" y="22096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8560" y="2889360"/>
            <a:ext cx="2469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END + CF-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+ CF-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+ CF-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+ CF-Ack + CF-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ll-Data (no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Ack (no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Poll (no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Ack + CF-Poll (no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844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844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125160" y="3124080"/>
            <a:ext cx="3535560" cy="1797480"/>
            <a:chOff x="3125160" y="3124080"/>
            <a:chExt cx="3535560" cy="1797480"/>
          </a:xfrm>
        </p:grpSpPr>
        <p:sp>
          <p:nvSpPr>
            <p:cNvPr id="294" name=""/>
            <p:cNvSpPr/>
            <p:nvPr/>
          </p:nvSpPr>
          <p:spPr>
            <a:xfrm>
              <a:off x="3779640" y="3124080"/>
              <a:ext cx="28810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oS Data + CF-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oS Data + CF-P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oS Data + CF-Ack + CF-P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oS Null-Data (no da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oS CF-Ack (no da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oS CF-Poll (no da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oS CF-Ack + CF-Poll (no da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5160" y="363204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C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49240" y="3632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860880" y="22096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-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6840" y="3505320"/>
            <a:ext cx="163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-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edAckBu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eature of MP-DCF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바탕체"/>
              </a:rPr>
              <a:t>Flexibility of polling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바탕체"/>
              </a:rPr>
              <a:t>Supporting the time bounded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바탕체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urther Studi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analyze the performance of MP-DCF through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-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rawbacks of the Legacy Syste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optimize system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on inter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08080" y="5257800"/>
            <a:ext cx="7197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502920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38200" y="5029200"/>
            <a:ext cx="685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57520" y="502920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5029200"/>
            <a:ext cx="685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29120" y="502920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81400" y="5029200"/>
            <a:ext cx="685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00720" y="502920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53000" y="5029200"/>
            <a:ext cx="685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502920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4600" y="5029200"/>
            <a:ext cx="685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5520" y="5022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7760" y="50292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53520" y="50292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5120" y="50292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920" y="50292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3160" y="3657600"/>
            <a:ext cx="7197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4520" y="342900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97160" y="3429000"/>
            <a:ext cx="19047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59320" y="342900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1960" y="3429000"/>
            <a:ext cx="21333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244520" y="3067200"/>
            <a:ext cx="1800" cy="9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59320" y="3067200"/>
            <a:ext cx="1800" cy="9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13560" y="3422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23800" y="3422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44520" y="327672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32000" y="304812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FP repetition 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9440" y="4038480"/>
            <a:ext cx="380880" cy="15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44720" y="4038480"/>
            <a:ext cx="381240" cy="15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6320" y="4038480"/>
            <a:ext cx="381240" cy="15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87920" y="4038480"/>
            <a:ext cx="381240" cy="15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59520" y="4038480"/>
            <a:ext cx="381240" cy="15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142880" y="3314520"/>
            <a:ext cx="533520" cy="2590920"/>
          </a:xfrm>
          <a:custGeom>
            <a:avLst/>
            <a:gdLst>
              <a:gd name="textAreaLeft" fmla="*/ 145080 w 533520"/>
              <a:gd name="textAreaRight" fmla="*/ 388440 w 533520"/>
              <a:gd name="textAreaTop" fmla="*/ 527040 h 2590920"/>
              <a:gd name="textAreaBottom" fmla="*/ 20638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4394"/>
                </a:moveTo>
                <a:lnTo>
                  <a:pt x="11699" y="4394"/>
                </a:lnTo>
                <a:lnTo>
                  <a:pt x="11699" y="0"/>
                </a:lnTo>
                <a:lnTo>
                  <a:pt x="21600" y="10800"/>
                </a:lnTo>
                <a:lnTo>
                  <a:pt x="11699" y="21600"/>
                </a:lnTo>
                <a:lnTo>
                  <a:pt x="11699" y="17206"/>
                </a:lnTo>
                <a:lnTo>
                  <a:pt x="0" y="17206"/>
                </a:lnTo>
                <a:lnTo>
                  <a:pt x="5873" y="10800"/>
                </a:lnTo>
                <a:lnTo>
                  <a:pt x="0" y="43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9360" y="41911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ired polling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63600" y="5878440"/>
            <a:ext cx="4321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fore, we propose MP-D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867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9480" y="2895480"/>
            <a:ext cx="647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20840" y="266688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2666880"/>
            <a:ext cx="12700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8440" y="266688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0840" y="251460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8960" y="2286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61080" y="2666880"/>
            <a:ext cx="1158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666880"/>
            <a:ext cx="888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84960" y="2666880"/>
            <a:ext cx="888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429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828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80988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3341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8580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3520" y="34290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ing based on P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73520" y="2514600"/>
            <a:ext cx="1346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11640" y="2286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029200"/>
            <a:ext cx="647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14360" y="4800600"/>
            <a:ext cx="17172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4800600"/>
            <a:ext cx="819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02320" y="4800600"/>
            <a:ext cx="17136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54600" y="4800600"/>
            <a:ext cx="1158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4800600"/>
            <a:ext cx="1035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4800600"/>
            <a:ext cx="6382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562720"/>
            <a:ext cx="464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3392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4100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85152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97400" y="556272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ing based on 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CF vs MP-DCF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-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93920" y="3505320"/>
            <a:ext cx="683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2590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93920" y="3048120"/>
            <a:ext cx="683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2057400"/>
            <a:ext cx="26672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2520" y="28954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3920" y="3962520"/>
            <a:ext cx="683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5120" y="33670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ST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5120" y="38242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ST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5120" y="42670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ST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22520" y="28954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817720"/>
            <a:ext cx="45720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8954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2880" y="266688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4189320"/>
            <a:ext cx="1218960" cy="23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66688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44400" y="26668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6280" y="2666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4419720"/>
            <a:ext cx="68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6668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51814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502920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-DCF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876920"/>
            <a:ext cx="68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5120" y="47545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STA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21440" y="4313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00200" y="40687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1640" y="3276720"/>
            <a:ext cx="1073160" cy="230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4005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5880" y="3154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82880" y="3430440"/>
            <a:ext cx="15084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4648320"/>
            <a:ext cx="685800" cy="230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Transmission using Multi-Poll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66688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82880" y="4802040"/>
            <a:ext cx="15084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343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4343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286000"/>
            <a:ext cx="2210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_of_Poll 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59092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5909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8954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289548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32004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320040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ur Solu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Poll messag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mit + order of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-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ulti-Poll message is broadcast, STAs which belongs to the polling list should adjust their own backoff time and CW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DC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295280" y="1828800"/>
          <a:ext cx="6492960" cy="42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49296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peration of STA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oS in MP-DCF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uppor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re Strong Q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P must control the transmission time for each of 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OP can be extended to MP-DCF in similar way of H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체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05080" y="51055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06480" y="595944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28040" y="54403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ST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8040" y="58975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ST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350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6860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258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7920" y="466416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53341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0688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69000" y="466416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69000" y="5715000"/>
            <a:ext cx="1219320" cy="244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5600" y="47242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79160" y="4754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84280" y="51354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63680" y="4343400"/>
            <a:ext cx="53352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1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25800" y="4343400"/>
            <a:ext cx="53352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2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285640" y="4571640"/>
            <a:ext cx="282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025800" y="4571640"/>
            <a:ext cx="78408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06480" y="556272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06480" y="5181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13120" y="4572000"/>
            <a:ext cx="21960" cy="1828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50080" y="4572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13120" y="6172200"/>
            <a:ext cx="5736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68800" y="6019920"/>
            <a:ext cx="1371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-DCF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97200" y="4343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59320" y="4343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88320" y="58071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65360" y="5532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87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4876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06880" y="466416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69000" y="5029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26200" y="4876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6920" y="466416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k Policy - 1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cy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P correctly received a Data packet, it transmits ACK after SI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be used in case that the fast ACK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6200" y="45720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17600" y="5638680"/>
            <a:ext cx="706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800" y="50436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T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800" y="5500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T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462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9720" y="44197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3434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876920"/>
            <a:ext cx="8380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3434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6720" y="42670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90280" y="4297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30280" y="4297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7600" y="5181480"/>
            <a:ext cx="706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17600" y="4724280"/>
            <a:ext cx="706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5328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58672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71500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-DCF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67640" y="474804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5334120"/>
            <a:ext cx="8380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8560" y="4297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5486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05920" y="520524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3434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43434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8:41:50Z</dcterms:created>
  <dc:creator>Kyunghun Jang</dc:creator>
  <dc:description>Kyunghun Jang, Samsung (SAIT)</dc:description>
  <cp:keywords>September 2001</cp:keywords>
  <dc:language>en-US</dc:language>
  <cp:lastModifiedBy>Harry Worstell</cp:lastModifiedBy>
  <cp:lastPrinted>2001-08-24T05:00:47Z</cp:lastPrinted>
  <dcterms:modified xsi:type="dcterms:W3CDTF">2001-08-31T02:25:03Z</dcterms:modified>
  <cp:revision>87</cp:revision>
  <dc:subject/>
  <dc:title>MP-DCF for Supporting QoS</dc:title>
</cp:coreProperties>
</file>