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39F-E7C8-4D00-ABBC-A6F6AAFD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5D4-C165-462D-814D-CC8768AC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002-A211-43DD-B7FA-417DFAF8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DD6-DD76-4967-B9B9-88865A25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743-D0A3-4AEA-A57F-1C30606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58C-F578-498D-A394-861B555C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B60-3981-4DEE-A04B-A2FF65F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84A-141B-42C1-B652-9E0292C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8E8-5C53-45B1-9BDD-19602FE4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B6E-2AA2-4860-9FB4-399484F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5B9-26C8-407C-8441-E509EDB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26B-D3A8-4F3E-AF74-533DF34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24E4CF-2830-4A17-8AF2-3BFDE7567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45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i/Tge Cross-Group MAC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Black, Nokia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on.a.black@noki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Walker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se.walker@in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73B-1F44-45DD-B585-4E4A89F9B0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acon/Probe Response Issu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Beacon management frame is becoming increasingly overloaded. How should this be addres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lude only essential information in the beacon frame (look to use probe and association exchanges for bulk commun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parate the beacon and probe request-response mechanisms in the base MAC protocol. Passive scan may not return all BS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379-C7C4-4B69-B455-8995F33673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acon/Probe Response Issu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 current channel information to probe request to overcome the problem of APs on adjacent channels responding leading to excessive probe response re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591-9EB7-4760-A393-00E4D20558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-ordination of Field Usage and Numb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parate working groups are extending the existing MAC field encoding, therefore some co-ordination is required between the groups to avoid conflicts. How should this be addres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items that require careful co-ordina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bility sub-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ement identity numb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us and reaso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414-E44E-4F85-8291-F4E17F3599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ope &amp;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issues have been identified during the letter ballots that span TGi and TG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of this paper is to identify issues for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alysis and recommendations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ative text at this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also apply to T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1EF-090E-4F23-B4D1-1D781FFD38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er of Operations in the MAC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do the new security functions sit with respect to the QoS functions in the enhanced MAC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ing security functions above QoS raises issue of re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y protection designed to cope with worst case reordering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maximum reordering in QoS functions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replay window to each traffic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 of state storage and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391-E5A2-4C9A-A23E-2452CF389D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er of Operations in the MAC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ing security functions below QoS raises issue of delay introduced by the cryptograph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force the use of hardware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may be required for high rate PHYs regard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 timing characteristics probably preferable to W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, placing security below QoS would seem to be pref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92F-4B51-4295-9457-4E140B2DC0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SDU, or MPDU Encry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the new cryptographic protections be applied to MSDUs, or MPD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to position of the security functions in the MAC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unctions placed below QoS means MPDU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2D2-506A-4B40-800C-6D292EB609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PDU Expa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 cryptographic protections introduce additional MPDU expansion when compared to WEP protection. Do we expand the maximum MPDU size, or reduce the MSDU paylo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length related issues outlined in mai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ility with existing implementations suggests keeping service definition constant is the correct approach so the maximum MPDU size will 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update MIB and clause 7.1.3.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C28-5462-45E5-888F-3A2496FD9C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Level of Cryptographic Protection per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current TGi draft makes provision for one level of cryptographic protection for the entire association and does not permit separate cryptographic protections for each traffic category. Is this accep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highly desirable to keep the enhanced security model simple and avoid having to store separate keys and other state for each traffic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FF-1800-4144-940E-394E27CE77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ection of Management Fr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t this stage, TGi is proposing to not to protect the 802.11 header, or MMPDUs. Is protection of other MMPDUs, or header field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that protection may be extended to Disassociate MMPDU and MAC address fields as part of letter ballot comment resolution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 of modifying other fields is probably denial of service. There are simpler ways to deny service, so specific protection probably not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E45-1E33-497A-B72D-1244E94E86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STA-STA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concept of direct communication between stations in a BSS breaks the assumption that the AP can be used to enforce security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ect communication is limited to that using multicast keys, or not having prot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cheme would be possible whereby the AP authorized specific direct STA-STA communication. Would require extension of the key derivation protocol, which is a very significant piece of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B5A-9F21-44C6-ACF6-3C51F06A51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21:00:32Z</dcterms:created>
  <dc:creator>Simon Black</dc:creator>
  <dc:description/>
  <dc:language>en-US</dc:language>
  <cp:lastModifiedBy>Harry Worstell</cp:lastModifiedBy>
  <dcterms:modified xsi:type="dcterms:W3CDTF">2001-07-11T20:30:50Z</dcterms:modified>
  <cp:revision>15</cp:revision>
  <dc:subject/>
  <dc:title>Tgi/Tge Cross-Group MAC Issues</dc:title>
</cp:coreProperties>
</file>