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8BC-DC73-4BAB-9CE5-CACA9AD6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DDF-D82E-449C-9286-7ED9C681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AAE-0B28-441B-AE76-B70181DC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D01-C1CB-403F-8125-8DBC8E6F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37A-FAFF-46C3-8E5C-36356B34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1AA-730C-414B-B771-4044A482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9C0-A962-4D92-8468-80C5E4DE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660-3BF1-4148-A3AD-9DD26666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0E8-DB0C-42EF-B7A2-9E5CD680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CE1-ACF2-4671-A0AE-9A367FAD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5AE-55AF-4787-A7BD-69E1DDAD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635-BE14-4205-A582-E24E7900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69D2C06-4D15-486A-A091-9B90C873E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42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EEE 802.11 PAR(s) Timeli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3962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Direct2Data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C04-84F9-4943-B7F2-E194EFCB77F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EEE 802.11 PAR(s) Time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5520" y="2035080"/>
            <a:ext cx="8683560" cy="352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Direct2Data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0F8-206E-4AB1-8731-5CE18B3CF2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Al Petrick</dc:creator>
  <dc:description/>
  <dc:language>en-US</dc:language>
  <cp:lastModifiedBy>Harry Worstell</cp:lastModifiedBy>
  <cp:lastPrinted>1998-02-10T13:28:06Z</cp:lastPrinted>
  <dcterms:modified xsi:type="dcterms:W3CDTF">2001-07-11T04:35:11Z</dcterms:modified>
  <cp:revision>69</cp:revision>
  <dc:subject/>
  <dc:title>11-01-423r0-W-IEEE802-11-PARs-Timelines</dc:title>
</cp:coreProperties>
</file>