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1D76-CFC6-44D9-A6D4-1B12A84B56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1F2E-3C38-4376-9383-AB06C14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96E8-198B-4912-8CFF-0752269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E627-387D-4D08-A867-49EBAB3ED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CF6A-8F69-47B4-9CE0-EC9AFA45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F70E-F4E8-431B-B969-10358B1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9F0C-8797-4AB7-81F9-729037C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AED3-7619-4227-A138-D620393C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6E53-EADC-4F7F-A35F-3563EAB0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FF6D-BB6C-4DAF-A907-3C39079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AA02-95BE-4CA9-9CC6-6848FC4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1E26-2992-48AE-BB69-522638C9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167040"/>
            <a:ext cx="10670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u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519590-EB5D-487B-9C65-C88F73BA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617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1/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14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Choi, Philip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802.11a/e and HIPERLAN/2 Interworking using HCF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efan Mangol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Sunghyun Cho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Wolfgang O. Budd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Chiu Ng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Net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achen Univers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lips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0451-7759-4850-8FA4-9589F9E56A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ybrid of 802.11e HC and H2-CC, called CCHC is pro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has both 802.11a/e and H2 MAC/PHY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sharing between 802.11a/e and H2 without compromise of Q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for a coexistence and interworking as discussed at 5GSG/TG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DE64-52B7-4B8E-8FDC-E71D92ED0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Mangold, Sunghyun Choi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802.11a/(e) and HiperLAN/2 Interworking via CCE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” IEEE 802.11-01/067, January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Mangold, Sunghyun Choi, and Thorsten Wiemann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ntion-Free Scheduling of HiperLAN/2 Frames without QoS Limit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” IEEE 802.11-01/013, January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Nets, Philips.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xistence and Interoperability of HiperLAN/2 and IEEE 802.11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 ETSI BRAN#21, BRAN21d12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, NTT, Matsushita.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vergence levels for 802.11a and HiperLAN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 ETSI BRAN#21, BRAN21d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0CBC-FFE0-4433-9AF5-42FD67965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terworking between 802.11a/e and H2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upcomding 802.11e Hybrid Coordination Function (HCF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a hybrid of an H2 Centralized Controller (CC) and 802.11a/e Hybrid Coordinator (HC), referred to as CCHC, which works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C to 802.11a/e enhanced stations (ESTA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 to H2 mobile and wireless terminals (MTs/WT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allows the support of all convergence levels of 802.11 and H2, specifically the interwork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8630-36DD-49B3-8A87-BD7E5CB15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he CCHC-Interworking Solution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 (H2 Central Control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C (802.11 Hybrid Coordin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 protocol inside coord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Ts/WTs use AP_Abs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548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CHC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B2E9-B4B0-47B2-A069-40169D6AF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Basic Access Mechanism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AC frames are integrated in CP and C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CCHC_timing0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5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95DD-773F-4CDD-8BDB-99F4817C8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hen to Grab Channel for H2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should grab the channel and suppress other 802.11e ESTAs to schedule H2 MAC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 H2 MAC frame is scheduled at t=0, CCHC should grab the channel with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 TXOP_limit - QoS CF-Poll duration - SIF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QoS CF-Poll duration - SIF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DCF TXOP is shorter than TXOP_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7561-D90D-4AE4-9044-E1801F6E82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1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oS CF-Poll transmitted by CCHC and addressed to it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CCHC_grab01" descr=""/>
          <p:cNvPicPr/>
          <p:nvPr/>
        </p:nvPicPr>
        <p:blipFill>
          <a:blip r:embed="rId1"/>
          <a:stretch/>
        </p:blipFill>
        <p:spPr>
          <a:xfrm>
            <a:off x="1065240" y="3124080"/>
            <a:ext cx="7012080" cy="32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9EFF-8A59-42E2-AD8F-0D459051E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2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transmits downlink frames right after PIFS and continues with H2 MAC 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CCHC_grab02" descr=""/>
          <p:cNvPicPr/>
          <p:nvPr/>
        </p:nvPicPr>
        <p:blipFill>
          <a:blip r:embed="rId1"/>
          <a:stretch/>
        </p:blipFill>
        <p:spPr>
          <a:xfrm>
            <a:off x="1057320" y="3124080"/>
            <a:ext cx="7027920" cy="32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9D49-36F9-46F0-8D88-3DEAD7B6CC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3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CHC grabs the channel by transmitting QoS CF-Poll to grant TXOP to ESTA(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CCHC_grab03" descr=""/>
          <p:cNvPicPr/>
          <p:nvPr/>
        </p:nvPicPr>
        <p:blipFill>
          <a:blip r:embed="rId1"/>
          <a:stretch/>
        </p:blipFill>
        <p:spPr>
          <a:xfrm>
            <a:off x="1082520" y="3124080"/>
            <a:ext cx="697896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0864-F306-4B48-9C3A-E14AC9D4E5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CHC Benefits ..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AC frames are integrated in CFP as well as 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lexibl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is centrally coordinated by HC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QoS comprom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Ts/WTs as defined in the standard are fu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changes in the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ESTAs as discussed in TGe QoS draft 1.0 are fully supp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changes in the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DE45-6A9C-435D-AA45-51173FF68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9:46:50Z</dcterms:created>
  <dc:creator>ComNets, Philips</dc:creator>
  <dc:description/>
  <dc:language>en-US</dc:language>
  <cp:lastModifiedBy>Sunghyun Choi</cp:lastModifiedBy>
  <cp:lastPrinted>2001-06-14T16:28:10Z</cp:lastPrinted>
  <dcterms:modified xsi:type="dcterms:W3CDTF">2001-07-10T03:20:56Z</dcterms:modified>
  <cp:revision>61</cp:revision>
  <dc:subject>Submission, TGj July 2001</dc:subject>
  <dc:title>802.11e/a and H2 Interworking using HCF</dc:title>
</cp:coreProperties>
</file>