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48A1-A3BB-44FA-996F-8F1CB95BC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AEB8-BF0A-4EC9-8708-0CE83D0D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6EF8-DD4B-48DD-94E3-34B3CD4B0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6F77-9B56-4731-93AD-C2713A5B3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87AF-69DD-4AEF-A5B5-A8C33C21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9DAC-08EA-4918-8359-A69CA3F2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E8B5-DEF5-4B7D-BABF-D768A235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9C1E-3A9F-4E61-B46A-79603304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AA00-5BAE-4B17-A4DC-F028131A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2E38-11EB-4A07-B181-31C4F7BF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107D-C9C7-43CC-8282-3BB56D31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FDF0-1DC5-4E08-8588-6A169908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9873486-9746-4645-8BEB-592E16B17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889240" y="396000"/>
            <a:ext cx="257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1-403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pplementary Functional Requirements for Tgi ESS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mitted to IEEE802.11 TG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ly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bert Young, Dan Nessett, 3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. Haverinen, J.P. Edney, Nok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on Blake-Wilson, Certi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bert Young, et 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702C-DFE3-4CBF-89CB-67E9D3B7F4F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suitable discussion we propose that the additional requirements be adopted by the Tgi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bert Young, et 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6F21-9374-46CB-A86A-A37B4C21B10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son for this submi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2209320"/>
            <a:ext cx="678168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Meeting issued call for “new technical proposal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need a basis on which to compare technical proposals and also evaluate the existing technical dec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is confusion over which requirements were adopted previously. Document 00/245r1 has general requirements - but little substantive 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document adds a number of additional requirements which are felt to be important for the adopted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bert Young, et 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BDBA-9465-48CE-9EB0-26F1A41864C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ucture of requi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106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assumed that one method will be specified as “mandatory to suppor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6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ght be different mandatory method for ESS and IBSS. These requirements relate to 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6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 presented in three se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784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methods must meet some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784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datory method must meet additional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784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rable (but not required) attributes for all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6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bert Young, et 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17AD-AD5F-45F0-97C2-E9323595A7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quirements for all meth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methods must provide one or more session master key(s) from which other session keys required by packet security methods can be deriv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 handoff (&lt;?? ms) must be supported, either inherently by the method or via context transfer to be specified in TG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ject to further technical discus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methods should conform to current RFC2284 (EAP) &amp; 802.1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methods must support mutual authentication between supplicant and network authentication server/s (for example upon association and re-association). For re-association context transfer method may be use to inherit previous mutual authenti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bert Young, et 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91C6-90D1-4E0A-926B-F57EC55227B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andatory method must be resistant to all known active and passive attacks, including dictionary attacks, man-in-the-middle attacks, replay attacks, and interleaving atta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andatory method shall not require a certificate on the client s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andatory method must conform to IEEE intellectual property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ndatory method should allow deployment using a common authentication database for wireless LAN, wireline LAN and remote network acc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quirements for mandatory method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bert Young, et 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3BC3-F97A-490D-A813-AE50657CA95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mandatory method must be suitable for a range of deployment scenarios such 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bile device to network in corporate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bile device to internet gateway in home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bile device to public infrastructur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mandatory method must be suitable for implementation in access points and client which have low or moderate computational resources. “Low or moderate” computational resources means a class of device for which the following example is indicativ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 initial association, a 40MIPS access point or mobile terminal with limited RAM must be able to execute the method in 5 seconds or l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quirements for mandatory method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bert Young, et 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6533-A8F7-4A57-8B6C-D0F70BC34B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62120" y="21337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ecurity capabilities of the mandatory method shall meet or exceed that the  required to maintain integrity against both active and passive attacks of 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8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ork factor and probability of successful bogus authentication (in the absence of 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8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ork) of at most 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-3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mandatory method must allow the client to roam among access points without advance knowledge of all potential access points avail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tocol used by th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datory metho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capable of implementation in conjunction with legacy network access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quirements for mandatory method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bert Young, et 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3211-14AC-4D66-82AB-C8521FCD036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irable Attribute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method should be specified for use in IBSS (ad hoc) networks but this method need not necessarily be the same as the mandatory method for ESS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the event that two candidates for the mandatory method offer similar security capabilities, the method with lowest computational resources should be chos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it is necessary to reference technical specifications or standards which are outside the scope of control of the IEEE802 exec, such references should not include draft versions or "work in progress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bert Young, et 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1D03-8E45-44EB-87BC-0521E5C3EBF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irable Attribute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method should provide simple disaster recovery in face of various possible compromises includ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romise of a client's "credentials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romise of any access point's credent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romise of any authentication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ethod should provide anonymity from standpoint of an attacker. In other words the identity of the supplicant should not be available to a third party wireless observ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bert Young, et 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3845-6239-4EB1-83C0-A4429044F22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8T11:04:59Z</dcterms:created>
  <dc:creator>Albert Young,Dan Nessett,Jon Edney,Henry Haverinen,Simon Blake-Wilson</dc:creator>
  <dc:description/>
  <cp:keywords>July 2001</cp:keywords>
  <dc:language>en-US</dc:language>
  <cp:lastModifiedBy>Harry Worstell</cp:lastModifiedBy>
  <cp:lastPrinted>1998-02-10T13:28:06Z</cp:lastPrinted>
  <dcterms:modified xsi:type="dcterms:W3CDTF">2001-07-10T18:55:52Z</dcterms:modified>
  <cp:revision>50</cp:revision>
  <dc:subject/>
  <dc:title>Supplementary Functional Requirements for Tgi ESS Networks</dc:title>
</cp:coreProperties>
</file>