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F156-A974-4C1D-8E20-2EE8A05A2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806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5B42-204D-4CB3-A214-78439074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806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806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10EE-3290-4970-8673-C515A744C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806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806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806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D4C5-CF6A-48EC-ACB1-1B7369B9C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DC4F-D4FE-4D28-A8E6-04AC9232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6E30-F56F-4B7B-B45B-B2557FC8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897F-CB5B-4B5B-9D94-ECA844B4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D420-CBC6-46D4-ACC3-464FB318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BD84-DFA6-42F7-AE75-23FB9921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806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953A-880F-4CC1-8901-83DC83E3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806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4FA8-BB7A-419B-92B9-C445501C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806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6BBF-300E-494E-A346-B5955564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8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5360" y="6474960"/>
            <a:ext cx="4651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B528D29-55F5-4F94-95B7-FFA7C0305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770080" y="396000"/>
            <a:ext cx="2695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1/400r1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lbert_young@3com.com" TargetMode="External"/><Relationship Id="rId2" Type="http://schemas.openxmlformats.org/officeDocument/2006/relationships/hyperlink" Target="mailto:albert_young@3com.com" TargetMode="External"/><Relationship Id="rId3" Type="http://schemas.openxmlformats.org/officeDocument/2006/relationships/hyperlink" Target="mailto:dan_nessett@3com.com" TargetMode="External"/><Relationship Id="rId4" Type="http://schemas.openxmlformats.org/officeDocument/2006/relationships/hyperlink" Target="mailto:dan_nessett@3com.com" TargetMode="External"/><Relationship Id="rId5" Type="http://schemas.openxmlformats.org/officeDocument/2006/relationships/hyperlink" Target="mailto:dan_nessett@3com.com" TargetMode="External"/><Relationship Id="rId6" Type="http://schemas.openxmlformats.org/officeDocument/2006/relationships/hyperlink" Target="mailto:dan_nessett@3com.com" TargetMode="External"/><Relationship Id="rId7" Type="http://schemas.openxmlformats.org/officeDocument/2006/relationships/hyperlink" Target="mailto:dan_nessett@3com.com" TargetMode="External"/><Relationship Id="rId8" Type="http://schemas.openxmlformats.org/officeDocument/2006/relationships/hyperlink" Target="mailto:dan_nessett@3com.com" TargetMode="External"/><Relationship Id="rId9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ial Authentication Using EAP-T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EAP-MD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AP-TLS without client-side certificates and EAP-MD5 to distribute 802.11 session keys and mutually authenticate a user and RADIUS server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0, 2001, IEEE 802.11 T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bert Young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Com Corpor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ne: 408-326-6435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-Mail: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albert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/>
              </a:rPr>
              <a:t>_young@3c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 Nessett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Com Corpor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ne: 408-326-1169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-Mail: dan_nessett@3c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on Blake-Wils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tico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ne:  +1 905 501 3786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 :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3"/>
              </a:rPr>
              <a:t>sblake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4"/>
              </a:rPr>
              <a:t>-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5"/>
              </a:rPr>
              <a:t>wilson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6"/>
              </a:rPr>
              <a:t>@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7"/>
              </a:rPr>
              <a:t>certicom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8"/>
              </a:rPr>
              <a:t>.c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 Y., Dan N./3Com. Simon B./Cert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2297-57B6-4234-87B8-536389DF80D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Mach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less Client Stat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 to Section 4.2 of the pro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 Stat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 to Section 4.3 of the pro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 Y., Dan N./3Com. Simon B./Cert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9281-2E44-4D27-8ED0-AB675044621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 to section 5 of the propo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 Y., Dan N./3Com. Simon B./Cert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6535-B53E-48A4-A885-B20BFDFF9F9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col and Implementation det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US attributes used to move info between AP and RADIUS-EAP-TLS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-UC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-Keying-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LS ciphersuite identifiers used during 802.11 cipher suite nego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material derivation from the master secret for each 802.11 cipher su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 of the identifiers of trusted RADIUS-EAP-TLS servers to wireless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sted web site, manual configuration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 Y., Dan N./3Com. Simon B./Cert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AF68-EBB3-430A-AD5A-01A1B15A8B2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e with well-understood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e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deploy – compatible with legacy authentication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 time-to-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fast hand-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more comments to make it perfec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 Y., Dan N./3Com. Simon B./Cert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8D0A-82B0-4A7A-81DA-5C97EE7643E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 up sl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 Y., Dan N./3Com. Simon B./Cert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3934-2B83-464C-B820-541D98CAA6F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Hand-off and re-authenticate in roa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 Key concept for compromise containment control of APs that share the same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zes IA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 server return a “cluster” attribute to the new AP s.t. the AP can decide whether this is an Intra-cluster roam or Inter-cluster ro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fer of Context Blob (CB) from old AP to new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a-Cluster roa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B contains keying material etc used to protect the traffic between the Wireless client and old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B protected with shared key between APs in the same 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- Cluster roa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-authenticate with Serial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 Y., Dan N./3Com. Simon B./Cert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0CF6-6A45-412E-9227-E482DD53B95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Hand-off and re-authenticate in roa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295280" y="2133720"/>
          <a:ext cx="6572520" cy="406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133720"/>
                    <a:ext cx="657252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 Y., Dan N./3Com. Simon B./Cert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DFEE-FF4A-4C3D-8DEF-1F9744A0E09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det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 Y., Dan N./3Com. Simon B./Cert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21CA-02CD-4C27-A8C6-E11C1A91798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 of Serial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1676520"/>
          <a:ext cx="8915400" cy="42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891540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ial Authentication Scheme General Configura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 Y., Dan N./3Com. Simon B./Cert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F44A-B28E-4690-BE44-F37C7CDAA74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s of the Serial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hase – Network Authentication and Dynamic Key Distrib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hase – Protected User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er uses user identity to choose EAP method e.g. EAP-MD5, EAP-O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rt future authentication protocols, e.g. DIAMETER, in the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tual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x/Rx key pairs for confidentiality and message integ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s for protecting traffic between WC and AP after the 1st P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ist to offline dictionary attacks, active and passive atta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ceful disaster recovery in case of comprom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 Y., Dan N./3Com. Simon B./Cert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9E65-B15A-4F59-A970-4DC6C7C7053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s of the Serial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depl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tandard protocols 802.1x, TLS, RADI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tible with legacy authentication data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support a common user authentication database for wired/wireless LAN and remote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client-side certificate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ick time-to-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weight on AP and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fast hand-off in roa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anonymity of th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 Y., Dan N./3Com. Simon B./Cert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4923-B368-4ECB-BEFC-41710DAECD7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 of the Serial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ertise as authentication suite in Associate Request/Response 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pher suite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CSE NOT in .11 management fr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tilizes secure cipher suite negotiation mechanisms of T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P-TLS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enticates a RADIUS-EAP-TLS server to wireless cl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butes keying material used to protect the wireless 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P-MD5 as de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enticates the user using a RADIUS-EAP-2ndPhase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identity sent to RADIUS, choose specific EAP protocol associated with the user id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 Y., Dan N./3Com. Simon B./Cert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8DC8-7A49-4873-9978-3DD058FABC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US-EAP-TLS server and RADIUS-EAP-2ndPhase server can be in a sing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eploy with additional software in existing RADIUS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tandalone networks, AP emulate the two servers w/o RADIUS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 Y., Dan N./3Com. Simon B./Cert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64DD-F932-4125-9963-3F9162CED4B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ports allow the serial authentication scheme to use 802.1x unchan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P, 802.1x PAE controls access to an authenticator port using two associated sub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successful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hase, the EAP-TLS subport “switch” moves from open to 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successful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hase, the EAP-2ndPhase subport “switch” moves from open to cl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data can flow between the point-of-attachment and the encrypted controlled 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 Y., Dan N./3Com. Simon B./Cert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EF83-ADE7-4B60-B8E0-D1E095382E6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66720" y="1523880"/>
          <a:ext cx="6905880" cy="49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6720" y="1523880"/>
                    <a:ext cx="690588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 Y., Dan N./3Com. Simon B./Cert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5EBC-6F69-4F3C-8A55-1E12524D465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18:12:29Z</dcterms:created>
  <dc:creator>Albert Young</dc:creator>
  <dc:description>Albert Young, Dan Nessett / 3Com
Simon Blake-Wilson / Certicom</dc:description>
  <cp:keywords>July 2001</cp:keywords>
  <dc:language>en-US</dc:language>
  <cp:lastModifiedBy>Albert Young</cp:lastModifiedBy>
  <cp:lastPrinted>1998-02-10T13:28:06Z</cp:lastPrinted>
  <dcterms:modified xsi:type="dcterms:W3CDTF">2001-07-10T22:48:27Z</dcterms:modified>
  <cp:revision>46</cp:revision>
  <dc:subject>Submission</dc:subject>
  <dc:title>doc.:IEEE 802.11-01-400r0A-I</dc:title>
</cp:coreProperties>
</file>