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D56-02E3-4A54-B06E-F58E9E20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441-AA6C-430C-A757-737D1E62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B28-8863-4203-8326-CD9DFFFA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372-79F9-47D1-AF40-1918554D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ADF-9712-4ACF-9785-C0B3D7E9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6F8-65CD-4127-A479-D0B091AA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382-F7C1-4F55-80AA-91C4FD91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1DE-E475-4966-931A-45E3C9AC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704-6684-494C-A838-1415A19B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F1A-5448-451F-A831-0F2CE714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D5E-A2DA-4E92-8A50-7A5E31EE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626-B4C0-4DBB-B1F3-53A24277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D0B174-4AC7-4E2C-8DD2-62D528C8E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38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 and NACK responses to FEC DATA MPDU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rate ACK or NACK response to FEC-encoded DATA MPD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e of three responses possi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rian P Stephens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A8D-C539-4F92-BB01-33B5432D280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nse Log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ponse based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ther the “outer” FCS is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ther the MPDU header is correctable when interpreted as an FEC-encoded M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ther the rest of the MPDU is correc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CK is only sent for non CF-bur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TS is used as the N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tter interprets this as a N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uses no problems with legac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rian P Stephens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996-34B2-4BCF-9C7E-A809FBFEF0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1640" y="68544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nse Logic - Graph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76400" y="-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66680" y="609480"/>
          <a:ext cx="4448160" cy="603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444816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rian P Stephens, Mobilian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B39-31FA-4EB5-A57C-E95B2C6C24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all 802.11e systems must support CF-burst behaviour, sending no response is more efficient than sending 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rian P Stephens, Mobilian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769-55BD-4E8F-82D2-9742EFF360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9T21:53:53Z</dcterms:created>
  <dc:creator>Adrian P Stephens</dc:creator>
  <dc:description/>
  <dc:language>en-US</dc:language>
  <cp:lastModifiedBy>Adrian - 6</cp:lastModifiedBy>
  <cp:lastPrinted>1998-02-10T13:28:06Z</cp:lastPrinted>
  <dcterms:modified xsi:type="dcterms:W3CDTF">2001-07-09T22:11:59Z</dcterms:modified>
  <cp:revision>2</cp:revision>
  <dc:subject/>
  <dc:title>ACK and NACK responses to FEC DATA MPDUs </dc:title>
</cp:coreProperties>
</file>