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DF4-8C05-4A9B-AA1B-75466446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383-1C02-4B9D-B6C7-E7BC1676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DFA-8947-4E3E-BF42-0D3DC4D0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946-B3C9-4A5F-8C7C-37779651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067-36FB-439A-9DF5-9998B7F6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7FA7-E9CC-4BFB-9DEF-070CEB8A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13F8-D396-4546-9688-51C36FAC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72D6-48EB-4912-80C0-27AF794D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0B3F-469E-47FF-9B2A-21135CE6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951-A463-4E0C-8240-61DD1974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FCFF-A0CB-4667-B192-A67ADC85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3F3-49F8-4D54-8515-D657AA25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9BAE071-F529-46CB-8BD2-073FAB58F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62520" y="2286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379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67800" y="64771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the Host Identity Payload for WLAN authent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ert Moskowi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ecur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A5F-CF71-45A2-919B-027592B7EC2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P usage 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orate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 for Access Point His and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 for mobile node HIs and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itory for Access Point HIs and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onymous HIs for mobile nodes (anyone securely 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sitory for mobile node HIs (fine-level access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Ho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-of-band exchange of HIs and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BF2-BC5C-45FA-8D6E-E78B321EC3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k to be d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P uses ICMP messages in an IP world.  Need an altern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reference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9B81-A7DF-402B-8361-B3924472F02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04560" y="1447920"/>
            <a:ext cx="5553000" cy="4970520"/>
            <a:chOff x="304560" y="1447920"/>
            <a:chExt cx="5553000" cy="4970520"/>
          </a:xfrm>
        </p:grpSpPr>
        <p:grpSp>
          <p:nvGrpSpPr>
            <p:cNvPr id="70" name=""/>
            <p:cNvGrpSpPr/>
            <p:nvPr/>
          </p:nvGrpSpPr>
          <p:grpSpPr>
            <a:xfrm>
              <a:off x="990360" y="1447920"/>
              <a:ext cx="838440" cy="332640"/>
              <a:chOff x="990360" y="1447920"/>
              <a:chExt cx="838440" cy="332640"/>
            </a:xfrm>
          </p:grpSpPr>
          <p:sp>
            <p:nvSpPr>
              <p:cNvPr id="71" name=""/>
              <p:cNvSpPr/>
              <p:nvPr/>
            </p:nvSpPr>
            <p:spPr>
              <a:xfrm>
                <a:off x="990720" y="14479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90360" y="147348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oo, Ro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990360" y="2133720"/>
              <a:ext cx="838440" cy="332640"/>
              <a:chOff x="990360" y="2133720"/>
              <a:chExt cx="838440" cy="332640"/>
            </a:xfrm>
          </p:grpSpPr>
          <p:sp>
            <p:nvSpPr>
              <p:cNvPr id="74" name=""/>
              <p:cNvSpPr/>
              <p:nvPr/>
            </p:nvSpPr>
            <p:spPr>
              <a:xfrm>
                <a:off x="990720" y="21337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90360" y="215928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oo, Ro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990360" y="2819520"/>
              <a:ext cx="838440" cy="332640"/>
              <a:chOff x="990360" y="2819520"/>
              <a:chExt cx="838440" cy="332640"/>
            </a:xfrm>
          </p:grpSpPr>
          <p:sp>
            <p:nvSpPr>
              <p:cNvPr id="77" name=""/>
              <p:cNvSpPr/>
              <p:nvPr/>
            </p:nvSpPr>
            <p:spPr>
              <a:xfrm>
                <a:off x="990720" y="28195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990360" y="284508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oo, Ro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990360" y="3505320"/>
              <a:ext cx="838440" cy="332640"/>
              <a:chOff x="990360" y="3505320"/>
              <a:chExt cx="838440" cy="332640"/>
            </a:xfrm>
          </p:grpSpPr>
          <p:sp>
            <p:nvSpPr>
              <p:cNvPr id="80" name=""/>
              <p:cNvSpPr/>
              <p:nvPr/>
            </p:nvSpPr>
            <p:spPr>
              <a:xfrm>
                <a:off x="990720" y="35053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990360" y="353088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1o, Ro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990360" y="4191120"/>
              <a:ext cx="838440" cy="332640"/>
              <a:chOff x="990360" y="4191120"/>
              <a:chExt cx="838440" cy="332640"/>
            </a:xfrm>
          </p:grpSpPr>
          <p:sp>
            <p:nvSpPr>
              <p:cNvPr id="83" name=""/>
              <p:cNvSpPr/>
              <p:nvPr/>
            </p:nvSpPr>
            <p:spPr>
              <a:xfrm>
                <a:off x="990720" y="41911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990360" y="421668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11, R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990720" y="4876920"/>
              <a:ext cx="904680" cy="332640"/>
              <a:chOff x="990720" y="4876920"/>
              <a:chExt cx="904680" cy="332640"/>
            </a:xfrm>
          </p:grpSpPr>
          <p:sp>
            <p:nvSpPr>
              <p:cNvPr id="86" name=""/>
              <p:cNvSpPr/>
              <p:nvPr/>
            </p:nvSpPr>
            <p:spPr>
              <a:xfrm>
                <a:off x="990720" y="48769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990720" y="4902480"/>
                <a:ext cx="90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m, Rm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2666880" y="3505320"/>
              <a:ext cx="855720" cy="332640"/>
              <a:chOff x="2666880" y="3505320"/>
              <a:chExt cx="855720" cy="332640"/>
            </a:xfrm>
          </p:grpSpPr>
          <p:sp>
            <p:nvSpPr>
              <p:cNvPr id="89" name=""/>
              <p:cNvSpPr/>
              <p:nvPr/>
            </p:nvSpPr>
            <p:spPr>
              <a:xfrm>
                <a:off x="2666880" y="35053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666880" y="3530880"/>
                <a:ext cx="85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oo, Rm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666880" y="4191120"/>
              <a:ext cx="855720" cy="332640"/>
              <a:chOff x="2666880" y="4191120"/>
              <a:chExt cx="855720" cy="332640"/>
            </a:xfrm>
          </p:grpSpPr>
          <p:sp>
            <p:nvSpPr>
              <p:cNvPr id="92" name=""/>
              <p:cNvSpPr/>
              <p:nvPr/>
            </p:nvSpPr>
            <p:spPr>
              <a:xfrm>
                <a:off x="2666880" y="41911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666880" y="4216680"/>
                <a:ext cx="85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oo, Rm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666880" y="4724640"/>
              <a:ext cx="855720" cy="332640"/>
              <a:chOff x="2666880" y="4724640"/>
              <a:chExt cx="855720" cy="332640"/>
            </a:xfrm>
          </p:grpSpPr>
          <p:sp>
            <p:nvSpPr>
              <p:cNvPr id="95" name=""/>
              <p:cNvSpPr/>
              <p:nvPr/>
            </p:nvSpPr>
            <p:spPr>
              <a:xfrm>
                <a:off x="2666880" y="472464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666880" y="4750200"/>
                <a:ext cx="85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oo, Rm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114800" y="4953240"/>
              <a:ext cx="855720" cy="332640"/>
              <a:chOff x="4114800" y="4953240"/>
              <a:chExt cx="855720" cy="332640"/>
            </a:xfrm>
          </p:grpSpPr>
          <p:sp>
            <p:nvSpPr>
              <p:cNvPr id="98" name=""/>
              <p:cNvSpPr/>
              <p:nvPr/>
            </p:nvSpPr>
            <p:spPr>
              <a:xfrm>
                <a:off x="4114800" y="495324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14800" y="4978800"/>
                <a:ext cx="85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m, Ro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4343400" y="4267440"/>
              <a:ext cx="855720" cy="332640"/>
              <a:chOff x="4343400" y="4267440"/>
              <a:chExt cx="855720" cy="332640"/>
            </a:xfrm>
          </p:grpSpPr>
          <p:sp>
            <p:nvSpPr>
              <p:cNvPr id="101" name=""/>
              <p:cNvSpPr/>
              <p:nvPr/>
            </p:nvSpPr>
            <p:spPr>
              <a:xfrm>
                <a:off x="4343400" y="426744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43400" y="4293000"/>
                <a:ext cx="85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m, Ro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04560" y="5791320"/>
              <a:ext cx="838440" cy="332640"/>
              <a:chOff x="304560" y="5791320"/>
              <a:chExt cx="838440" cy="332640"/>
            </a:xfrm>
          </p:grpSpPr>
          <p:sp>
            <p:nvSpPr>
              <p:cNvPr id="104" name=""/>
              <p:cNvSpPr/>
              <p:nvPr/>
            </p:nvSpPr>
            <p:spPr>
              <a:xfrm>
                <a:off x="304920" y="57913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4560" y="5816880"/>
                <a:ext cx="80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1, R1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1600200" y="5791320"/>
              <a:ext cx="904680" cy="332640"/>
              <a:chOff x="1600200" y="5791320"/>
              <a:chExt cx="904680" cy="332640"/>
            </a:xfrm>
          </p:grpSpPr>
          <p:sp>
            <p:nvSpPr>
              <p:cNvPr id="107" name=""/>
              <p:cNvSpPr/>
              <p:nvPr/>
            </p:nvSpPr>
            <p:spPr>
              <a:xfrm>
                <a:off x="1600200" y="5791320"/>
                <a:ext cx="83808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600200" y="5816880"/>
                <a:ext cx="90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1m, Rm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1371600" y="17528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71600" y="2438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71600" y="31244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600" y="3810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71600" y="4496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6680" y="5181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76520" y="5181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828800" y="3657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8800" y="49532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048120" y="4495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048120" y="3810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8800" y="51055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267080" y="160020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828440" y="16002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419720" y="45716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05520" y="4572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952880" y="51055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80880" y="50288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880" y="50292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133720" y="5486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752120" y="5486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752480" y="51818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47920" y="18288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1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47920" y="25146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1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7920" y="32004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2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8862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2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81080" y="34290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2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48120" y="388620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1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8120" y="449604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1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74120" y="4497480"/>
              <a:ext cx="567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S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cke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29520" y="4726080"/>
              <a:ext cx="788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 reboo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r times 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20240" y="5105520"/>
              <a:ext cx="788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 reboo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r times 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20440" y="4648320"/>
              <a:ext cx="66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esp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5520" y="4724640"/>
              <a:ext cx="75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icmp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47360" y="3125880"/>
              <a:ext cx="971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fter I receiv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 ICM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1240" y="525780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ES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4080" y="5486400"/>
              <a:ext cx="65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ES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66680" y="5410440"/>
              <a:ext cx="66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rky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560" y="5410440"/>
              <a:ext cx="455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rk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40600" y="6172200"/>
              <a:ext cx="98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keying stat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340240" y="1828800"/>
            <a:ext cx="31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or at no data packets s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er at no data packets s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1 or R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HIP packet from 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2 or R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HIP packet from 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m or Rm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t sent n packets and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P State Mach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7798-97B1-4F4A-B865-A351B4E898D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troduce 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ESP used with 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mmend potential usage sce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589-97E4-4A12-8705-A616D23331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HI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, complete Name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ryptograpically based Host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A the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 a string of bits will add DOS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ly’ Global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Anonym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y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tocol, complete with a state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ressed header for every packet -- ESP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SP Security Parameter Index (SPI) points to the Host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A75-D78F-4CED-A13B-9091C9557D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on 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4 packet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with a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3 and 4 can carry a dat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 2 - 4 are 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tor MIGHT be anonym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ds from Man-in-the-middle by ‘knowing’ the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tor learns responder’s Identity from HIP B0 packet, DNS, PKI, or out-of-band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e-Hellman exchange to create keying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318-1AB5-4DCD-8E08-F86D6BC09E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HIP provides Authent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needs to initiate communication with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oint or p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requests an authentication challe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pre-computed and reused over a time d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computes challenge response and send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include an authenticated and private dat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receives challenge met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so include an authenticated and private dat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390-B49A-45BB-98EF-DE125C3577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Host Identity Tag (HI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constancy in protocols regardless of asymmetric crypto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space segmented similar to RFC 23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 Assigning Authority (HAA)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2 bits Registered Assigning Authority (RA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0 bits Registered Identity (RI, commonly a company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597040" y="3968640"/>
          <a:ext cx="3333960" cy="85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7040" y="3968640"/>
                    <a:ext cx="33339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7A3-3E09-4130-A20B-F5DFA4E295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P (RFC 1406) U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uthentication of every packet back to HIP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Parameter Index (SPI) is 32 bit pointer to 128 bit H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 header smaller than a HIP header in every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bytes minimum for header (depending on padding require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bytes for 32 bit IV and 96 bit HMAC if using DES-HMAC-96 or equivalent ESP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F53-0CA0-47FE-944B-10B70B0F38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ESP (RFC 1406) U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 header smaller than a HIP header in every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 is larger than WEP’s 8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 to size of WE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 usage is ‘Transport mod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strength IPsec privacy with proven security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CB5-36DB-4C5C-846D-9F88EE580E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al HIP pack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IP bootstr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ounces system’s HIT and HI to potential Initi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IP Re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unilateral rekeying by sending a new DH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IP new S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s a new SPI; needed when the ESP sequence number roll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Moskowitz, Trusecure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976-DEC0-4179-BA53-CF81EFE6F0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Robert Moskowitz</dc:creator>
  <dc:description/>
  <dc:language>en-US</dc:language>
  <cp:lastModifiedBy>Harry Worstell</cp:lastModifiedBy>
  <cp:lastPrinted>2000-08-12T19:25:02Z</cp:lastPrinted>
  <dcterms:modified xsi:type="dcterms:W3CDTF">2001-07-05T15:27:03Z</dcterms:modified>
  <cp:revision>380</cp:revision>
  <dc:subject/>
  <dc:title>Using the Host Identity Payload for WLAN authentication</dc:title>
</cp:coreProperties>
</file>