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39D-D4F2-4A68-922D-55F05683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461-0F83-4FF0-B210-DFC04E60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F3B-9C4A-4EE9-AB38-2A8813CC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A0D-0386-4196-B587-B13ECDC5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E76-10EA-4B55-8D05-0A65618E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443-BDFF-438A-B33A-FE71421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2E0-3CE9-4870-ACFE-330A0C3E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35C-1A53-4BAA-A015-E12F523E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139-F39E-4010-BC87-68A9CD6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5D5-2235-455A-ACDC-A036ACE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16B-F1F1-4EEC-86CB-2280B30D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7F9-2436-4101-8E74-5E4A4FA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BA3BAB-AB39-4F77-B423-184E0BD26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2286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Host Identity Payload for WLAN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E12-3BF0-4193-9F25-558EA0F08A7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mobile node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nymous HIs for mobile nodes (anyone securely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mobile node HIs (fine-level access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Ho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-of-band exchange of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7B8-B491-4D67-B80C-5BDD82E89F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 uses ICMP messages in an IP world.  Need an alter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eferen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202-8A1D-4619-B8B8-E9C64F13CE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04560" y="1447920"/>
            <a:ext cx="5553000" cy="4970520"/>
            <a:chOff x="304560" y="1447920"/>
            <a:chExt cx="5553000" cy="4970520"/>
          </a:xfrm>
        </p:grpSpPr>
        <p:grpSp>
          <p:nvGrpSpPr>
            <p:cNvPr id="70" name=""/>
            <p:cNvGrpSpPr/>
            <p:nvPr/>
          </p:nvGrpSpPr>
          <p:grpSpPr>
            <a:xfrm>
              <a:off x="990360" y="1447920"/>
              <a:ext cx="838440" cy="332640"/>
              <a:chOff x="990360" y="1447920"/>
              <a:chExt cx="838440" cy="332640"/>
            </a:xfrm>
          </p:grpSpPr>
          <p:sp>
            <p:nvSpPr>
              <p:cNvPr id="71" name=""/>
              <p:cNvSpPr/>
              <p:nvPr/>
            </p:nvSpPr>
            <p:spPr>
              <a:xfrm>
                <a:off x="990720" y="1447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90360" y="14734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990360" y="2133720"/>
              <a:ext cx="838440" cy="332640"/>
              <a:chOff x="990360" y="2133720"/>
              <a:chExt cx="838440" cy="332640"/>
            </a:xfrm>
          </p:grpSpPr>
          <p:sp>
            <p:nvSpPr>
              <p:cNvPr id="74" name=""/>
              <p:cNvSpPr/>
              <p:nvPr/>
            </p:nvSpPr>
            <p:spPr>
              <a:xfrm>
                <a:off x="990720" y="21337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90360" y="21592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990360" y="2819520"/>
              <a:ext cx="838440" cy="332640"/>
              <a:chOff x="990360" y="2819520"/>
              <a:chExt cx="838440" cy="332640"/>
            </a:xfrm>
          </p:grpSpPr>
          <p:sp>
            <p:nvSpPr>
              <p:cNvPr id="77" name=""/>
              <p:cNvSpPr/>
              <p:nvPr/>
            </p:nvSpPr>
            <p:spPr>
              <a:xfrm>
                <a:off x="990720" y="28195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90360" y="28450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990360" y="3505320"/>
              <a:ext cx="838440" cy="332640"/>
              <a:chOff x="990360" y="3505320"/>
              <a:chExt cx="838440" cy="332640"/>
            </a:xfrm>
          </p:grpSpPr>
          <p:sp>
            <p:nvSpPr>
              <p:cNvPr id="80" name=""/>
              <p:cNvSpPr/>
              <p:nvPr/>
            </p:nvSpPr>
            <p:spPr>
              <a:xfrm>
                <a:off x="99072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90360" y="3530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o, Ro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990360" y="4191120"/>
              <a:ext cx="838440" cy="332640"/>
              <a:chOff x="990360" y="4191120"/>
              <a:chExt cx="838440" cy="332640"/>
            </a:xfrm>
          </p:grpSpPr>
          <p:sp>
            <p:nvSpPr>
              <p:cNvPr id="83" name=""/>
              <p:cNvSpPr/>
              <p:nvPr/>
            </p:nvSpPr>
            <p:spPr>
              <a:xfrm>
                <a:off x="99072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0360" y="42166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1, R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990720" y="4876920"/>
              <a:ext cx="904680" cy="332640"/>
              <a:chOff x="990720" y="4876920"/>
              <a:chExt cx="904680" cy="332640"/>
            </a:xfrm>
          </p:grpSpPr>
          <p:sp>
            <p:nvSpPr>
              <p:cNvPr id="86" name=""/>
              <p:cNvSpPr/>
              <p:nvPr/>
            </p:nvSpPr>
            <p:spPr>
              <a:xfrm>
                <a:off x="990720" y="4876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90720" y="49024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666880" y="3505320"/>
              <a:ext cx="855720" cy="332640"/>
              <a:chOff x="2666880" y="3505320"/>
              <a:chExt cx="855720" cy="332640"/>
            </a:xfrm>
          </p:grpSpPr>
          <p:sp>
            <p:nvSpPr>
              <p:cNvPr id="89" name=""/>
              <p:cNvSpPr/>
              <p:nvPr/>
            </p:nvSpPr>
            <p:spPr>
              <a:xfrm>
                <a:off x="266688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66880" y="35308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666880" y="4191120"/>
              <a:ext cx="855720" cy="332640"/>
              <a:chOff x="2666880" y="4191120"/>
              <a:chExt cx="855720" cy="332640"/>
            </a:xfrm>
          </p:grpSpPr>
          <p:sp>
            <p:nvSpPr>
              <p:cNvPr id="92" name=""/>
              <p:cNvSpPr/>
              <p:nvPr/>
            </p:nvSpPr>
            <p:spPr>
              <a:xfrm>
                <a:off x="266688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66880" y="42166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666880" y="4724640"/>
              <a:ext cx="855720" cy="332640"/>
              <a:chOff x="2666880" y="4724640"/>
              <a:chExt cx="855720" cy="332640"/>
            </a:xfrm>
          </p:grpSpPr>
          <p:sp>
            <p:nvSpPr>
              <p:cNvPr id="95" name=""/>
              <p:cNvSpPr/>
              <p:nvPr/>
            </p:nvSpPr>
            <p:spPr>
              <a:xfrm>
                <a:off x="2666880" y="47246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66880" y="47502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114800" y="4953240"/>
              <a:ext cx="855720" cy="332640"/>
              <a:chOff x="4114800" y="4953240"/>
              <a:chExt cx="855720" cy="332640"/>
            </a:xfrm>
          </p:grpSpPr>
          <p:sp>
            <p:nvSpPr>
              <p:cNvPr id="98" name=""/>
              <p:cNvSpPr/>
              <p:nvPr/>
            </p:nvSpPr>
            <p:spPr>
              <a:xfrm>
                <a:off x="4114800" y="49532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4800" y="49788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343400" y="4267440"/>
              <a:ext cx="855720" cy="332640"/>
              <a:chOff x="4343400" y="4267440"/>
              <a:chExt cx="855720" cy="332640"/>
            </a:xfrm>
          </p:grpSpPr>
          <p:sp>
            <p:nvSpPr>
              <p:cNvPr id="101" name=""/>
              <p:cNvSpPr/>
              <p:nvPr/>
            </p:nvSpPr>
            <p:spPr>
              <a:xfrm>
                <a:off x="4343400" y="42674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42930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04560" y="5791320"/>
              <a:ext cx="838440" cy="332640"/>
              <a:chOff x="304560" y="5791320"/>
              <a:chExt cx="838440" cy="332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0492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560" y="5816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1, R1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600200" y="5791320"/>
              <a:ext cx="904680" cy="332640"/>
              <a:chOff x="1600200" y="5791320"/>
              <a:chExt cx="904680" cy="332640"/>
            </a:xfrm>
          </p:grpSpPr>
          <p:sp>
            <p:nvSpPr>
              <p:cNvPr id="107" name=""/>
              <p:cNvSpPr/>
              <p:nvPr/>
            </p:nvSpPr>
            <p:spPr>
              <a:xfrm>
                <a:off x="160020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00200" y="58168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m, R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371600" y="1752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312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49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828800" y="3657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49532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04812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4812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105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67080" y="160020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828440" y="1600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45716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52880" y="5105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80880" y="5028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33720" y="5486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52120" y="5486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752480" y="5181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8288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25146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32004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1080" y="34290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44960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4120" y="4497480"/>
              <a:ext cx="56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9520" y="472608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240" y="510552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0440" y="464832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es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724640"/>
              <a:ext cx="75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icm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7360" y="3125880"/>
              <a:ext cx="971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fter I rece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 ICM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240" y="525780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4080" y="5486400"/>
              <a:ext cx="65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5410440"/>
              <a:ext cx="6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rky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560" y="5410440"/>
              <a:ext cx="45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rk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0600" y="617220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keying st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40240" y="1828800"/>
            <a:ext cx="31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o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1 or R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 or R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m or Rm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sent n packets and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31E-E850-4B60-B0F3-1BDBA827AF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troduce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ESP used with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mmend potential usage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D23-EAD4-45C4-B6C1-302B29D83E2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H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, complete 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ryptograpically based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A th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 string of bits will add DOS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ly’ Glob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nony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tocol, complete with a stat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ressed header for every packet -- ESP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P Security Parameter Index (SPI) points to the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46A-2DBC-4D7D-B53B-CDBFA08F6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n 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4 packet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with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3 and 4 can carry a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2 - 4 are 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or MIGHT be anony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s from Man-in-the-middle by ‘knowing’ the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learns responder’s Identity from HIP B0 packet, DNS, PKI, or out-of-band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exchange to create key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C9D-6EBE-4BF1-8857-B2E7808DAD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HIP provides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needs to initiate communication with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or 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quests an authentication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pre-computed and reused over a time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computes challenge response and send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ceives challenge me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29C-E66C-444D-BD15-9A865387AC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ost Identity Tag (H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nstancy in protocols regardless of asymmetric crypt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segmented similar to RFC 23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Assigning Authority (HAA)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2 bits Registered Assigning Authority (RA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 bits Registered Identity (RI, commonly a compan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97040" y="3968640"/>
          <a:ext cx="3333960" cy="8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3968640"/>
                    <a:ext cx="3333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E24-19CE-462D-8A04-5E784528B1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uthentication of every packet back to HIP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arameter Index (SPI) is 32 bit pointer to 128 bit 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ytes minimum for header (depending on padding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 for 32 bit IV and 96 bit HMAC if using DES-HMAC-96 or equivalent ESP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432-91F0-4D3B-80B2-AB684B4B3C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 is larger than WEP’s 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to size of WE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usage is ‘Transport mod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trength IPsec privacy with proven security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60C-A8E2-499D-AD52-6CA0E37690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HIP pa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bootstr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s system’s HIT and HI to potential Init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Re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nilateral rekeying by sending a new D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new S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a new SPI; needed when the ESP sequence number roll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1273-B4A8-442C-A303-F58511333F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Robert Moskowitz</dc:creator>
  <dc:description/>
  <dc:language>en-US</dc:language>
  <cp:lastModifiedBy>Harry Worstell</cp:lastModifiedBy>
  <cp:lastPrinted>2000-08-12T19:25:02Z</cp:lastPrinted>
  <dcterms:modified xsi:type="dcterms:W3CDTF">2001-07-05T15:27:03Z</dcterms:modified>
  <cp:revision>380</cp:revision>
  <dc:subject/>
  <dc:title>Using the Host Identity Payload for WLAN authentication</dc:title>
</cp:coreProperties>
</file>