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512-5091-457B-898A-81949B9B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987-7998-4269-BD1A-9DE1BFE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8E0-B532-4264-8865-E6B75DE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213-F4BA-4D54-ABC7-80106578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BC7-2B25-4500-B20B-95C1F194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57D-F43E-4ACB-A108-A5E29BD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357-767F-4BD4-B024-B7014B92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445-776A-415D-93C5-DECF61E8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465-FDD4-4A20-BD34-1CED3A97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F0F-14D0-4D87-839E-FD2952C3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C82-E402-4D85-A580-D71AE2D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0EC-B2A6-4EF2-A92A-C81AB03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C955A8-8482-4C2A-8817-58B53725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0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uthentication Suite 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ed to IEEE802.11 T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. Edney, No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866-C246-49F1-B0CF-9299381099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have Authentication Suite Sele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allow Access Point to advertise securit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allow Client to select option(s) in association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urrent draft only few choices are possible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endor proprietary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2670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Key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pecified authentication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EE7-443F-49DB-84DE-BB670F3425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alue of cho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4479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Key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se are not understood by legacy non ESN clients and not likely to be used by ESN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rding to current draft this is mandatory so it is always advertised - only useful in selec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pecified authentication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 information provided by this element since this is always possible option in E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2D4-E353-4787-B836-6837AD6AC5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provide more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752480"/>
            <a:ext cx="7010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ome cases the network may support a limited or single EAP method other than Kerberos (e.g. EAP/TLS or EAP/GSMS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current draft AP can only advertise “unspecified EAP/802.1x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eans clients must associate and initiate EAP transaction to discover what EAP method is supported - and then disassociate when it is discovered that a compatible method is not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head can be reduced if AP can advertise the supported EAP method(s) - clients need not associate un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412-6474-41E4-B2AD-E438531E32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to add new EAP Suite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79640" y="3960720"/>
          <a:ext cx="5792760" cy="256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960720"/>
                    <a:ext cx="579276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12000" y="22096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" y="48006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55960" y="1366920"/>
          <a:ext cx="564012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5960" y="1366920"/>
                    <a:ext cx="5640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73E-C2C5-4CB1-8613-A279A6A5E9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Authentication Suit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981080"/>
            <a:ext cx="14479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 ID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981080"/>
            <a:ext cx="144756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981080"/>
            <a:ext cx="297180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Suit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4840" y="2514600"/>
            <a:ext cx="324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Suite Element - Unchanged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276720"/>
            <a:ext cx="14479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276720"/>
            <a:ext cx="19810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te Specifi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Oct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29600" y="3962520"/>
            <a:ext cx="374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Suite Specifier (0 - 3)  - Unchanged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572000"/>
            <a:ext cx="14479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572000"/>
            <a:ext cx="19810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te Specifi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Oct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3400" y="525780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Suite Specifier 4  -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572000"/>
            <a:ext cx="16765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Numb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888-2E24-4D24-878C-A3FDC5CC52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AP know what EAP methods are supported by net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752480"/>
            <a:ext cx="56390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the general case of EAP/802.1X the access point need not know what EAP method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frames are forwarded to Authentication Server which generates EA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just looks for EAP success / f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inciple AP cannot know which EAP method is supported b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029200"/>
            <a:ext cx="563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use advertising feature administrator must configure AP with selected EAP method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ONLY required if u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784-1423-4793-AE3F-BAB743D752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uthentication Suite Selectors are very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value to advertise EAP method for specializ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 of option “Specified EAP” selector provides requir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to adopt proposed text to draft: doc:IEEE 802.11-01/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184-F007-42A2-A76F-0E051DC9D0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to adopt the changes identified in doc: IEEE 802.11-01/xxx into 802.11e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6D5-B517-441D-9867-CAAB5E8E7B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1:04:59Z</dcterms:created>
  <dc:creator>Jon Edney</dc:creator>
  <dc:description/>
  <cp:keywords>May 2001</cp:keywords>
  <dc:language>en-US</dc:language>
  <cp:lastModifiedBy>Harry Worstell</cp:lastModifiedBy>
  <cp:lastPrinted>1998-02-10T13:28:06Z</cp:lastPrinted>
  <dcterms:modified xsi:type="dcterms:W3CDTF">2001-05-17T16:24:54Z</dcterms:modified>
  <cp:revision>51</cp:revision>
  <dc:subject/>
  <dc:title>EAP Authentication Suite Advertising</dc:title>
</cp:coreProperties>
</file>