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5EF-9D52-4E02-9B8A-3F55057E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131-4A91-4F35-8825-4B7CF47E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939-5727-4C8F-BE9F-C5E7AA87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17D-DAD5-48E1-AE97-4C1B4B087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52E-19EC-4C1E-BD72-A6F8C343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FC4-4E9A-4758-A195-7A0407E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B4B-AAFC-40A2-B5F2-A7CB0819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16A-8A95-40B8-BF07-3CCABFD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16B1-29B7-4196-A078-D3074B12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2713-003E-40C6-A90A-D09D69CA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441E-6BF8-432D-B0D6-118368B9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B2F-BC41-420D-90A7-D2ED9E0B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182520"/>
            <a:ext cx="745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97440" y="6474960"/>
            <a:ext cx="19126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an Chickinsky, Litton/TA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C7972F6-F402-4059-AFF1-A802B5F5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77800" y="396000"/>
            <a:ext cx="248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1/258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Security Threa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Chickin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on/TAS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Ma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i) = k(i) &lt;operator&gt; P(i)  &lt;operator&gt; m(i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= 1 to number of bits in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i)  is the i-th bit of the  Encrypted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i) is the i-th bit of the 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perator&gt;  is the mathematical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i) is the i-th bit of the plain text op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(i) is the i-th bit of the message sequence ke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ing th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uder 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uder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 Plain Text (First bits on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messag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 Headers are not ran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first 128 bits, only 56 bits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P Head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0                   1                   2                   3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0 1 2 3 4 5 6 7 8 9 0 1 2 3 4 5 6 7 8 9 0 1 2 3 4 5 6 7 8 9 0 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Version|  IHL  |Type of Service|          Total Length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Identification        |Flags|      Fragment Offset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Time to Live |    Protocol   |         Header Checksum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              Source Address  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           Destination Address                    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|                    Options                    |    Padding    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 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  <a:ea typeface="Times New Roman"/>
              </a:rPr>
              <a:t>+-+-+-+-+-+-+-+-+-+-+-+-+-+-+-+-+-+-+-+-+-+-+-+-+-+-+-+-+-+-+-+-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ing the 56 Change B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56 change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tion is a sequence numb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to Live is a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size is same as encrypted message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sum is a created with fixed information and the items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change the encryption algorithm to randomly add bytes to the plain text message - we now have an equation that always has a random 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ixing each message with a fixed number of random bits, the key is randomised for each transmiss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fix bits only appear on the wireless transmis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adding a character sequence to the messa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quence would have an escape character followed by a random 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send messages in fixed block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fixed block 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d message with random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are message sensitive, then use context pad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orgery-Re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each message sent over the wireless link has a unique message number, and there is a fixed relationship between message numbers then a replay attack would send messages with an incorrect message numb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the available message numbers are used, a new encryption key is required before further data message transfer can occu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Forgery-Mimi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su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cker does not have the valid key for the current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stribution of keys and validation of any key requests are outside of this discussio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ssue on what does a system do when it “logs-off” the networ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e key would be retired on termination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vent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nitiated Ev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iva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g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Err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ge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PHY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F interface could use the subtle hardware differences in each transmitter to identify any type of data forger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Error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PHY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numerous algorithms to methods to detect errors and minimize hardware err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per has proposed several alternatives to create a secure environment to send data.  More investigation is needed to determine if some subset of the proposed methods produce a secur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ish to thank Jesse Walker of the Intel Corporation for his suggestions and correspondenc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nitiated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mmon errors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ors improperly configure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software erro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iv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Privacy security event occurs when an unauthorized user gains access to all the unencrypted traff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crypt the message, the user n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crypt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thy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ata Forgery security event occurs when an unauthorized user inserts data into network as a valid user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wo ways valid data enters th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mic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ial of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ruder floods the network with either valid or invalid mes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 the system to use valuable battery p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od the Acces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Err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rdware cou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ase to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 the channel by sending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random patterns on the channel that look like valid mess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ncryption on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ny three of the four, you can solve for the fou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(i) = k(i) &lt;operator&gt; P(i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 = 1 to number of bits in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(i)  is the i-th bit of the  Encrypted me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i) is the i-th bit of the  k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operator&gt;  is the mathematical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i) is the i-th bit of the  plain text operato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4:54:53Z</dcterms:created>
  <dc:creator>alan chickinsky</dc:creator>
  <dc:description/>
  <dc:language>en-US</dc:language>
  <cp:lastModifiedBy>Harry Worstell</cp:lastModifiedBy>
  <dcterms:modified xsi:type="dcterms:W3CDTF">2001-05-16T03:28:34Z</dcterms:modified>
  <cp:revision>7</cp:revision>
  <dc:subject/>
  <dc:title>Wireless LAN Security Threats </dc:title>
</cp:coreProperties>
</file>