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481C-C178-4D18-B40E-C013C8BE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117-8036-431D-925B-431128E0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71BF-F435-4B9A-8D7C-3E9F5ED6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4E97-86C8-4355-977D-F8F741A8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ED0-CA75-4D88-8894-31A25FEB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999-F43B-4E25-9240-FF582B7C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791-F097-42F8-9ED1-900C4277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ADB-E942-4858-924D-138E63C6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B055-0B09-46FF-B965-DD6FB8FF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184D-4083-48A3-AAEA-3E6D56A4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73B2-5BB5-45FF-9985-5C933064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2FC-DB52-4C77-919A-C394F0A9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AE54DAD-F538-45E3-84F0-699C83C3C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77800" y="396000"/>
            <a:ext cx="248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217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the Proposal for DFS and T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ristopher J. Hansen and Joonsuk K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com Corp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5221-DEFB-46EE-A4A3-3665A1F7CCD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 sends Probe Request frame with TPC Request element to AP.  Flag octet is set to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responds with Probe Response frame with a TPC Response element.  TX Power Level octet is set to 111000, indicating +23 dBm (200 mw) TX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 determines that +23 dBm is more power than it requires and that +17 dBm is adequate.  STA sends a second Probe Request frame with a TPC Request element.  This time the Flag octet is set to 1 and the TX Power Level octet is set to 110010, indicating +17 dBm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2C8-1621-494C-90FD-51922D33549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responds with a Probe Response frame containing a TPC Response element.  The TX Power Level octet is set to 110010, indicating that is now using a TX EIRP of +17 dB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778-81DB-49FF-996D-AE797066F43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FS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 has two mechanisms for determining the channel st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own rece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STAs within the BSS to make RSSI measurements on any channel (including the current BSS chann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SI data is reported to AP in a simple histogram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B8C-09B8-458A-B370-D51A2A664D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FS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 determines when a channel change is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 provides new channel information and a countdown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FS Stat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 of a Beacon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713-E014-48FA-976A-4468EA14CF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666880" y="2666880"/>
            <a:ext cx="1905120" cy="3657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676520"/>
            <a:ext cx="3505320" cy="281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FS 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requests RSSI information on channels #1, #2, and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 A sees alien interference on channel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 B sees another BSS on channel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selects channel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2133720"/>
            <a:ext cx="762120" cy="304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276720"/>
            <a:ext cx="68580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3200400"/>
            <a:ext cx="68580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62120" y="3733920"/>
            <a:ext cx="38088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4640" y="539388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ien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81720" y="4631760"/>
            <a:ext cx="160884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lapping B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47560" y="243828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25146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0D7-7FE7-4437-AF35-235102C0707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Our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xtra regulation when not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tible with TGe without being dependent on rapid resolution of TGe ballot 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xible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4F2E-FF40-431C-9600-11A04E53D4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proposal provides a complete solution to the TPC/DFS requirements of Task Group 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proposal provides the most flexibility, allowing equipment vendors to design and build interoperable solutions with the best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FE82-104D-4431-AF7E-66E9D840EA3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PHY and MAC 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FS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 of Our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365C-FEAA-4DDC-A850-24E826A16A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com Complete DFS/TPC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a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-01/2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s to Functional Requirements / Comparison Criteri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-01/21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13A8-DB63-4A5C-95A7-9F54C5A3E8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proposal achieves several design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 the requirements of TGh and E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changes to 802.11a PHY / 802.11 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to under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le with regard to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A41-1BB0-42CA-825A-965FE8695B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 and MAC Mod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 power (EIRP) se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 RSSI Measurement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PC Stat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FS Stat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 to Beacon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PC Inquiry, TPC Request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FS Reque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 to Probe Request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PC Stat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PC Respo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FS Respo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Probe Response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715-540E-49AD-BC67-C4776DC335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Maximum TX Power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TX power level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da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ll STAs in the B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 announces this level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PC Statu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 in the Beacon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s can request the maximum TX power level information with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PC Inqui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 in a Probe Request fr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D33-5EF8-43A9-B683-497BEE6AC1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Oper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able TX Power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ing” STA can us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PC Requ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 in a Probe Request fram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quire about the current TX power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 the TX power level be 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ing” STA will respond with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PC Respo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 in a Probe Response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a TX power setting reque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s not mandatory, but using the closest possible power setting is recomme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7FB9-E580-449C-89BA-DF65AD85EB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2438280"/>
            <a:ext cx="1143000" cy="609840"/>
          </a:xfrm>
          <a:prstGeom prst="flowChartProcess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1981080"/>
            <a:ext cx="457200" cy="381240"/>
          </a:xfrm>
          <a:prstGeom prst="flowChartMerg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9" idx="3"/>
            <a:endCxn id="60" idx="2"/>
          </p:cNvCxnSpPr>
          <p:nvPr/>
        </p:nvCxnSpPr>
        <p:spPr>
          <a:xfrm flipV="1">
            <a:off x="4419720" y="2361960"/>
            <a:ext cx="457920" cy="38160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2" name=""/>
          <p:cNvSpPr/>
          <p:nvPr/>
        </p:nvSpPr>
        <p:spPr>
          <a:xfrm>
            <a:off x="2286000" y="5334120"/>
            <a:ext cx="1143000" cy="609480"/>
          </a:xfrm>
          <a:prstGeom prst="flowChartProcess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4876920"/>
            <a:ext cx="457200" cy="380880"/>
          </a:xfrm>
          <a:prstGeom prst="flowChartMerg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2" idx="3"/>
            <a:endCxn id="63" idx="2"/>
          </p:cNvCxnSpPr>
          <p:nvPr/>
        </p:nvCxnSpPr>
        <p:spPr>
          <a:xfrm flipV="1">
            <a:off x="3429000" y="5257440"/>
            <a:ext cx="457920" cy="38160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 flipV="1">
            <a:off x="4114800" y="2895120"/>
            <a:ext cx="685800" cy="1752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3505320"/>
            <a:ext cx="1904760" cy="2286000"/>
          </a:xfrm>
          <a:prstGeom prst="irregularSeal1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5028840" y="2514600"/>
            <a:ext cx="167652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67080" y="4724280"/>
            <a:ext cx="19814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2283-BE02-4DE2-AF57-BAEAB1CC63C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red signal path is symme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erence paths are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-to-Interference ratio at each receiver is 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 must instruct the corresponding transmitter to send the appropriate power lev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nsen and Kim, Broadcom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CA9-50E1-44FD-8A16-65EB87B6BD7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0T00:53:25Z</dcterms:created>
  <dc:creator>Chris Hansen</dc:creator>
  <dc:description/>
  <dc:language>en-US</dc:language>
  <cp:lastModifiedBy>Chris Hansen</cp:lastModifiedBy>
  <cp:lastPrinted>2001-01-05T21:58:21Z</cp:lastPrinted>
  <dcterms:modified xsi:type="dcterms:W3CDTF">2001-05-21T17:45:26Z</dcterms:modified>
  <cp:revision>75</cp:revision>
  <dc:subject/>
  <dc:title>No Slide Title</dc:title>
</cp:coreProperties>
</file>