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1C98BB-B9C8-4128-861F-89B3AC1D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9F38F8-B8D5-4FD0-9BF2-EBB291D5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21960" y="4411800"/>
            <a:ext cx="50878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C576-F6E7-4F48-BDCC-36797B6F1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F76E-E57E-4CF3-BD34-D2FF0C7C3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3B2A-968B-49BF-A947-1BDEA9726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8338-3E35-4F6C-989D-FB76B71BC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43B8-1610-4BE3-84AB-2FB5669F2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39F4-94F4-4E94-8A7C-8883FC193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83EE-CDA2-49C3-B895-BB1D5EE19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538C-CDC6-432C-BC70-36DC55A1D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4D6A-0809-4111-A52C-CEAF42C6D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073E-374C-42CA-8D57-A3CB1DE1D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95E-7EAD-4CDC-8CAD-26D723406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837D-4A3C-46C7-8145-D0A752282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3523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BFEE87-BBA8-488B-9818-C9D6A9EB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81600" y="6477120"/>
            <a:ext cx="37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shid Khun-Jush, et  al. Ericsson/AT&amp;T/NEC-USA/h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3280" y="38016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 on Inter-working Solution for HiperLAN2 and IEEE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324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Jamshid Khun-Jush (Ericsso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Matthew Sherman (AT&amp;T), Gil Bar-Noy (hLAN Inc) and Thomas Kuehnel (NEC-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ostpark 12, 90411Nue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shid.khun-jush@eed.ericsson.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0841-F378-4D21-9C49-B9F6AFA4B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3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urrent Situ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294920"/>
            <a:ext cx="8105760" cy="50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LAN standards operating in the 5GHz band - IEEE802.11a and HiperLAN2/HiS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rminals trying to operate in the same coverage area, using 802.11a or HiperLAN2/HiSWANa, will interfer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 coexistence, no inter-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end-user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d-user is forced to make a standard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different kinds of Access Points are deployed in different public spots - no roaming i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different standards are used in office and CE home devices the end-user will not be able to roam with its laptop from the office to the hom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1624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end-user is confused </a:t>
            </a:r>
            <a:r>
              <a:rPr b="0" lang="en-US" sz="2000" spc="-1" strike="noStrike" baseline="-2000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he 5G WLAN market may be postp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1D50-82CF-41B3-8038-48A09A27835C}" type="slidenum">
              <a:t>2</a:t>
            </a:fld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1200" y="609480"/>
            <a:ext cx="7773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Should be Achieved in a near Te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erminals using 802.11a or HiperLAN2 should be able to operate in the same coverage area without interference (coexist e.g. based on DFS/DCS, TG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wireless terminal should be able to exchange data with any access point (inter-work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end-user should be sure that no matter what kind of wireless terminal he/she chooses, roaming is assured between different hotspots and between the office and the hom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benefits of this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for a world-wide frequency allocation in the 5GHz band (WRC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ear message to upcoming solutions within the 5GHz band to coexist and Inter-work with existing solutions (no 2.4 GHz “diseas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D00C-6308-4BEB-B662-85291D215651}" type="slidenum">
              <a:t>3</a:t>
            </a:fld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762120"/>
            <a:ext cx="822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Scenarios - Public/Corpo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1828800"/>
            <a:ext cx="7792560" cy="4191120"/>
            <a:chOff x="838080" y="1828800"/>
            <a:chExt cx="7792560" cy="4191120"/>
          </a:xfrm>
        </p:grpSpPr>
        <p:sp>
          <p:nvSpPr>
            <p:cNvPr id="63" name=""/>
            <p:cNvSpPr/>
            <p:nvPr/>
          </p:nvSpPr>
          <p:spPr>
            <a:xfrm>
              <a:off x="4952880" y="1828800"/>
              <a:ext cx="3657600" cy="41911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965280" y="3810240"/>
              <a:ext cx="95868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18680" y="4496040"/>
              <a:ext cx="1011960" cy="622080"/>
              <a:chOff x="7618680" y="4496040"/>
              <a:chExt cx="1011960" cy="622080"/>
            </a:xfrm>
          </p:grpSpPr>
          <p:sp>
            <p:nvSpPr>
              <p:cNvPr id="66" name=""/>
              <p:cNvSpPr/>
              <p:nvPr/>
            </p:nvSpPr>
            <p:spPr>
              <a:xfrm>
                <a:off x="7618680" y="48466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95880" y="4496040"/>
                <a:ext cx="457200" cy="35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4724280" y="251460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29120" y="327672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729120" y="2971440"/>
              <a:ext cx="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372720" y="2514600"/>
              <a:ext cx="711360" cy="457200"/>
              <a:chOff x="6372720" y="2514600"/>
              <a:chExt cx="711360" cy="457200"/>
            </a:xfrm>
          </p:grpSpPr>
          <p:sp>
            <p:nvSpPr>
              <p:cNvPr id="72" name=""/>
              <p:cNvSpPr/>
              <p:nvPr/>
            </p:nvSpPr>
            <p:spPr>
              <a:xfrm>
                <a:off x="6759360" y="2606400"/>
                <a:ext cx="301680" cy="319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718320" y="2514600"/>
                <a:ext cx="264600" cy="374400"/>
                <a:chOff x="6718320" y="2514600"/>
                <a:chExt cx="264600" cy="37440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6818400" y="2514600"/>
                  <a:ext cx="164520" cy="302040"/>
                  <a:chOff x="6818400" y="2514600"/>
                  <a:chExt cx="164520" cy="30204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6862320" y="2553120"/>
                    <a:ext cx="120600" cy="224640"/>
                    <a:chOff x="6862320" y="2553120"/>
                    <a:chExt cx="120600" cy="224640"/>
                  </a:xfrm>
                </p:grpSpPr>
                <p:grpSp>
                  <p:nvGrpSpPr>
                    <p:cNvPr id="76" name=""/>
                    <p:cNvGrpSpPr/>
                    <p:nvPr/>
                  </p:nvGrpSpPr>
                  <p:grpSpPr>
                    <a:xfrm>
                      <a:off x="6862320" y="2553120"/>
                      <a:ext cx="120600" cy="224640"/>
                      <a:chOff x="6862320" y="2553120"/>
                      <a:chExt cx="120600" cy="224640"/>
                    </a:xfrm>
                  </p:grpSpPr>
                  <p:grpSp>
                    <p:nvGrpSpPr>
                      <p:cNvPr id="77" name=""/>
                      <p:cNvGrpSpPr/>
                      <p:nvPr/>
                    </p:nvGrpSpPr>
                    <p:grpSpPr>
                      <a:xfrm>
                        <a:off x="6890040" y="2566800"/>
                        <a:ext cx="92880" cy="181440"/>
                        <a:chOff x="6890040" y="2566800"/>
                        <a:chExt cx="92880" cy="181440"/>
                      </a:xfrm>
                    </p:grpSpPr>
                    <p:grpSp>
                      <p:nvGrpSpPr>
                        <p:cNvPr id="78" name=""/>
                        <p:cNvGrpSpPr/>
                        <p:nvPr/>
                      </p:nvGrpSpPr>
                      <p:grpSpPr>
                        <a:xfrm>
                          <a:off x="6902280" y="2566800"/>
                          <a:ext cx="80640" cy="181440"/>
                          <a:chOff x="6902280" y="2566800"/>
                          <a:chExt cx="80640" cy="181440"/>
                        </a:xfrm>
                      </p:grpSpPr>
                      <p:sp>
                        <p:nvSpPr>
                          <p:cNvPr id="79" name=""/>
                          <p:cNvSpPr/>
                          <p:nvPr/>
                        </p:nvSpPr>
                        <p:spPr>
                          <a:xfrm>
                            <a:off x="6942240" y="2673720"/>
                            <a:ext cx="4068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" name=""/>
                          <p:cNvSpPr/>
                          <p:nvPr/>
                        </p:nvSpPr>
                        <p:spPr>
                          <a:xfrm>
                            <a:off x="6909840" y="2683440"/>
                            <a:ext cx="529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" name=""/>
                          <p:cNvSpPr/>
                          <p:nvPr/>
                        </p:nvSpPr>
                        <p:spPr>
                          <a:xfrm>
                            <a:off x="6934680" y="2605680"/>
                            <a:ext cx="36000" cy="507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" name=""/>
                          <p:cNvSpPr/>
                          <p:nvPr/>
                        </p:nvSpPr>
                        <p:spPr>
                          <a:xfrm>
                            <a:off x="6902280" y="2566800"/>
                            <a:ext cx="4824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" name=""/>
                          <p:cNvSpPr/>
                          <p:nvPr/>
                        </p:nvSpPr>
                        <p:spPr>
                          <a:xfrm>
                            <a:off x="6932880" y="2604240"/>
                            <a:ext cx="3636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>
                          <a:off x="6890040" y="2620080"/>
                          <a:ext cx="7272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>
                          <a:off x="6890040" y="2673720"/>
                          <a:ext cx="52920" cy="648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6904080" y="2594160"/>
                          <a:ext cx="36720" cy="11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6890040" y="2727720"/>
                        <a:ext cx="40320" cy="50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6862320" y="2553120"/>
                        <a:ext cx="4932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" bIns="-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6900840" y="2711520"/>
                        <a:ext cx="2844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96520" y="2580840"/>
                      <a:ext cx="16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6818400" y="2514600"/>
                    <a:ext cx="112680" cy="272160"/>
                    <a:chOff x="6818400" y="2514600"/>
                    <a:chExt cx="112680" cy="2721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30640" y="2674080"/>
                      <a:ext cx="92880" cy="112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38200" y="2596680"/>
                      <a:ext cx="92880" cy="113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18400" y="2514600"/>
                      <a:ext cx="73080" cy="88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61960" y="2567880"/>
                      <a:ext cx="36720" cy="50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836760" y="2556720"/>
                      <a:ext cx="6480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869160" y="2691720"/>
                      <a:ext cx="399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18400" y="2752560"/>
                    <a:ext cx="4932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49000" y="2745720"/>
                    <a:ext cx="280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6718320" y="2809440"/>
                  <a:ext cx="6156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65840" y="2809440"/>
                  <a:ext cx="53280" cy="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93560" y="2790720"/>
                  <a:ext cx="540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52520" y="2779200"/>
                  <a:ext cx="100440" cy="8820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375240" y="2651040"/>
                <a:ext cx="160200" cy="259920"/>
                <a:chOff x="6375240" y="2651040"/>
                <a:chExt cx="160200" cy="25992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75240" y="2685240"/>
                  <a:ext cx="88920" cy="157680"/>
                  <a:chOff x="6375240" y="2685240"/>
                  <a:chExt cx="88920" cy="1576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75240" y="2738880"/>
                    <a:ext cx="4140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382800" y="2777760"/>
                    <a:ext cx="48960" cy="6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391080" y="268524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385680" y="2742480"/>
                    <a:ext cx="284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6402600" y="2651040"/>
                  <a:ext cx="132840" cy="259920"/>
                  <a:chOff x="6402600" y="2651040"/>
                  <a:chExt cx="132840" cy="2599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6446520" y="2660400"/>
                    <a:ext cx="8892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402600" y="2739240"/>
                    <a:ext cx="4896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414840" y="2777400"/>
                    <a:ext cx="6912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434640" y="281628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438960" y="2714040"/>
                    <a:ext cx="64080" cy="7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90440" y="2651040"/>
                    <a:ext cx="4068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457320" y="2697840"/>
                    <a:ext cx="486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416640" y="2765880"/>
                    <a:ext cx="529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6485040" y="2673000"/>
                  <a:ext cx="32760" cy="450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6559560" y="2552760"/>
                <a:ext cx="117360" cy="1425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56400" y="253836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38840" y="2658960"/>
                <a:ext cx="144360" cy="1825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68840" y="2736720"/>
                <a:ext cx="163440" cy="211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75120" y="2651040"/>
                <a:ext cx="385920" cy="320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29240" y="2774880"/>
                <a:ext cx="87120" cy="1191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16640" y="268452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6240" y="2577960"/>
                <a:ext cx="144360" cy="185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83320" y="2790720"/>
                <a:ext cx="144360" cy="181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27680" y="2538360"/>
                <a:ext cx="104760" cy="127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49760" y="2570040"/>
                <a:ext cx="408240" cy="345960"/>
              </a:xfrm>
              <a:custGeom>
                <a:avLst/>
                <a:gdLst/>
                <a:ahLst/>
                <a:rect l="l" t="t" r="r" b="b"/>
                <a:pathLst>
                  <a:path w="796" h="515">
                    <a:moveTo>
                      <a:pt x="249" y="51"/>
                    </a:moveTo>
                    <a:lnTo>
                      <a:pt x="281" y="14"/>
                    </a:lnTo>
                    <a:lnTo>
                      <a:pt x="428" y="14"/>
                    </a:lnTo>
                    <a:lnTo>
                      <a:pt x="529" y="0"/>
                    </a:lnTo>
                    <a:lnTo>
                      <a:pt x="663" y="65"/>
                    </a:lnTo>
                    <a:lnTo>
                      <a:pt x="732" y="44"/>
                    </a:lnTo>
                    <a:lnTo>
                      <a:pt x="764" y="51"/>
                    </a:lnTo>
                    <a:lnTo>
                      <a:pt x="771" y="202"/>
                    </a:lnTo>
                    <a:lnTo>
                      <a:pt x="795" y="232"/>
                    </a:lnTo>
                    <a:lnTo>
                      <a:pt x="732" y="347"/>
                    </a:lnTo>
                    <a:lnTo>
                      <a:pt x="663" y="260"/>
                    </a:lnTo>
                    <a:lnTo>
                      <a:pt x="646" y="304"/>
                    </a:lnTo>
                    <a:lnTo>
                      <a:pt x="553" y="470"/>
                    </a:lnTo>
                    <a:lnTo>
                      <a:pt x="242" y="514"/>
                    </a:lnTo>
                    <a:lnTo>
                      <a:pt x="78" y="478"/>
                    </a:lnTo>
                    <a:lnTo>
                      <a:pt x="31" y="376"/>
                    </a:lnTo>
                    <a:lnTo>
                      <a:pt x="31" y="275"/>
                    </a:lnTo>
                    <a:lnTo>
                      <a:pt x="0" y="195"/>
                    </a:lnTo>
                    <a:lnTo>
                      <a:pt x="249" y="51"/>
                    </a:lnTo>
                  </a:path>
                </a:pathLst>
              </a:cu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72720" y="2643120"/>
                <a:ext cx="7113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7520" bIns="4752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503760" y="3353040"/>
              <a:ext cx="4208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765760" y="32004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1760" y="342900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009200" y="5397480"/>
              <a:ext cx="1011960" cy="622440"/>
              <a:chOff x="7009200" y="5397480"/>
              <a:chExt cx="1011960" cy="622440"/>
            </a:xfrm>
          </p:grpSpPr>
          <p:sp>
            <p:nvSpPr>
              <p:cNvPr id="136" name=""/>
              <p:cNvSpPr/>
              <p:nvPr/>
            </p:nvSpPr>
            <p:spPr>
              <a:xfrm>
                <a:off x="7009200" y="57484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86400" y="5397480"/>
                <a:ext cx="457200" cy="3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 flipH="1">
              <a:off x="683028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5760" y="1909800"/>
              <a:ext cx="271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tspot deployed with 802.11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1828800"/>
              <a:ext cx="3657600" cy="41911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6960" y="3810240"/>
              <a:ext cx="95904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6680" y="4846680"/>
              <a:ext cx="762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342800" y="4496040"/>
              <a:ext cx="409320" cy="350640"/>
              <a:chOff x="1342800" y="4496040"/>
              <a:chExt cx="409320" cy="3506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342800" y="4496040"/>
                <a:ext cx="409320" cy="350640"/>
                <a:chOff x="1342800" y="4496040"/>
                <a:chExt cx="409320" cy="350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78440" y="4656240"/>
                  <a:ext cx="329760" cy="190440"/>
                </a:xfrm>
                <a:custGeom>
                  <a:avLst/>
                  <a:gdLst/>
                  <a:ahLst/>
                  <a:rect l="l" t="t" r="r" b="b"/>
                  <a:pathLst>
                    <a:path w="1624" h="843">
                      <a:moveTo>
                        <a:pt x="1584" y="150"/>
                      </a:moveTo>
                      <a:lnTo>
                        <a:pt x="1584" y="268"/>
                      </a:lnTo>
                      <a:lnTo>
                        <a:pt x="1480" y="333"/>
                      </a:lnTo>
                      <a:lnTo>
                        <a:pt x="1498" y="402"/>
                      </a:lnTo>
                      <a:lnTo>
                        <a:pt x="1440" y="381"/>
                      </a:lnTo>
                      <a:lnTo>
                        <a:pt x="1543" y="385"/>
                      </a:lnTo>
                      <a:lnTo>
                        <a:pt x="1543" y="440"/>
                      </a:lnTo>
                      <a:lnTo>
                        <a:pt x="1624" y="455"/>
                      </a:lnTo>
                      <a:lnTo>
                        <a:pt x="1624" y="514"/>
                      </a:lnTo>
                      <a:lnTo>
                        <a:pt x="1414" y="651"/>
                      </a:lnTo>
                      <a:lnTo>
                        <a:pt x="1368" y="661"/>
                      </a:lnTo>
                      <a:lnTo>
                        <a:pt x="1303" y="692"/>
                      </a:lnTo>
                      <a:lnTo>
                        <a:pt x="1290" y="730"/>
                      </a:lnTo>
                      <a:lnTo>
                        <a:pt x="1046" y="843"/>
                      </a:lnTo>
                      <a:lnTo>
                        <a:pt x="50" y="585"/>
                      </a:lnTo>
                      <a:lnTo>
                        <a:pt x="48" y="524"/>
                      </a:lnTo>
                      <a:lnTo>
                        <a:pt x="265" y="409"/>
                      </a:lnTo>
                      <a:lnTo>
                        <a:pt x="3" y="363"/>
                      </a:lnTo>
                      <a:lnTo>
                        <a:pt x="0" y="290"/>
                      </a:lnTo>
                      <a:lnTo>
                        <a:pt x="511" y="46"/>
                      </a:lnTo>
                      <a:lnTo>
                        <a:pt x="529" y="0"/>
                      </a:lnTo>
                      <a:lnTo>
                        <a:pt x="1584" y="150"/>
                      </a:lnTo>
                      <a:close/>
                    </a:path>
                  </a:pathLst>
                </a:custGeom>
                <a:solidFill>
                  <a:srgbClr val="a0ba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483560" y="4496040"/>
                  <a:ext cx="268560" cy="199800"/>
                </a:xfrm>
                <a:custGeom>
                  <a:avLst/>
                  <a:gdLst/>
                  <a:ahLst/>
                  <a:rect l="l" t="t" r="r" b="b"/>
                  <a:pathLst>
                    <a:path w="1326" h="884">
                      <a:moveTo>
                        <a:pt x="273" y="0"/>
                      </a:moveTo>
                      <a:lnTo>
                        <a:pt x="546" y="16"/>
                      </a:lnTo>
                      <a:lnTo>
                        <a:pt x="582" y="4"/>
                      </a:lnTo>
                      <a:lnTo>
                        <a:pt x="973" y="36"/>
                      </a:lnTo>
                      <a:lnTo>
                        <a:pt x="1021" y="61"/>
                      </a:lnTo>
                      <a:lnTo>
                        <a:pt x="1306" y="85"/>
                      </a:lnTo>
                      <a:lnTo>
                        <a:pt x="1326" y="122"/>
                      </a:lnTo>
                      <a:lnTo>
                        <a:pt x="1098" y="843"/>
                      </a:lnTo>
                      <a:lnTo>
                        <a:pt x="1058" y="884"/>
                      </a:lnTo>
                      <a:lnTo>
                        <a:pt x="0" y="746"/>
                      </a:lnTo>
                      <a:lnTo>
                        <a:pt x="0" y="709"/>
                      </a:lnTo>
                      <a:lnTo>
                        <a:pt x="20" y="701"/>
                      </a:lnTo>
                      <a:lnTo>
                        <a:pt x="12" y="665"/>
                      </a:lnTo>
                      <a:lnTo>
                        <a:pt x="273" y="0"/>
                      </a:lnTo>
                      <a:close/>
                    </a:path>
                  </a:pathLst>
                </a:custGeom>
                <a:solidFill>
                  <a:srgbClr val="a0ba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2800" y="4670640"/>
                  <a:ext cx="329760" cy="176040"/>
                </a:xfrm>
                <a:custGeom>
                  <a:avLst/>
                  <a:gdLst/>
                  <a:ahLst/>
                  <a:rect l="l" t="t" r="r" b="b"/>
                  <a:pathLst>
                    <a:path w="1625" h="776">
                      <a:moveTo>
                        <a:pt x="1584" y="150"/>
                      </a:moveTo>
                      <a:lnTo>
                        <a:pt x="1584" y="267"/>
                      </a:lnTo>
                      <a:lnTo>
                        <a:pt x="1380" y="398"/>
                      </a:lnTo>
                      <a:lnTo>
                        <a:pt x="1435" y="401"/>
                      </a:lnTo>
                      <a:lnTo>
                        <a:pt x="1443" y="380"/>
                      </a:lnTo>
                      <a:lnTo>
                        <a:pt x="1544" y="385"/>
                      </a:lnTo>
                      <a:lnTo>
                        <a:pt x="1544" y="440"/>
                      </a:lnTo>
                      <a:lnTo>
                        <a:pt x="1625" y="454"/>
                      </a:lnTo>
                      <a:lnTo>
                        <a:pt x="1625" y="512"/>
                      </a:lnTo>
                      <a:lnTo>
                        <a:pt x="1417" y="650"/>
                      </a:lnTo>
                      <a:lnTo>
                        <a:pt x="1355" y="639"/>
                      </a:lnTo>
                      <a:lnTo>
                        <a:pt x="1291" y="670"/>
                      </a:lnTo>
                      <a:lnTo>
                        <a:pt x="1291" y="729"/>
                      </a:lnTo>
                      <a:lnTo>
                        <a:pt x="1221" y="776"/>
                      </a:lnTo>
                      <a:lnTo>
                        <a:pt x="48" y="585"/>
                      </a:lnTo>
                      <a:lnTo>
                        <a:pt x="48" y="522"/>
                      </a:lnTo>
                      <a:lnTo>
                        <a:pt x="265" y="407"/>
                      </a:lnTo>
                      <a:lnTo>
                        <a:pt x="0" y="364"/>
                      </a:lnTo>
                      <a:lnTo>
                        <a:pt x="0" y="289"/>
                      </a:lnTo>
                      <a:lnTo>
                        <a:pt x="512" y="45"/>
                      </a:lnTo>
                      <a:lnTo>
                        <a:pt x="530" y="0"/>
                      </a:lnTo>
                      <a:lnTo>
                        <a:pt x="1584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42800" y="4683240"/>
                  <a:ext cx="318600" cy="88920"/>
                </a:xfrm>
                <a:custGeom>
                  <a:avLst/>
                  <a:gdLst/>
                  <a:ahLst/>
                  <a:rect l="l" t="t" r="r" b="b"/>
                  <a:pathLst>
                    <a:path w="1566" h="394">
                      <a:moveTo>
                        <a:pt x="0" y="230"/>
                      </a:moveTo>
                      <a:lnTo>
                        <a:pt x="479" y="0"/>
                      </a:lnTo>
                      <a:lnTo>
                        <a:pt x="1566" y="144"/>
                      </a:lnTo>
                      <a:lnTo>
                        <a:pt x="1131" y="394"/>
                      </a:lnTo>
                      <a:lnTo>
                        <a:pt x="801" y="348"/>
                      </a:lnTo>
                      <a:lnTo>
                        <a:pt x="735" y="357"/>
                      </a:lnTo>
                      <a:lnTo>
                        <a:pt x="300" y="289"/>
                      </a:lnTo>
                      <a:lnTo>
                        <a:pt x="314" y="271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42800" y="4683240"/>
                  <a:ext cx="308520" cy="87480"/>
                </a:xfrm>
                <a:custGeom>
                  <a:avLst/>
                  <a:gdLst/>
                  <a:ahLst/>
                  <a:rect l="l" t="t" r="r" b="b"/>
                  <a:pathLst>
                    <a:path w="1515" h="38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2" y="4"/>
                      </a:lnTo>
                      <a:lnTo>
                        <a:pt x="544" y="8"/>
                      </a:lnTo>
                      <a:lnTo>
                        <a:pt x="576" y="13"/>
                      </a:lnTo>
                      <a:lnTo>
                        <a:pt x="609" y="17"/>
                      </a:lnTo>
                      <a:lnTo>
                        <a:pt x="642" y="21"/>
                      </a:lnTo>
                      <a:lnTo>
                        <a:pt x="674" y="25"/>
                      </a:lnTo>
                      <a:lnTo>
                        <a:pt x="706" y="30"/>
                      </a:lnTo>
                      <a:lnTo>
                        <a:pt x="739" y="34"/>
                      </a:lnTo>
                      <a:lnTo>
                        <a:pt x="771" y="38"/>
                      </a:lnTo>
                      <a:lnTo>
                        <a:pt x="803" y="42"/>
                      </a:lnTo>
                      <a:lnTo>
                        <a:pt x="835" y="47"/>
                      </a:lnTo>
                      <a:lnTo>
                        <a:pt x="868" y="51"/>
                      </a:lnTo>
                      <a:lnTo>
                        <a:pt x="901" y="55"/>
                      </a:lnTo>
                      <a:lnTo>
                        <a:pt x="933" y="59"/>
                      </a:lnTo>
                      <a:lnTo>
                        <a:pt x="966" y="64"/>
                      </a:lnTo>
                      <a:lnTo>
                        <a:pt x="998" y="68"/>
                      </a:lnTo>
                      <a:lnTo>
                        <a:pt x="1030" y="72"/>
                      </a:lnTo>
                      <a:lnTo>
                        <a:pt x="1062" y="77"/>
                      </a:lnTo>
                      <a:lnTo>
                        <a:pt x="1095" y="81"/>
                      </a:lnTo>
                      <a:lnTo>
                        <a:pt x="1127" y="85"/>
                      </a:lnTo>
                      <a:lnTo>
                        <a:pt x="1159" y="89"/>
                      </a:lnTo>
                      <a:lnTo>
                        <a:pt x="1192" y="95"/>
                      </a:lnTo>
                      <a:lnTo>
                        <a:pt x="1224" y="99"/>
                      </a:lnTo>
                      <a:lnTo>
                        <a:pt x="1256" y="103"/>
                      </a:lnTo>
                      <a:lnTo>
                        <a:pt x="1289" y="107"/>
                      </a:lnTo>
                      <a:lnTo>
                        <a:pt x="1321" y="112"/>
                      </a:lnTo>
                      <a:lnTo>
                        <a:pt x="1353" y="116"/>
                      </a:lnTo>
                      <a:lnTo>
                        <a:pt x="1385" y="120"/>
                      </a:lnTo>
                      <a:lnTo>
                        <a:pt x="1418" y="124"/>
                      </a:lnTo>
                      <a:lnTo>
                        <a:pt x="1450" y="129"/>
                      </a:lnTo>
                      <a:lnTo>
                        <a:pt x="1482" y="133"/>
                      </a:lnTo>
                      <a:lnTo>
                        <a:pt x="1515" y="137"/>
                      </a:lnTo>
                      <a:lnTo>
                        <a:pt x="1488" y="152"/>
                      </a:lnTo>
                      <a:lnTo>
                        <a:pt x="1462" y="168"/>
                      </a:lnTo>
                      <a:lnTo>
                        <a:pt x="1436" y="183"/>
                      </a:lnTo>
                      <a:lnTo>
                        <a:pt x="1410" y="199"/>
                      </a:lnTo>
                      <a:lnTo>
                        <a:pt x="1383" y="215"/>
                      </a:lnTo>
                      <a:lnTo>
                        <a:pt x="1357" y="230"/>
                      </a:lnTo>
                      <a:lnTo>
                        <a:pt x="1331" y="246"/>
                      </a:lnTo>
                      <a:lnTo>
                        <a:pt x="1305" y="261"/>
                      </a:lnTo>
                      <a:lnTo>
                        <a:pt x="1278" y="276"/>
                      </a:lnTo>
                      <a:lnTo>
                        <a:pt x="1252" y="293"/>
                      </a:lnTo>
                      <a:lnTo>
                        <a:pt x="1226" y="308"/>
                      </a:lnTo>
                      <a:lnTo>
                        <a:pt x="1200" y="323"/>
                      </a:lnTo>
                      <a:lnTo>
                        <a:pt x="1173" y="339"/>
                      </a:lnTo>
                      <a:lnTo>
                        <a:pt x="1146" y="354"/>
                      </a:lnTo>
                      <a:lnTo>
                        <a:pt x="1120" y="370"/>
                      </a:lnTo>
                      <a:lnTo>
                        <a:pt x="1094" y="386"/>
                      </a:lnTo>
                      <a:lnTo>
                        <a:pt x="1075" y="382"/>
                      </a:lnTo>
                      <a:lnTo>
                        <a:pt x="1054" y="380"/>
                      </a:lnTo>
                      <a:lnTo>
                        <a:pt x="1035" y="377"/>
                      </a:lnTo>
                      <a:lnTo>
                        <a:pt x="1016" y="375"/>
                      </a:lnTo>
                      <a:lnTo>
                        <a:pt x="996" y="372"/>
                      </a:lnTo>
                      <a:lnTo>
                        <a:pt x="977" y="370"/>
                      </a:lnTo>
                      <a:lnTo>
                        <a:pt x="957" y="367"/>
                      </a:lnTo>
                      <a:lnTo>
                        <a:pt x="937" y="364"/>
                      </a:lnTo>
                      <a:lnTo>
                        <a:pt x="917" y="362"/>
                      </a:lnTo>
                      <a:lnTo>
                        <a:pt x="898" y="359"/>
                      </a:lnTo>
                      <a:lnTo>
                        <a:pt x="878" y="357"/>
                      </a:lnTo>
                      <a:lnTo>
                        <a:pt x="859" y="354"/>
                      </a:lnTo>
                      <a:lnTo>
                        <a:pt x="838" y="352"/>
                      </a:lnTo>
                      <a:lnTo>
                        <a:pt x="819" y="349"/>
                      </a:lnTo>
                      <a:lnTo>
                        <a:pt x="799" y="347"/>
                      </a:lnTo>
                      <a:lnTo>
                        <a:pt x="780" y="344"/>
                      </a:lnTo>
                      <a:lnTo>
                        <a:pt x="771" y="345"/>
                      </a:lnTo>
                      <a:lnTo>
                        <a:pt x="762" y="345"/>
                      </a:lnTo>
                      <a:lnTo>
                        <a:pt x="753" y="346"/>
                      </a:lnTo>
                      <a:lnTo>
                        <a:pt x="745" y="347"/>
                      </a:lnTo>
                      <a:lnTo>
                        <a:pt x="736" y="348"/>
                      </a:lnTo>
                      <a:lnTo>
                        <a:pt x="726" y="348"/>
                      </a:lnTo>
                      <a:lnTo>
                        <a:pt x="718" y="349"/>
                      </a:lnTo>
                      <a:lnTo>
                        <a:pt x="709" y="350"/>
                      </a:lnTo>
                      <a:lnTo>
                        <a:pt x="684" y="346"/>
                      </a:lnTo>
                      <a:lnTo>
                        <a:pt x="658" y="342"/>
                      </a:lnTo>
                      <a:lnTo>
                        <a:pt x="633" y="339"/>
                      </a:lnTo>
                      <a:lnTo>
                        <a:pt x="607" y="335"/>
                      </a:lnTo>
                      <a:lnTo>
                        <a:pt x="581" y="331"/>
                      </a:lnTo>
                      <a:lnTo>
                        <a:pt x="556" y="327"/>
                      </a:lnTo>
                      <a:lnTo>
                        <a:pt x="530" y="324"/>
                      </a:lnTo>
                      <a:lnTo>
                        <a:pt x="505" y="320"/>
                      </a:lnTo>
                      <a:lnTo>
                        <a:pt x="479" y="316"/>
                      </a:lnTo>
                      <a:lnTo>
                        <a:pt x="453" y="312"/>
                      </a:lnTo>
                      <a:lnTo>
                        <a:pt x="428" y="308"/>
                      </a:lnTo>
                      <a:lnTo>
                        <a:pt x="402" y="305"/>
                      </a:lnTo>
                      <a:lnTo>
                        <a:pt x="376" y="301"/>
                      </a:lnTo>
                      <a:lnTo>
                        <a:pt x="351" y="297"/>
                      </a:lnTo>
                      <a:lnTo>
                        <a:pt x="325" y="293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93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342800" y="4683240"/>
                  <a:ext cx="298440" cy="85680"/>
                </a:xfrm>
                <a:custGeom>
                  <a:avLst/>
                  <a:gdLst/>
                  <a:ahLst/>
                  <a:rect l="l" t="t" r="r" b="b"/>
                  <a:pathLst>
                    <a:path w="1466" h="37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1" y="4"/>
                      </a:lnTo>
                      <a:lnTo>
                        <a:pt x="541" y="8"/>
                      </a:lnTo>
                      <a:lnTo>
                        <a:pt x="572" y="12"/>
                      </a:lnTo>
                      <a:lnTo>
                        <a:pt x="602" y="16"/>
                      </a:lnTo>
                      <a:lnTo>
                        <a:pt x="634" y="20"/>
                      </a:lnTo>
                      <a:lnTo>
                        <a:pt x="664" y="24"/>
                      </a:lnTo>
                      <a:lnTo>
                        <a:pt x="695" y="28"/>
                      </a:lnTo>
                      <a:lnTo>
                        <a:pt x="726" y="32"/>
                      </a:lnTo>
                      <a:lnTo>
                        <a:pt x="757" y="36"/>
                      </a:lnTo>
                      <a:lnTo>
                        <a:pt x="788" y="40"/>
                      </a:lnTo>
                      <a:lnTo>
                        <a:pt x="818" y="44"/>
                      </a:lnTo>
                      <a:lnTo>
                        <a:pt x="850" y="48"/>
                      </a:lnTo>
                      <a:lnTo>
                        <a:pt x="880" y="52"/>
                      </a:lnTo>
                      <a:lnTo>
                        <a:pt x="911" y="57"/>
                      </a:lnTo>
                      <a:lnTo>
                        <a:pt x="941" y="61"/>
                      </a:lnTo>
                      <a:lnTo>
                        <a:pt x="973" y="65"/>
                      </a:lnTo>
                      <a:lnTo>
                        <a:pt x="1004" y="69"/>
                      </a:lnTo>
                      <a:lnTo>
                        <a:pt x="1034" y="73"/>
                      </a:lnTo>
                      <a:lnTo>
                        <a:pt x="1066" y="77"/>
                      </a:lnTo>
                      <a:lnTo>
                        <a:pt x="1096" y="81"/>
                      </a:lnTo>
                      <a:lnTo>
                        <a:pt x="1127" y="85"/>
                      </a:lnTo>
                      <a:lnTo>
                        <a:pt x="1157" y="89"/>
                      </a:lnTo>
                      <a:lnTo>
                        <a:pt x="1189" y="94"/>
                      </a:lnTo>
                      <a:lnTo>
                        <a:pt x="1220" y="98"/>
                      </a:lnTo>
                      <a:lnTo>
                        <a:pt x="1250" y="102"/>
                      </a:lnTo>
                      <a:lnTo>
                        <a:pt x="1281" y="106"/>
                      </a:lnTo>
                      <a:lnTo>
                        <a:pt x="1312" y="110"/>
                      </a:lnTo>
                      <a:lnTo>
                        <a:pt x="1343" y="115"/>
                      </a:lnTo>
                      <a:lnTo>
                        <a:pt x="1373" y="119"/>
                      </a:lnTo>
                      <a:lnTo>
                        <a:pt x="1405" y="123"/>
                      </a:lnTo>
                      <a:lnTo>
                        <a:pt x="1435" y="127"/>
                      </a:lnTo>
                      <a:lnTo>
                        <a:pt x="1466" y="131"/>
                      </a:lnTo>
                      <a:lnTo>
                        <a:pt x="1441" y="146"/>
                      </a:lnTo>
                      <a:lnTo>
                        <a:pt x="1415" y="161"/>
                      </a:lnTo>
                      <a:lnTo>
                        <a:pt x="1389" y="177"/>
                      </a:lnTo>
                      <a:lnTo>
                        <a:pt x="1363" y="193"/>
                      </a:lnTo>
                      <a:lnTo>
                        <a:pt x="1338" y="208"/>
                      </a:lnTo>
                      <a:lnTo>
                        <a:pt x="1312" y="223"/>
                      </a:lnTo>
                      <a:lnTo>
                        <a:pt x="1286" y="239"/>
                      </a:lnTo>
                      <a:lnTo>
                        <a:pt x="1261" y="254"/>
                      </a:lnTo>
                      <a:lnTo>
                        <a:pt x="1235" y="269"/>
                      </a:lnTo>
                      <a:lnTo>
                        <a:pt x="1210" y="285"/>
                      </a:lnTo>
                      <a:lnTo>
                        <a:pt x="1185" y="301"/>
                      </a:lnTo>
                      <a:lnTo>
                        <a:pt x="1158" y="317"/>
                      </a:lnTo>
                      <a:lnTo>
                        <a:pt x="1133" y="332"/>
                      </a:lnTo>
                      <a:lnTo>
                        <a:pt x="1108" y="347"/>
                      </a:lnTo>
                      <a:lnTo>
                        <a:pt x="1082" y="363"/>
                      </a:lnTo>
                      <a:lnTo>
                        <a:pt x="1056" y="378"/>
                      </a:lnTo>
                      <a:lnTo>
                        <a:pt x="1037" y="376"/>
                      </a:lnTo>
                      <a:lnTo>
                        <a:pt x="1019" y="373"/>
                      </a:lnTo>
                      <a:lnTo>
                        <a:pt x="1000" y="371"/>
                      </a:lnTo>
                      <a:lnTo>
                        <a:pt x="982" y="368"/>
                      </a:lnTo>
                      <a:lnTo>
                        <a:pt x="963" y="366"/>
                      </a:lnTo>
                      <a:lnTo>
                        <a:pt x="944" y="364"/>
                      </a:lnTo>
                      <a:lnTo>
                        <a:pt x="925" y="361"/>
                      </a:lnTo>
                      <a:lnTo>
                        <a:pt x="907" y="359"/>
                      </a:lnTo>
                      <a:lnTo>
                        <a:pt x="888" y="357"/>
                      </a:lnTo>
                      <a:lnTo>
                        <a:pt x="869" y="354"/>
                      </a:lnTo>
                      <a:lnTo>
                        <a:pt x="851" y="352"/>
                      </a:lnTo>
                      <a:lnTo>
                        <a:pt x="831" y="350"/>
                      </a:lnTo>
                      <a:lnTo>
                        <a:pt x="813" y="347"/>
                      </a:lnTo>
                      <a:lnTo>
                        <a:pt x="794" y="345"/>
                      </a:lnTo>
                      <a:lnTo>
                        <a:pt x="776" y="342"/>
                      </a:lnTo>
                      <a:lnTo>
                        <a:pt x="757" y="340"/>
                      </a:lnTo>
                      <a:lnTo>
                        <a:pt x="748" y="340"/>
                      </a:lnTo>
                      <a:lnTo>
                        <a:pt x="739" y="341"/>
                      </a:lnTo>
                      <a:lnTo>
                        <a:pt x="730" y="341"/>
                      </a:lnTo>
                      <a:lnTo>
                        <a:pt x="720" y="342"/>
                      </a:lnTo>
                      <a:lnTo>
                        <a:pt x="711" y="343"/>
                      </a:lnTo>
                      <a:lnTo>
                        <a:pt x="702" y="343"/>
                      </a:lnTo>
                      <a:lnTo>
                        <a:pt x="693" y="344"/>
                      </a:lnTo>
                      <a:lnTo>
                        <a:pt x="684" y="344"/>
                      </a:lnTo>
                      <a:lnTo>
                        <a:pt x="660" y="341"/>
                      </a:lnTo>
                      <a:lnTo>
                        <a:pt x="636" y="337"/>
                      </a:lnTo>
                      <a:lnTo>
                        <a:pt x="612" y="334"/>
                      </a:lnTo>
                      <a:lnTo>
                        <a:pt x="588" y="330"/>
                      </a:lnTo>
                      <a:lnTo>
                        <a:pt x="564" y="327"/>
                      </a:lnTo>
                      <a:lnTo>
                        <a:pt x="540" y="324"/>
                      </a:lnTo>
                      <a:lnTo>
                        <a:pt x="516" y="320"/>
                      </a:lnTo>
                      <a:lnTo>
                        <a:pt x="492" y="317"/>
                      </a:lnTo>
                      <a:lnTo>
                        <a:pt x="468" y="313"/>
                      </a:lnTo>
                      <a:lnTo>
                        <a:pt x="444" y="310"/>
                      </a:lnTo>
                      <a:lnTo>
                        <a:pt x="420" y="307"/>
                      </a:lnTo>
                      <a:lnTo>
                        <a:pt x="396" y="303"/>
                      </a:lnTo>
                      <a:lnTo>
                        <a:pt x="371" y="300"/>
                      </a:lnTo>
                      <a:lnTo>
                        <a:pt x="348" y="296"/>
                      </a:lnTo>
                      <a:lnTo>
                        <a:pt x="324" y="293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42800" y="4683240"/>
                  <a:ext cx="287280" cy="84240"/>
                </a:xfrm>
                <a:custGeom>
                  <a:avLst/>
                  <a:gdLst/>
                  <a:ahLst/>
                  <a:rect l="l" t="t" r="r" b="b"/>
                  <a:pathLst>
                    <a:path w="1415" h="370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9" y="4"/>
                      </a:lnTo>
                      <a:lnTo>
                        <a:pt x="538" y="8"/>
                      </a:lnTo>
                      <a:lnTo>
                        <a:pt x="567" y="12"/>
                      </a:lnTo>
                      <a:lnTo>
                        <a:pt x="596" y="15"/>
                      </a:lnTo>
                      <a:lnTo>
                        <a:pt x="626" y="19"/>
                      </a:lnTo>
                      <a:lnTo>
                        <a:pt x="655" y="23"/>
                      </a:lnTo>
                      <a:lnTo>
                        <a:pt x="684" y="27"/>
                      </a:lnTo>
                      <a:lnTo>
                        <a:pt x="713" y="31"/>
                      </a:lnTo>
                      <a:lnTo>
                        <a:pt x="743" y="35"/>
                      </a:lnTo>
                      <a:lnTo>
                        <a:pt x="772" y="38"/>
                      </a:lnTo>
                      <a:lnTo>
                        <a:pt x="801" y="42"/>
                      </a:lnTo>
                      <a:lnTo>
                        <a:pt x="830" y="46"/>
                      </a:lnTo>
                      <a:lnTo>
                        <a:pt x="860" y="50"/>
                      </a:lnTo>
                      <a:lnTo>
                        <a:pt x="889" y="54"/>
                      </a:lnTo>
                      <a:lnTo>
                        <a:pt x="918" y="58"/>
                      </a:lnTo>
                      <a:lnTo>
                        <a:pt x="947" y="61"/>
                      </a:lnTo>
                      <a:lnTo>
                        <a:pt x="976" y="65"/>
                      </a:lnTo>
                      <a:lnTo>
                        <a:pt x="1005" y="69"/>
                      </a:lnTo>
                      <a:lnTo>
                        <a:pt x="1034" y="73"/>
                      </a:lnTo>
                      <a:lnTo>
                        <a:pt x="1064" y="77"/>
                      </a:lnTo>
                      <a:lnTo>
                        <a:pt x="1093" y="81"/>
                      </a:lnTo>
                      <a:lnTo>
                        <a:pt x="1122" y="85"/>
                      </a:lnTo>
                      <a:lnTo>
                        <a:pt x="1151" y="88"/>
                      </a:lnTo>
                      <a:lnTo>
                        <a:pt x="1181" y="92"/>
                      </a:lnTo>
                      <a:lnTo>
                        <a:pt x="1210" y="97"/>
                      </a:lnTo>
                      <a:lnTo>
                        <a:pt x="1239" y="101"/>
                      </a:lnTo>
                      <a:lnTo>
                        <a:pt x="1268" y="105"/>
                      </a:lnTo>
                      <a:lnTo>
                        <a:pt x="1298" y="109"/>
                      </a:lnTo>
                      <a:lnTo>
                        <a:pt x="1327" y="112"/>
                      </a:lnTo>
                      <a:lnTo>
                        <a:pt x="1356" y="116"/>
                      </a:lnTo>
                      <a:lnTo>
                        <a:pt x="1385" y="120"/>
                      </a:lnTo>
                      <a:lnTo>
                        <a:pt x="1415" y="124"/>
                      </a:lnTo>
                      <a:lnTo>
                        <a:pt x="1390" y="139"/>
                      </a:lnTo>
                      <a:lnTo>
                        <a:pt x="1365" y="154"/>
                      </a:lnTo>
                      <a:lnTo>
                        <a:pt x="1341" y="170"/>
                      </a:lnTo>
                      <a:lnTo>
                        <a:pt x="1317" y="185"/>
                      </a:lnTo>
                      <a:lnTo>
                        <a:pt x="1292" y="201"/>
                      </a:lnTo>
                      <a:lnTo>
                        <a:pt x="1267" y="216"/>
                      </a:lnTo>
                      <a:lnTo>
                        <a:pt x="1242" y="232"/>
                      </a:lnTo>
                      <a:lnTo>
                        <a:pt x="1218" y="247"/>
                      </a:lnTo>
                      <a:lnTo>
                        <a:pt x="1193" y="262"/>
                      </a:lnTo>
                      <a:lnTo>
                        <a:pt x="1168" y="278"/>
                      </a:lnTo>
                      <a:lnTo>
                        <a:pt x="1143" y="294"/>
                      </a:lnTo>
                      <a:lnTo>
                        <a:pt x="1118" y="309"/>
                      </a:lnTo>
                      <a:lnTo>
                        <a:pt x="1094" y="324"/>
                      </a:lnTo>
                      <a:lnTo>
                        <a:pt x="1069" y="340"/>
                      </a:lnTo>
                      <a:lnTo>
                        <a:pt x="1044" y="355"/>
                      </a:lnTo>
                      <a:lnTo>
                        <a:pt x="1019" y="370"/>
                      </a:lnTo>
                      <a:lnTo>
                        <a:pt x="1001" y="368"/>
                      </a:lnTo>
                      <a:lnTo>
                        <a:pt x="984" y="366"/>
                      </a:lnTo>
                      <a:lnTo>
                        <a:pt x="966" y="364"/>
                      </a:lnTo>
                      <a:lnTo>
                        <a:pt x="948" y="362"/>
                      </a:lnTo>
                      <a:lnTo>
                        <a:pt x="930" y="360"/>
                      </a:lnTo>
                      <a:lnTo>
                        <a:pt x="912" y="358"/>
                      </a:lnTo>
                      <a:lnTo>
                        <a:pt x="895" y="355"/>
                      </a:lnTo>
                      <a:lnTo>
                        <a:pt x="877" y="353"/>
                      </a:lnTo>
                      <a:lnTo>
                        <a:pt x="859" y="351"/>
                      </a:lnTo>
                      <a:lnTo>
                        <a:pt x="842" y="349"/>
                      </a:lnTo>
                      <a:lnTo>
                        <a:pt x="823" y="347"/>
                      </a:lnTo>
                      <a:lnTo>
                        <a:pt x="806" y="345"/>
                      </a:lnTo>
                      <a:lnTo>
                        <a:pt x="788" y="343"/>
                      </a:lnTo>
                      <a:lnTo>
                        <a:pt x="770" y="340"/>
                      </a:lnTo>
                      <a:lnTo>
                        <a:pt x="753" y="338"/>
                      </a:lnTo>
                      <a:lnTo>
                        <a:pt x="735" y="336"/>
                      </a:lnTo>
                      <a:lnTo>
                        <a:pt x="725" y="336"/>
                      </a:lnTo>
                      <a:lnTo>
                        <a:pt x="715" y="337"/>
                      </a:lnTo>
                      <a:lnTo>
                        <a:pt x="706" y="337"/>
                      </a:lnTo>
                      <a:lnTo>
                        <a:pt x="697" y="337"/>
                      </a:lnTo>
                      <a:lnTo>
                        <a:pt x="687" y="337"/>
                      </a:lnTo>
                      <a:lnTo>
                        <a:pt x="678" y="337"/>
                      </a:lnTo>
                      <a:lnTo>
                        <a:pt x="668" y="337"/>
                      </a:lnTo>
                      <a:lnTo>
                        <a:pt x="659" y="337"/>
                      </a:lnTo>
                      <a:lnTo>
                        <a:pt x="637" y="334"/>
                      </a:lnTo>
                      <a:lnTo>
                        <a:pt x="613" y="331"/>
                      </a:lnTo>
                      <a:lnTo>
                        <a:pt x="591" y="328"/>
                      </a:lnTo>
                      <a:lnTo>
                        <a:pt x="569" y="325"/>
                      </a:lnTo>
                      <a:lnTo>
                        <a:pt x="547" y="322"/>
                      </a:lnTo>
                      <a:lnTo>
                        <a:pt x="524" y="319"/>
                      </a:lnTo>
                      <a:lnTo>
                        <a:pt x="501" y="316"/>
                      </a:lnTo>
                      <a:lnTo>
                        <a:pt x="479" y="313"/>
                      </a:lnTo>
                      <a:lnTo>
                        <a:pt x="457" y="310"/>
                      </a:lnTo>
                      <a:lnTo>
                        <a:pt x="435" y="307"/>
                      </a:lnTo>
                      <a:lnTo>
                        <a:pt x="412" y="304"/>
                      </a:lnTo>
                      <a:lnTo>
                        <a:pt x="389" y="301"/>
                      </a:lnTo>
                      <a:lnTo>
                        <a:pt x="367" y="298"/>
                      </a:lnTo>
                      <a:lnTo>
                        <a:pt x="345" y="295"/>
                      </a:lnTo>
                      <a:lnTo>
                        <a:pt x="322" y="292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42800" y="4683240"/>
                  <a:ext cx="277200" cy="82440"/>
                </a:xfrm>
                <a:custGeom>
                  <a:avLst/>
                  <a:gdLst/>
                  <a:ahLst/>
                  <a:rect l="l" t="t" r="r" b="b"/>
                  <a:pathLst>
                    <a:path w="1364" h="363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7" y="4"/>
                      </a:lnTo>
                      <a:lnTo>
                        <a:pt x="535" y="7"/>
                      </a:lnTo>
                      <a:lnTo>
                        <a:pt x="562" y="11"/>
                      </a:lnTo>
                      <a:lnTo>
                        <a:pt x="590" y="14"/>
                      </a:lnTo>
                      <a:lnTo>
                        <a:pt x="618" y="18"/>
                      </a:lnTo>
                      <a:lnTo>
                        <a:pt x="645" y="21"/>
                      </a:lnTo>
                      <a:lnTo>
                        <a:pt x="673" y="25"/>
                      </a:lnTo>
                      <a:lnTo>
                        <a:pt x="700" y="29"/>
                      </a:lnTo>
                      <a:lnTo>
                        <a:pt x="729" y="32"/>
                      </a:lnTo>
                      <a:lnTo>
                        <a:pt x="756" y="36"/>
                      </a:lnTo>
                      <a:lnTo>
                        <a:pt x="783" y="40"/>
                      </a:lnTo>
                      <a:lnTo>
                        <a:pt x="811" y="43"/>
                      </a:lnTo>
                      <a:lnTo>
                        <a:pt x="838" y="47"/>
                      </a:lnTo>
                      <a:lnTo>
                        <a:pt x="867" y="50"/>
                      </a:lnTo>
                      <a:lnTo>
                        <a:pt x="894" y="54"/>
                      </a:lnTo>
                      <a:lnTo>
                        <a:pt x="922" y="58"/>
                      </a:lnTo>
                      <a:lnTo>
                        <a:pt x="949" y="61"/>
                      </a:lnTo>
                      <a:lnTo>
                        <a:pt x="977" y="65"/>
                      </a:lnTo>
                      <a:lnTo>
                        <a:pt x="1005" y="69"/>
                      </a:lnTo>
                      <a:lnTo>
                        <a:pt x="1032" y="72"/>
                      </a:lnTo>
                      <a:lnTo>
                        <a:pt x="1060" y="76"/>
                      </a:lnTo>
                      <a:lnTo>
                        <a:pt x="1088" y="79"/>
                      </a:lnTo>
                      <a:lnTo>
                        <a:pt x="1115" y="83"/>
                      </a:lnTo>
                      <a:lnTo>
                        <a:pt x="1143" y="87"/>
                      </a:lnTo>
                      <a:lnTo>
                        <a:pt x="1170" y="90"/>
                      </a:lnTo>
                      <a:lnTo>
                        <a:pt x="1199" y="95"/>
                      </a:lnTo>
                      <a:lnTo>
                        <a:pt x="1226" y="99"/>
                      </a:lnTo>
                      <a:lnTo>
                        <a:pt x="1253" y="102"/>
                      </a:lnTo>
                      <a:lnTo>
                        <a:pt x="1281" y="106"/>
                      </a:lnTo>
                      <a:lnTo>
                        <a:pt x="1309" y="110"/>
                      </a:lnTo>
                      <a:lnTo>
                        <a:pt x="1337" y="113"/>
                      </a:lnTo>
                      <a:lnTo>
                        <a:pt x="1364" y="117"/>
                      </a:lnTo>
                      <a:lnTo>
                        <a:pt x="1340" y="132"/>
                      </a:lnTo>
                      <a:lnTo>
                        <a:pt x="1317" y="147"/>
                      </a:lnTo>
                      <a:lnTo>
                        <a:pt x="1293" y="163"/>
                      </a:lnTo>
                      <a:lnTo>
                        <a:pt x="1268" y="178"/>
                      </a:lnTo>
                      <a:lnTo>
                        <a:pt x="1245" y="194"/>
                      </a:lnTo>
                      <a:lnTo>
                        <a:pt x="1221" y="209"/>
                      </a:lnTo>
                      <a:lnTo>
                        <a:pt x="1197" y="225"/>
                      </a:lnTo>
                      <a:lnTo>
                        <a:pt x="1173" y="240"/>
                      </a:lnTo>
                      <a:lnTo>
                        <a:pt x="1149" y="255"/>
                      </a:lnTo>
                      <a:lnTo>
                        <a:pt x="1125" y="271"/>
                      </a:lnTo>
                      <a:lnTo>
                        <a:pt x="1101" y="287"/>
                      </a:lnTo>
                      <a:lnTo>
                        <a:pt x="1078" y="302"/>
                      </a:lnTo>
                      <a:lnTo>
                        <a:pt x="1053" y="317"/>
                      </a:lnTo>
                      <a:lnTo>
                        <a:pt x="1029" y="333"/>
                      </a:lnTo>
                      <a:lnTo>
                        <a:pt x="1006" y="348"/>
                      </a:lnTo>
                      <a:lnTo>
                        <a:pt x="982" y="363"/>
                      </a:lnTo>
                      <a:lnTo>
                        <a:pt x="965" y="361"/>
                      </a:lnTo>
                      <a:lnTo>
                        <a:pt x="948" y="359"/>
                      </a:lnTo>
                      <a:lnTo>
                        <a:pt x="931" y="357"/>
                      </a:lnTo>
                      <a:lnTo>
                        <a:pt x="914" y="355"/>
                      </a:lnTo>
                      <a:lnTo>
                        <a:pt x="898" y="354"/>
                      </a:lnTo>
                      <a:lnTo>
                        <a:pt x="881" y="352"/>
                      </a:lnTo>
                      <a:lnTo>
                        <a:pt x="864" y="350"/>
                      </a:lnTo>
                      <a:lnTo>
                        <a:pt x="848" y="348"/>
                      </a:lnTo>
                      <a:lnTo>
                        <a:pt x="830" y="346"/>
                      </a:lnTo>
                      <a:lnTo>
                        <a:pt x="813" y="344"/>
                      </a:lnTo>
                      <a:lnTo>
                        <a:pt x="796" y="342"/>
                      </a:lnTo>
                      <a:lnTo>
                        <a:pt x="780" y="340"/>
                      </a:lnTo>
                      <a:lnTo>
                        <a:pt x="763" y="338"/>
                      </a:lnTo>
                      <a:lnTo>
                        <a:pt x="746" y="336"/>
                      </a:lnTo>
                      <a:lnTo>
                        <a:pt x="730" y="334"/>
                      </a:lnTo>
                      <a:lnTo>
                        <a:pt x="712" y="332"/>
                      </a:lnTo>
                      <a:lnTo>
                        <a:pt x="702" y="332"/>
                      </a:lnTo>
                      <a:lnTo>
                        <a:pt x="693" y="332"/>
                      </a:lnTo>
                      <a:lnTo>
                        <a:pt x="683" y="332"/>
                      </a:lnTo>
                      <a:lnTo>
                        <a:pt x="673" y="331"/>
                      </a:lnTo>
                      <a:lnTo>
                        <a:pt x="663" y="331"/>
                      </a:lnTo>
                      <a:lnTo>
                        <a:pt x="654" y="331"/>
                      </a:lnTo>
                      <a:lnTo>
                        <a:pt x="644" y="331"/>
                      </a:lnTo>
                      <a:lnTo>
                        <a:pt x="634" y="331"/>
                      </a:lnTo>
                      <a:lnTo>
                        <a:pt x="612" y="328"/>
                      </a:lnTo>
                      <a:lnTo>
                        <a:pt x="591" y="326"/>
                      </a:lnTo>
                      <a:lnTo>
                        <a:pt x="571" y="323"/>
                      </a:lnTo>
                      <a:lnTo>
                        <a:pt x="550" y="320"/>
                      </a:lnTo>
                      <a:lnTo>
                        <a:pt x="529" y="318"/>
                      </a:lnTo>
                      <a:lnTo>
                        <a:pt x="508" y="315"/>
                      </a:lnTo>
                      <a:lnTo>
                        <a:pt x="487" y="313"/>
                      </a:lnTo>
                      <a:lnTo>
                        <a:pt x="466" y="310"/>
                      </a:lnTo>
                      <a:lnTo>
                        <a:pt x="445" y="307"/>
                      </a:lnTo>
                      <a:lnTo>
                        <a:pt x="425" y="305"/>
                      </a:lnTo>
                      <a:lnTo>
                        <a:pt x="404" y="302"/>
                      </a:lnTo>
                      <a:lnTo>
                        <a:pt x="383" y="299"/>
                      </a:lnTo>
                      <a:lnTo>
                        <a:pt x="362" y="297"/>
                      </a:lnTo>
                      <a:lnTo>
                        <a:pt x="341" y="294"/>
                      </a:lnTo>
                      <a:lnTo>
                        <a:pt x="321" y="292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342800" y="4683240"/>
                  <a:ext cx="267120" cy="81000"/>
                </a:xfrm>
                <a:custGeom>
                  <a:avLst/>
                  <a:gdLst/>
                  <a:ahLst/>
                  <a:rect l="l" t="t" r="r" b="b"/>
                  <a:pathLst>
                    <a:path w="1313" h="35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6" y="3"/>
                      </a:lnTo>
                      <a:lnTo>
                        <a:pt x="532" y="7"/>
                      </a:lnTo>
                      <a:lnTo>
                        <a:pt x="557" y="10"/>
                      </a:lnTo>
                      <a:lnTo>
                        <a:pt x="583" y="14"/>
                      </a:lnTo>
                      <a:lnTo>
                        <a:pt x="609" y="17"/>
                      </a:lnTo>
                      <a:lnTo>
                        <a:pt x="636" y="20"/>
                      </a:lnTo>
                      <a:lnTo>
                        <a:pt x="662" y="24"/>
                      </a:lnTo>
                      <a:lnTo>
                        <a:pt x="687" y="27"/>
                      </a:lnTo>
                      <a:lnTo>
                        <a:pt x="713" y="31"/>
                      </a:lnTo>
                      <a:lnTo>
                        <a:pt x="740" y="34"/>
                      </a:lnTo>
                      <a:lnTo>
                        <a:pt x="766" y="37"/>
                      </a:lnTo>
                      <a:lnTo>
                        <a:pt x="792" y="41"/>
                      </a:lnTo>
                      <a:lnTo>
                        <a:pt x="818" y="44"/>
                      </a:lnTo>
                      <a:lnTo>
                        <a:pt x="844" y="48"/>
                      </a:lnTo>
                      <a:lnTo>
                        <a:pt x="870" y="51"/>
                      </a:lnTo>
                      <a:lnTo>
                        <a:pt x="896" y="54"/>
                      </a:lnTo>
                      <a:lnTo>
                        <a:pt x="922" y="58"/>
                      </a:lnTo>
                      <a:lnTo>
                        <a:pt x="948" y="61"/>
                      </a:lnTo>
                      <a:lnTo>
                        <a:pt x="974" y="65"/>
                      </a:lnTo>
                      <a:lnTo>
                        <a:pt x="1000" y="68"/>
                      </a:lnTo>
                      <a:lnTo>
                        <a:pt x="1026" y="72"/>
                      </a:lnTo>
                      <a:lnTo>
                        <a:pt x="1052" y="75"/>
                      </a:lnTo>
                      <a:lnTo>
                        <a:pt x="1079" y="78"/>
                      </a:lnTo>
                      <a:lnTo>
                        <a:pt x="1105" y="82"/>
                      </a:lnTo>
                      <a:lnTo>
                        <a:pt x="1130" y="85"/>
                      </a:lnTo>
                      <a:lnTo>
                        <a:pt x="1156" y="89"/>
                      </a:lnTo>
                      <a:lnTo>
                        <a:pt x="1183" y="92"/>
                      </a:lnTo>
                      <a:lnTo>
                        <a:pt x="1209" y="96"/>
                      </a:lnTo>
                      <a:lnTo>
                        <a:pt x="1235" y="100"/>
                      </a:lnTo>
                      <a:lnTo>
                        <a:pt x="1260" y="103"/>
                      </a:lnTo>
                      <a:lnTo>
                        <a:pt x="1286" y="107"/>
                      </a:lnTo>
                      <a:lnTo>
                        <a:pt x="1313" y="110"/>
                      </a:lnTo>
                      <a:lnTo>
                        <a:pt x="1290" y="125"/>
                      </a:lnTo>
                      <a:lnTo>
                        <a:pt x="1267" y="141"/>
                      </a:lnTo>
                      <a:lnTo>
                        <a:pt x="1244" y="156"/>
                      </a:lnTo>
                      <a:lnTo>
                        <a:pt x="1221" y="171"/>
                      </a:lnTo>
                      <a:lnTo>
                        <a:pt x="1198" y="187"/>
                      </a:lnTo>
                      <a:lnTo>
                        <a:pt x="1176" y="203"/>
                      </a:lnTo>
                      <a:lnTo>
                        <a:pt x="1152" y="218"/>
                      </a:lnTo>
                      <a:lnTo>
                        <a:pt x="1129" y="233"/>
                      </a:lnTo>
                      <a:lnTo>
                        <a:pt x="1106" y="249"/>
                      </a:lnTo>
                      <a:lnTo>
                        <a:pt x="1083" y="264"/>
                      </a:lnTo>
                      <a:lnTo>
                        <a:pt x="1059" y="279"/>
                      </a:lnTo>
                      <a:lnTo>
                        <a:pt x="1036" y="295"/>
                      </a:lnTo>
                      <a:lnTo>
                        <a:pt x="1014" y="310"/>
                      </a:lnTo>
                      <a:lnTo>
                        <a:pt x="991" y="326"/>
                      </a:lnTo>
                      <a:lnTo>
                        <a:pt x="968" y="341"/>
                      </a:lnTo>
                      <a:lnTo>
                        <a:pt x="944" y="356"/>
                      </a:lnTo>
                      <a:lnTo>
                        <a:pt x="928" y="354"/>
                      </a:lnTo>
                      <a:lnTo>
                        <a:pt x="912" y="353"/>
                      </a:lnTo>
                      <a:lnTo>
                        <a:pt x="897" y="351"/>
                      </a:lnTo>
                      <a:lnTo>
                        <a:pt x="881" y="349"/>
                      </a:lnTo>
                      <a:lnTo>
                        <a:pt x="865" y="348"/>
                      </a:lnTo>
                      <a:lnTo>
                        <a:pt x="849" y="346"/>
                      </a:lnTo>
                      <a:lnTo>
                        <a:pt x="833" y="344"/>
                      </a:lnTo>
                      <a:lnTo>
                        <a:pt x="817" y="342"/>
                      </a:lnTo>
                      <a:lnTo>
                        <a:pt x="801" y="341"/>
                      </a:lnTo>
                      <a:lnTo>
                        <a:pt x="785" y="339"/>
                      </a:lnTo>
                      <a:lnTo>
                        <a:pt x="769" y="337"/>
                      </a:lnTo>
                      <a:lnTo>
                        <a:pt x="754" y="335"/>
                      </a:lnTo>
                      <a:lnTo>
                        <a:pt x="738" y="334"/>
                      </a:lnTo>
                      <a:lnTo>
                        <a:pt x="721" y="332"/>
                      </a:lnTo>
                      <a:lnTo>
                        <a:pt x="705" y="330"/>
                      </a:lnTo>
                      <a:lnTo>
                        <a:pt x="689" y="328"/>
                      </a:lnTo>
                      <a:lnTo>
                        <a:pt x="679" y="328"/>
                      </a:lnTo>
                      <a:lnTo>
                        <a:pt x="669" y="327"/>
                      </a:lnTo>
                      <a:lnTo>
                        <a:pt x="659" y="327"/>
                      </a:lnTo>
                      <a:lnTo>
                        <a:pt x="649" y="326"/>
                      </a:lnTo>
                      <a:lnTo>
                        <a:pt x="639" y="326"/>
                      </a:lnTo>
                      <a:lnTo>
                        <a:pt x="629" y="326"/>
                      </a:lnTo>
                      <a:lnTo>
                        <a:pt x="619" y="325"/>
                      </a:lnTo>
                      <a:lnTo>
                        <a:pt x="608" y="325"/>
                      </a:lnTo>
                      <a:lnTo>
                        <a:pt x="589" y="323"/>
                      </a:lnTo>
                      <a:lnTo>
                        <a:pt x="570" y="320"/>
                      </a:lnTo>
                      <a:lnTo>
                        <a:pt x="551" y="318"/>
                      </a:lnTo>
                      <a:lnTo>
                        <a:pt x="532" y="316"/>
                      </a:lnTo>
                      <a:lnTo>
                        <a:pt x="512" y="314"/>
                      </a:lnTo>
                      <a:lnTo>
                        <a:pt x="492" y="311"/>
                      </a:lnTo>
                      <a:lnTo>
                        <a:pt x="473" y="309"/>
                      </a:lnTo>
                      <a:lnTo>
                        <a:pt x="454" y="307"/>
                      </a:lnTo>
                      <a:lnTo>
                        <a:pt x="435" y="305"/>
                      </a:lnTo>
                      <a:lnTo>
                        <a:pt x="416" y="302"/>
                      </a:lnTo>
                      <a:lnTo>
                        <a:pt x="397" y="300"/>
                      </a:lnTo>
                      <a:lnTo>
                        <a:pt x="377" y="298"/>
                      </a:lnTo>
                      <a:lnTo>
                        <a:pt x="357" y="296"/>
                      </a:lnTo>
                      <a:lnTo>
                        <a:pt x="338" y="293"/>
                      </a:lnTo>
                      <a:lnTo>
                        <a:pt x="319" y="291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342800" y="4683240"/>
                  <a:ext cx="257400" cy="79560"/>
                </a:xfrm>
                <a:custGeom>
                  <a:avLst/>
                  <a:gdLst/>
                  <a:ahLst/>
                  <a:rect l="l" t="t" r="r" b="b"/>
                  <a:pathLst>
                    <a:path w="1263" h="34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4" y="3"/>
                      </a:lnTo>
                      <a:lnTo>
                        <a:pt x="529" y="6"/>
                      </a:lnTo>
                      <a:lnTo>
                        <a:pt x="553" y="10"/>
                      </a:lnTo>
                      <a:lnTo>
                        <a:pt x="577" y="13"/>
                      </a:lnTo>
                      <a:lnTo>
                        <a:pt x="601" y="16"/>
                      </a:lnTo>
                      <a:lnTo>
                        <a:pt x="627" y="19"/>
                      </a:lnTo>
                      <a:lnTo>
                        <a:pt x="651" y="22"/>
                      </a:lnTo>
                      <a:lnTo>
                        <a:pt x="675" y="26"/>
                      </a:lnTo>
                      <a:lnTo>
                        <a:pt x="699" y="29"/>
                      </a:lnTo>
                      <a:lnTo>
                        <a:pt x="724" y="32"/>
                      </a:lnTo>
                      <a:lnTo>
                        <a:pt x="749" y="35"/>
                      </a:lnTo>
                      <a:lnTo>
                        <a:pt x="773" y="38"/>
                      </a:lnTo>
                      <a:lnTo>
                        <a:pt x="797" y="42"/>
                      </a:lnTo>
                      <a:lnTo>
                        <a:pt x="822" y="45"/>
                      </a:lnTo>
                      <a:lnTo>
                        <a:pt x="847" y="48"/>
                      </a:lnTo>
                      <a:lnTo>
                        <a:pt x="871" y="51"/>
                      </a:lnTo>
                      <a:lnTo>
                        <a:pt x="895" y="54"/>
                      </a:lnTo>
                      <a:lnTo>
                        <a:pt x="920" y="58"/>
                      </a:lnTo>
                      <a:lnTo>
                        <a:pt x="944" y="61"/>
                      </a:lnTo>
                      <a:lnTo>
                        <a:pt x="969" y="64"/>
                      </a:lnTo>
                      <a:lnTo>
                        <a:pt x="993" y="67"/>
                      </a:lnTo>
                      <a:lnTo>
                        <a:pt x="1018" y="70"/>
                      </a:lnTo>
                      <a:lnTo>
                        <a:pt x="1042" y="74"/>
                      </a:lnTo>
                      <a:lnTo>
                        <a:pt x="1067" y="77"/>
                      </a:lnTo>
                      <a:lnTo>
                        <a:pt x="1092" y="80"/>
                      </a:lnTo>
                      <a:lnTo>
                        <a:pt x="1116" y="83"/>
                      </a:lnTo>
                      <a:lnTo>
                        <a:pt x="1140" y="87"/>
                      </a:lnTo>
                      <a:lnTo>
                        <a:pt x="1165" y="90"/>
                      </a:lnTo>
                      <a:lnTo>
                        <a:pt x="1190" y="94"/>
                      </a:lnTo>
                      <a:lnTo>
                        <a:pt x="1214" y="97"/>
                      </a:lnTo>
                      <a:lnTo>
                        <a:pt x="1239" y="101"/>
                      </a:lnTo>
                      <a:lnTo>
                        <a:pt x="1263" y="104"/>
                      </a:lnTo>
                      <a:lnTo>
                        <a:pt x="1241" y="119"/>
                      </a:lnTo>
                      <a:lnTo>
                        <a:pt x="1219" y="134"/>
                      </a:lnTo>
                      <a:lnTo>
                        <a:pt x="1197" y="149"/>
                      </a:lnTo>
                      <a:lnTo>
                        <a:pt x="1174" y="165"/>
                      </a:lnTo>
                      <a:lnTo>
                        <a:pt x="1151" y="180"/>
                      </a:lnTo>
                      <a:lnTo>
                        <a:pt x="1129" y="196"/>
                      </a:lnTo>
                      <a:lnTo>
                        <a:pt x="1107" y="211"/>
                      </a:lnTo>
                      <a:lnTo>
                        <a:pt x="1085" y="226"/>
                      </a:lnTo>
                      <a:lnTo>
                        <a:pt x="1062" y="241"/>
                      </a:lnTo>
                      <a:lnTo>
                        <a:pt x="1040" y="256"/>
                      </a:lnTo>
                      <a:lnTo>
                        <a:pt x="1018" y="271"/>
                      </a:lnTo>
                      <a:lnTo>
                        <a:pt x="996" y="287"/>
                      </a:lnTo>
                      <a:lnTo>
                        <a:pt x="974" y="303"/>
                      </a:lnTo>
                      <a:lnTo>
                        <a:pt x="952" y="318"/>
                      </a:lnTo>
                      <a:lnTo>
                        <a:pt x="929" y="333"/>
                      </a:lnTo>
                      <a:lnTo>
                        <a:pt x="907" y="348"/>
                      </a:lnTo>
                      <a:lnTo>
                        <a:pt x="892" y="347"/>
                      </a:lnTo>
                      <a:lnTo>
                        <a:pt x="877" y="345"/>
                      </a:lnTo>
                      <a:lnTo>
                        <a:pt x="863" y="344"/>
                      </a:lnTo>
                      <a:lnTo>
                        <a:pt x="848" y="342"/>
                      </a:lnTo>
                      <a:lnTo>
                        <a:pt x="832" y="341"/>
                      </a:lnTo>
                      <a:lnTo>
                        <a:pt x="817" y="339"/>
                      </a:lnTo>
                      <a:lnTo>
                        <a:pt x="802" y="338"/>
                      </a:lnTo>
                      <a:lnTo>
                        <a:pt x="787" y="336"/>
                      </a:lnTo>
                      <a:lnTo>
                        <a:pt x="773" y="335"/>
                      </a:lnTo>
                      <a:lnTo>
                        <a:pt x="758" y="334"/>
                      </a:lnTo>
                      <a:lnTo>
                        <a:pt x="743" y="332"/>
                      </a:lnTo>
                      <a:lnTo>
                        <a:pt x="728" y="331"/>
                      </a:lnTo>
                      <a:lnTo>
                        <a:pt x="712" y="329"/>
                      </a:lnTo>
                      <a:lnTo>
                        <a:pt x="697" y="328"/>
                      </a:lnTo>
                      <a:lnTo>
                        <a:pt x="682" y="326"/>
                      </a:lnTo>
                      <a:lnTo>
                        <a:pt x="667" y="325"/>
                      </a:lnTo>
                      <a:lnTo>
                        <a:pt x="657" y="324"/>
                      </a:lnTo>
                      <a:lnTo>
                        <a:pt x="646" y="323"/>
                      </a:lnTo>
                      <a:lnTo>
                        <a:pt x="636" y="322"/>
                      </a:lnTo>
                      <a:lnTo>
                        <a:pt x="625" y="321"/>
                      </a:lnTo>
                      <a:lnTo>
                        <a:pt x="614" y="321"/>
                      </a:lnTo>
                      <a:lnTo>
                        <a:pt x="603" y="320"/>
                      </a:lnTo>
                      <a:lnTo>
                        <a:pt x="593" y="319"/>
                      </a:lnTo>
                      <a:lnTo>
                        <a:pt x="583" y="318"/>
                      </a:lnTo>
                      <a:lnTo>
                        <a:pt x="565" y="316"/>
                      </a:lnTo>
                      <a:lnTo>
                        <a:pt x="548" y="315"/>
                      </a:lnTo>
                      <a:lnTo>
                        <a:pt x="530" y="313"/>
                      </a:lnTo>
                      <a:lnTo>
                        <a:pt x="513" y="311"/>
                      </a:lnTo>
                      <a:lnTo>
                        <a:pt x="494" y="309"/>
                      </a:lnTo>
                      <a:lnTo>
                        <a:pt x="477" y="308"/>
                      </a:lnTo>
                      <a:lnTo>
                        <a:pt x="459" y="306"/>
                      </a:lnTo>
                      <a:lnTo>
                        <a:pt x="442" y="304"/>
                      </a:lnTo>
                      <a:lnTo>
                        <a:pt x="424" y="302"/>
                      </a:lnTo>
                      <a:lnTo>
                        <a:pt x="406" y="300"/>
                      </a:lnTo>
                      <a:lnTo>
                        <a:pt x="388" y="298"/>
                      </a:lnTo>
                      <a:lnTo>
                        <a:pt x="370" y="296"/>
                      </a:lnTo>
                      <a:lnTo>
                        <a:pt x="353" y="295"/>
                      </a:lnTo>
                      <a:lnTo>
                        <a:pt x="335" y="293"/>
                      </a:lnTo>
                      <a:lnTo>
                        <a:pt x="318" y="291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42800" y="4683240"/>
                  <a:ext cx="245880" cy="77760"/>
                </a:xfrm>
                <a:custGeom>
                  <a:avLst/>
                  <a:gdLst/>
                  <a:ahLst/>
                  <a:rect l="l" t="t" r="r" b="b"/>
                  <a:pathLst>
                    <a:path w="1212" h="341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2" y="3"/>
                      </a:lnTo>
                      <a:lnTo>
                        <a:pt x="525" y="6"/>
                      </a:lnTo>
                      <a:lnTo>
                        <a:pt x="548" y="9"/>
                      </a:lnTo>
                      <a:lnTo>
                        <a:pt x="571" y="12"/>
                      </a:lnTo>
                      <a:lnTo>
                        <a:pt x="593" y="15"/>
                      </a:lnTo>
                      <a:lnTo>
                        <a:pt x="617" y="18"/>
                      </a:lnTo>
                      <a:lnTo>
                        <a:pt x="640" y="21"/>
                      </a:lnTo>
                      <a:lnTo>
                        <a:pt x="663" y="24"/>
                      </a:lnTo>
                      <a:lnTo>
                        <a:pt x="685" y="27"/>
                      </a:lnTo>
                      <a:lnTo>
                        <a:pt x="708" y="30"/>
                      </a:lnTo>
                      <a:lnTo>
                        <a:pt x="732" y="33"/>
                      </a:lnTo>
                      <a:lnTo>
                        <a:pt x="754" y="36"/>
                      </a:lnTo>
                      <a:lnTo>
                        <a:pt x="777" y="39"/>
                      </a:lnTo>
                      <a:lnTo>
                        <a:pt x="800" y="42"/>
                      </a:lnTo>
                      <a:lnTo>
                        <a:pt x="822" y="45"/>
                      </a:lnTo>
                      <a:lnTo>
                        <a:pt x="846" y="48"/>
                      </a:lnTo>
                      <a:lnTo>
                        <a:pt x="869" y="51"/>
                      </a:lnTo>
                      <a:lnTo>
                        <a:pt x="891" y="54"/>
                      </a:lnTo>
                      <a:lnTo>
                        <a:pt x="914" y="57"/>
                      </a:lnTo>
                      <a:lnTo>
                        <a:pt x="937" y="60"/>
                      </a:lnTo>
                      <a:lnTo>
                        <a:pt x="960" y="63"/>
                      </a:lnTo>
                      <a:lnTo>
                        <a:pt x="983" y="66"/>
                      </a:lnTo>
                      <a:lnTo>
                        <a:pt x="1006" y="69"/>
                      </a:lnTo>
                      <a:lnTo>
                        <a:pt x="1029" y="72"/>
                      </a:lnTo>
                      <a:lnTo>
                        <a:pt x="1051" y="75"/>
                      </a:lnTo>
                      <a:lnTo>
                        <a:pt x="1075" y="78"/>
                      </a:lnTo>
                      <a:lnTo>
                        <a:pt x="1098" y="81"/>
                      </a:lnTo>
                      <a:lnTo>
                        <a:pt x="1120" y="84"/>
                      </a:lnTo>
                      <a:lnTo>
                        <a:pt x="1143" y="87"/>
                      </a:lnTo>
                      <a:lnTo>
                        <a:pt x="1166" y="90"/>
                      </a:lnTo>
                      <a:lnTo>
                        <a:pt x="1189" y="94"/>
                      </a:lnTo>
                      <a:lnTo>
                        <a:pt x="1212" y="97"/>
                      </a:lnTo>
                      <a:lnTo>
                        <a:pt x="1191" y="112"/>
                      </a:lnTo>
                      <a:lnTo>
                        <a:pt x="1169" y="127"/>
                      </a:lnTo>
                      <a:lnTo>
                        <a:pt x="1147" y="142"/>
                      </a:lnTo>
                      <a:lnTo>
                        <a:pt x="1126" y="158"/>
                      </a:lnTo>
                      <a:lnTo>
                        <a:pt x="1105" y="173"/>
                      </a:lnTo>
                      <a:lnTo>
                        <a:pt x="1084" y="188"/>
                      </a:lnTo>
                      <a:lnTo>
                        <a:pt x="1062" y="204"/>
                      </a:lnTo>
                      <a:lnTo>
                        <a:pt x="1041" y="219"/>
                      </a:lnTo>
                      <a:lnTo>
                        <a:pt x="1019" y="234"/>
                      </a:lnTo>
                      <a:lnTo>
                        <a:pt x="998" y="249"/>
                      </a:lnTo>
                      <a:lnTo>
                        <a:pt x="977" y="264"/>
                      </a:lnTo>
                      <a:lnTo>
                        <a:pt x="956" y="279"/>
                      </a:lnTo>
                      <a:lnTo>
                        <a:pt x="934" y="296"/>
                      </a:lnTo>
                      <a:lnTo>
                        <a:pt x="912" y="311"/>
                      </a:lnTo>
                      <a:lnTo>
                        <a:pt x="891" y="326"/>
                      </a:lnTo>
                      <a:lnTo>
                        <a:pt x="870" y="341"/>
                      </a:lnTo>
                      <a:lnTo>
                        <a:pt x="856" y="340"/>
                      </a:lnTo>
                      <a:lnTo>
                        <a:pt x="842" y="338"/>
                      </a:lnTo>
                      <a:lnTo>
                        <a:pt x="827" y="337"/>
                      </a:lnTo>
                      <a:lnTo>
                        <a:pt x="813" y="336"/>
                      </a:lnTo>
                      <a:lnTo>
                        <a:pt x="799" y="335"/>
                      </a:lnTo>
                      <a:lnTo>
                        <a:pt x="785" y="333"/>
                      </a:lnTo>
                      <a:lnTo>
                        <a:pt x="771" y="332"/>
                      </a:lnTo>
                      <a:lnTo>
                        <a:pt x="758" y="331"/>
                      </a:lnTo>
                      <a:lnTo>
                        <a:pt x="744" y="330"/>
                      </a:lnTo>
                      <a:lnTo>
                        <a:pt x="730" y="329"/>
                      </a:lnTo>
                      <a:lnTo>
                        <a:pt x="715" y="327"/>
                      </a:lnTo>
                      <a:lnTo>
                        <a:pt x="701" y="326"/>
                      </a:lnTo>
                      <a:lnTo>
                        <a:pt x="687" y="325"/>
                      </a:lnTo>
                      <a:lnTo>
                        <a:pt x="673" y="324"/>
                      </a:lnTo>
                      <a:lnTo>
                        <a:pt x="659" y="322"/>
                      </a:lnTo>
                      <a:lnTo>
                        <a:pt x="645" y="321"/>
                      </a:lnTo>
                      <a:lnTo>
                        <a:pt x="634" y="320"/>
                      </a:lnTo>
                      <a:lnTo>
                        <a:pt x="623" y="319"/>
                      </a:lnTo>
                      <a:lnTo>
                        <a:pt x="611" y="318"/>
                      </a:lnTo>
                      <a:lnTo>
                        <a:pt x="601" y="316"/>
                      </a:lnTo>
                      <a:lnTo>
                        <a:pt x="590" y="315"/>
                      </a:lnTo>
                      <a:lnTo>
                        <a:pt x="579" y="314"/>
                      </a:lnTo>
                      <a:lnTo>
                        <a:pt x="568" y="313"/>
                      </a:lnTo>
                      <a:lnTo>
                        <a:pt x="557" y="312"/>
                      </a:lnTo>
                      <a:lnTo>
                        <a:pt x="541" y="311"/>
                      </a:lnTo>
                      <a:lnTo>
                        <a:pt x="525" y="309"/>
                      </a:lnTo>
                      <a:lnTo>
                        <a:pt x="509" y="308"/>
                      </a:lnTo>
                      <a:lnTo>
                        <a:pt x="492" y="306"/>
                      </a:lnTo>
                      <a:lnTo>
                        <a:pt x="476" y="305"/>
                      </a:lnTo>
                      <a:lnTo>
                        <a:pt x="460" y="303"/>
                      </a:lnTo>
                      <a:lnTo>
                        <a:pt x="444" y="302"/>
                      </a:lnTo>
                      <a:lnTo>
                        <a:pt x="429" y="300"/>
                      </a:lnTo>
                      <a:lnTo>
                        <a:pt x="413" y="299"/>
                      </a:lnTo>
                      <a:lnTo>
                        <a:pt x="397" y="298"/>
                      </a:lnTo>
                      <a:lnTo>
                        <a:pt x="380" y="296"/>
                      </a:lnTo>
                      <a:lnTo>
                        <a:pt x="364" y="295"/>
                      </a:lnTo>
                      <a:lnTo>
                        <a:pt x="348" y="293"/>
                      </a:lnTo>
                      <a:lnTo>
                        <a:pt x="332" y="292"/>
                      </a:lnTo>
                      <a:lnTo>
                        <a:pt x="316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42800" y="4683240"/>
                  <a:ext cx="235800" cy="76320"/>
                </a:xfrm>
                <a:custGeom>
                  <a:avLst/>
                  <a:gdLst/>
                  <a:ahLst/>
                  <a:rect l="l" t="t" r="r" b="b"/>
                  <a:pathLst>
                    <a:path w="1160" h="334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0" y="3"/>
                      </a:lnTo>
                      <a:lnTo>
                        <a:pt x="522" y="6"/>
                      </a:lnTo>
                      <a:lnTo>
                        <a:pt x="543" y="8"/>
                      </a:lnTo>
                      <a:lnTo>
                        <a:pt x="564" y="11"/>
                      </a:lnTo>
                      <a:lnTo>
                        <a:pt x="585" y="14"/>
                      </a:lnTo>
                      <a:lnTo>
                        <a:pt x="607" y="17"/>
                      </a:lnTo>
                      <a:lnTo>
                        <a:pt x="629" y="20"/>
                      </a:lnTo>
                      <a:lnTo>
                        <a:pt x="650" y="22"/>
                      </a:lnTo>
                      <a:lnTo>
                        <a:pt x="671" y="25"/>
                      </a:lnTo>
                      <a:lnTo>
                        <a:pt x="692" y="28"/>
                      </a:lnTo>
                      <a:lnTo>
                        <a:pt x="713" y="31"/>
                      </a:lnTo>
                      <a:lnTo>
                        <a:pt x="735" y="33"/>
                      </a:lnTo>
                      <a:lnTo>
                        <a:pt x="756" y="36"/>
                      </a:lnTo>
                      <a:lnTo>
                        <a:pt x="777" y="39"/>
                      </a:lnTo>
                      <a:lnTo>
                        <a:pt x="798" y="42"/>
                      </a:lnTo>
                      <a:lnTo>
                        <a:pt x="820" y="44"/>
                      </a:lnTo>
                      <a:lnTo>
                        <a:pt x="842" y="47"/>
                      </a:lnTo>
                      <a:lnTo>
                        <a:pt x="863" y="50"/>
                      </a:lnTo>
                      <a:lnTo>
                        <a:pt x="884" y="53"/>
                      </a:lnTo>
                      <a:lnTo>
                        <a:pt x="905" y="56"/>
                      </a:lnTo>
                      <a:lnTo>
                        <a:pt x="926" y="58"/>
                      </a:lnTo>
                      <a:lnTo>
                        <a:pt x="947" y="61"/>
                      </a:lnTo>
                      <a:lnTo>
                        <a:pt x="969" y="64"/>
                      </a:lnTo>
                      <a:lnTo>
                        <a:pt x="990" y="67"/>
                      </a:lnTo>
                      <a:lnTo>
                        <a:pt x="1011" y="69"/>
                      </a:lnTo>
                      <a:lnTo>
                        <a:pt x="1032" y="72"/>
                      </a:lnTo>
                      <a:lnTo>
                        <a:pt x="1054" y="75"/>
                      </a:lnTo>
                      <a:lnTo>
                        <a:pt x="1076" y="78"/>
                      </a:lnTo>
                      <a:lnTo>
                        <a:pt x="1097" y="81"/>
                      </a:lnTo>
                      <a:lnTo>
                        <a:pt x="1118" y="83"/>
                      </a:lnTo>
                      <a:lnTo>
                        <a:pt x="1139" y="86"/>
                      </a:lnTo>
                      <a:lnTo>
                        <a:pt x="1160" y="89"/>
                      </a:lnTo>
                      <a:lnTo>
                        <a:pt x="1140" y="105"/>
                      </a:lnTo>
                      <a:lnTo>
                        <a:pt x="1120" y="120"/>
                      </a:lnTo>
                      <a:lnTo>
                        <a:pt x="1100" y="135"/>
                      </a:lnTo>
                      <a:lnTo>
                        <a:pt x="1079" y="151"/>
                      </a:lnTo>
                      <a:lnTo>
                        <a:pt x="1058" y="166"/>
                      </a:lnTo>
                      <a:lnTo>
                        <a:pt x="1038" y="181"/>
                      </a:lnTo>
                      <a:lnTo>
                        <a:pt x="1018" y="197"/>
                      </a:lnTo>
                      <a:lnTo>
                        <a:pt x="997" y="212"/>
                      </a:lnTo>
                      <a:lnTo>
                        <a:pt x="977" y="227"/>
                      </a:lnTo>
                      <a:lnTo>
                        <a:pt x="957" y="242"/>
                      </a:lnTo>
                      <a:lnTo>
                        <a:pt x="935" y="257"/>
                      </a:lnTo>
                      <a:lnTo>
                        <a:pt x="915" y="272"/>
                      </a:lnTo>
                      <a:lnTo>
                        <a:pt x="894" y="289"/>
                      </a:lnTo>
                      <a:lnTo>
                        <a:pt x="874" y="304"/>
                      </a:lnTo>
                      <a:lnTo>
                        <a:pt x="853" y="319"/>
                      </a:lnTo>
                      <a:lnTo>
                        <a:pt x="832" y="334"/>
                      </a:lnTo>
                      <a:lnTo>
                        <a:pt x="819" y="333"/>
                      </a:lnTo>
                      <a:lnTo>
                        <a:pt x="806" y="332"/>
                      </a:lnTo>
                      <a:lnTo>
                        <a:pt x="793" y="331"/>
                      </a:lnTo>
                      <a:lnTo>
                        <a:pt x="780" y="330"/>
                      </a:lnTo>
                      <a:lnTo>
                        <a:pt x="767" y="329"/>
                      </a:lnTo>
                      <a:lnTo>
                        <a:pt x="754" y="328"/>
                      </a:lnTo>
                      <a:lnTo>
                        <a:pt x="741" y="327"/>
                      </a:lnTo>
                      <a:lnTo>
                        <a:pt x="728" y="325"/>
                      </a:lnTo>
                      <a:lnTo>
                        <a:pt x="714" y="324"/>
                      </a:lnTo>
                      <a:lnTo>
                        <a:pt x="701" y="323"/>
                      </a:lnTo>
                      <a:lnTo>
                        <a:pt x="688" y="322"/>
                      </a:lnTo>
                      <a:lnTo>
                        <a:pt x="675" y="321"/>
                      </a:lnTo>
                      <a:lnTo>
                        <a:pt x="662" y="320"/>
                      </a:lnTo>
                      <a:lnTo>
                        <a:pt x="649" y="319"/>
                      </a:lnTo>
                      <a:lnTo>
                        <a:pt x="636" y="318"/>
                      </a:lnTo>
                      <a:lnTo>
                        <a:pt x="623" y="317"/>
                      </a:lnTo>
                      <a:lnTo>
                        <a:pt x="611" y="315"/>
                      </a:lnTo>
                      <a:lnTo>
                        <a:pt x="600" y="314"/>
                      </a:lnTo>
                      <a:lnTo>
                        <a:pt x="588" y="312"/>
                      </a:lnTo>
                      <a:lnTo>
                        <a:pt x="577" y="311"/>
                      </a:lnTo>
                      <a:lnTo>
                        <a:pt x="566" y="309"/>
                      </a:lnTo>
                      <a:lnTo>
                        <a:pt x="555" y="308"/>
                      </a:lnTo>
                      <a:lnTo>
                        <a:pt x="543" y="306"/>
                      </a:lnTo>
                      <a:lnTo>
                        <a:pt x="532" y="305"/>
                      </a:lnTo>
                      <a:lnTo>
                        <a:pt x="518" y="304"/>
                      </a:lnTo>
                      <a:lnTo>
                        <a:pt x="502" y="303"/>
                      </a:lnTo>
                      <a:lnTo>
                        <a:pt x="488" y="302"/>
                      </a:lnTo>
                      <a:lnTo>
                        <a:pt x="474" y="301"/>
                      </a:lnTo>
                      <a:lnTo>
                        <a:pt x="459" y="300"/>
                      </a:lnTo>
                      <a:lnTo>
                        <a:pt x="445" y="299"/>
                      </a:lnTo>
                      <a:lnTo>
                        <a:pt x="431" y="298"/>
                      </a:lnTo>
                      <a:lnTo>
                        <a:pt x="416" y="297"/>
                      </a:lnTo>
                      <a:lnTo>
                        <a:pt x="402" y="296"/>
                      </a:lnTo>
                      <a:lnTo>
                        <a:pt x="387" y="295"/>
                      </a:lnTo>
                      <a:lnTo>
                        <a:pt x="372" y="294"/>
                      </a:lnTo>
                      <a:lnTo>
                        <a:pt x="358" y="293"/>
                      </a:lnTo>
                      <a:lnTo>
                        <a:pt x="343" y="292"/>
                      </a:lnTo>
                      <a:lnTo>
                        <a:pt x="329" y="291"/>
                      </a:lnTo>
                      <a:lnTo>
                        <a:pt x="314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42800" y="4683240"/>
                  <a:ext cx="226080" cy="74520"/>
                </a:xfrm>
                <a:custGeom>
                  <a:avLst/>
                  <a:gdLst/>
                  <a:ahLst/>
                  <a:rect l="l" t="t" r="r" b="b"/>
                  <a:pathLst>
                    <a:path w="1110" h="32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9" y="5"/>
                      </a:lnTo>
                      <a:lnTo>
                        <a:pt x="558" y="10"/>
                      </a:lnTo>
                      <a:lnTo>
                        <a:pt x="597" y="15"/>
                      </a:lnTo>
                      <a:lnTo>
                        <a:pt x="637" y="20"/>
                      </a:lnTo>
                      <a:lnTo>
                        <a:pt x="676" y="26"/>
                      </a:lnTo>
                      <a:lnTo>
                        <a:pt x="715" y="31"/>
                      </a:lnTo>
                      <a:lnTo>
                        <a:pt x="755" y="36"/>
                      </a:lnTo>
                      <a:lnTo>
                        <a:pt x="794" y="41"/>
                      </a:lnTo>
                      <a:lnTo>
                        <a:pt x="833" y="46"/>
                      </a:lnTo>
                      <a:lnTo>
                        <a:pt x="873" y="52"/>
                      </a:lnTo>
                      <a:lnTo>
                        <a:pt x="912" y="57"/>
                      </a:lnTo>
                      <a:lnTo>
                        <a:pt x="952" y="62"/>
                      </a:lnTo>
                      <a:lnTo>
                        <a:pt x="992" y="67"/>
                      </a:lnTo>
                      <a:lnTo>
                        <a:pt x="1031" y="73"/>
                      </a:lnTo>
                      <a:lnTo>
                        <a:pt x="1071" y="78"/>
                      </a:lnTo>
                      <a:lnTo>
                        <a:pt x="1110" y="83"/>
                      </a:lnTo>
                      <a:lnTo>
                        <a:pt x="1091" y="99"/>
                      </a:lnTo>
                      <a:lnTo>
                        <a:pt x="1071" y="114"/>
                      </a:lnTo>
                      <a:lnTo>
                        <a:pt x="1051" y="129"/>
                      </a:lnTo>
                      <a:lnTo>
                        <a:pt x="1031" y="144"/>
                      </a:lnTo>
                      <a:lnTo>
                        <a:pt x="1012" y="159"/>
                      </a:lnTo>
                      <a:lnTo>
                        <a:pt x="992" y="174"/>
                      </a:lnTo>
                      <a:lnTo>
                        <a:pt x="973" y="190"/>
                      </a:lnTo>
                      <a:lnTo>
                        <a:pt x="953" y="205"/>
                      </a:lnTo>
                      <a:lnTo>
                        <a:pt x="933" y="220"/>
                      </a:lnTo>
                      <a:lnTo>
                        <a:pt x="913" y="235"/>
                      </a:lnTo>
                      <a:lnTo>
                        <a:pt x="894" y="250"/>
                      </a:lnTo>
                      <a:lnTo>
                        <a:pt x="874" y="265"/>
                      </a:lnTo>
                      <a:lnTo>
                        <a:pt x="855" y="280"/>
                      </a:lnTo>
                      <a:lnTo>
                        <a:pt x="834" y="296"/>
                      </a:lnTo>
                      <a:lnTo>
                        <a:pt x="815" y="311"/>
                      </a:lnTo>
                      <a:lnTo>
                        <a:pt x="795" y="326"/>
                      </a:lnTo>
                      <a:lnTo>
                        <a:pt x="783" y="325"/>
                      </a:lnTo>
                      <a:lnTo>
                        <a:pt x="771" y="324"/>
                      </a:lnTo>
                      <a:lnTo>
                        <a:pt x="759" y="324"/>
                      </a:lnTo>
                      <a:lnTo>
                        <a:pt x="747" y="323"/>
                      </a:lnTo>
                      <a:lnTo>
                        <a:pt x="735" y="322"/>
                      </a:lnTo>
                      <a:lnTo>
                        <a:pt x="722" y="321"/>
                      </a:lnTo>
                      <a:lnTo>
                        <a:pt x="710" y="320"/>
                      </a:lnTo>
                      <a:lnTo>
                        <a:pt x="698" y="319"/>
                      </a:lnTo>
                      <a:lnTo>
                        <a:pt x="685" y="319"/>
                      </a:lnTo>
                      <a:lnTo>
                        <a:pt x="673" y="318"/>
                      </a:lnTo>
                      <a:lnTo>
                        <a:pt x="661" y="317"/>
                      </a:lnTo>
                      <a:lnTo>
                        <a:pt x="649" y="316"/>
                      </a:lnTo>
                      <a:lnTo>
                        <a:pt x="637" y="315"/>
                      </a:lnTo>
                      <a:lnTo>
                        <a:pt x="625" y="315"/>
                      </a:lnTo>
                      <a:lnTo>
                        <a:pt x="612" y="314"/>
                      </a:lnTo>
                      <a:lnTo>
                        <a:pt x="600" y="313"/>
                      </a:lnTo>
                      <a:lnTo>
                        <a:pt x="588" y="311"/>
                      </a:lnTo>
                      <a:lnTo>
                        <a:pt x="577" y="309"/>
                      </a:lnTo>
                      <a:lnTo>
                        <a:pt x="565" y="308"/>
                      </a:lnTo>
                      <a:lnTo>
                        <a:pt x="554" y="306"/>
                      </a:lnTo>
                      <a:lnTo>
                        <a:pt x="542" y="304"/>
                      </a:lnTo>
                      <a:lnTo>
                        <a:pt x="530" y="303"/>
                      </a:lnTo>
                      <a:lnTo>
                        <a:pt x="519" y="301"/>
                      </a:lnTo>
                      <a:lnTo>
                        <a:pt x="507" y="299"/>
                      </a:lnTo>
                      <a:lnTo>
                        <a:pt x="493" y="298"/>
                      </a:lnTo>
                      <a:lnTo>
                        <a:pt x="480" y="298"/>
                      </a:lnTo>
                      <a:lnTo>
                        <a:pt x="468" y="297"/>
                      </a:lnTo>
                      <a:lnTo>
                        <a:pt x="455" y="297"/>
                      </a:lnTo>
                      <a:lnTo>
                        <a:pt x="442" y="296"/>
                      </a:lnTo>
                      <a:lnTo>
                        <a:pt x="429" y="296"/>
                      </a:lnTo>
                      <a:lnTo>
                        <a:pt x="417" y="295"/>
                      </a:lnTo>
                      <a:lnTo>
                        <a:pt x="404" y="294"/>
                      </a:lnTo>
                      <a:lnTo>
                        <a:pt x="390" y="294"/>
                      </a:lnTo>
                      <a:lnTo>
                        <a:pt x="377" y="293"/>
                      </a:lnTo>
                      <a:lnTo>
                        <a:pt x="364" y="292"/>
                      </a:lnTo>
                      <a:lnTo>
                        <a:pt x="352" y="292"/>
                      </a:lnTo>
                      <a:lnTo>
                        <a:pt x="339" y="291"/>
                      </a:lnTo>
                      <a:lnTo>
                        <a:pt x="326" y="290"/>
                      </a:lnTo>
                      <a:lnTo>
                        <a:pt x="313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42800" y="4683240"/>
                  <a:ext cx="214560" cy="73080"/>
                </a:xfrm>
                <a:custGeom>
                  <a:avLst/>
                  <a:gdLst/>
                  <a:ahLst/>
                  <a:rect l="l" t="t" r="r" b="b"/>
                  <a:pathLst>
                    <a:path w="1058" h="319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6" y="5"/>
                      </a:lnTo>
                      <a:lnTo>
                        <a:pt x="552" y="9"/>
                      </a:lnTo>
                      <a:lnTo>
                        <a:pt x="588" y="14"/>
                      </a:lnTo>
                      <a:lnTo>
                        <a:pt x="624" y="19"/>
                      </a:lnTo>
                      <a:lnTo>
                        <a:pt x="660" y="23"/>
                      </a:lnTo>
                      <a:lnTo>
                        <a:pt x="696" y="28"/>
                      </a:lnTo>
                      <a:lnTo>
                        <a:pt x="733" y="33"/>
                      </a:lnTo>
                      <a:lnTo>
                        <a:pt x="769" y="38"/>
                      </a:lnTo>
                      <a:lnTo>
                        <a:pt x="805" y="42"/>
                      </a:lnTo>
                      <a:lnTo>
                        <a:pt x="842" y="47"/>
                      </a:lnTo>
                      <a:lnTo>
                        <a:pt x="878" y="52"/>
                      </a:lnTo>
                      <a:lnTo>
                        <a:pt x="914" y="57"/>
                      </a:lnTo>
                      <a:lnTo>
                        <a:pt x="949" y="61"/>
                      </a:lnTo>
                      <a:lnTo>
                        <a:pt x="986" y="66"/>
                      </a:lnTo>
                      <a:lnTo>
                        <a:pt x="1022" y="71"/>
                      </a:lnTo>
                      <a:lnTo>
                        <a:pt x="1058" y="76"/>
                      </a:lnTo>
                      <a:lnTo>
                        <a:pt x="1039" y="91"/>
                      </a:lnTo>
                      <a:lnTo>
                        <a:pt x="1021" y="107"/>
                      </a:lnTo>
                      <a:lnTo>
                        <a:pt x="1002" y="122"/>
                      </a:lnTo>
                      <a:lnTo>
                        <a:pt x="984" y="137"/>
                      </a:lnTo>
                      <a:lnTo>
                        <a:pt x="965" y="152"/>
                      </a:lnTo>
                      <a:lnTo>
                        <a:pt x="946" y="167"/>
                      </a:lnTo>
                      <a:lnTo>
                        <a:pt x="927" y="182"/>
                      </a:lnTo>
                      <a:lnTo>
                        <a:pt x="908" y="198"/>
                      </a:lnTo>
                      <a:lnTo>
                        <a:pt x="890" y="213"/>
                      </a:lnTo>
                      <a:lnTo>
                        <a:pt x="871" y="228"/>
                      </a:lnTo>
                      <a:lnTo>
                        <a:pt x="852" y="243"/>
                      </a:lnTo>
                      <a:lnTo>
                        <a:pt x="833" y="258"/>
                      </a:lnTo>
                      <a:lnTo>
                        <a:pt x="814" y="273"/>
                      </a:lnTo>
                      <a:lnTo>
                        <a:pt x="795" y="289"/>
                      </a:lnTo>
                      <a:lnTo>
                        <a:pt x="777" y="304"/>
                      </a:lnTo>
                      <a:lnTo>
                        <a:pt x="758" y="319"/>
                      </a:lnTo>
                      <a:lnTo>
                        <a:pt x="747" y="318"/>
                      </a:lnTo>
                      <a:lnTo>
                        <a:pt x="736" y="318"/>
                      </a:lnTo>
                      <a:lnTo>
                        <a:pt x="724" y="317"/>
                      </a:lnTo>
                      <a:lnTo>
                        <a:pt x="713" y="317"/>
                      </a:lnTo>
                      <a:lnTo>
                        <a:pt x="701" y="316"/>
                      </a:lnTo>
                      <a:lnTo>
                        <a:pt x="690" y="315"/>
                      </a:lnTo>
                      <a:lnTo>
                        <a:pt x="679" y="315"/>
                      </a:lnTo>
                      <a:lnTo>
                        <a:pt x="668" y="314"/>
                      </a:lnTo>
                      <a:lnTo>
                        <a:pt x="657" y="313"/>
                      </a:lnTo>
                      <a:lnTo>
                        <a:pt x="645" y="313"/>
                      </a:lnTo>
                      <a:lnTo>
                        <a:pt x="634" y="312"/>
                      </a:lnTo>
                      <a:lnTo>
                        <a:pt x="623" y="311"/>
                      </a:lnTo>
                      <a:lnTo>
                        <a:pt x="611" y="311"/>
                      </a:lnTo>
                      <a:lnTo>
                        <a:pt x="599" y="310"/>
                      </a:lnTo>
                      <a:lnTo>
                        <a:pt x="588" y="310"/>
                      </a:lnTo>
                      <a:lnTo>
                        <a:pt x="577" y="309"/>
                      </a:lnTo>
                      <a:lnTo>
                        <a:pt x="565" y="307"/>
                      </a:lnTo>
                      <a:lnTo>
                        <a:pt x="554" y="305"/>
                      </a:lnTo>
                      <a:lnTo>
                        <a:pt x="542" y="303"/>
                      </a:lnTo>
                      <a:lnTo>
                        <a:pt x="530" y="301"/>
                      </a:lnTo>
                      <a:lnTo>
                        <a:pt x="518" y="299"/>
                      </a:lnTo>
                      <a:lnTo>
                        <a:pt x="506" y="297"/>
                      </a:lnTo>
                      <a:lnTo>
                        <a:pt x="493" y="295"/>
                      </a:lnTo>
                      <a:lnTo>
                        <a:pt x="481" y="293"/>
                      </a:lnTo>
                      <a:lnTo>
                        <a:pt x="470" y="293"/>
                      </a:lnTo>
                      <a:lnTo>
                        <a:pt x="459" y="293"/>
                      </a:lnTo>
                      <a:lnTo>
                        <a:pt x="447" y="292"/>
                      </a:lnTo>
                      <a:lnTo>
                        <a:pt x="436" y="292"/>
                      </a:lnTo>
                      <a:lnTo>
                        <a:pt x="425" y="292"/>
                      </a:lnTo>
                      <a:lnTo>
                        <a:pt x="414" y="292"/>
                      </a:lnTo>
                      <a:lnTo>
                        <a:pt x="402" y="292"/>
                      </a:lnTo>
                      <a:lnTo>
                        <a:pt x="390" y="291"/>
                      </a:lnTo>
                      <a:lnTo>
                        <a:pt x="379" y="291"/>
                      </a:lnTo>
                      <a:lnTo>
                        <a:pt x="368" y="291"/>
                      </a:lnTo>
                      <a:lnTo>
                        <a:pt x="356" y="291"/>
                      </a:lnTo>
                      <a:lnTo>
                        <a:pt x="345" y="290"/>
                      </a:lnTo>
                      <a:lnTo>
                        <a:pt x="334" y="290"/>
                      </a:lnTo>
                      <a:lnTo>
                        <a:pt x="323" y="290"/>
                      </a:lnTo>
                      <a:lnTo>
                        <a:pt x="311" y="289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342800" y="4683240"/>
                  <a:ext cx="204840" cy="71280"/>
                </a:xfrm>
                <a:custGeom>
                  <a:avLst/>
                  <a:gdLst/>
                  <a:ahLst/>
                  <a:rect l="l" t="t" r="r" b="b"/>
                  <a:pathLst>
                    <a:path w="1008" h="312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3" y="4"/>
                      </a:lnTo>
                      <a:lnTo>
                        <a:pt x="546" y="9"/>
                      </a:lnTo>
                      <a:lnTo>
                        <a:pt x="578" y="13"/>
                      </a:lnTo>
                      <a:lnTo>
                        <a:pt x="611" y="17"/>
                      </a:lnTo>
                      <a:lnTo>
                        <a:pt x="645" y="22"/>
                      </a:lnTo>
                      <a:lnTo>
                        <a:pt x="678" y="26"/>
                      </a:lnTo>
                      <a:lnTo>
                        <a:pt x="710" y="30"/>
                      </a:lnTo>
                      <a:lnTo>
                        <a:pt x="744" y="34"/>
                      </a:lnTo>
                      <a:lnTo>
                        <a:pt x="777" y="39"/>
                      </a:lnTo>
                      <a:lnTo>
                        <a:pt x="809" y="43"/>
                      </a:lnTo>
                      <a:lnTo>
                        <a:pt x="843" y="47"/>
                      </a:lnTo>
                      <a:lnTo>
                        <a:pt x="876" y="52"/>
                      </a:lnTo>
                      <a:lnTo>
                        <a:pt x="909" y="56"/>
                      </a:lnTo>
                      <a:lnTo>
                        <a:pt x="941" y="60"/>
                      </a:lnTo>
                      <a:lnTo>
                        <a:pt x="975" y="65"/>
                      </a:lnTo>
                      <a:lnTo>
                        <a:pt x="1008" y="69"/>
                      </a:lnTo>
                      <a:lnTo>
                        <a:pt x="990" y="84"/>
                      </a:lnTo>
                      <a:lnTo>
                        <a:pt x="972" y="100"/>
                      </a:lnTo>
                      <a:lnTo>
                        <a:pt x="955" y="115"/>
                      </a:lnTo>
                      <a:lnTo>
                        <a:pt x="936" y="130"/>
                      </a:lnTo>
                      <a:lnTo>
                        <a:pt x="918" y="145"/>
                      </a:lnTo>
                      <a:lnTo>
                        <a:pt x="900" y="160"/>
                      </a:lnTo>
                      <a:lnTo>
                        <a:pt x="882" y="175"/>
                      </a:lnTo>
                      <a:lnTo>
                        <a:pt x="865" y="191"/>
                      </a:lnTo>
                      <a:lnTo>
                        <a:pt x="847" y="206"/>
                      </a:lnTo>
                      <a:lnTo>
                        <a:pt x="828" y="221"/>
                      </a:lnTo>
                      <a:lnTo>
                        <a:pt x="810" y="236"/>
                      </a:lnTo>
                      <a:lnTo>
                        <a:pt x="792" y="251"/>
                      </a:lnTo>
                      <a:lnTo>
                        <a:pt x="774" y="266"/>
                      </a:lnTo>
                      <a:lnTo>
                        <a:pt x="757" y="281"/>
                      </a:lnTo>
                      <a:lnTo>
                        <a:pt x="739" y="297"/>
                      </a:lnTo>
                      <a:lnTo>
                        <a:pt x="720" y="312"/>
                      </a:lnTo>
                      <a:lnTo>
                        <a:pt x="710" y="311"/>
                      </a:lnTo>
                      <a:lnTo>
                        <a:pt x="700" y="311"/>
                      </a:lnTo>
                      <a:lnTo>
                        <a:pt x="690" y="310"/>
                      </a:lnTo>
                      <a:lnTo>
                        <a:pt x="679" y="310"/>
                      </a:lnTo>
                      <a:lnTo>
                        <a:pt x="669" y="309"/>
                      </a:lnTo>
                      <a:lnTo>
                        <a:pt x="659" y="309"/>
                      </a:lnTo>
                      <a:lnTo>
                        <a:pt x="649" y="309"/>
                      </a:lnTo>
                      <a:lnTo>
                        <a:pt x="638" y="308"/>
                      </a:lnTo>
                      <a:lnTo>
                        <a:pt x="628" y="308"/>
                      </a:lnTo>
                      <a:lnTo>
                        <a:pt x="618" y="307"/>
                      </a:lnTo>
                      <a:lnTo>
                        <a:pt x="607" y="307"/>
                      </a:lnTo>
                      <a:lnTo>
                        <a:pt x="596" y="307"/>
                      </a:lnTo>
                      <a:lnTo>
                        <a:pt x="586" y="306"/>
                      </a:lnTo>
                      <a:lnTo>
                        <a:pt x="576" y="306"/>
                      </a:lnTo>
                      <a:lnTo>
                        <a:pt x="565" y="305"/>
                      </a:lnTo>
                      <a:lnTo>
                        <a:pt x="555" y="305"/>
                      </a:lnTo>
                      <a:lnTo>
                        <a:pt x="543" y="303"/>
                      </a:lnTo>
                      <a:lnTo>
                        <a:pt x="531" y="300"/>
                      </a:lnTo>
                      <a:lnTo>
                        <a:pt x="519" y="298"/>
                      </a:lnTo>
                      <a:lnTo>
                        <a:pt x="506" y="296"/>
                      </a:lnTo>
                      <a:lnTo>
                        <a:pt x="493" y="294"/>
                      </a:lnTo>
                      <a:lnTo>
                        <a:pt x="481" y="291"/>
                      </a:lnTo>
                      <a:lnTo>
                        <a:pt x="468" y="289"/>
                      </a:lnTo>
                      <a:lnTo>
                        <a:pt x="456" y="285"/>
                      </a:lnTo>
                      <a:lnTo>
                        <a:pt x="437" y="285"/>
                      </a:lnTo>
                      <a:lnTo>
                        <a:pt x="418" y="287"/>
                      </a:lnTo>
                      <a:lnTo>
                        <a:pt x="398" y="287"/>
                      </a:lnTo>
                      <a:lnTo>
                        <a:pt x="378" y="287"/>
                      </a:lnTo>
                      <a:lnTo>
                        <a:pt x="358" y="288"/>
                      </a:lnTo>
                      <a:lnTo>
                        <a:pt x="339" y="288"/>
                      </a:lnTo>
                      <a:lnTo>
                        <a:pt x="319" y="289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42800" y="4683240"/>
                  <a:ext cx="194760" cy="68400"/>
                </a:xfrm>
                <a:custGeom>
                  <a:avLst/>
                  <a:gdLst/>
                  <a:ahLst/>
                  <a:rect l="l" t="t" r="r" b="b"/>
                  <a:pathLst>
                    <a:path w="958" h="304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0" y="4"/>
                      </a:lnTo>
                      <a:lnTo>
                        <a:pt x="539" y="8"/>
                      </a:lnTo>
                      <a:lnTo>
                        <a:pt x="569" y="12"/>
                      </a:lnTo>
                      <a:lnTo>
                        <a:pt x="599" y="16"/>
                      </a:lnTo>
                      <a:lnTo>
                        <a:pt x="629" y="19"/>
                      </a:lnTo>
                      <a:lnTo>
                        <a:pt x="659" y="23"/>
                      </a:lnTo>
                      <a:lnTo>
                        <a:pt x="688" y="27"/>
                      </a:lnTo>
                      <a:lnTo>
                        <a:pt x="718" y="31"/>
                      </a:lnTo>
                      <a:lnTo>
                        <a:pt x="749" y="35"/>
                      </a:lnTo>
                      <a:lnTo>
                        <a:pt x="778" y="39"/>
                      </a:lnTo>
                      <a:lnTo>
                        <a:pt x="808" y="43"/>
                      </a:lnTo>
                      <a:lnTo>
                        <a:pt x="838" y="46"/>
                      </a:lnTo>
                      <a:lnTo>
                        <a:pt x="868" y="50"/>
                      </a:lnTo>
                      <a:lnTo>
                        <a:pt x="898" y="54"/>
                      </a:lnTo>
                      <a:lnTo>
                        <a:pt x="927" y="58"/>
                      </a:lnTo>
                      <a:lnTo>
                        <a:pt x="958" y="62"/>
                      </a:lnTo>
                      <a:lnTo>
                        <a:pt x="940" y="77"/>
                      </a:lnTo>
                      <a:lnTo>
                        <a:pt x="923" y="92"/>
                      </a:lnTo>
                      <a:lnTo>
                        <a:pt x="906" y="108"/>
                      </a:lnTo>
                      <a:lnTo>
                        <a:pt x="889" y="123"/>
                      </a:lnTo>
                      <a:lnTo>
                        <a:pt x="872" y="138"/>
                      </a:lnTo>
                      <a:lnTo>
                        <a:pt x="855" y="153"/>
                      </a:lnTo>
                      <a:lnTo>
                        <a:pt x="837" y="168"/>
                      </a:lnTo>
                      <a:lnTo>
                        <a:pt x="820" y="183"/>
                      </a:lnTo>
                      <a:lnTo>
                        <a:pt x="803" y="199"/>
                      </a:lnTo>
                      <a:lnTo>
                        <a:pt x="786" y="214"/>
                      </a:lnTo>
                      <a:lnTo>
                        <a:pt x="769" y="229"/>
                      </a:lnTo>
                      <a:lnTo>
                        <a:pt x="752" y="244"/>
                      </a:lnTo>
                      <a:lnTo>
                        <a:pt x="735" y="258"/>
                      </a:lnTo>
                      <a:lnTo>
                        <a:pt x="717" y="273"/>
                      </a:lnTo>
                      <a:lnTo>
                        <a:pt x="700" y="289"/>
                      </a:lnTo>
                      <a:lnTo>
                        <a:pt x="683" y="304"/>
                      </a:lnTo>
                      <a:lnTo>
                        <a:pt x="665" y="304"/>
                      </a:lnTo>
                      <a:lnTo>
                        <a:pt x="646" y="303"/>
                      </a:lnTo>
                      <a:lnTo>
                        <a:pt x="628" y="303"/>
                      </a:lnTo>
                      <a:lnTo>
                        <a:pt x="608" y="303"/>
                      </a:lnTo>
                      <a:lnTo>
                        <a:pt x="589" y="302"/>
                      </a:lnTo>
                      <a:lnTo>
                        <a:pt x="570" y="302"/>
                      </a:lnTo>
                      <a:lnTo>
                        <a:pt x="552" y="302"/>
                      </a:lnTo>
                      <a:lnTo>
                        <a:pt x="533" y="302"/>
                      </a:lnTo>
                      <a:lnTo>
                        <a:pt x="520" y="299"/>
                      </a:lnTo>
                      <a:lnTo>
                        <a:pt x="508" y="296"/>
                      </a:lnTo>
                      <a:lnTo>
                        <a:pt x="494" y="293"/>
                      </a:lnTo>
                      <a:lnTo>
                        <a:pt x="482" y="291"/>
                      </a:lnTo>
                      <a:lnTo>
                        <a:pt x="469" y="288"/>
                      </a:lnTo>
                      <a:lnTo>
                        <a:pt x="456" y="284"/>
                      </a:lnTo>
                      <a:lnTo>
                        <a:pt x="444" y="282"/>
                      </a:lnTo>
                      <a:lnTo>
                        <a:pt x="431" y="279"/>
                      </a:lnTo>
                      <a:lnTo>
                        <a:pt x="415" y="280"/>
                      </a:lnTo>
                      <a:lnTo>
                        <a:pt x="399" y="281"/>
                      </a:lnTo>
                      <a:lnTo>
                        <a:pt x="382" y="282"/>
                      </a:lnTo>
                      <a:lnTo>
                        <a:pt x="365" y="283"/>
                      </a:lnTo>
                      <a:lnTo>
                        <a:pt x="349" y="285"/>
                      </a:lnTo>
                      <a:lnTo>
                        <a:pt x="333" y="287"/>
                      </a:lnTo>
                      <a:lnTo>
                        <a:pt x="316" y="288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42800" y="4683240"/>
                  <a:ext cx="185040" cy="68400"/>
                </a:xfrm>
                <a:custGeom>
                  <a:avLst/>
                  <a:gdLst/>
                  <a:ahLst/>
                  <a:rect l="l" t="t" r="r" b="b"/>
                  <a:pathLst>
                    <a:path w="906" h="29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6" y="3"/>
                      </a:lnTo>
                      <a:lnTo>
                        <a:pt x="533" y="7"/>
                      </a:lnTo>
                      <a:lnTo>
                        <a:pt x="559" y="10"/>
                      </a:lnTo>
                      <a:lnTo>
                        <a:pt x="586" y="14"/>
                      </a:lnTo>
                      <a:lnTo>
                        <a:pt x="612" y="17"/>
                      </a:lnTo>
                      <a:lnTo>
                        <a:pt x="640" y="21"/>
                      </a:lnTo>
                      <a:lnTo>
                        <a:pt x="666" y="24"/>
                      </a:lnTo>
                      <a:lnTo>
                        <a:pt x="693" y="28"/>
                      </a:lnTo>
                      <a:lnTo>
                        <a:pt x="719" y="31"/>
                      </a:lnTo>
                      <a:lnTo>
                        <a:pt x="746" y="35"/>
                      </a:lnTo>
                      <a:lnTo>
                        <a:pt x="773" y="38"/>
                      </a:lnTo>
                      <a:lnTo>
                        <a:pt x="799" y="42"/>
                      </a:lnTo>
                      <a:lnTo>
                        <a:pt x="826" y="45"/>
                      </a:lnTo>
                      <a:lnTo>
                        <a:pt x="853" y="49"/>
                      </a:lnTo>
                      <a:lnTo>
                        <a:pt x="880" y="52"/>
                      </a:lnTo>
                      <a:lnTo>
                        <a:pt x="906" y="56"/>
                      </a:lnTo>
                      <a:lnTo>
                        <a:pt x="890" y="71"/>
                      </a:lnTo>
                      <a:lnTo>
                        <a:pt x="874" y="86"/>
                      </a:lnTo>
                      <a:lnTo>
                        <a:pt x="858" y="101"/>
                      </a:lnTo>
                      <a:lnTo>
                        <a:pt x="842" y="116"/>
                      </a:lnTo>
                      <a:lnTo>
                        <a:pt x="824" y="131"/>
                      </a:lnTo>
                      <a:lnTo>
                        <a:pt x="808" y="146"/>
                      </a:lnTo>
                      <a:lnTo>
                        <a:pt x="792" y="161"/>
                      </a:lnTo>
                      <a:lnTo>
                        <a:pt x="776" y="176"/>
                      </a:lnTo>
                      <a:lnTo>
                        <a:pt x="760" y="191"/>
                      </a:lnTo>
                      <a:lnTo>
                        <a:pt x="744" y="206"/>
                      </a:lnTo>
                      <a:lnTo>
                        <a:pt x="728" y="221"/>
                      </a:lnTo>
                      <a:lnTo>
                        <a:pt x="711" y="236"/>
                      </a:lnTo>
                      <a:lnTo>
                        <a:pt x="694" y="251"/>
                      </a:lnTo>
                      <a:lnTo>
                        <a:pt x="678" y="266"/>
                      </a:lnTo>
                      <a:lnTo>
                        <a:pt x="662" y="281"/>
                      </a:lnTo>
                      <a:lnTo>
                        <a:pt x="646" y="297"/>
                      </a:lnTo>
                      <a:lnTo>
                        <a:pt x="629" y="297"/>
                      </a:lnTo>
                      <a:lnTo>
                        <a:pt x="612" y="297"/>
                      </a:lnTo>
                      <a:lnTo>
                        <a:pt x="595" y="297"/>
                      </a:lnTo>
                      <a:lnTo>
                        <a:pt x="578" y="297"/>
                      </a:lnTo>
                      <a:lnTo>
                        <a:pt x="562" y="297"/>
                      </a:lnTo>
                      <a:lnTo>
                        <a:pt x="545" y="297"/>
                      </a:lnTo>
                      <a:lnTo>
                        <a:pt x="528" y="298"/>
                      </a:lnTo>
                      <a:lnTo>
                        <a:pt x="511" y="298"/>
                      </a:lnTo>
                      <a:lnTo>
                        <a:pt x="497" y="295"/>
                      </a:lnTo>
                      <a:lnTo>
                        <a:pt x="484" y="292"/>
                      </a:lnTo>
                      <a:lnTo>
                        <a:pt x="471" y="289"/>
                      </a:lnTo>
                      <a:lnTo>
                        <a:pt x="458" y="285"/>
                      </a:lnTo>
                      <a:lnTo>
                        <a:pt x="445" y="282"/>
                      </a:lnTo>
                      <a:lnTo>
                        <a:pt x="432" y="279"/>
                      </a:lnTo>
                      <a:lnTo>
                        <a:pt x="419" y="275"/>
                      </a:lnTo>
                      <a:lnTo>
                        <a:pt x="406" y="272"/>
                      </a:lnTo>
                      <a:lnTo>
                        <a:pt x="393" y="274"/>
                      </a:lnTo>
                      <a:lnTo>
                        <a:pt x="379" y="276"/>
                      </a:lnTo>
                      <a:lnTo>
                        <a:pt x="366" y="278"/>
                      </a:lnTo>
                      <a:lnTo>
                        <a:pt x="353" y="280"/>
                      </a:lnTo>
                      <a:lnTo>
                        <a:pt x="339" y="282"/>
                      </a:lnTo>
                      <a:lnTo>
                        <a:pt x="326" y="284"/>
                      </a:lnTo>
                      <a:lnTo>
                        <a:pt x="313" y="287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42800" y="4683240"/>
                  <a:ext cx="173520" cy="66600"/>
                </a:xfrm>
                <a:custGeom>
                  <a:avLst/>
                  <a:gdLst/>
                  <a:ahLst/>
                  <a:rect l="l" t="t" r="r" b="b"/>
                  <a:pathLst>
                    <a:path w="856" h="294">
                      <a:moveTo>
                        <a:pt x="0" y="230"/>
                      </a:moveTo>
                      <a:lnTo>
                        <a:pt x="479" y="0"/>
                      </a:lnTo>
                      <a:lnTo>
                        <a:pt x="856" y="49"/>
                      </a:lnTo>
                      <a:lnTo>
                        <a:pt x="609" y="289"/>
                      </a:lnTo>
                      <a:lnTo>
                        <a:pt x="488" y="294"/>
                      </a:lnTo>
                      <a:lnTo>
                        <a:pt x="380" y="266"/>
                      </a:lnTo>
                      <a:lnTo>
                        <a:pt x="300" y="289"/>
                      </a:lnTo>
                      <a:lnTo>
                        <a:pt x="314" y="271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486440" y="4695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01920" y="46990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16320" y="4700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8"/>
                      </a:moveTo>
                      <a:lnTo>
                        <a:pt x="31" y="0"/>
                      </a:lnTo>
                      <a:lnTo>
                        <a:pt x="43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70600" y="469440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55120" y="46926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41080" y="4689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76360" y="46990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91840" y="470088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06240" y="470376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0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60520" y="469764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45040" y="4694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1000" y="46926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77800" y="46958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94720" y="46990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09120" y="4702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463760" y="4694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446480" y="46926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433880" y="468972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85000" y="47037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5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00840" y="470700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14880" y="4708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469520" y="470232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7"/>
                      </a:moveTo>
                      <a:lnTo>
                        <a:pt x="28" y="0"/>
                      </a:lnTo>
                      <a:lnTo>
                        <a:pt x="40" y="14"/>
                      </a:lnTo>
                      <a:lnTo>
                        <a:pt x="7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452240" y="47008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39280" y="469764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1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74920" y="470700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90760" y="4708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3" y="13"/>
                      </a:lnTo>
                      <a:lnTo>
                        <a:pt x="7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0480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9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459440" y="470376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442160" y="4702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429560" y="469908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4" h="21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1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76360" y="47037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93640" y="470700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06240" y="470880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0520" y="4702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45040" y="470088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432440" y="46976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493640" y="471024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10560" y="4711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4960" y="47149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477800" y="47070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62320" y="4705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448280" y="470376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8356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0084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13440" y="47167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67720" y="471024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452240" y="4708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438200" y="47055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486440" y="4710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01920" y="4711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16320" y="47149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470600" y="470880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455120" y="4707000"/>
                  <a:ext cx="1224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41080" y="4703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490760" y="4714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06240" y="471816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520640" y="4719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9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74920" y="471348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59440" y="47116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5040" y="470880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9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80680" y="47181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96520" y="47196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10560" y="4722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6520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49360" y="47134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35320" y="471168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83560" y="47149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499040" y="47181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8" y="0"/>
                      </a:lnTo>
                      <a:lnTo>
                        <a:pt x="40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513440" y="471960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70" h="13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467720" y="47134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452240" y="4711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3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3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438200" y="470880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48280" y="4511880"/>
                  <a:ext cx="268560" cy="199800"/>
                </a:xfrm>
                <a:custGeom>
                  <a:avLst/>
                  <a:gdLst/>
                  <a:ahLst/>
                  <a:rect l="l" t="t" r="r" b="b"/>
                  <a:pathLst>
                    <a:path w="1325" h="880">
                      <a:moveTo>
                        <a:pt x="292" y="0"/>
                      </a:moveTo>
                      <a:lnTo>
                        <a:pt x="543" y="23"/>
                      </a:lnTo>
                      <a:lnTo>
                        <a:pt x="582" y="0"/>
                      </a:lnTo>
                      <a:lnTo>
                        <a:pt x="972" y="32"/>
                      </a:lnTo>
                      <a:lnTo>
                        <a:pt x="1021" y="56"/>
                      </a:lnTo>
                      <a:lnTo>
                        <a:pt x="1306" y="89"/>
                      </a:lnTo>
                      <a:lnTo>
                        <a:pt x="1325" y="119"/>
                      </a:lnTo>
                      <a:lnTo>
                        <a:pt x="1097" y="839"/>
                      </a:lnTo>
                      <a:lnTo>
                        <a:pt x="1057" y="880"/>
                      </a:lnTo>
                      <a:lnTo>
                        <a:pt x="0" y="742"/>
                      </a:lnTo>
                      <a:lnTo>
                        <a:pt x="0" y="705"/>
                      </a:lnTo>
                      <a:lnTo>
                        <a:pt x="20" y="697"/>
                      </a:lnTo>
                      <a:lnTo>
                        <a:pt x="18" y="673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77520" y="47102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593000" y="471168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07400" y="47149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61680" y="47070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46200" y="470556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32160" y="470376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744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8328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97320" y="47167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2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51960" y="47102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36120" y="47088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22080" y="47055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0320" y="47102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8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85800" y="4711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600200" y="47149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54480" y="470880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37560" y="47070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24960" y="4703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75720" y="471672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5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593000" y="47181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605960" y="4721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60240" y="4713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44400" y="47116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30360" y="471024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5"/>
                      </a:moveTo>
                      <a:lnTo>
                        <a:pt x="30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66360" y="47181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83280" y="47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6" h="21">
                      <a:moveTo>
                        <a:pt x="9" y="0"/>
                      </a:moveTo>
                      <a:lnTo>
                        <a:pt x="53" y="4"/>
                      </a:lnTo>
                      <a:lnTo>
                        <a:pt x="56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8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95880" y="47228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60" h="22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60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550520" y="47167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535040" y="471492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1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52064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568880" y="471672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84720" y="47181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98760" y="47214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553400" y="47149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37560" y="4711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23160" y="47102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585800" y="472284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601640" y="4724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8"/>
                      </a:moveTo>
                      <a:lnTo>
                        <a:pt x="31" y="0"/>
                      </a:lnTo>
                      <a:lnTo>
                        <a:pt x="45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16040" y="472752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568880" y="472140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553400" y="471960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39000" y="47167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74640" y="4724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6" y="5"/>
                      </a:lnTo>
                      <a:lnTo>
                        <a:pt x="58" y="21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91560" y="472752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6" h="21">
                      <a:moveTo>
                        <a:pt x="10" y="0"/>
                      </a:moveTo>
                      <a:lnTo>
                        <a:pt x="53" y="5"/>
                      </a:lnTo>
                      <a:lnTo>
                        <a:pt x="56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604520" y="47307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560240" y="472284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20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543320" y="47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530360" y="471816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577520" y="47228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93000" y="472608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607400" y="47275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61680" y="4721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46200" y="47196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32160" y="471672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581840" y="472752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597320" y="47307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11720" y="4734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566360" y="4726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50520" y="472464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7"/>
                      </a:moveTo>
                      <a:lnTo>
                        <a:pt x="28" y="0"/>
                      </a:lnTo>
                      <a:lnTo>
                        <a:pt x="40" y="14"/>
                      </a:lnTo>
                      <a:lnTo>
                        <a:pt x="7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36120" y="4721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2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571760" y="473076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2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587600" y="47340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601640" y="4735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56280" y="4729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540440" y="472752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526040" y="4724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74640" y="4729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590480" y="47307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04520" y="4734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559160" y="472608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543320" y="472464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64" h="14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528920" y="47228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571760" y="4734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482120" y="472140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8680" y="47358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497960" y="4722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8"/>
                      </a:moveTo>
                      <a:lnTo>
                        <a:pt x="30" y="0"/>
                      </a:lnTo>
                      <a:lnTo>
                        <a:pt x="44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03080" y="47386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512000" y="47260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5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5"/>
                      </a:lnTo>
                      <a:lnTo>
                        <a:pt x="9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56280" y="4730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6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66640" y="4718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40440" y="47293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49360" y="4716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26040" y="47275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436400" y="47149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561680" y="47358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72400" y="4722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578600" y="473868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0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87880" y="47260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1560" y="4740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01920" y="472752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46200" y="47340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56560" y="4721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3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530360" y="473256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1080" y="471960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517760" y="472932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26320" y="471492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26320" y="471672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64560" y="4734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473480" y="47214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8" y="0"/>
                      </a:lnTo>
                      <a:lnTo>
                        <a:pt x="40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80400" y="473580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90760" y="47228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2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594440" y="4738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03720" y="47260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49080" y="473256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57640" y="47196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5" h="12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33240" y="473076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42160" y="47181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2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519200" y="47275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29560" y="47134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1450800" y="4511880"/>
                <a:ext cx="261720" cy="189000"/>
              </a:xfrm>
              <a:custGeom>
                <a:avLst/>
                <a:gdLst/>
                <a:ahLst/>
                <a:rect l="l" t="t" r="r" b="b"/>
                <a:pathLst>
                  <a:path w="1289" h="835">
                    <a:moveTo>
                      <a:pt x="273" y="2"/>
                    </a:moveTo>
                    <a:lnTo>
                      <a:pt x="0" y="685"/>
                    </a:lnTo>
                    <a:lnTo>
                      <a:pt x="1041" y="835"/>
                    </a:lnTo>
                    <a:lnTo>
                      <a:pt x="1289" y="88"/>
                    </a:lnTo>
                    <a:lnTo>
                      <a:pt x="997" y="52"/>
                    </a:lnTo>
                    <a:lnTo>
                      <a:pt x="952" y="32"/>
                    </a:lnTo>
                    <a:lnTo>
                      <a:pt x="562" y="0"/>
                    </a:lnTo>
                    <a:lnTo>
                      <a:pt x="517" y="16"/>
                    </a:lnTo>
                    <a:lnTo>
                      <a:pt x="273" y="2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50800" y="4511880"/>
                <a:ext cx="254520" cy="187200"/>
              </a:xfrm>
              <a:custGeom>
                <a:avLst/>
                <a:gdLst/>
                <a:ahLst/>
                <a:rect l="l" t="t" r="r" b="b"/>
                <a:pathLst>
                  <a:path w="1252" h="823">
                    <a:moveTo>
                      <a:pt x="273" y="1"/>
                    </a:moveTo>
                    <a:lnTo>
                      <a:pt x="256" y="43"/>
                    </a:lnTo>
                    <a:lnTo>
                      <a:pt x="239" y="87"/>
                    </a:lnTo>
                    <a:lnTo>
                      <a:pt x="222" y="129"/>
                    </a:lnTo>
                    <a:lnTo>
                      <a:pt x="205" y="171"/>
                    </a:lnTo>
                    <a:lnTo>
                      <a:pt x="187" y="215"/>
                    </a:lnTo>
                    <a:lnTo>
                      <a:pt x="170" y="257"/>
                    </a:lnTo>
                    <a:lnTo>
                      <a:pt x="153" y="301"/>
                    </a:lnTo>
                    <a:lnTo>
                      <a:pt x="136" y="343"/>
                    </a:lnTo>
                    <a:lnTo>
                      <a:pt x="119" y="386"/>
                    </a:lnTo>
                    <a:lnTo>
                      <a:pt x="102" y="429"/>
                    </a:lnTo>
                    <a:lnTo>
                      <a:pt x="85" y="472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600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31" y="689"/>
                    </a:lnTo>
                    <a:lnTo>
                      <a:pt x="62" y="694"/>
                    </a:lnTo>
                    <a:lnTo>
                      <a:pt x="94" y="698"/>
                    </a:lnTo>
                    <a:lnTo>
                      <a:pt x="125" y="702"/>
                    </a:lnTo>
                    <a:lnTo>
                      <a:pt x="156" y="706"/>
                    </a:lnTo>
                    <a:lnTo>
                      <a:pt x="186" y="711"/>
                    </a:lnTo>
                    <a:lnTo>
                      <a:pt x="218" y="715"/>
                    </a:lnTo>
                    <a:lnTo>
                      <a:pt x="249" y="719"/>
                    </a:lnTo>
                    <a:lnTo>
                      <a:pt x="280" y="724"/>
                    </a:lnTo>
                    <a:lnTo>
                      <a:pt x="312" y="728"/>
                    </a:lnTo>
                    <a:lnTo>
                      <a:pt x="343" y="732"/>
                    </a:lnTo>
                    <a:lnTo>
                      <a:pt x="374" y="736"/>
                    </a:lnTo>
                    <a:lnTo>
                      <a:pt x="404" y="741"/>
                    </a:lnTo>
                    <a:lnTo>
                      <a:pt x="436" y="745"/>
                    </a:lnTo>
                    <a:lnTo>
                      <a:pt x="467" y="749"/>
                    </a:lnTo>
                    <a:lnTo>
                      <a:pt x="498" y="754"/>
                    </a:lnTo>
                    <a:lnTo>
                      <a:pt x="529" y="759"/>
                    </a:lnTo>
                    <a:lnTo>
                      <a:pt x="560" y="763"/>
                    </a:lnTo>
                    <a:lnTo>
                      <a:pt x="591" y="767"/>
                    </a:lnTo>
                    <a:lnTo>
                      <a:pt x="622" y="772"/>
                    </a:lnTo>
                    <a:lnTo>
                      <a:pt x="654" y="776"/>
                    </a:lnTo>
                    <a:lnTo>
                      <a:pt x="684" y="780"/>
                    </a:lnTo>
                    <a:lnTo>
                      <a:pt x="715" y="784"/>
                    </a:lnTo>
                    <a:lnTo>
                      <a:pt x="746" y="789"/>
                    </a:lnTo>
                    <a:lnTo>
                      <a:pt x="778" y="793"/>
                    </a:lnTo>
                    <a:lnTo>
                      <a:pt x="808" y="797"/>
                    </a:lnTo>
                    <a:lnTo>
                      <a:pt x="839" y="802"/>
                    </a:lnTo>
                    <a:lnTo>
                      <a:pt x="871" y="806"/>
                    </a:lnTo>
                    <a:lnTo>
                      <a:pt x="902" y="810"/>
                    </a:lnTo>
                    <a:lnTo>
                      <a:pt x="932" y="814"/>
                    </a:lnTo>
                    <a:lnTo>
                      <a:pt x="963" y="819"/>
                    </a:lnTo>
                    <a:lnTo>
                      <a:pt x="995" y="823"/>
                    </a:lnTo>
                    <a:lnTo>
                      <a:pt x="1011" y="778"/>
                    </a:lnTo>
                    <a:lnTo>
                      <a:pt x="1027" y="731"/>
                    </a:lnTo>
                    <a:lnTo>
                      <a:pt x="1043" y="686"/>
                    </a:lnTo>
                    <a:lnTo>
                      <a:pt x="1059" y="640"/>
                    </a:lnTo>
                    <a:lnTo>
                      <a:pt x="1075" y="594"/>
                    </a:lnTo>
                    <a:lnTo>
                      <a:pt x="1091" y="548"/>
                    </a:lnTo>
                    <a:lnTo>
                      <a:pt x="1108" y="503"/>
                    </a:lnTo>
                    <a:lnTo>
                      <a:pt x="1124" y="456"/>
                    </a:lnTo>
                    <a:lnTo>
                      <a:pt x="1139" y="411"/>
                    </a:lnTo>
                    <a:lnTo>
                      <a:pt x="1155" y="366"/>
                    </a:lnTo>
                    <a:lnTo>
                      <a:pt x="1171" y="320"/>
                    </a:lnTo>
                    <a:lnTo>
                      <a:pt x="1187" y="274"/>
                    </a:lnTo>
                    <a:lnTo>
                      <a:pt x="1203" y="228"/>
                    </a:lnTo>
                    <a:lnTo>
                      <a:pt x="1220" y="183"/>
                    </a:lnTo>
                    <a:lnTo>
                      <a:pt x="1236" y="136"/>
                    </a:lnTo>
                    <a:lnTo>
                      <a:pt x="1252" y="91"/>
                    </a:lnTo>
                    <a:lnTo>
                      <a:pt x="1236" y="89"/>
                    </a:lnTo>
                    <a:lnTo>
                      <a:pt x="1219" y="86"/>
                    </a:lnTo>
                    <a:lnTo>
                      <a:pt x="1202" y="84"/>
                    </a:lnTo>
                    <a:lnTo>
                      <a:pt x="1186" y="82"/>
                    </a:lnTo>
                    <a:lnTo>
                      <a:pt x="1169" y="80"/>
                    </a:lnTo>
                    <a:lnTo>
                      <a:pt x="1153" y="77"/>
                    </a:lnTo>
                    <a:lnTo>
                      <a:pt x="1137" y="74"/>
                    </a:lnTo>
                    <a:lnTo>
                      <a:pt x="1121" y="71"/>
                    </a:lnTo>
                    <a:lnTo>
                      <a:pt x="1104" y="69"/>
                    </a:lnTo>
                    <a:lnTo>
                      <a:pt x="1087" y="67"/>
                    </a:lnTo>
                    <a:lnTo>
                      <a:pt x="1071" y="64"/>
                    </a:lnTo>
                    <a:lnTo>
                      <a:pt x="1054" y="62"/>
                    </a:lnTo>
                    <a:lnTo>
                      <a:pt x="1038" y="60"/>
                    </a:lnTo>
                    <a:lnTo>
                      <a:pt x="1022" y="58"/>
                    </a:lnTo>
                    <a:lnTo>
                      <a:pt x="1005" y="55"/>
                    </a:lnTo>
                    <a:lnTo>
                      <a:pt x="989" y="53"/>
                    </a:lnTo>
                    <a:lnTo>
                      <a:pt x="985" y="50"/>
                    </a:lnTo>
                    <a:lnTo>
                      <a:pt x="979" y="48"/>
                    </a:lnTo>
                    <a:lnTo>
                      <a:pt x="975" y="45"/>
                    </a:lnTo>
                    <a:lnTo>
                      <a:pt x="970" y="42"/>
                    </a:lnTo>
                    <a:lnTo>
                      <a:pt x="966" y="40"/>
                    </a:lnTo>
                    <a:lnTo>
                      <a:pt x="961" y="37"/>
                    </a:lnTo>
                    <a:lnTo>
                      <a:pt x="957" y="35"/>
                    </a:lnTo>
                    <a:lnTo>
                      <a:pt x="952" y="32"/>
                    </a:lnTo>
                    <a:lnTo>
                      <a:pt x="928" y="30"/>
                    </a:lnTo>
                    <a:lnTo>
                      <a:pt x="904" y="28"/>
                    </a:lnTo>
                    <a:lnTo>
                      <a:pt x="880" y="26"/>
                    </a:lnTo>
                    <a:lnTo>
                      <a:pt x="855" y="24"/>
                    </a:lnTo>
                    <a:lnTo>
                      <a:pt x="831" y="22"/>
                    </a:lnTo>
                    <a:lnTo>
                      <a:pt x="806" y="20"/>
                    </a:lnTo>
                    <a:lnTo>
                      <a:pt x="782" y="18"/>
                    </a:lnTo>
                    <a:lnTo>
                      <a:pt x="758" y="16"/>
                    </a:lnTo>
                    <a:lnTo>
                      <a:pt x="733" y="14"/>
                    </a:lnTo>
                    <a:lnTo>
                      <a:pt x="708" y="12"/>
                    </a:lnTo>
                    <a:lnTo>
                      <a:pt x="684" y="10"/>
                    </a:lnTo>
                    <a:lnTo>
                      <a:pt x="660" y="8"/>
                    </a:lnTo>
                    <a:lnTo>
                      <a:pt x="635" y="6"/>
                    </a:lnTo>
                    <a:lnTo>
                      <a:pt x="610" y="4"/>
                    </a:lnTo>
                    <a:lnTo>
                      <a:pt x="586" y="2"/>
                    </a:lnTo>
                    <a:lnTo>
                      <a:pt x="562" y="0"/>
                    </a:lnTo>
                    <a:lnTo>
                      <a:pt x="556" y="2"/>
                    </a:lnTo>
                    <a:lnTo>
                      <a:pt x="551" y="4"/>
                    </a:lnTo>
                    <a:lnTo>
                      <a:pt x="545" y="6"/>
                    </a:lnTo>
                    <a:lnTo>
                      <a:pt x="540" y="8"/>
                    </a:lnTo>
                    <a:lnTo>
                      <a:pt x="534" y="10"/>
                    </a:lnTo>
                    <a:lnTo>
                      <a:pt x="528" y="12"/>
                    </a:lnTo>
                    <a:lnTo>
                      <a:pt x="522" y="14"/>
                    </a:lnTo>
                    <a:lnTo>
                      <a:pt x="517" y="16"/>
                    </a:lnTo>
                    <a:lnTo>
                      <a:pt x="502" y="15"/>
                    </a:lnTo>
                    <a:lnTo>
                      <a:pt x="487" y="14"/>
                    </a:lnTo>
                    <a:lnTo>
                      <a:pt x="472" y="13"/>
                    </a:lnTo>
                    <a:lnTo>
                      <a:pt x="456" y="12"/>
                    </a:lnTo>
                    <a:lnTo>
                      <a:pt x="441" y="11"/>
                    </a:lnTo>
                    <a:lnTo>
                      <a:pt x="426" y="10"/>
                    </a:lnTo>
                    <a:lnTo>
                      <a:pt x="410" y="9"/>
                    </a:lnTo>
                    <a:lnTo>
                      <a:pt x="395" y="8"/>
                    </a:lnTo>
                    <a:lnTo>
                      <a:pt x="380" y="8"/>
                    </a:lnTo>
                    <a:lnTo>
                      <a:pt x="365" y="7"/>
                    </a:lnTo>
                    <a:lnTo>
                      <a:pt x="350" y="6"/>
                    </a:lnTo>
                    <a:lnTo>
                      <a:pt x="335" y="5"/>
                    </a:lnTo>
                    <a:lnTo>
                      <a:pt x="319" y="4"/>
                    </a:lnTo>
                    <a:lnTo>
                      <a:pt x="303" y="3"/>
                    </a:lnTo>
                    <a:lnTo>
                      <a:pt x="288" y="2"/>
                    </a:lnTo>
                    <a:lnTo>
                      <a:pt x="273" y="1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62320" y="4511880"/>
                <a:ext cx="247320" cy="183960"/>
              </a:xfrm>
              <a:custGeom>
                <a:avLst/>
                <a:gdLst/>
                <a:ahLst/>
                <a:rect l="l" t="t" r="r" b="b"/>
                <a:pathLst>
                  <a:path w="1216" h="811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7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5"/>
                    </a:lnTo>
                    <a:lnTo>
                      <a:pt x="171" y="257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6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9" y="689"/>
                    </a:lnTo>
                    <a:lnTo>
                      <a:pt x="59" y="693"/>
                    </a:lnTo>
                    <a:lnTo>
                      <a:pt x="89" y="697"/>
                    </a:lnTo>
                    <a:lnTo>
                      <a:pt x="119" y="701"/>
                    </a:lnTo>
                    <a:lnTo>
                      <a:pt x="148" y="705"/>
                    </a:lnTo>
                    <a:lnTo>
                      <a:pt x="178" y="709"/>
                    </a:lnTo>
                    <a:lnTo>
                      <a:pt x="208" y="712"/>
                    </a:lnTo>
                    <a:lnTo>
                      <a:pt x="238" y="716"/>
                    </a:lnTo>
                    <a:lnTo>
                      <a:pt x="267" y="720"/>
                    </a:lnTo>
                    <a:lnTo>
                      <a:pt x="297" y="724"/>
                    </a:lnTo>
                    <a:lnTo>
                      <a:pt x="327" y="728"/>
                    </a:lnTo>
                    <a:lnTo>
                      <a:pt x="356" y="732"/>
                    </a:lnTo>
                    <a:lnTo>
                      <a:pt x="386" y="736"/>
                    </a:lnTo>
                    <a:lnTo>
                      <a:pt x="415" y="740"/>
                    </a:lnTo>
                    <a:lnTo>
                      <a:pt x="446" y="744"/>
                    </a:lnTo>
                    <a:lnTo>
                      <a:pt x="475" y="747"/>
                    </a:lnTo>
                    <a:lnTo>
                      <a:pt x="505" y="751"/>
                    </a:lnTo>
                    <a:lnTo>
                      <a:pt x="535" y="756"/>
                    </a:lnTo>
                    <a:lnTo>
                      <a:pt x="565" y="760"/>
                    </a:lnTo>
                    <a:lnTo>
                      <a:pt x="594" y="764"/>
                    </a:lnTo>
                    <a:lnTo>
                      <a:pt x="623" y="768"/>
                    </a:lnTo>
                    <a:lnTo>
                      <a:pt x="654" y="772"/>
                    </a:lnTo>
                    <a:lnTo>
                      <a:pt x="683" y="776"/>
                    </a:lnTo>
                    <a:lnTo>
                      <a:pt x="713" y="780"/>
                    </a:lnTo>
                    <a:lnTo>
                      <a:pt x="742" y="784"/>
                    </a:lnTo>
                    <a:lnTo>
                      <a:pt x="772" y="787"/>
                    </a:lnTo>
                    <a:lnTo>
                      <a:pt x="802" y="791"/>
                    </a:lnTo>
                    <a:lnTo>
                      <a:pt x="831" y="795"/>
                    </a:lnTo>
                    <a:lnTo>
                      <a:pt x="860" y="799"/>
                    </a:lnTo>
                    <a:lnTo>
                      <a:pt x="890" y="803"/>
                    </a:lnTo>
                    <a:lnTo>
                      <a:pt x="920" y="807"/>
                    </a:lnTo>
                    <a:lnTo>
                      <a:pt x="949" y="811"/>
                    </a:lnTo>
                    <a:lnTo>
                      <a:pt x="966" y="767"/>
                    </a:lnTo>
                    <a:lnTo>
                      <a:pt x="983" y="721"/>
                    </a:lnTo>
                    <a:lnTo>
                      <a:pt x="1000" y="677"/>
                    </a:lnTo>
                    <a:lnTo>
                      <a:pt x="1016" y="631"/>
                    </a:lnTo>
                    <a:lnTo>
                      <a:pt x="1033" y="587"/>
                    </a:lnTo>
                    <a:lnTo>
                      <a:pt x="1049" y="541"/>
                    </a:lnTo>
                    <a:lnTo>
                      <a:pt x="1066" y="497"/>
                    </a:lnTo>
                    <a:lnTo>
                      <a:pt x="1082" y="452"/>
                    </a:lnTo>
                    <a:lnTo>
                      <a:pt x="1100" y="407"/>
                    </a:lnTo>
                    <a:lnTo>
                      <a:pt x="1116" y="362"/>
                    </a:lnTo>
                    <a:lnTo>
                      <a:pt x="1133" y="318"/>
                    </a:lnTo>
                    <a:lnTo>
                      <a:pt x="1149" y="273"/>
                    </a:lnTo>
                    <a:lnTo>
                      <a:pt x="1166" y="228"/>
                    </a:lnTo>
                    <a:lnTo>
                      <a:pt x="1182" y="184"/>
                    </a:lnTo>
                    <a:lnTo>
                      <a:pt x="1199" y="138"/>
                    </a:lnTo>
                    <a:lnTo>
                      <a:pt x="1216" y="94"/>
                    </a:lnTo>
                    <a:lnTo>
                      <a:pt x="1201" y="92"/>
                    </a:lnTo>
                    <a:lnTo>
                      <a:pt x="1186" y="89"/>
                    </a:lnTo>
                    <a:lnTo>
                      <a:pt x="1172" y="87"/>
                    </a:lnTo>
                    <a:lnTo>
                      <a:pt x="1157" y="84"/>
                    </a:lnTo>
                    <a:lnTo>
                      <a:pt x="1143" y="82"/>
                    </a:lnTo>
                    <a:lnTo>
                      <a:pt x="1128" y="79"/>
                    </a:lnTo>
                    <a:lnTo>
                      <a:pt x="1114" y="77"/>
                    </a:lnTo>
                    <a:lnTo>
                      <a:pt x="1099" y="73"/>
                    </a:lnTo>
                    <a:lnTo>
                      <a:pt x="1083" y="71"/>
                    </a:lnTo>
                    <a:lnTo>
                      <a:pt x="1069" y="68"/>
                    </a:lnTo>
                    <a:lnTo>
                      <a:pt x="1054" y="66"/>
                    </a:lnTo>
                    <a:lnTo>
                      <a:pt x="1040" y="63"/>
                    </a:lnTo>
                    <a:lnTo>
                      <a:pt x="1025" y="61"/>
                    </a:lnTo>
                    <a:lnTo>
                      <a:pt x="1011" y="58"/>
                    </a:lnTo>
                    <a:lnTo>
                      <a:pt x="996" y="56"/>
                    </a:lnTo>
                    <a:lnTo>
                      <a:pt x="982" y="53"/>
                    </a:lnTo>
                    <a:lnTo>
                      <a:pt x="974" y="48"/>
                    </a:lnTo>
                    <a:lnTo>
                      <a:pt x="967" y="42"/>
                    </a:lnTo>
                    <a:lnTo>
                      <a:pt x="960" y="37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93f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450800" y="4511880"/>
                <a:ext cx="239040" cy="180720"/>
              </a:xfrm>
              <a:custGeom>
                <a:avLst/>
                <a:gdLst/>
                <a:ahLst/>
                <a:rect l="l" t="t" r="r" b="b"/>
                <a:pathLst>
                  <a:path w="1178" h="799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6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4"/>
                    </a:lnTo>
                    <a:lnTo>
                      <a:pt x="171" y="256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5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8" y="688"/>
                    </a:lnTo>
                    <a:lnTo>
                      <a:pt x="56" y="692"/>
                    </a:lnTo>
                    <a:lnTo>
                      <a:pt x="84" y="695"/>
                    </a:lnTo>
                    <a:lnTo>
                      <a:pt x="113" y="699"/>
                    </a:lnTo>
                    <a:lnTo>
                      <a:pt x="141" y="702"/>
                    </a:lnTo>
                    <a:lnTo>
                      <a:pt x="169" y="706"/>
                    </a:lnTo>
                    <a:lnTo>
                      <a:pt x="198" y="709"/>
                    </a:lnTo>
                    <a:lnTo>
                      <a:pt x="226" y="713"/>
                    </a:lnTo>
                    <a:lnTo>
                      <a:pt x="254" y="716"/>
                    </a:lnTo>
                    <a:lnTo>
                      <a:pt x="282" y="720"/>
                    </a:lnTo>
                    <a:lnTo>
                      <a:pt x="311" y="723"/>
                    </a:lnTo>
                    <a:lnTo>
                      <a:pt x="339" y="727"/>
                    </a:lnTo>
                    <a:lnTo>
                      <a:pt x="367" y="731"/>
                    </a:lnTo>
                    <a:lnTo>
                      <a:pt x="395" y="734"/>
                    </a:lnTo>
                    <a:lnTo>
                      <a:pt x="424" y="738"/>
                    </a:lnTo>
                    <a:lnTo>
                      <a:pt x="453" y="741"/>
                    </a:lnTo>
                    <a:lnTo>
                      <a:pt x="481" y="745"/>
                    </a:lnTo>
                    <a:lnTo>
                      <a:pt x="509" y="748"/>
                    </a:lnTo>
                    <a:lnTo>
                      <a:pt x="538" y="753"/>
                    </a:lnTo>
                    <a:lnTo>
                      <a:pt x="566" y="756"/>
                    </a:lnTo>
                    <a:lnTo>
                      <a:pt x="594" y="760"/>
                    </a:lnTo>
                    <a:lnTo>
                      <a:pt x="622" y="763"/>
                    </a:lnTo>
                    <a:lnTo>
                      <a:pt x="651" y="767"/>
                    </a:lnTo>
                    <a:lnTo>
                      <a:pt x="679" y="771"/>
                    </a:lnTo>
                    <a:lnTo>
                      <a:pt x="707" y="774"/>
                    </a:lnTo>
                    <a:lnTo>
                      <a:pt x="735" y="778"/>
                    </a:lnTo>
                    <a:lnTo>
                      <a:pt x="764" y="781"/>
                    </a:lnTo>
                    <a:lnTo>
                      <a:pt x="792" y="785"/>
                    </a:lnTo>
                    <a:lnTo>
                      <a:pt x="820" y="788"/>
                    </a:lnTo>
                    <a:lnTo>
                      <a:pt x="848" y="792"/>
                    </a:lnTo>
                    <a:lnTo>
                      <a:pt x="877" y="795"/>
                    </a:lnTo>
                    <a:lnTo>
                      <a:pt x="905" y="799"/>
                    </a:lnTo>
                    <a:lnTo>
                      <a:pt x="922" y="755"/>
                    </a:lnTo>
                    <a:lnTo>
                      <a:pt x="938" y="711"/>
                    </a:lnTo>
                    <a:lnTo>
                      <a:pt x="955" y="667"/>
                    </a:lnTo>
                    <a:lnTo>
                      <a:pt x="972" y="623"/>
                    </a:lnTo>
                    <a:lnTo>
                      <a:pt x="990" y="579"/>
                    </a:lnTo>
                    <a:lnTo>
                      <a:pt x="1007" y="535"/>
                    </a:lnTo>
                    <a:lnTo>
                      <a:pt x="1024" y="491"/>
                    </a:lnTo>
                    <a:lnTo>
                      <a:pt x="1041" y="447"/>
                    </a:lnTo>
                    <a:lnTo>
                      <a:pt x="1058" y="403"/>
                    </a:lnTo>
                    <a:lnTo>
                      <a:pt x="1075" y="359"/>
                    </a:lnTo>
                    <a:lnTo>
                      <a:pt x="1092" y="315"/>
                    </a:lnTo>
                    <a:lnTo>
                      <a:pt x="1110" y="272"/>
                    </a:lnTo>
                    <a:lnTo>
                      <a:pt x="1127" y="227"/>
                    </a:lnTo>
                    <a:lnTo>
                      <a:pt x="1144" y="184"/>
                    </a:lnTo>
                    <a:lnTo>
                      <a:pt x="1161" y="139"/>
                    </a:lnTo>
                    <a:lnTo>
                      <a:pt x="1178" y="96"/>
                    </a:lnTo>
                    <a:lnTo>
                      <a:pt x="1165" y="94"/>
                    </a:lnTo>
                    <a:lnTo>
                      <a:pt x="1153" y="91"/>
                    </a:lnTo>
                    <a:lnTo>
                      <a:pt x="1140" y="89"/>
                    </a:lnTo>
                    <a:lnTo>
                      <a:pt x="1128" y="86"/>
                    </a:lnTo>
                    <a:lnTo>
                      <a:pt x="1115" y="84"/>
                    </a:lnTo>
                    <a:lnTo>
                      <a:pt x="1102" y="81"/>
                    </a:lnTo>
                    <a:lnTo>
                      <a:pt x="1089" y="78"/>
                    </a:lnTo>
                    <a:lnTo>
                      <a:pt x="1076" y="76"/>
                    </a:lnTo>
                    <a:lnTo>
                      <a:pt x="1063" y="72"/>
                    </a:lnTo>
                    <a:lnTo>
                      <a:pt x="1050" y="70"/>
                    </a:lnTo>
                    <a:lnTo>
                      <a:pt x="1038" y="67"/>
                    </a:lnTo>
                    <a:lnTo>
                      <a:pt x="1025" y="64"/>
                    </a:lnTo>
                    <a:lnTo>
                      <a:pt x="1012" y="62"/>
                    </a:lnTo>
                    <a:lnTo>
                      <a:pt x="999" y="59"/>
                    </a:lnTo>
                    <a:lnTo>
                      <a:pt x="987" y="57"/>
                    </a:lnTo>
                    <a:lnTo>
                      <a:pt x="973" y="54"/>
                    </a:lnTo>
                    <a:lnTo>
                      <a:pt x="968" y="49"/>
                    </a:lnTo>
                    <a:lnTo>
                      <a:pt x="963" y="43"/>
                    </a:lnTo>
                    <a:lnTo>
                      <a:pt x="958" y="37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c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50800" y="4511880"/>
                <a:ext cx="231840" cy="177840"/>
              </a:xfrm>
              <a:custGeom>
                <a:avLst/>
                <a:gdLst/>
                <a:ahLst/>
                <a:rect l="l" t="t" r="r" b="b"/>
                <a:pathLst>
                  <a:path w="1141" h="787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6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4"/>
                    </a:lnTo>
                    <a:lnTo>
                      <a:pt x="171" y="256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5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7" y="688"/>
                    </a:lnTo>
                    <a:lnTo>
                      <a:pt x="53" y="691"/>
                    </a:lnTo>
                    <a:lnTo>
                      <a:pt x="80" y="694"/>
                    </a:lnTo>
                    <a:lnTo>
                      <a:pt x="107" y="697"/>
                    </a:lnTo>
                    <a:lnTo>
                      <a:pt x="134" y="701"/>
                    </a:lnTo>
                    <a:lnTo>
                      <a:pt x="160" y="704"/>
                    </a:lnTo>
                    <a:lnTo>
                      <a:pt x="187" y="707"/>
                    </a:lnTo>
                    <a:lnTo>
                      <a:pt x="214" y="710"/>
                    </a:lnTo>
                    <a:lnTo>
                      <a:pt x="241" y="713"/>
                    </a:lnTo>
                    <a:lnTo>
                      <a:pt x="268" y="716"/>
                    </a:lnTo>
                    <a:lnTo>
                      <a:pt x="294" y="719"/>
                    </a:lnTo>
                    <a:lnTo>
                      <a:pt x="322" y="722"/>
                    </a:lnTo>
                    <a:lnTo>
                      <a:pt x="348" y="726"/>
                    </a:lnTo>
                    <a:lnTo>
                      <a:pt x="375" y="729"/>
                    </a:lnTo>
                    <a:lnTo>
                      <a:pt x="402" y="732"/>
                    </a:lnTo>
                    <a:lnTo>
                      <a:pt x="429" y="735"/>
                    </a:lnTo>
                    <a:lnTo>
                      <a:pt x="456" y="738"/>
                    </a:lnTo>
                    <a:lnTo>
                      <a:pt x="483" y="741"/>
                    </a:lnTo>
                    <a:lnTo>
                      <a:pt x="509" y="745"/>
                    </a:lnTo>
                    <a:lnTo>
                      <a:pt x="537" y="748"/>
                    </a:lnTo>
                    <a:lnTo>
                      <a:pt x="563" y="751"/>
                    </a:lnTo>
                    <a:lnTo>
                      <a:pt x="590" y="755"/>
                    </a:lnTo>
                    <a:lnTo>
                      <a:pt x="617" y="758"/>
                    </a:lnTo>
                    <a:lnTo>
                      <a:pt x="643" y="762"/>
                    </a:lnTo>
                    <a:lnTo>
                      <a:pt x="671" y="765"/>
                    </a:lnTo>
                    <a:lnTo>
                      <a:pt x="698" y="768"/>
                    </a:lnTo>
                    <a:lnTo>
                      <a:pt x="724" y="771"/>
                    </a:lnTo>
                    <a:lnTo>
                      <a:pt x="751" y="774"/>
                    </a:lnTo>
                    <a:lnTo>
                      <a:pt x="779" y="777"/>
                    </a:lnTo>
                    <a:lnTo>
                      <a:pt x="806" y="781"/>
                    </a:lnTo>
                    <a:lnTo>
                      <a:pt x="832" y="784"/>
                    </a:lnTo>
                    <a:lnTo>
                      <a:pt x="859" y="787"/>
                    </a:lnTo>
                    <a:lnTo>
                      <a:pt x="877" y="743"/>
                    </a:lnTo>
                    <a:lnTo>
                      <a:pt x="894" y="701"/>
                    </a:lnTo>
                    <a:lnTo>
                      <a:pt x="911" y="658"/>
                    </a:lnTo>
                    <a:lnTo>
                      <a:pt x="929" y="615"/>
                    </a:lnTo>
                    <a:lnTo>
                      <a:pt x="946" y="572"/>
                    </a:lnTo>
                    <a:lnTo>
                      <a:pt x="963" y="529"/>
                    </a:lnTo>
                    <a:lnTo>
                      <a:pt x="982" y="486"/>
                    </a:lnTo>
                    <a:lnTo>
                      <a:pt x="999" y="442"/>
                    </a:lnTo>
                    <a:lnTo>
                      <a:pt x="1017" y="400"/>
                    </a:lnTo>
                    <a:lnTo>
                      <a:pt x="1034" y="356"/>
                    </a:lnTo>
                    <a:lnTo>
                      <a:pt x="1052" y="314"/>
                    </a:lnTo>
                    <a:lnTo>
                      <a:pt x="1070" y="271"/>
                    </a:lnTo>
                    <a:lnTo>
                      <a:pt x="1087" y="228"/>
                    </a:lnTo>
                    <a:lnTo>
                      <a:pt x="1106" y="185"/>
                    </a:lnTo>
                    <a:lnTo>
                      <a:pt x="1123" y="142"/>
                    </a:lnTo>
                    <a:lnTo>
                      <a:pt x="1141" y="99"/>
                    </a:lnTo>
                    <a:lnTo>
                      <a:pt x="1130" y="96"/>
                    </a:lnTo>
                    <a:lnTo>
                      <a:pt x="1119" y="94"/>
                    </a:lnTo>
                    <a:lnTo>
                      <a:pt x="1108" y="91"/>
                    </a:lnTo>
                    <a:lnTo>
                      <a:pt x="1098" y="88"/>
                    </a:lnTo>
                    <a:lnTo>
                      <a:pt x="1086" y="86"/>
                    </a:lnTo>
                    <a:lnTo>
                      <a:pt x="1075" y="83"/>
                    </a:lnTo>
                    <a:lnTo>
                      <a:pt x="1064" y="80"/>
                    </a:lnTo>
                    <a:lnTo>
                      <a:pt x="1053" y="77"/>
                    </a:lnTo>
                    <a:lnTo>
                      <a:pt x="1042" y="74"/>
                    </a:lnTo>
                    <a:lnTo>
                      <a:pt x="1031" y="71"/>
                    </a:lnTo>
                    <a:lnTo>
                      <a:pt x="1020" y="68"/>
                    </a:lnTo>
                    <a:lnTo>
                      <a:pt x="1010" y="66"/>
                    </a:lnTo>
                    <a:lnTo>
                      <a:pt x="999" y="63"/>
                    </a:lnTo>
                    <a:lnTo>
                      <a:pt x="988" y="60"/>
                    </a:lnTo>
                    <a:lnTo>
                      <a:pt x="976" y="58"/>
                    </a:lnTo>
                    <a:lnTo>
                      <a:pt x="965" y="55"/>
                    </a:lnTo>
                    <a:lnTo>
                      <a:pt x="962" y="49"/>
                    </a:lnTo>
                    <a:lnTo>
                      <a:pt x="959" y="43"/>
                    </a:lnTo>
                    <a:lnTo>
                      <a:pt x="956" y="38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c4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50800" y="4511880"/>
                <a:ext cx="223560" cy="176040"/>
              </a:xfrm>
              <a:custGeom>
                <a:avLst/>
                <a:gdLst/>
                <a:ahLst/>
                <a:rect l="l" t="t" r="r" b="b"/>
                <a:pathLst>
                  <a:path w="1104" h="775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300"/>
                    </a:lnTo>
                    <a:lnTo>
                      <a:pt x="138" y="342"/>
                    </a:lnTo>
                    <a:lnTo>
                      <a:pt x="121" y="385"/>
                    </a:lnTo>
                    <a:lnTo>
                      <a:pt x="103" y="428"/>
                    </a:lnTo>
                    <a:lnTo>
                      <a:pt x="85" y="471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5" y="687"/>
                    </a:lnTo>
                    <a:lnTo>
                      <a:pt x="50" y="690"/>
                    </a:lnTo>
                    <a:lnTo>
                      <a:pt x="76" y="692"/>
                    </a:lnTo>
                    <a:lnTo>
                      <a:pt x="102" y="695"/>
                    </a:lnTo>
                    <a:lnTo>
                      <a:pt x="127" y="698"/>
                    </a:lnTo>
                    <a:lnTo>
                      <a:pt x="152" y="701"/>
                    </a:lnTo>
                    <a:lnTo>
                      <a:pt x="177" y="704"/>
                    </a:lnTo>
                    <a:lnTo>
                      <a:pt x="204" y="706"/>
                    </a:lnTo>
                    <a:lnTo>
                      <a:pt x="229" y="709"/>
                    </a:lnTo>
                    <a:lnTo>
                      <a:pt x="254" y="712"/>
                    </a:lnTo>
                    <a:lnTo>
                      <a:pt x="279" y="715"/>
                    </a:lnTo>
                    <a:lnTo>
                      <a:pt x="304" y="718"/>
                    </a:lnTo>
                    <a:lnTo>
                      <a:pt x="330" y="721"/>
                    </a:lnTo>
                    <a:lnTo>
                      <a:pt x="356" y="723"/>
                    </a:lnTo>
                    <a:lnTo>
                      <a:pt x="381" y="726"/>
                    </a:lnTo>
                    <a:lnTo>
                      <a:pt x="406" y="729"/>
                    </a:lnTo>
                    <a:lnTo>
                      <a:pt x="432" y="732"/>
                    </a:lnTo>
                    <a:lnTo>
                      <a:pt x="457" y="735"/>
                    </a:lnTo>
                    <a:lnTo>
                      <a:pt x="483" y="737"/>
                    </a:lnTo>
                    <a:lnTo>
                      <a:pt x="508" y="740"/>
                    </a:lnTo>
                    <a:lnTo>
                      <a:pt x="533" y="743"/>
                    </a:lnTo>
                    <a:lnTo>
                      <a:pt x="559" y="746"/>
                    </a:lnTo>
                    <a:lnTo>
                      <a:pt x="584" y="749"/>
                    </a:lnTo>
                    <a:lnTo>
                      <a:pt x="609" y="751"/>
                    </a:lnTo>
                    <a:lnTo>
                      <a:pt x="635" y="755"/>
                    </a:lnTo>
                    <a:lnTo>
                      <a:pt x="661" y="758"/>
                    </a:lnTo>
                    <a:lnTo>
                      <a:pt x="686" y="761"/>
                    </a:lnTo>
                    <a:lnTo>
                      <a:pt x="711" y="764"/>
                    </a:lnTo>
                    <a:lnTo>
                      <a:pt x="736" y="767"/>
                    </a:lnTo>
                    <a:lnTo>
                      <a:pt x="763" y="769"/>
                    </a:lnTo>
                    <a:lnTo>
                      <a:pt x="788" y="772"/>
                    </a:lnTo>
                    <a:lnTo>
                      <a:pt x="813" y="775"/>
                    </a:lnTo>
                    <a:lnTo>
                      <a:pt x="831" y="732"/>
                    </a:lnTo>
                    <a:lnTo>
                      <a:pt x="849" y="691"/>
                    </a:lnTo>
                    <a:lnTo>
                      <a:pt x="867" y="648"/>
                    </a:lnTo>
                    <a:lnTo>
                      <a:pt x="886" y="606"/>
                    </a:lnTo>
                    <a:lnTo>
                      <a:pt x="904" y="565"/>
                    </a:lnTo>
                    <a:lnTo>
                      <a:pt x="922" y="522"/>
                    </a:lnTo>
                    <a:lnTo>
                      <a:pt x="940" y="481"/>
                    </a:lnTo>
                    <a:lnTo>
                      <a:pt x="958" y="438"/>
                    </a:lnTo>
                    <a:lnTo>
                      <a:pt x="976" y="396"/>
                    </a:lnTo>
                    <a:lnTo>
                      <a:pt x="995" y="354"/>
                    </a:lnTo>
                    <a:lnTo>
                      <a:pt x="1013" y="312"/>
                    </a:lnTo>
                    <a:lnTo>
                      <a:pt x="1031" y="270"/>
                    </a:lnTo>
                    <a:lnTo>
                      <a:pt x="1049" y="228"/>
                    </a:lnTo>
                    <a:lnTo>
                      <a:pt x="1067" y="186"/>
                    </a:lnTo>
                    <a:lnTo>
                      <a:pt x="1085" y="144"/>
                    </a:lnTo>
                    <a:lnTo>
                      <a:pt x="1104" y="102"/>
                    </a:lnTo>
                    <a:lnTo>
                      <a:pt x="1085" y="96"/>
                    </a:lnTo>
                    <a:lnTo>
                      <a:pt x="1067" y="91"/>
                    </a:lnTo>
                    <a:lnTo>
                      <a:pt x="1049" y="85"/>
                    </a:lnTo>
                    <a:lnTo>
                      <a:pt x="1031" y="79"/>
                    </a:lnTo>
                    <a:lnTo>
                      <a:pt x="1013" y="72"/>
                    </a:lnTo>
                    <a:lnTo>
                      <a:pt x="995" y="66"/>
                    </a:lnTo>
                    <a:lnTo>
                      <a:pt x="976" y="61"/>
                    </a:lnTo>
                    <a:lnTo>
                      <a:pt x="958" y="55"/>
                    </a:lnTo>
                    <a:lnTo>
                      <a:pt x="957" y="49"/>
                    </a:lnTo>
                    <a:lnTo>
                      <a:pt x="956" y="43"/>
                    </a:lnTo>
                    <a:lnTo>
                      <a:pt x="955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8" y="12"/>
                    </a:lnTo>
                    <a:lnTo>
                      <a:pt x="443" y="11"/>
                    </a:lnTo>
                    <a:lnTo>
                      <a:pt x="428" y="10"/>
                    </a:lnTo>
                    <a:lnTo>
                      <a:pt x="412" y="9"/>
                    </a:lnTo>
                    <a:lnTo>
                      <a:pt x="397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4f49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50800" y="4511880"/>
                <a:ext cx="216360" cy="172800"/>
              </a:xfrm>
              <a:custGeom>
                <a:avLst/>
                <a:gdLst/>
                <a:ahLst/>
                <a:rect l="l" t="t" r="r" b="b"/>
                <a:pathLst>
                  <a:path w="1066" h="763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299"/>
                    </a:lnTo>
                    <a:lnTo>
                      <a:pt x="138" y="341"/>
                    </a:lnTo>
                    <a:lnTo>
                      <a:pt x="121" y="385"/>
                    </a:lnTo>
                    <a:lnTo>
                      <a:pt x="103" y="427"/>
                    </a:lnTo>
                    <a:lnTo>
                      <a:pt x="85" y="470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4" y="686"/>
                    </a:lnTo>
                    <a:lnTo>
                      <a:pt x="47" y="689"/>
                    </a:lnTo>
                    <a:lnTo>
                      <a:pt x="71" y="691"/>
                    </a:lnTo>
                    <a:lnTo>
                      <a:pt x="96" y="694"/>
                    </a:lnTo>
                    <a:lnTo>
                      <a:pt x="120" y="696"/>
                    </a:lnTo>
                    <a:lnTo>
                      <a:pt x="143" y="699"/>
                    </a:lnTo>
                    <a:lnTo>
                      <a:pt x="167" y="701"/>
                    </a:lnTo>
                    <a:lnTo>
                      <a:pt x="191" y="703"/>
                    </a:lnTo>
                    <a:lnTo>
                      <a:pt x="215" y="706"/>
                    </a:lnTo>
                    <a:lnTo>
                      <a:pt x="239" y="708"/>
                    </a:lnTo>
                    <a:lnTo>
                      <a:pt x="263" y="711"/>
                    </a:lnTo>
                    <a:lnTo>
                      <a:pt x="287" y="713"/>
                    </a:lnTo>
                    <a:lnTo>
                      <a:pt x="311" y="716"/>
                    </a:lnTo>
                    <a:lnTo>
                      <a:pt x="335" y="718"/>
                    </a:lnTo>
                    <a:lnTo>
                      <a:pt x="359" y="721"/>
                    </a:lnTo>
                    <a:lnTo>
                      <a:pt x="383" y="723"/>
                    </a:lnTo>
                    <a:lnTo>
                      <a:pt x="406" y="725"/>
                    </a:lnTo>
                    <a:lnTo>
                      <a:pt x="431" y="728"/>
                    </a:lnTo>
                    <a:lnTo>
                      <a:pt x="455" y="730"/>
                    </a:lnTo>
                    <a:lnTo>
                      <a:pt x="479" y="733"/>
                    </a:lnTo>
                    <a:lnTo>
                      <a:pt x="502" y="735"/>
                    </a:lnTo>
                    <a:lnTo>
                      <a:pt x="526" y="738"/>
                    </a:lnTo>
                    <a:lnTo>
                      <a:pt x="551" y="740"/>
                    </a:lnTo>
                    <a:lnTo>
                      <a:pt x="575" y="742"/>
                    </a:lnTo>
                    <a:lnTo>
                      <a:pt x="598" y="745"/>
                    </a:lnTo>
                    <a:lnTo>
                      <a:pt x="622" y="747"/>
                    </a:lnTo>
                    <a:lnTo>
                      <a:pt x="647" y="750"/>
                    </a:lnTo>
                    <a:lnTo>
                      <a:pt x="671" y="753"/>
                    </a:lnTo>
                    <a:lnTo>
                      <a:pt x="695" y="756"/>
                    </a:lnTo>
                    <a:lnTo>
                      <a:pt x="718" y="758"/>
                    </a:lnTo>
                    <a:lnTo>
                      <a:pt x="742" y="761"/>
                    </a:lnTo>
                    <a:lnTo>
                      <a:pt x="767" y="763"/>
                    </a:lnTo>
                    <a:lnTo>
                      <a:pt x="786" y="721"/>
                    </a:lnTo>
                    <a:lnTo>
                      <a:pt x="804" y="681"/>
                    </a:lnTo>
                    <a:lnTo>
                      <a:pt x="823" y="639"/>
                    </a:lnTo>
                    <a:lnTo>
                      <a:pt x="842" y="598"/>
                    </a:lnTo>
                    <a:lnTo>
                      <a:pt x="860" y="556"/>
                    </a:lnTo>
                    <a:lnTo>
                      <a:pt x="880" y="516"/>
                    </a:lnTo>
                    <a:lnTo>
                      <a:pt x="898" y="475"/>
                    </a:lnTo>
                    <a:lnTo>
                      <a:pt x="917" y="433"/>
                    </a:lnTo>
                    <a:lnTo>
                      <a:pt x="935" y="392"/>
                    </a:lnTo>
                    <a:lnTo>
                      <a:pt x="953" y="350"/>
                    </a:lnTo>
                    <a:lnTo>
                      <a:pt x="972" y="310"/>
                    </a:lnTo>
                    <a:lnTo>
                      <a:pt x="991" y="269"/>
                    </a:lnTo>
                    <a:lnTo>
                      <a:pt x="1010" y="227"/>
                    </a:lnTo>
                    <a:lnTo>
                      <a:pt x="1029" y="186"/>
                    </a:lnTo>
                    <a:lnTo>
                      <a:pt x="1047" y="145"/>
                    </a:lnTo>
                    <a:lnTo>
                      <a:pt x="1066" y="104"/>
                    </a:lnTo>
                    <a:lnTo>
                      <a:pt x="1052" y="98"/>
                    </a:lnTo>
                    <a:lnTo>
                      <a:pt x="1037" y="92"/>
                    </a:lnTo>
                    <a:lnTo>
                      <a:pt x="1023" y="86"/>
                    </a:lnTo>
                    <a:lnTo>
                      <a:pt x="1009" y="80"/>
                    </a:lnTo>
                    <a:lnTo>
                      <a:pt x="995" y="74"/>
                    </a:lnTo>
                    <a:lnTo>
                      <a:pt x="979" y="68"/>
                    </a:lnTo>
                    <a:lnTo>
                      <a:pt x="965" y="62"/>
                    </a:lnTo>
                    <a:lnTo>
                      <a:pt x="950" y="56"/>
                    </a:lnTo>
                    <a:lnTo>
                      <a:pt x="951" y="50"/>
                    </a:lnTo>
                    <a:lnTo>
                      <a:pt x="952" y="44"/>
                    </a:lnTo>
                    <a:lnTo>
                      <a:pt x="953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8" y="12"/>
                    </a:lnTo>
                    <a:lnTo>
                      <a:pt x="443" y="11"/>
                    </a:lnTo>
                    <a:lnTo>
                      <a:pt x="428" y="10"/>
                    </a:lnTo>
                    <a:lnTo>
                      <a:pt x="412" y="9"/>
                    </a:lnTo>
                    <a:lnTo>
                      <a:pt x="397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4f4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50800" y="4511880"/>
                <a:ext cx="209160" cy="169920"/>
              </a:xfrm>
              <a:custGeom>
                <a:avLst/>
                <a:gdLst/>
                <a:ahLst/>
                <a:rect l="l" t="t" r="r" b="b"/>
                <a:pathLst>
                  <a:path w="1029" h="750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299"/>
                    </a:lnTo>
                    <a:lnTo>
                      <a:pt x="138" y="341"/>
                    </a:lnTo>
                    <a:lnTo>
                      <a:pt x="121" y="385"/>
                    </a:lnTo>
                    <a:lnTo>
                      <a:pt x="103" y="427"/>
                    </a:lnTo>
                    <a:lnTo>
                      <a:pt x="85" y="470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2" y="686"/>
                    </a:lnTo>
                    <a:lnTo>
                      <a:pt x="45" y="688"/>
                    </a:lnTo>
                    <a:lnTo>
                      <a:pt x="67" y="690"/>
                    </a:lnTo>
                    <a:lnTo>
                      <a:pt x="90" y="692"/>
                    </a:lnTo>
                    <a:lnTo>
                      <a:pt x="113" y="694"/>
                    </a:lnTo>
                    <a:lnTo>
                      <a:pt x="135" y="696"/>
                    </a:lnTo>
                    <a:lnTo>
                      <a:pt x="157" y="698"/>
                    </a:lnTo>
                    <a:lnTo>
                      <a:pt x="180" y="700"/>
                    </a:lnTo>
                    <a:lnTo>
                      <a:pt x="203" y="703"/>
                    </a:lnTo>
                    <a:lnTo>
                      <a:pt x="225" y="705"/>
                    </a:lnTo>
                    <a:lnTo>
                      <a:pt x="247" y="707"/>
                    </a:lnTo>
                    <a:lnTo>
                      <a:pt x="270" y="709"/>
                    </a:lnTo>
                    <a:lnTo>
                      <a:pt x="292" y="711"/>
                    </a:lnTo>
                    <a:lnTo>
                      <a:pt x="315" y="713"/>
                    </a:lnTo>
                    <a:lnTo>
                      <a:pt x="338" y="715"/>
                    </a:lnTo>
                    <a:lnTo>
                      <a:pt x="360" y="717"/>
                    </a:lnTo>
                    <a:lnTo>
                      <a:pt x="382" y="719"/>
                    </a:lnTo>
                    <a:lnTo>
                      <a:pt x="405" y="721"/>
                    </a:lnTo>
                    <a:lnTo>
                      <a:pt x="428" y="723"/>
                    </a:lnTo>
                    <a:lnTo>
                      <a:pt x="450" y="725"/>
                    </a:lnTo>
                    <a:lnTo>
                      <a:pt x="473" y="727"/>
                    </a:lnTo>
                    <a:lnTo>
                      <a:pt x="495" y="729"/>
                    </a:lnTo>
                    <a:lnTo>
                      <a:pt x="517" y="731"/>
                    </a:lnTo>
                    <a:lnTo>
                      <a:pt x="541" y="733"/>
                    </a:lnTo>
                    <a:lnTo>
                      <a:pt x="563" y="736"/>
                    </a:lnTo>
                    <a:lnTo>
                      <a:pt x="585" y="738"/>
                    </a:lnTo>
                    <a:lnTo>
                      <a:pt x="607" y="740"/>
                    </a:lnTo>
                    <a:lnTo>
                      <a:pt x="630" y="742"/>
                    </a:lnTo>
                    <a:lnTo>
                      <a:pt x="653" y="744"/>
                    </a:lnTo>
                    <a:lnTo>
                      <a:pt x="675" y="746"/>
                    </a:lnTo>
                    <a:lnTo>
                      <a:pt x="698" y="748"/>
                    </a:lnTo>
                    <a:lnTo>
                      <a:pt x="720" y="750"/>
                    </a:lnTo>
                    <a:lnTo>
                      <a:pt x="739" y="710"/>
                    </a:lnTo>
                    <a:lnTo>
                      <a:pt x="759" y="670"/>
                    </a:lnTo>
                    <a:lnTo>
                      <a:pt x="778" y="629"/>
                    </a:lnTo>
                    <a:lnTo>
                      <a:pt x="798" y="589"/>
                    </a:lnTo>
                    <a:lnTo>
                      <a:pt x="817" y="549"/>
                    </a:lnTo>
                    <a:lnTo>
                      <a:pt x="836" y="509"/>
                    </a:lnTo>
                    <a:lnTo>
                      <a:pt x="855" y="469"/>
                    </a:lnTo>
                    <a:lnTo>
                      <a:pt x="875" y="428"/>
                    </a:lnTo>
                    <a:lnTo>
                      <a:pt x="895" y="388"/>
                    </a:lnTo>
                    <a:lnTo>
                      <a:pt x="914" y="348"/>
                    </a:lnTo>
                    <a:lnTo>
                      <a:pt x="933" y="308"/>
                    </a:lnTo>
                    <a:lnTo>
                      <a:pt x="952" y="267"/>
                    </a:lnTo>
                    <a:lnTo>
                      <a:pt x="971" y="227"/>
                    </a:lnTo>
                    <a:lnTo>
                      <a:pt x="991" y="188"/>
                    </a:lnTo>
                    <a:lnTo>
                      <a:pt x="1010" y="147"/>
                    </a:lnTo>
                    <a:lnTo>
                      <a:pt x="1029" y="107"/>
                    </a:lnTo>
                    <a:lnTo>
                      <a:pt x="1018" y="101"/>
                    </a:lnTo>
                    <a:lnTo>
                      <a:pt x="1007" y="94"/>
                    </a:lnTo>
                    <a:lnTo>
                      <a:pt x="997" y="88"/>
                    </a:lnTo>
                    <a:lnTo>
                      <a:pt x="986" y="82"/>
                    </a:lnTo>
                    <a:lnTo>
                      <a:pt x="974" y="76"/>
                    </a:lnTo>
                    <a:lnTo>
                      <a:pt x="964" y="69"/>
                    </a:lnTo>
                    <a:lnTo>
                      <a:pt x="953" y="62"/>
                    </a:lnTo>
                    <a:lnTo>
                      <a:pt x="942" y="56"/>
                    </a:lnTo>
                    <a:lnTo>
                      <a:pt x="945" y="50"/>
                    </a:lnTo>
                    <a:lnTo>
                      <a:pt x="948" y="44"/>
                    </a:lnTo>
                    <a:lnTo>
                      <a:pt x="951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9" y="12"/>
                    </a:lnTo>
                    <a:lnTo>
                      <a:pt x="444" y="11"/>
                    </a:lnTo>
                    <a:lnTo>
                      <a:pt x="429" y="10"/>
                    </a:lnTo>
                    <a:lnTo>
                      <a:pt x="413" y="9"/>
                    </a:lnTo>
                    <a:lnTo>
                      <a:pt x="398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514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50800" y="4511880"/>
                <a:ext cx="200520" cy="166680"/>
              </a:xfrm>
              <a:custGeom>
                <a:avLst/>
                <a:gdLst/>
                <a:ahLst/>
                <a:rect l="l" t="t" r="r" b="b"/>
                <a:pathLst>
                  <a:path w="993" h="738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5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3"/>
                    </a:lnTo>
                    <a:lnTo>
                      <a:pt x="173" y="255"/>
                    </a:lnTo>
                    <a:lnTo>
                      <a:pt x="156" y="299"/>
                    </a:lnTo>
                    <a:lnTo>
                      <a:pt x="139" y="341"/>
                    </a:lnTo>
                    <a:lnTo>
                      <a:pt x="121" y="384"/>
                    </a:lnTo>
                    <a:lnTo>
                      <a:pt x="104" y="427"/>
                    </a:lnTo>
                    <a:lnTo>
                      <a:pt x="86" y="470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1" y="686"/>
                    </a:lnTo>
                    <a:lnTo>
                      <a:pt x="42" y="687"/>
                    </a:lnTo>
                    <a:lnTo>
                      <a:pt x="63" y="689"/>
                    </a:lnTo>
                    <a:lnTo>
                      <a:pt x="84" y="691"/>
                    </a:lnTo>
                    <a:lnTo>
                      <a:pt x="106" y="692"/>
                    </a:lnTo>
                    <a:lnTo>
                      <a:pt x="126" y="694"/>
                    </a:lnTo>
                    <a:lnTo>
                      <a:pt x="147" y="696"/>
                    </a:lnTo>
                    <a:lnTo>
                      <a:pt x="168" y="697"/>
                    </a:lnTo>
                    <a:lnTo>
                      <a:pt x="189" y="699"/>
                    </a:lnTo>
                    <a:lnTo>
                      <a:pt x="211" y="701"/>
                    </a:lnTo>
                    <a:lnTo>
                      <a:pt x="232" y="703"/>
                    </a:lnTo>
                    <a:lnTo>
                      <a:pt x="253" y="704"/>
                    </a:lnTo>
                    <a:lnTo>
                      <a:pt x="274" y="706"/>
                    </a:lnTo>
                    <a:lnTo>
                      <a:pt x="295" y="708"/>
                    </a:lnTo>
                    <a:lnTo>
                      <a:pt x="317" y="709"/>
                    </a:lnTo>
                    <a:lnTo>
                      <a:pt x="338" y="711"/>
                    </a:lnTo>
                    <a:lnTo>
                      <a:pt x="358" y="713"/>
                    </a:lnTo>
                    <a:lnTo>
                      <a:pt x="379" y="714"/>
                    </a:lnTo>
                    <a:lnTo>
                      <a:pt x="400" y="716"/>
                    </a:lnTo>
                    <a:lnTo>
                      <a:pt x="421" y="718"/>
                    </a:lnTo>
                    <a:lnTo>
                      <a:pt x="443" y="719"/>
                    </a:lnTo>
                    <a:lnTo>
                      <a:pt x="464" y="721"/>
                    </a:lnTo>
                    <a:lnTo>
                      <a:pt x="485" y="723"/>
                    </a:lnTo>
                    <a:lnTo>
                      <a:pt x="506" y="724"/>
                    </a:lnTo>
                    <a:lnTo>
                      <a:pt x="527" y="726"/>
                    </a:lnTo>
                    <a:lnTo>
                      <a:pt x="549" y="728"/>
                    </a:lnTo>
                    <a:lnTo>
                      <a:pt x="569" y="730"/>
                    </a:lnTo>
                    <a:lnTo>
                      <a:pt x="590" y="731"/>
                    </a:lnTo>
                    <a:lnTo>
                      <a:pt x="611" y="733"/>
                    </a:lnTo>
                    <a:lnTo>
                      <a:pt x="632" y="735"/>
                    </a:lnTo>
                    <a:lnTo>
                      <a:pt x="654" y="736"/>
                    </a:lnTo>
                    <a:lnTo>
                      <a:pt x="675" y="738"/>
                    </a:lnTo>
                    <a:lnTo>
                      <a:pt x="695" y="699"/>
                    </a:lnTo>
                    <a:lnTo>
                      <a:pt x="714" y="660"/>
                    </a:lnTo>
                    <a:lnTo>
                      <a:pt x="734" y="620"/>
                    </a:lnTo>
                    <a:lnTo>
                      <a:pt x="754" y="581"/>
                    </a:lnTo>
                    <a:lnTo>
                      <a:pt x="775" y="541"/>
                    </a:lnTo>
                    <a:lnTo>
                      <a:pt x="794" y="502"/>
                    </a:lnTo>
                    <a:lnTo>
                      <a:pt x="814" y="463"/>
                    </a:lnTo>
                    <a:lnTo>
                      <a:pt x="834" y="424"/>
                    </a:lnTo>
                    <a:lnTo>
                      <a:pt x="854" y="385"/>
                    </a:lnTo>
                    <a:lnTo>
                      <a:pt x="874" y="345"/>
                    </a:lnTo>
                    <a:lnTo>
                      <a:pt x="894" y="306"/>
                    </a:lnTo>
                    <a:lnTo>
                      <a:pt x="914" y="266"/>
                    </a:lnTo>
                    <a:lnTo>
                      <a:pt x="933" y="227"/>
                    </a:lnTo>
                    <a:lnTo>
                      <a:pt x="953" y="189"/>
                    </a:lnTo>
                    <a:lnTo>
                      <a:pt x="972" y="149"/>
                    </a:lnTo>
                    <a:lnTo>
                      <a:pt x="993" y="110"/>
                    </a:lnTo>
                    <a:lnTo>
                      <a:pt x="986" y="103"/>
                    </a:lnTo>
                    <a:lnTo>
                      <a:pt x="978" y="97"/>
                    </a:lnTo>
                    <a:lnTo>
                      <a:pt x="971" y="90"/>
                    </a:lnTo>
                    <a:lnTo>
                      <a:pt x="964" y="84"/>
                    </a:lnTo>
                    <a:lnTo>
                      <a:pt x="957" y="77"/>
                    </a:lnTo>
                    <a:lnTo>
                      <a:pt x="950" y="70"/>
                    </a:lnTo>
                    <a:lnTo>
                      <a:pt x="943" y="63"/>
                    </a:lnTo>
                    <a:lnTo>
                      <a:pt x="937" y="57"/>
                    </a:lnTo>
                    <a:lnTo>
                      <a:pt x="942" y="51"/>
                    </a:lnTo>
                    <a:lnTo>
                      <a:pt x="946" y="44"/>
                    </a:lnTo>
                    <a:lnTo>
                      <a:pt x="951" y="38"/>
                    </a:lnTo>
                    <a:lnTo>
                      <a:pt x="955" y="32"/>
                    </a:lnTo>
                    <a:lnTo>
                      <a:pt x="931" y="30"/>
                    </a:lnTo>
                    <a:lnTo>
                      <a:pt x="907" y="28"/>
                    </a:lnTo>
                    <a:lnTo>
                      <a:pt x="883" y="26"/>
                    </a:lnTo>
                    <a:lnTo>
                      <a:pt x="858" y="24"/>
                    </a:lnTo>
                    <a:lnTo>
                      <a:pt x="834" y="22"/>
                    </a:lnTo>
                    <a:lnTo>
                      <a:pt x="809" y="20"/>
                    </a:lnTo>
                    <a:lnTo>
                      <a:pt x="785" y="18"/>
                    </a:lnTo>
                    <a:lnTo>
                      <a:pt x="761" y="16"/>
                    </a:lnTo>
                    <a:lnTo>
                      <a:pt x="736" y="14"/>
                    </a:lnTo>
                    <a:lnTo>
                      <a:pt x="711" y="12"/>
                    </a:lnTo>
                    <a:lnTo>
                      <a:pt x="687" y="10"/>
                    </a:lnTo>
                    <a:lnTo>
                      <a:pt x="663" y="8"/>
                    </a:lnTo>
                    <a:lnTo>
                      <a:pt x="638" y="6"/>
                    </a:lnTo>
                    <a:lnTo>
                      <a:pt x="613" y="4"/>
                    </a:lnTo>
                    <a:lnTo>
                      <a:pt x="589" y="2"/>
                    </a:lnTo>
                    <a:lnTo>
                      <a:pt x="565" y="0"/>
                    </a:lnTo>
                    <a:lnTo>
                      <a:pt x="559" y="2"/>
                    </a:lnTo>
                    <a:lnTo>
                      <a:pt x="554" y="4"/>
                    </a:lnTo>
                    <a:lnTo>
                      <a:pt x="548" y="6"/>
                    </a:lnTo>
                    <a:lnTo>
                      <a:pt x="543" y="8"/>
                    </a:lnTo>
                    <a:lnTo>
                      <a:pt x="537" y="10"/>
                    </a:lnTo>
                    <a:lnTo>
                      <a:pt x="531" y="12"/>
                    </a:lnTo>
                    <a:lnTo>
                      <a:pt x="525" y="14"/>
                    </a:lnTo>
                    <a:lnTo>
                      <a:pt x="520" y="16"/>
                    </a:lnTo>
                    <a:lnTo>
                      <a:pt x="505" y="15"/>
                    </a:lnTo>
                    <a:lnTo>
                      <a:pt x="490" y="14"/>
                    </a:lnTo>
                    <a:lnTo>
                      <a:pt x="475" y="13"/>
                    </a:lnTo>
                    <a:lnTo>
                      <a:pt x="460" y="12"/>
                    </a:lnTo>
                    <a:lnTo>
                      <a:pt x="445" y="11"/>
                    </a:lnTo>
                    <a:lnTo>
                      <a:pt x="430" y="10"/>
                    </a:lnTo>
                    <a:lnTo>
                      <a:pt x="414" y="9"/>
                    </a:lnTo>
                    <a:lnTo>
                      <a:pt x="399" y="8"/>
                    </a:lnTo>
                    <a:lnTo>
                      <a:pt x="383" y="7"/>
                    </a:lnTo>
                    <a:lnTo>
                      <a:pt x="368" y="6"/>
                    </a:lnTo>
                    <a:lnTo>
                      <a:pt x="353" y="5"/>
                    </a:lnTo>
                    <a:lnTo>
                      <a:pt x="338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4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50800" y="4511880"/>
                <a:ext cx="193320" cy="164880"/>
              </a:xfrm>
              <a:custGeom>
                <a:avLst/>
                <a:gdLst/>
                <a:ahLst/>
                <a:rect l="l" t="t" r="r" b="b"/>
                <a:pathLst>
                  <a:path w="955" h="727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6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4"/>
                    </a:lnTo>
                    <a:lnTo>
                      <a:pt x="173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1" y="385"/>
                    </a:lnTo>
                    <a:lnTo>
                      <a:pt x="104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9" y="687"/>
                    </a:lnTo>
                    <a:lnTo>
                      <a:pt x="78" y="690"/>
                    </a:lnTo>
                    <a:lnTo>
                      <a:pt x="118" y="692"/>
                    </a:lnTo>
                    <a:lnTo>
                      <a:pt x="157" y="695"/>
                    </a:lnTo>
                    <a:lnTo>
                      <a:pt x="196" y="698"/>
                    </a:lnTo>
                    <a:lnTo>
                      <a:pt x="236" y="701"/>
                    </a:lnTo>
                    <a:lnTo>
                      <a:pt x="275" y="703"/>
                    </a:lnTo>
                    <a:lnTo>
                      <a:pt x="315" y="706"/>
                    </a:lnTo>
                    <a:lnTo>
                      <a:pt x="354" y="709"/>
                    </a:lnTo>
                    <a:lnTo>
                      <a:pt x="393" y="711"/>
                    </a:lnTo>
                    <a:lnTo>
                      <a:pt x="433" y="714"/>
                    </a:lnTo>
                    <a:lnTo>
                      <a:pt x="472" y="716"/>
                    </a:lnTo>
                    <a:lnTo>
                      <a:pt x="511" y="719"/>
                    </a:lnTo>
                    <a:lnTo>
                      <a:pt x="551" y="722"/>
                    </a:lnTo>
                    <a:lnTo>
                      <a:pt x="590" y="724"/>
                    </a:lnTo>
                    <a:lnTo>
                      <a:pt x="629" y="727"/>
                    </a:lnTo>
                    <a:lnTo>
                      <a:pt x="650" y="689"/>
                    </a:lnTo>
                    <a:lnTo>
                      <a:pt x="670" y="650"/>
                    </a:lnTo>
                    <a:lnTo>
                      <a:pt x="690" y="612"/>
                    </a:lnTo>
                    <a:lnTo>
                      <a:pt x="711" y="574"/>
                    </a:lnTo>
                    <a:lnTo>
                      <a:pt x="731" y="535"/>
                    </a:lnTo>
                    <a:lnTo>
                      <a:pt x="751" y="497"/>
                    </a:lnTo>
                    <a:lnTo>
                      <a:pt x="772" y="458"/>
                    </a:lnTo>
                    <a:lnTo>
                      <a:pt x="792" y="420"/>
                    </a:lnTo>
                    <a:lnTo>
                      <a:pt x="813" y="382"/>
                    </a:lnTo>
                    <a:lnTo>
                      <a:pt x="833" y="343"/>
                    </a:lnTo>
                    <a:lnTo>
                      <a:pt x="853" y="305"/>
                    </a:lnTo>
                    <a:lnTo>
                      <a:pt x="874" y="266"/>
                    </a:lnTo>
                    <a:lnTo>
                      <a:pt x="894" y="228"/>
                    </a:lnTo>
                    <a:lnTo>
                      <a:pt x="914" y="190"/>
                    </a:lnTo>
                    <a:lnTo>
                      <a:pt x="934" y="151"/>
                    </a:lnTo>
                    <a:lnTo>
                      <a:pt x="954" y="113"/>
                    </a:lnTo>
                    <a:lnTo>
                      <a:pt x="948" y="99"/>
                    </a:lnTo>
                    <a:lnTo>
                      <a:pt x="942" y="86"/>
                    </a:lnTo>
                    <a:lnTo>
                      <a:pt x="935" y="71"/>
                    </a:lnTo>
                    <a:lnTo>
                      <a:pt x="929" y="58"/>
                    </a:lnTo>
                    <a:lnTo>
                      <a:pt x="936" y="52"/>
                    </a:lnTo>
                    <a:lnTo>
                      <a:pt x="942" y="46"/>
                    </a:lnTo>
                    <a:lnTo>
                      <a:pt x="949" y="40"/>
                    </a:lnTo>
                    <a:lnTo>
                      <a:pt x="955" y="33"/>
                    </a:lnTo>
                    <a:lnTo>
                      <a:pt x="931" y="31"/>
                    </a:lnTo>
                    <a:lnTo>
                      <a:pt x="907" y="29"/>
                    </a:lnTo>
                    <a:lnTo>
                      <a:pt x="883" y="27"/>
                    </a:lnTo>
                    <a:lnTo>
                      <a:pt x="858" y="25"/>
                    </a:lnTo>
                    <a:lnTo>
                      <a:pt x="834" y="23"/>
                    </a:lnTo>
                    <a:lnTo>
                      <a:pt x="809" y="21"/>
                    </a:lnTo>
                    <a:lnTo>
                      <a:pt x="785" y="19"/>
                    </a:lnTo>
                    <a:lnTo>
                      <a:pt x="761" y="17"/>
                    </a:lnTo>
                    <a:lnTo>
                      <a:pt x="736" y="15"/>
                    </a:lnTo>
                    <a:lnTo>
                      <a:pt x="711" y="13"/>
                    </a:lnTo>
                    <a:lnTo>
                      <a:pt x="687" y="11"/>
                    </a:lnTo>
                    <a:lnTo>
                      <a:pt x="663" y="9"/>
                    </a:lnTo>
                    <a:lnTo>
                      <a:pt x="638" y="7"/>
                    </a:lnTo>
                    <a:lnTo>
                      <a:pt x="613" y="5"/>
                    </a:lnTo>
                    <a:lnTo>
                      <a:pt x="589" y="3"/>
                    </a:lnTo>
                    <a:lnTo>
                      <a:pt x="565" y="1"/>
                    </a:lnTo>
                    <a:lnTo>
                      <a:pt x="559" y="3"/>
                    </a:lnTo>
                    <a:lnTo>
                      <a:pt x="554" y="5"/>
                    </a:lnTo>
                    <a:lnTo>
                      <a:pt x="548" y="7"/>
                    </a:lnTo>
                    <a:lnTo>
                      <a:pt x="543" y="9"/>
                    </a:lnTo>
                    <a:lnTo>
                      <a:pt x="537" y="11"/>
                    </a:lnTo>
                    <a:lnTo>
                      <a:pt x="531" y="13"/>
                    </a:lnTo>
                    <a:lnTo>
                      <a:pt x="525" y="15"/>
                    </a:lnTo>
                    <a:lnTo>
                      <a:pt x="520" y="17"/>
                    </a:lnTo>
                    <a:lnTo>
                      <a:pt x="505" y="16"/>
                    </a:lnTo>
                    <a:lnTo>
                      <a:pt x="490" y="15"/>
                    </a:lnTo>
                    <a:lnTo>
                      <a:pt x="475" y="14"/>
                    </a:lnTo>
                    <a:lnTo>
                      <a:pt x="460" y="13"/>
                    </a:lnTo>
                    <a:lnTo>
                      <a:pt x="445" y="12"/>
                    </a:lnTo>
                    <a:lnTo>
                      <a:pt x="430" y="11"/>
                    </a:lnTo>
                    <a:lnTo>
                      <a:pt x="414" y="10"/>
                    </a:lnTo>
                    <a:lnTo>
                      <a:pt x="399" y="9"/>
                    </a:lnTo>
                    <a:lnTo>
                      <a:pt x="383" y="8"/>
                    </a:lnTo>
                    <a:lnTo>
                      <a:pt x="368" y="7"/>
                    </a:lnTo>
                    <a:lnTo>
                      <a:pt x="353" y="6"/>
                    </a:lnTo>
                    <a:lnTo>
                      <a:pt x="338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4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50800" y="4511880"/>
                <a:ext cx="193320" cy="162000"/>
              </a:xfrm>
              <a:custGeom>
                <a:avLst/>
                <a:gdLst/>
                <a:ahLst/>
                <a:rect l="l" t="t" r="r" b="b"/>
                <a:pathLst>
                  <a:path w="955" h="715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6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4"/>
                    </a:lnTo>
                    <a:lnTo>
                      <a:pt x="173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1" y="385"/>
                    </a:lnTo>
                    <a:lnTo>
                      <a:pt x="104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6" y="686"/>
                    </a:lnTo>
                    <a:lnTo>
                      <a:pt x="72" y="688"/>
                    </a:lnTo>
                    <a:lnTo>
                      <a:pt x="109" y="690"/>
                    </a:lnTo>
                    <a:lnTo>
                      <a:pt x="145" y="692"/>
                    </a:lnTo>
                    <a:lnTo>
                      <a:pt x="181" y="693"/>
                    </a:lnTo>
                    <a:lnTo>
                      <a:pt x="218" y="695"/>
                    </a:lnTo>
                    <a:lnTo>
                      <a:pt x="254" y="697"/>
                    </a:lnTo>
                    <a:lnTo>
                      <a:pt x="290" y="699"/>
                    </a:lnTo>
                    <a:lnTo>
                      <a:pt x="327" y="701"/>
                    </a:lnTo>
                    <a:lnTo>
                      <a:pt x="363" y="703"/>
                    </a:lnTo>
                    <a:lnTo>
                      <a:pt x="399" y="705"/>
                    </a:lnTo>
                    <a:lnTo>
                      <a:pt x="436" y="707"/>
                    </a:lnTo>
                    <a:lnTo>
                      <a:pt x="473" y="709"/>
                    </a:lnTo>
                    <a:lnTo>
                      <a:pt x="509" y="711"/>
                    </a:lnTo>
                    <a:lnTo>
                      <a:pt x="546" y="713"/>
                    </a:lnTo>
                    <a:lnTo>
                      <a:pt x="582" y="715"/>
                    </a:lnTo>
                    <a:lnTo>
                      <a:pt x="603" y="678"/>
                    </a:lnTo>
                    <a:lnTo>
                      <a:pt x="624" y="640"/>
                    </a:lnTo>
                    <a:lnTo>
                      <a:pt x="645" y="603"/>
                    </a:lnTo>
                    <a:lnTo>
                      <a:pt x="666" y="566"/>
                    </a:lnTo>
                    <a:lnTo>
                      <a:pt x="687" y="527"/>
                    </a:lnTo>
                    <a:lnTo>
                      <a:pt x="708" y="490"/>
                    </a:lnTo>
                    <a:lnTo>
                      <a:pt x="729" y="452"/>
                    </a:lnTo>
                    <a:lnTo>
                      <a:pt x="750" y="415"/>
                    </a:lnTo>
                    <a:lnTo>
                      <a:pt x="772" y="378"/>
                    </a:lnTo>
                    <a:lnTo>
                      <a:pt x="793" y="340"/>
                    </a:lnTo>
                    <a:lnTo>
                      <a:pt x="814" y="303"/>
                    </a:lnTo>
                    <a:lnTo>
                      <a:pt x="835" y="265"/>
                    </a:lnTo>
                    <a:lnTo>
                      <a:pt x="855" y="228"/>
                    </a:lnTo>
                    <a:lnTo>
                      <a:pt x="877" y="191"/>
                    </a:lnTo>
                    <a:lnTo>
                      <a:pt x="898" y="153"/>
                    </a:lnTo>
                    <a:lnTo>
                      <a:pt x="919" y="116"/>
                    </a:lnTo>
                    <a:lnTo>
                      <a:pt x="920" y="102"/>
                    </a:lnTo>
                    <a:lnTo>
                      <a:pt x="921" y="88"/>
                    </a:lnTo>
                    <a:lnTo>
                      <a:pt x="921" y="73"/>
                    </a:lnTo>
                    <a:lnTo>
                      <a:pt x="922" y="59"/>
                    </a:lnTo>
                    <a:lnTo>
                      <a:pt x="926" y="56"/>
                    </a:lnTo>
                    <a:lnTo>
                      <a:pt x="930" y="52"/>
                    </a:lnTo>
                    <a:lnTo>
                      <a:pt x="934" y="49"/>
                    </a:lnTo>
                    <a:lnTo>
                      <a:pt x="938" y="46"/>
                    </a:lnTo>
                    <a:lnTo>
                      <a:pt x="942" y="43"/>
                    </a:lnTo>
                    <a:lnTo>
                      <a:pt x="946" y="40"/>
                    </a:lnTo>
                    <a:lnTo>
                      <a:pt x="951" y="36"/>
                    </a:lnTo>
                    <a:lnTo>
                      <a:pt x="955" y="33"/>
                    </a:lnTo>
                    <a:lnTo>
                      <a:pt x="931" y="31"/>
                    </a:lnTo>
                    <a:lnTo>
                      <a:pt x="907" y="29"/>
                    </a:lnTo>
                    <a:lnTo>
                      <a:pt x="883" y="27"/>
                    </a:lnTo>
                    <a:lnTo>
                      <a:pt x="858" y="25"/>
                    </a:lnTo>
                    <a:lnTo>
                      <a:pt x="834" y="23"/>
                    </a:lnTo>
                    <a:lnTo>
                      <a:pt x="809" y="21"/>
                    </a:lnTo>
                    <a:lnTo>
                      <a:pt x="785" y="19"/>
                    </a:lnTo>
                    <a:lnTo>
                      <a:pt x="761" y="17"/>
                    </a:lnTo>
                    <a:lnTo>
                      <a:pt x="736" y="15"/>
                    </a:lnTo>
                    <a:lnTo>
                      <a:pt x="711" y="13"/>
                    </a:lnTo>
                    <a:lnTo>
                      <a:pt x="687" y="11"/>
                    </a:lnTo>
                    <a:lnTo>
                      <a:pt x="663" y="9"/>
                    </a:lnTo>
                    <a:lnTo>
                      <a:pt x="638" y="7"/>
                    </a:lnTo>
                    <a:lnTo>
                      <a:pt x="613" y="5"/>
                    </a:lnTo>
                    <a:lnTo>
                      <a:pt x="589" y="3"/>
                    </a:lnTo>
                    <a:lnTo>
                      <a:pt x="565" y="1"/>
                    </a:lnTo>
                    <a:lnTo>
                      <a:pt x="559" y="3"/>
                    </a:lnTo>
                    <a:lnTo>
                      <a:pt x="554" y="5"/>
                    </a:lnTo>
                    <a:lnTo>
                      <a:pt x="548" y="7"/>
                    </a:lnTo>
                    <a:lnTo>
                      <a:pt x="543" y="9"/>
                    </a:lnTo>
                    <a:lnTo>
                      <a:pt x="537" y="11"/>
                    </a:lnTo>
                    <a:lnTo>
                      <a:pt x="531" y="13"/>
                    </a:lnTo>
                    <a:lnTo>
                      <a:pt x="525" y="15"/>
                    </a:lnTo>
                    <a:lnTo>
                      <a:pt x="520" y="17"/>
                    </a:lnTo>
                    <a:lnTo>
                      <a:pt x="505" y="16"/>
                    </a:lnTo>
                    <a:lnTo>
                      <a:pt x="490" y="15"/>
                    </a:lnTo>
                    <a:lnTo>
                      <a:pt x="475" y="14"/>
                    </a:lnTo>
                    <a:lnTo>
                      <a:pt x="460" y="13"/>
                    </a:lnTo>
                    <a:lnTo>
                      <a:pt x="445" y="12"/>
                    </a:lnTo>
                    <a:lnTo>
                      <a:pt x="430" y="11"/>
                    </a:lnTo>
                    <a:lnTo>
                      <a:pt x="414" y="10"/>
                    </a:lnTo>
                    <a:lnTo>
                      <a:pt x="399" y="8"/>
                    </a:lnTo>
                    <a:lnTo>
                      <a:pt x="384" y="7"/>
                    </a:lnTo>
                    <a:lnTo>
                      <a:pt x="369" y="6"/>
                    </a:lnTo>
                    <a:lnTo>
                      <a:pt x="354" y="5"/>
                    </a:lnTo>
                    <a:lnTo>
                      <a:pt x="339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65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49360" y="4511880"/>
                <a:ext cx="194760" cy="158760"/>
              </a:xfrm>
              <a:custGeom>
                <a:avLst/>
                <a:gdLst/>
                <a:ahLst/>
                <a:rect l="l" t="t" r="r" b="b"/>
                <a:pathLst>
                  <a:path w="956" h="702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299"/>
                    </a:lnTo>
                    <a:lnTo>
                      <a:pt x="139" y="341"/>
                    </a:lnTo>
                    <a:lnTo>
                      <a:pt x="122" y="385"/>
                    </a:lnTo>
                    <a:lnTo>
                      <a:pt x="105" y="427"/>
                    </a:lnTo>
                    <a:lnTo>
                      <a:pt x="86" y="470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5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3" y="685"/>
                    </a:lnTo>
                    <a:lnTo>
                      <a:pt x="66" y="686"/>
                    </a:lnTo>
                    <a:lnTo>
                      <a:pt x="101" y="687"/>
                    </a:lnTo>
                    <a:lnTo>
                      <a:pt x="134" y="688"/>
                    </a:lnTo>
                    <a:lnTo>
                      <a:pt x="167" y="690"/>
                    </a:lnTo>
                    <a:lnTo>
                      <a:pt x="201" y="691"/>
                    </a:lnTo>
                    <a:lnTo>
                      <a:pt x="235" y="692"/>
                    </a:lnTo>
                    <a:lnTo>
                      <a:pt x="268" y="693"/>
                    </a:lnTo>
                    <a:lnTo>
                      <a:pt x="301" y="694"/>
                    </a:lnTo>
                    <a:lnTo>
                      <a:pt x="336" y="695"/>
                    </a:lnTo>
                    <a:lnTo>
                      <a:pt x="369" y="696"/>
                    </a:lnTo>
                    <a:lnTo>
                      <a:pt x="402" y="697"/>
                    </a:lnTo>
                    <a:lnTo>
                      <a:pt x="436" y="699"/>
                    </a:lnTo>
                    <a:lnTo>
                      <a:pt x="470" y="700"/>
                    </a:lnTo>
                    <a:lnTo>
                      <a:pt x="503" y="701"/>
                    </a:lnTo>
                    <a:lnTo>
                      <a:pt x="537" y="702"/>
                    </a:lnTo>
                    <a:lnTo>
                      <a:pt x="558" y="666"/>
                    </a:lnTo>
                    <a:lnTo>
                      <a:pt x="580" y="629"/>
                    </a:lnTo>
                    <a:lnTo>
                      <a:pt x="601" y="593"/>
                    </a:lnTo>
                    <a:lnTo>
                      <a:pt x="623" y="556"/>
                    </a:lnTo>
                    <a:lnTo>
                      <a:pt x="644" y="520"/>
                    </a:lnTo>
                    <a:lnTo>
                      <a:pt x="667" y="484"/>
                    </a:lnTo>
                    <a:lnTo>
                      <a:pt x="688" y="447"/>
                    </a:lnTo>
                    <a:lnTo>
                      <a:pt x="710" y="410"/>
                    </a:lnTo>
                    <a:lnTo>
                      <a:pt x="731" y="374"/>
                    </a:lnTo>
                    <a:lnTo>
                      <a:pt x="753" y="337"/>
                    </a:lnTo>
                    <a:lnTo>
                      <a:pt x="775" y="301"/>
                    </a:lnTo>
                    <a:lnTo>
                      <a:pt x="797" y="264"/>
                    </a:lnTo>
                    <a:lnTo>
                      <a:pt x="818" y="228"/>
                    </a:lnTo>
                    <a:lnTo>
                      <a:pt x="840" y="192"/>
                    </a:lnTo>
                    <a:lnTo>
                      <a:pt x="861" y="155"/>
                    </a:lnTo>
                    <a:lnTo>
                      <a:pt x="884" y="119"/>
                    </a:lnTo>
                    <a:lnTo>
                      <a:pt x="888" y="112"/>
                    </a:lnTo>
                    <a:lnTo>
                      <a:pt x="892" y="104"/>
                    </a:lnTo>
                    <a:lnTo>
                      <a:pt x="895" y="97"/>
                    </a:lnTo>
                    <a:lnTo>
                      <a:pt x="899" y="90"/>
                    </a:lnTo>
                    <a:lnTo>
                      <a:pt x="903" y="82"/>
                    </a:lnTo>
                    <a:lnTo>
                      <a:pt x="907" y="74"/>
                    </a:lnTo>
                    <a:lnTo>
                      <a:pt x="911" y="67"/>
                    </a:lnTo>
                    <a:lnTo>
                      <a:pt x="915" y="60"/>
                    </a:lnTo>
                    <a:lnTo>
                      <a:pt x="920" y="57"/>
                    </a:lnTo>
                    <a:lnTo>
                      <a:pt x="926" y="53"/>
                    </a:lnTo>
                    <a:lnTo>
                      <a:pt x="931" y="50"/>
                    </a:lnTo>
                    <a:lnTo>
                      <a:pt x="936" y="46"/>
                    </a:lnTo>
                    <a:lnTo>
                      <a:pt x="941" y="43"/>
                    </a:lnTo>
                    <a:lnTo>
                      <a:pt x="947" y="40"/>
                    </a:lnTo>
                    <a:lnTo>
                      <a:pt x="951" y="36"/>
                    </a:lnTo>
                    <a:lnTo>
                      <a:pt x="956" y="33"/>
                    </a:lnTo>
                    <a:lnTo>
                      <a:pt x="932" y="31"/>
                    </a:lnTo>
                    <a:lnTo>
                      <a:pt x="908" y="29"/>
                    </a:lnTo>
                    <a:lnTo>
                      <a:pt x="884" y="27"/>
                    </a:lnTo>
                    <a:lnTo>
                      <a:pt x="859" y="25"/>
                    </a:lnTo>
                    <a:lnTo>
                      <a:pt x="835" y="23"/>
                    </a:lnTo>
                    <a:lnTo>
                      <a:pt x="810" y="21"/>
                    </a:lnTo>
                    <a:lnTo>
                      <a:pt x="786" y="19"/>
                    </a:lnTo>
                    <a:lnTo>
                      <a:pt x="762" y="17"/>
                    </a:lnTo>
                    <a:lnTo>
                      <a:pt x="737" y="15"/>
                    </a:lnTo>
                    <a:lnTo>
                      <a:pt x="712" y="13"/>
                    </a:lnTo>
                    <a:lnTo>
                      <a:pt x="688" y="11"/>
                    </a:lnTo>
                    <a:lnTo>
                      <a:pt x="664" y="9"/>
                    </a:lnTo>
                    <a:lnTo>
                      <a:pt x="639" y="7"/>
                    </a:lnTo>
                    <a:lnTo>
                      <a:pt x="614" y="5"/>
                    </a:lnTo>
                    <a:lnTo>
                      <a:pt x="590" y="3"/>
                    </a:lnTo>
                    <a:lnTo>
                      <a:pt x="566" y="1"/>
                    </a:lnTo>
                    <a:lnTo>
                      <a:pt x="560" y="3"/>
                    </a:lnTo>
                    <a:lnTo>
                      <a:pt x="555" y="5"/>
                    </a:lnTo>
                    <a:lnTo>
                      <a:pt x="549" y="7"/>
                    </a:lnTo>
                    <a:lnTo>
                      <a:pt x="544" y="9"/>
                    </a:lnTo>
                    <a:lnTo>
                      <a:pt x="538" y="11"/>
                    </a:lnTo>
                    <a:lnTo>
                      <a:pt x="532" y="13"/>
                    </a:lnTo>
                    <a:lnTo>
                      <a:pt x="526" y="15"/>
                    </a:lnTo>
                    <a:lnTo>
                      <a:pt x="521" y="17"/>
                    </a:lnTo>
                    <a:lnTo>
                      <a:pt x="506" y="16"/>
                    </a:lnTo>
                    <a:lnTo>
                      <a:pt x="491" y="15"/>
                    </a:lnTo>
                    <a:lnTo>
                      <a:pt x="476" y="14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8"/>
                    </a:lnTo>
                    <a:lnTo>
                      <a:pt x="385" y="7"/>
                    </a:lnTo>
                    <a:lnTo>
                      <a:pt x="370" y="6"/>
                    </a:lnTo>
                    <a:lnTo>
                      <a:pt x="355" y="5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6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49360" y="4511880"/>
                <a:ext cx="194760" cy="155520"/>
              </a:xfrm>
              <a:custGeom>
                <a:avLst/>
                <a:gdLst/>
                <a:ahLst/>
                <a:rect l="l" t="t" r="r" b="b"/>
                <a:pathLst>
                  <a:path w="956" h="691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2" y="385"/>
                    </a:lnTo>
                    <a:lnTo>
                      <a:pt x="105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6"/>
                    </a:lnTo>
                    <a:lnTo>
                      <a:pt x="35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30" y="685"/>
                    </a:lnTo>
                    <a:lnTo>
                      <a:pt x="61" y="686"/>
                    </a:lnTo>
                    <a:lnTo>
                      <a:pt x="92" y="686"/>
                    </a:lnTo>
                    <a:lnTo>
                      <a:pt x="123" y="686"/>
                    </a:lnTo>
                    <a:lnTo>
                      <a:pt x="153" y="687"/>
                    </a:lnTo>
                    <a:lnTo>
                      <a:pt x="183" y="687"/>
                    </a:lnTo>
                    <a:lnTo>
                      <a:pt x="215" y="688"/>
                    </a:lnTo>
                    <a:lnTo>
                      <a:pt x="245" y="688"/>
                    </a:lnTo>
                    <a:lnTo>
                      <a:pt x="275" y="688"/>
                    </a:lnTo>
                    <a:lnTo>
                      <a:pt x="306" y="689"/>
                    </a:lnTo>
                    <a:lnTo>
                      <a:pt x="337" y="689"/>
                    </a:lnTo>
                    <a:lnTo>
                      <a:pt x="368" y="689"/>
                    </a:lnTo>
                    <a:lnTo>
                      <a:pt x="398" y="690"/>
                    </a:lnTo>
                    <a:lnTo>
                      <a:pt x="429" y="690"/>
                    </a:lnTo>
                    <a:lnTo>
                      <a:pt x="460" y="691"/>
                    </a:lnTo>
                    <a:lnTo>
                      <a:pt x="490" y="691"/>
                    </a:lnTo>
                    <a:lnTo>
                      <a:pt x="512" y="655"/>
                    </a:lnTo>
                    <a:lnTo>
                      <a:pt x="534" y="620"/>
                    </a:lnTo>
                    <a:lnTo>
                      <a:pt x="557" y="585"/>
                    </a:lnTo>
                    <a:lnTo>
                      <a:pt x="579" y="549"/>
                    </a:lnTo>
                    <a:lnTo>
                      <a:pt x="601" y="513"/>
                    </a:lnTo>
                    <a:lnTo>
                      <a:pt x="623" y="478"/>
                    </a:lnTo>
                    <a:lnTo>
                      <a:pt x="645" y="442"/>
                    </a:lnTo>
                    <a:lnTo>
                      <a:pt x="668" y="407"/>
                    </a:lnTo>
                    <a:lnTo>
                      <a:pt x="690" y="372"/>
                    </a:lnTo>
                    <a:lnTo>
                      <a:pt x="712" y="335"/>
                    </a:lnTo>
                    <a:lnTo>
                      <a:pt x="734" y="300"/>
                    </a:lnTo>
                    <a:lnTo>
                      <a:pt x="756" y="264"/>
                    </a:lnTo>
                    <a:lnTo>
                      <a:pt x="779" y="229"/>
                    </a:lnTo>
                    <a:lnTo>
                      <a:pt x="801" y="193"/>
                    </a:lnTo>
                    <a:lnTo>
                      <a:pt x="823" y="157"/>
                    </a:lnTo>
                    <a:lnTo>
                      <a:pt x="845" y="122"/>
                    </a:lnTo>
                    <a:lnTo>
                      <a:pt x="853" y="114"/>
                    </a:lnTo>
                    <a:lnTo>
                      <a:pt x="860" y="107"/>
                    </a:lnTo>
                    <a:lnTo>
                      <a:pt x="868" y="99"/>
                    </a:lnTo>
                    <a:lnTo>
                      <a:pt x="876" y="92"/>
                    </a:lnTo>
                    <a:lnTo>
                      <a:pt x="884" y="84"/>
                    </a:lnTo>
                    <a:lnTo>
                      <a:pt x="891" y="76"/>
                    </a:lnTo>
                    <a:lnTo>
                      <a:pt x="899" y="68"/>
                    </a:lnTo>
                    <a:lnTo>
                      <a:pt x="907" y="61"/>
                    </a:lnTo>
                    <a:lnTo>
                      <a:pt x="913" y="58"/>
                    </a:lnTo>
                    <a:lnTo>
                      <a:pt x="920" y="54"/>
                    </a:lnTo>
                    <a:lnTo>
                      <a:pt x="926" y="51"/>
                    </a:lnTo>
                    <a:lnTo>
                      <a:pt x="932" y="47"/>
                    </a:lnTo>
                    <a:lnTo>
                      <a:pt x="938" y="44"/>
                    </a:lnTo>
                    <a:lnTo>
                      <a:pt x="944" y="41"/>
                    </a:lnTo>
                    <a:lnTo>
                      <a:pt x="950" y="37"/>
                    </a:lnTo>
                    <a:lnTo>
                      <a:pt x="956" y="34"/>
                    </a:lnTo>
                    <a:lnTo>
                      <a:pt x="932" y="32"/>
                    </a:lnTo>
                    <a:lnTo>
                      <a:pt x="908" y="30"/>
                    </a:lnTo>
                    <a:lnTo>
                      <a:pt x="884" y="28"/>
                    </a:lnTo>
                    <a:lnTo>
                      <a:pt x="859" y="26"/>
                    </a:lnTo>
                    <a:lnTo>
                      <a:pt x="835" y="24"/>
                    </a:lnTo>
                    <a:lnTo>
                      <a:pt x="810" y="22"/>
                    </a:lnTo>
                    <a:lnTo>
                      <a:pt x="786" y="20"/>
                    </a:lnTo>
                    <a:lnTo>
                      <a:pt x="762" y="18"/>
                    </a:lnTo>
                    <a:lnTo>
                      <a:pt x="737" y="16"/>
                    </a:lnTo>
                    <a:lnTo>
                      <a:pt x="712" y="14"/>
                    </a:lnTo>
                    <a:lnTo>
                      <a:pt x="688" y="12"/>
                    </a:lnTo>
                    <a:lnTo>
                      <a:pt x="664" y="10"/>
                    </a:lnTo>
                    <a:lnTo>
                      <a:pt x="639" y="8"/>
                    </a:lnTo>
                    <a:lnTo>
                      <a:pt x="614" y="6"/>
                    </a:lnTo>
                    <a:lnTo>
                      <a:pt x="590" y="4"/>
                    </a:lnTo>
                    <a:lnTo>
                      <a:pt x="566" y="2"/>
                    </a:lnTo>
                    <a:lnTo>
                      <a:pt x="560" y="4"/>
                    </a:lnTo>
                    <a:lnTo>
                      <a:pt x="555" y="6"/>
                    </a:lnTo>
                    <a:lnTo>
                      <a:pt x="549" y="8"/>
                    </a:lnTo>
                    <a:lnTo>
                      <a:pt x="544" y="10"/>
                    </a:lnTo>
                    <a:lnTo>
                      <a:pt x="538" y="12"/>
                    </a:lnTo>
                    <a:lnTo>
                      <a:pt x="532" y="14"/>
                    </a:lnTo>
                    <a:lnTo>
                      <a:pt x="526" y="16"/>
                    </a:lnTo>
                    <a:lnTo>
                      <a:pt x="521" y="18"/>
                    </a:lnTo>
                    <a:lnTo>
                      <a:pt x="506" y="17"/>
                    </a:lnTo>
                    <a:lnTo>
                      <a:pt x="491" y="16"/>
                    </a:lnTo>
                    <a:lnTo>
                      <a:pt x="476" y="15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9"/>
                    </a:lnTo>
                    <a:lnTo>
                      <a:pt x="385" y="8"/>
                    </a:lnTo>
                    <a:lnTo>
                      <a:pt x="370" y="7"/>
                    </a:lnTo>
                    <a:lnTo>
                      <a:pt x="355" y="6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96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49360" y="4511880"/>
                <a:ext cx="194760" cy="155520"/>
              </a:xfrm>
              <a:custGeom>
                <a:avLst/>
                <a:gdLst/>
                <a:ahLst/>
                <a:rect l="l" t="t" r="r" b="b"/>
                <a:pathLst>
                  <a:path w="956" h="685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2" y="385"/>
                    </a:lnTo>
                    <a:lnTo>
                      <a:pt x="105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6"/>
                    </a:lnTo>
                    <a:lnTo>
                      <a:pt x="35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7" y="685"/>
                    </a:lnTo>
                    <a:lnTo>
                      <a:pt x="55" y="684"/>
                    </a:lnTo>
                    <a:lnTo>
                      <a:pt x="82" y="684"/>
                    </a:lnTo>
                    <a:lnTo>
                      <a:pt x="111" y="683"/>
                    </a:lnTo>
                    <a:lnTo>
                      <a:pt x="138" y="683"/>
                    </a:lnTo>
                    <a:lnTo>
                      <a:pt x="166" y="683"/>
                    </a:lnTo>
                    <a:lnTo>
                      <a:pt x="193" y="682"/>
                    </a:lnTo>
                    <a:lnTo>
                      <a:pt x="222" y="682"/>
                    </a:lnTo>
                    <a:lnTo>
                      <a:pt x="250" y="682"/>
                    </a:lnTo>
                    <a:lnTo>
                      <a:pt x="277" y="681"/>
                    </a:lnTo>
                    <a:lnTo>
                      <a:pt x="305" y="681"/>
                    </a:lnTo>
                    <a:lnTo>
                      <a:pt x="333" y="680"/>
                    </a:lnTo>
                    <a:lnTo>
                      <a:pt x="361" y="680"/>
                    </a:lnTo>
                    <a:lnTo>
                      <a:pt x="388" y="680"/>
                    </a:lnTo>
                    <a:lnTo>
                      <a:pt x="416" y="679"/>
                    </a:lnTo>
                    <a:lnTo>
                      <a:pt x="444" y="679"/>
                    </a:lnTo>
                    <a:lnTo>
                      <a:pt x="467" y="644"/>
                    </a:lnTo>
                    <a:lnTo>
                      <a:pt x="489" y="610"/>
                    </a:lnTo>
                    <a:lnTo>
                      <a:pt x="512" y="576"/>
                    </a:lnTo>
                    <a:lnTo>
                      <a:pt x="534" y="540"/>
                    </a:lnTo>
                    <a:lnTo>
                      <a:pt x="558" y="506"/>
                    </a:lnTo>
                    <a:lnTo>
                      <a:pt x="580" y="472"/>
                    </a:lnTo>
                    <a:lnTo>
                      <a:pt x="603" y="437"/>
                    </a:lnTo>
                    <a:lnTo>
                      <a:pt x="625" y="402"/>
                    </a:lnTo>
                    <a:lnTo>
                      <a:pt x="649" y="368"/>
                    </a:lnTo>
                    <a:lnTo>
                      <a:pt x="671" y="333"/>
                    </a:lnTo>
                    <a:lnTo>
                      <a:pt x="694" y="299"/>
                    </a:lnTo>
                    <a:lnTo>
                      <a:pt x="716" y="263"/>
                    </a:lnTo>
                    <a:lnTo>
                      <a:pt x="739" y="229"/>
                    </a:lnTo>
                    <a:lnTo>
                      <a:pt x="763" y="195"/>
                    </a:lnTo>
                    <a:lnTo>
                      <a:pt x="785" y="159"/>
                    </a:lnTo>
                    <a:lnTo>
                      <a:pt x="808" y="125"/>
                    </a:lnTo>
                    <a:lnTo>
                      <a:pt x="819" y="117"/>
                    </a:lnTo>
                    <a:lnTo>
                      <a:pt x="831" y="109"/>
                    </a:lnTo>
                    <a:lnTo>
                      <a:pt x="842" y="101"/>
                    </a:lnTo>
                    <a:lnTo>
                      <a:pt x="853" y="94"/>
                    </a:lnTo>
                    <a:lnTo>
                      <a:pt x="864" y="86"/>
                    </a:lnTo>
                    <a:lnTo>
                      <a:pt x="877" y="78"/>
                    </a:lnTo>
                    <a:lnTo>
                      <a:pt x="888" y="70"/>
                    </a:lnTo>
                    <a:lnTo>
                      <a:pt x="899" y="62"/>
                    </a:lnTo>
                    <a:lnTo>
                      <a:pt x="906" y="59"/>
                    </a:lnTo>
                    <a:lnTo>
                      <a:pt x="914" y="55"/>
                    </a:lnTo>
                    <a:lnTo>
                      <a:pt x="921" y="52"/>
                    </a:lnTo>
                    <a:lnTo>
                      <a:pt x="928" y="48"/>
                    </a:lnTo>
                    <a:lnTo>
                      <a:pt x="935" y="44"/>
                    </a:lnTo>
                    <a:lnTo>
                      <a:pt x="942" y="41"/>
                    </a:lnTo>
                    <a:lnTo>
                      <a:pt x="949" y="37"/>
                    </a:lnTo>
                    <a:lnTo>
                      <a:pt x="956" y="34"/>
                    </a:lnTo>
                    <a:lnTo>
                      <a:pt x="932" y="32"/>
                    </a:lnTo>
                    <a:lnTo>
                      <a:pt x="908" y="30"/>
                    </a:lnTo>
                    <a:lnTo>
                      <a:pt x="884" y="28"/>
                    </a:lnTo>
                    <a:lnTo>
                      <a:pt x="859" y="26"/>
                    </a:lnTo>
                    <a:lnTo>
                      <a:pt x="835" y="24"/>
                    </a:lnTo>
                    <a:lnTo>
                      <a:pt x="810" y="22"/>
                    </a:lnTo>
                    <a:lnTo>
                      <a:pt x="786" y="20"/>
                    </a:lnTo>
                    <a:lnTo>
                      <a:pt x="762" y="18"/>
                    </a:lnTo>
                    <a:lnTo>
                      <a:pt x="737" y="16"/>
                    </a:lnTo>
                    <a:lnTo>
                      <a:pt x="712" y="14"/>
                    </a:lnTo>
                    <a:lnTo>
                      <a:pt x="688" y="12"/>
                    </a:lnTo>
                    <a:lnTo>
                      <a:pt x="664" y="10"/>
                    </a:lnTo>
                    <a:lnTo>
                      <a:pt x="639" y="8"/>
                    </a:lnTo>
                    <a:lnTo>
                      <a:pt x="614" y="6"/>
                    </a:lnTo>
                    <a:lnTo>
                      <a:pt x="590" y="4"/>
                    </a:lnTo>
                    <a:lnTo>
                      <a:pt x="566" y="2"/>
                    </a:lnTo>
                    <a:lnTo>
                      <a:pt x="560" y="4"/>
                    </a:lnTo>
                    <a:lnTo>
                      <a:pt x="555" y="6"/>
                    </a:lnTo>
                    <a:lnTo>
                      <a:pt x="549" y="8"/>
                    </a:lnTo>
                    <a:lnTo>
                      <a:pt x="544" y="10"/>
                    </a:lnTo>
                    <a:lnTo>
                      <a:pt x="538" y="12"/>
                    </a:lnTo>
                    <a:lnTo>
                      <a:pt x="532" y="14"/>
                    </a:lnTo>
                    <a:lnTo>
                      <a:pt x="526" y="16"/>
                    </a:lnTo>
                    <a:lnTo>
                      <a:pt x="521" y="18"/>
                    </a:lnTo>
                    <a:lnTo>
                      <a:pt x="506" y="17"/>
                    </a:lnTo>
                    <a:lnTo>
                      <a:pt x="491" y="16"/>
                    </a:lnTo>
                    <a:lnTo>
                      <a:pt x="476" y="15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9"/>
                    </a:lnTo>
                    <a:lnTo>
                      <a:pt x="385" y="8"/>
                    </a:lnTo>
                    <a:lnTo>
                      <a:pt x="370" y="7"/>
                    </a:lnTo>
                    <a:lnTo>
                      <a:pt x="355" y="6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96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9360" y="4511880"/>
                <a:ext cx="194760" cy="154080"/>
              </a:xfrm>
              <a:custGeom>
                <a:avLst/>
                <a:gdLst/>
                <a:ahLst/>
                <a:rect l="l" t="t" r="r" b="b"/>
                <a:pathLst>
                  <a:path w="957" h="684">
                    <a:moveTo>
                      <a:pt x="280" y="0"/>
                    </a:moveTo>
                    <a:lnTo>
                      <a:pt x="0" y="684"/>
                    </a:lnTo>
                    <a:lnTo>
                      <a:pt x="398" y="667"/>
                    </a:lnTo>
                    <a:lnTo>
                      <a:pt x="771" y="127"/>
                    </a:lnTo>
                    <a:lnTo>
                      <a:pt x="892" y="62"/>
                    </a:lnTo>
                    <a:lnTo>
                      <a:pt x="957" y="34"/>
                    </a:lnTo>
                    <a:lnTo>
                      <a:pt x="567" y="2"/>
                    </a:lnTo>
                    <a:lnTo>
                      <a:pt x="522" y="1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67720" y="4519800"/>
                <a:ext cx="227520" cy="163440"/>
              </a:xfrm>
              <a:custGeom>
                <a:avLst/>
                <a:gdLst/>
                <a:ahLst/>
                <a:rect l="l" t="t" r="r" b="b"/>
                <a:pathLst>
                  <a:path w="1114" h="721">
                    <a:moveTo>
                      <a:pt x="0" y="606"/>
                    </a:moveTo>
                    <a:lnTo>
                      <a:pt x="243" y="0"/>
                    </a:lnTo>
                    <a:lnTo>
                      <a:pt x="1114" y="78"/>
                    </a:lnTo>
                    <a:lnTo>
                      <a:pt x="901" y="721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74920" y="4525920"/>
                <a:ext cx="218880" cy="154080"/>
              </a:xfrm>
              <a:custGeom>
                <a:avLst/>
                <a:gdLst/>
                <a:ahLst/>
                <a:rect l="l" t="t" r="r" b="b"/>
                <a:pathLst>
                  <a:path w="1073" h="685">
                    <a:moveTo>
                      <a:pt x="220" y="0"/>
                    </a:moveTo>
                    <a:lnTo>
                      <a:pt x="0" y="577"/>
                    </a:lnTo>
                    <a:lnTo>
                      <a:pt x="872" y="685"/>
                    </a:lnTo>
                    <a:lnTo>
                      <a:pt x="1073" y="73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74920" y="4525920"/>
                <a:ext cx="209160" cy="152640"/>
              </a:xfrm>
              <a:custGeom>
                <a:avLst/>
                <a:gdLst/>
                <a:ahLst/>
                <a:rect l="l" t="t" r="r" b="b"/>
                <a:pathLst>
                  <a:path w="1026" h="678">
                    <a:moveTo>
                      <a:pt x="220" y="0"/>
                    </a:moveTo>
                    <a:lnTo>
                      <a:pt x="206" y="37"/>
                    </a:lnTo>
                    <a:lnTo>
                      <a:pt x="193" y="72"/>
                    </a:lnTo>
                    <a:lnTo>
                      <a:pt x="178" y="108"/>
                    </a:lnTo>
                    <a:lnTo>
                      <a:pt x="165" y="145"/>
                    </a:lnTo>
                    <a:lnTo>
                      <a:pt x="151" y="180"/>
                    </a:lnTo>
                    <a:lnTo>
                      <a:pt x="138" y="217"/>
                    </a:lnTo>
                    <a:lnTo>
                      <a:pt x="124" y="253"/>
                    </a:lnTo>
                    <a:lnTo>
                      <a:pt x="110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8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6" y="580"/>
                    </a:lnTo>
                    <a:lnTo>
                      <a:pt x="51" y="583"/>
                    </a:lnTo>
                    <a:lnTo>
                      <a:pt x="78" y="586"/>
                    </a:lnTo>
                    <a:lnTo>
                      <a:pt x="103" y="589"/>
                    </a:lnTo>
                    <a:lnTo>
                      <a:pt x="129" y="593"/>
                    </a:lnTo>
                    <a:lnTo>
                      <a:pt x="155" y="597"/>
                    </a:lnTo>
                    <a:lnTo>
                      <a:pt x="180" y="600"/>
                    </a:lnTo>
                    <a:lnTo>
                      <a:pt x="207" y="603"/>
                    </a:lnTo>
                    <a:lnTo>
                      <a:pt x="232" y="606"/>
                    </a:lnTo>
                    <a:lnTo>
                      <a:pt x="258" y="609"/>
                    </a:lnTo>
                    <a:lnTo>
                      <a:pt x="283" y="612"/>
                    </a:lnTo>
                    <a:lnTo>
                      <a:pt x="310" y="615"/>
                    </a:lnTo>
                    <a:lnTo>
                      <a:pt x="336" y="619"/>
                    </a:lnTo>
                    <a:lnTo>
                      <a:pt x="361" y="622"/>
                    </a:lnTo>
                    <a:lnTo>
                      <a:pt x="387" y="625"/>
                    </a:lnTo>
                    <a:lnTo>
                      <a:pt x="413" y="628"/>
                    </a:lnTo>
                    <a:lnTo>
                      <a:pt x="439" y="631"/>
                    </a:lnTo>
                    <a:lnTo>
                      <a:pt x="464" y="634"/>
                    </a:lnTo>
                    <a:lnTo>
                      <a:pt x="490" y="637"/>
                    </a:lnTo>
                    <a:lnTo>
                      <a:pt x="515" y="641"/>
                    </a:lnTo>
                    <a:lnTo>
                      <a:pt x="542" y="644"/>
                    </a:lnTo>
                    <a:lnTo>
                      <a:pt x="567" y="647"/>
                    </a:lnTo>
                    <a:lnTo>
                      <a:pt x="593" y="650"/>
                    </a:lnTo>
                    <a:lnTo>
                      <a:pt x="618" y="653"/>
                    </a:lnTo>
                    <a:lnTo>
                      <a:pt x="645" y="656"/>
                    </a:lnTo>
                    <a:lnTo>
                      <a:pt x="670" y="659"/>
                    </a:lnTo>
                    <a:lnTo>
                      <a:pt x="696" y="662"/>
                    </a:lnTo>
                    <a:lnTo>
                      <a:pt x="721" y="666"/>
                    </a:lnTo>
                    <a:lnTo>
                      <a:pt x="748" y="669"/>
                    </a:lnTo>
                    <a:lnTo>
                      <a:pt x="773" y="672"/>
                    </a:lnTo>
                    <a:lnTo>
                      <a:pt x="799" y="675"/>
                    </a:lnTo>
                    <a:lnTo>
                      <a:pt x="824" y="678"/>
                    </a:lnTo>
                    <a:lnTo>
                      <a:pt x="836" y="640"/>
                    </a:lnTo>
                    <a:lnTo>
                      <a:pt x="849" y="603"/>
                    </a:lnTo>
                    <a:lnTo>
                      <a:pt x="862" y="564"/>
                    </a:lnTo>
                    <a:lnTo>
                      <a:pt x="875" y="526"/>
                    </a:lnTo>
                    <a:lnTo>
                      <a:pt x="887" y="488"/>
                    </a:lnTo>
                    <a:lnTo>
                      <a:pt x="900" y="450"/>
                    </a:lnTo>
                    <a:lnTo>
                      <a:pt x="912" y="412"/>
                    </a:lnTo>
                    <a:lnTo>
                      <a:pt x="925" y="373"/>
                    </a:lnTo>
                    <a:lnTo>
                      <a:pt x="937" y="336"/>
                    </a:lnTo>
                    <a:lnTo>
                      <a:pt x="950" y="297"/>
                    </a:lnTo>
                    <a:lnTo>
                      <a:pt x="962" y="259"/>
                    </a:lnTo>
                    <a:lnTo>
                      <a:pt x="976" y="222"/>
                    </a:lnTo>
                    <a:lnTo>
                      <a:pt x="988" y="183"/>
                    </a:lnTo>
                    <a:lnTo>
                      <a:pt x="1001" y="145"/>
                    </a:lnTo>
                    <a:lnTo>
                      <a:pt x="1013" y="107"/>
                    </a:lnTo>
                    <a:lnTo>
                      <a:pt x="1026" y="69"/>
                    </a:lnTo>
                    <a:lnTo>
                      <a:pt x="1001" y="67"/>
                    </a:lnTo>
                    <a:lnTo>
                      <a:pt x="976" y="65"/>
                    </a:lnTo>
                    <a:lnTo>
                      <a:pt x="950" y="63"/>
                    </a:lnTo>
                    <a:lnTo>
                      <a:pt x="926" y="60"/>
                    </a:lnTo>
                    <a:lnTo>
                      <a:pt x="901" y="58"/>
                    </a:lnTo>
                    <a:lnTo>
                      <a:pt x="876" y="56"/>
                    </a:lnTo>
                    <a:lnTo>
                      <a:pt x="850" y="54"/>
                    </a:lnTo>
                    <a:lnTo>
                      <a:pt x="825" y="52"/>
                    </a:lnTo>
                    <a:lnTo>
                      <a:pt x="800" y="50"/>
                    </a:lnTo>
                    <a:lnTo>
                      <a:pt x="775" y="48"/>
                    </a:lnTo>
                    <a:lnTo>
                      <a:pt x="750" y="46"/>
                    </a:lnTo>
                    <a:lnTo>
                      <a:pt x="724" y="43"/>
                    </a:lnTo>
                    <a:lnTo>
                      <a:pt x="699" y="41"/>
                    </a:lnTo>
                    <a:lnTo>
                      <a:pt x="674" y="39"/>
                    </a:lnTo>
                    <a:lnTo>
                      <a:pt x="649" y="37"/>
                    </a:lnTo>
                    <a:lnTo>
                      <a:pt x="623" y="35"/>
                    </a:lnTo>
                    <a:lnTo>
                      <a:pt x="598" y="33"/>
                    </a:lnTo>
                    <a:lnTo>
                      <a:pt x="573" y="31"/>
                    </a:lnTo>
                    <a:lnTo>
                      <a:pt x="548" y="29"/>
                    </a:lnTo>
                    <a:lnTo>
                      <a:pt x="523" y="27"/>
                    </a:lnTo>
                    <a:lnTo>
                      <a:pt x="497" y="24"/>
                    </a:lnTo>
                    <a:lnTo>
                      <a:pt x="472" y="22"/>
                    </a:lnTo>
                    <a:lnTo>
                      <a:pt x="447" y="20"/>
                    </a:lnTo>
                    <a:lnTo>
                      <a:pt x="422" y="18"/>
                    </a:lnTo>
                    <a:lnTo>
                      <a:pt x="396" y="16"/>
                    </a:lnTo>
                    <a:lnTo>
                      <a:pt x="371" y="13"/>
                    </a:lnTo>
                    <a:lnTo>
                      <a:pt x="346" y="11"/>
                    </a:lnTo>
                    <a:lnTo>
                      <a:pt x="321" y="9"/>
                    </a:lnTo>
                    <a:lnTo>
                      <a:pt x="295" y="6"/>
                    </a:lnTo>
                    <a:lnTo>
                      <a:pt x="270" y="4"/>
                    </a:lnTo>
                    <a:lnTo>
                      <a:pt x="245" y="2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74920" y="4525920"/>
                <a:ext cx="199080" cy="152640"/>
              </a:xfrm>
              <a:custGeom>
                <a:avLst/>
                <a:gdLst/>
                <a:ahLst/>
                <a:rect l="l" t="t" r="r" b="b"/>
                <a:pathLst>
                  <a:path w="980" h="672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4" y="580"/>
                    </a:lnTo>
                    <a:lnTo>
                      <a:pt x="48" y="583"/>
                    </a:lnTo>
                    <a:lnTo>
                      <a:pt x="73" y="586"/>
                    </a:lnTo>
                    <a:lnTo>
                      <a:pt x="98" y="589"/>
                    </a:lnTo>
                    <a:lnTo>
                      <a:pt x="122" y="592"/>
                    </a:lnTo>
                    <a:lnTo>
                      <a:pt x="146" y="594"/>
                    </a:lnTo>
                    <a:lnTo>
                      <a:pt x="170" y="598"/>
                    </a:lnTo>
                    <a:lnTo>
                      <a:pt x="195" y="601"/>
                    </a:lnTo>
                    <a:lnTo>
                      <a:pt x="219" y="604"/>
                    </a:lnTo>
                    <a:lnTo>
                      <a:pt x="244" y="607"/>
                    </a:lnTo>
                    <a:lnTo>
                      <a:pt x="268" y="610"/>
                    </a:lnTo>
                    <a:lnTo>
                      <a:pt x="292" y="613"/>
                    </a:lnTo>
                    <a:lnTo>
                      <a:pt x="317" y="616"/>
                    </a:lnTo>
                    <a:lnTo>
                      <a:pt x="341" y="619"/>
                    </a:lnTo>
                    <a:lnTo>
                      <a:pt x="365" y="622"/>
                    </a:lnTo>
                    <a:lnTo>
                      <a:pt x="389" y="625"/>
                    </a:lnTo>
                    <a:lnTo>
                      <a:pt x="414" y="628"/>
                    </a:lnTo>
                    <a:lnTo>
                      <a:pt x="439" y="630"/>
                    </a:lnTo>
                    <a:lnTo>
                      <a:pt x="463" y="633"/>
                    </a:lnTo>
                    <a:lnTo>
                      <a:pt x="487" y="636"/>
                    </a:lnTo>
                    <a:lnTo>
                      <a:pt x="511" y="639"/>
                    </a:lnTo>
                    <a:lnTo>
                      <a:pt x="536" y="642"/>
                    </a:lnTo>
                    <a:lnTo>
                      <a:pt x="560" y="645"/>
                    </a:lnTo>
                    <a:lnTo>
                      <a:pt x="584" y="648"/>
                    </a:lnTo>
                    <a:lnTo>
                      <a:pt x="608" y="651"/>
                    </a:lnTo>
                    <a:lnTo>
                      <a:pt x="632" y="654"/>
                    </a:lnTo>
                    <a:lnTo>
                      <a:pt x="658" y="657"/>
                    </a:lnTo>
                    <a:lnTo>
                      <a:pt x="682" y="660"/>
                    </a:lnTo>
                    <a:lnTo>
                      <a:pt x="706" y="663"/>
                    </a:lnTo>
                    <a:lnTo>
                      <a:pt x="730" y="666"/>
                    </a:lnTo>
                    <a:lnTo>
                      <a:pt x="755" y="669"/>
                    </a:lnTo>
                    <a:lnTo>
                      <a:pt x="779" y="672"/>
                    </a:lnTo>
                    <a:lnTo>
                      <a:pt x="791" y="634"/>
                    </a:lnTo>
                    <a:lnTo>
                      <a:pt x="803" y="597"/>
                    </a:lnTo>
                    <a:lnTo>
                      <a:pt x="816" y="558"/>
                    </a:lnTo>
                    <a:lnTo>
                      <a:pt x="828" y="520"/>
                    </a:lnTo>
                    <a:lnTo>
                      <a:pt x="840" y="482"/>
                    </a:lnTo>
                    <a:lnTo>
                      <a:pt x="853" y="444"/>
                    </a:lnTo>
                    <a:lnTo>
                      <a:pt x="866" y="407"/>
                    </a:lnTo>
                    <a:lnTo>
                      <a:pt x="879" y="368"/>
                    </a:lnTo>
                    <a:lnTo>
                      <a:pt x="891" y="331"/>
                    </a:lnTo>
                    <a:lnTo>
                      <a:pt x="904" y="292"/>
                    </a:lnTo>
                    <a:lnTo>
                      <a:pt x="916" y="255"/>
                    </a:lnTo>
                    <a:lnTo>
                      <a:pt x="929" y="217"/>
                    </a:lnTo>
                    <a:lnTo>
                      <a:pt x="941" y="179"/>
                    </a:lnTo>
                    <a:lnTo>
                      <a:pt x="954" y="141"/>
                    </a:lnTo>
                    <a:lnTo>
                      <a:pt x="966" y="103"/>
                    </a:lnTo>
                    <a:lnTo>
                      <a:pt x="980" y="65"/>
                    </a:lnTo>
                    <a:lnTo>
                      <a:pt x="956" y="63"/>
                    </a:lnTo>
                    <a:lnTo>
                      <a:pt x="932" y="61"/>
                    </a:lnTo>
                    <a:lnTo>
                      <a:pt x="909" y="59"/>
                    </a:lnTo>
                    <a:lnTo>
                      <a:pt x="885" y="57"/>
                    </a:lnTo>
                    <a:lnTo>
                      <a:pt x="862" y="55"/>
                    </a:lnTo>
                    <a:lnTo>
                      <a:pt x="837" y="53"/>
                    </a:lnTo>
                    <a:lnTo>
                      <a:pt x="814" y="51"/>
                    </a:lnTo>
                    <a:lnTo>
                      <a:pt x="790" y="49"/>
                    </a:lnTo>
                    <a:lnTo>
                      <a:pt x="767" y="47"/>
                    </a:lnTo>
                    <a:lnTo>
                      <a:pt x="742" y="45"/>
                    </a:lnTo>
                    <a:lnTo>
                      <a:pt x="719" y="43"/>
                    </a:lnTo>
                    <a:lnTo>
                      <a:pt x="695" y="41"/>
                    </a:lnTo>
                    <a:lnTo>
                      <a:pt x="672" y="39"/>
                    </a:lnTo>
                    <a:lnTo>
                      <a:pt x="648" y="37"/>
                    </a:lnTo>
                    <a:lnTo>
                      <a:pt x="624" y="35"/>
                    </a:lnTo>
                    <a:lnTo>
                      <a:pt x="600" y="33"/>
                    </a:lnTo>
                    <a:lnTo>
                      <a:pt x="577" y="31"/>
                    </a:lnTo>
                    <a:lnTo>
                      <a:pt x="553" y="29"/>
                    </a:lnTo>
                    <a:lnTo>
                      <a:pt x="530" y="27"/>
                    </a:lnTo>
                    <a:lnTo>
                      <a:pt x="505" y="25"/>
                    </a:lnTo>
                    <a:lnTo>
                      <a:pt x="482" y="23"/>
                    </a:lnTo>
                    <a:lnTo>
                      <a:pt x="458" y="21"/>
                    </a:lnTo>
                    <a:lnTo>
                      <a:pt x="435" y="19"/>
                    </a:lnTo>
                    <a:lnTo>
                      <a:pt x="410" y="17"/>
                    </a:lnTo>
                    <a:lnTo>
                      <a:pt x="387" y="14"/>
                    </a:lnTo>
                    <a:lnTo>
                      <a:pt x="363" y="12"/>
                    </a:lnTo>
                    <a:lnTo>
                      <a:pt x="340" y="10"/>
                    </a:lnTo>
                    <a:lnTo>
                      <a:pt x="316" y="8"/>
                    </a:lnTo>
                    <a:lnTo>
                      <a:pt x="292" y="6"/>
                    </a:lnTo>
                    <a:lnTo>
                      <a:pt x="268" y="4"/>
                    </a:lnTo>
                    <a:lnTo>
                      <a:pt x="245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4920" y="4525920"/>
                <a:ext cx="189360" cy="150840"/>
              </a:xfrm>
              <a:custGeom>
                <a:avLst/>
                <a:gdLst/>
                <a:ahLst/>
                <a:rect l="l" t="t" r="r" b="b"/>
                <a:pathLst>
                  <a:path w="932" h="665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3" y="580"/>
                    </a:lnTo>
                    <a:lnTo>
                      <a:pt x="45" y="582"/>
                    </a:lnTo>
                    <a:lnTo>
                      <a:pt x="68" y="585"/>
                    </a:lnTo>
                    <a:lnTo>
                      <a:pt x="92" y="588"/>
                    </a:lnTo>
                    <a:lnTo>
                      <a:pt x="114" y="591"/>
                    </a:lnTo>
                    <a:lnTo>
                      <a:pt x="137" y="593"/>
                    </a:lnTo>
                    <a:lnTo>
                      <a:pt x="160" y="597"/>
                    </a:lnTo>
                    <a:lnTo>
                      <a:pt x="182" y="600"/>
                    </a:lnTo>
                    <a:lnTo>
                      <a:pt x="206" y="602"/>
                    </a:lnTo>
                    <a:lnTo>
                      <a:pt x="229" y="605"/>
                    </a:lnTo>
                    <a:lnTo>
                      <a:pt x="252" y="608"/>
                    </a:lnTo>
                    <a:lnTo>
                      <a:pt x="274" y="611"/>
                    </a:lnTo>
                    <a:lnTo>
                      <a:pt x="297" y="613"/>
                    </a:lnTo>
                    <a:lnTo>
                      <a:pt x="321" y="616"/>
                    </a:lnTo>
                    <a:lnTo>
                      <a:pt x="343" y="619"/>
                    </a:lnTo>
                    <a:lnTo>
                      <a:pt x="366" y="621"/>
                    </a:lnTo>
                    <a:lnTo>
                      <a:pt x="389" y="624"/>
                    </a:lnTo>
                    <a:lnTo>
                      <a:pt x="412" y="627"/>
                    </a:lnTo>
                    <a:lnTo>
                      <a:pt x="435" y="630"/>
                    </a:lnTo>
                    <a:lnTo>
                      <a:pt x="458" y="632"/>
                    </a:lnTo>
                    <a:lnTo>
                      <a:pt x="480" y="635"/>
                    </a:lnTo>
                    <a:lnTo>
                      <a:pt x="503" y="638"/>
                    </a:lnTo>
                    <a:lnTo>
                      <a:pt x="526" y="641"/>
                    </a:lnTo>
                    <a:lnTo>
                      <a:pt x="549" y="643"/>
                    </a:lnTo>
                    <a:lnTo>
                      <a:pt x="572" y="646"/>
                    </a:lnTo>
                    <a:lnTo>
                      <a:pt x="594" y="649"/>
                    </a:lnTo>
                    <a:lnTo>
                      <a:pt x="617" y="651"/>
                    </a:lnTo>
                    <a:lnTo>
                      <a:pt x="641" y="654"/>
                    </a:lnTo>
                    <a:lnTo>
                      <a:pt x="663" y="657"/>
                    </a:lnTo>
                    <a:lnTo>
                      <a:pt x="686" y="660"/>
                    </a:lnTo>
                    <a:lnTo>
                      <a:pt x="708" y="662"/>
                    </a:lnTo>
                    <a:lnTo>
                      <a:pt x="731" y="665"/>
                    </a:lnTo>
                    <a:lnTo>
                      <a:pt x="744" y="628"/>
                    </a:lnTo>
                    <a:lnTo>
                      <a:pt x="757" y="589"/>
                    </a:lnTo>
                    <a:lnTo>
                      <a:pt x="770" y="552"/>
                    </a:lnTo>
                    <a:lnTo>
                      <a:pt x="782" y="515"/>
                    </a:lnTo>
                    <a:lnTo>
                      <a:pt x="794" y="476"/>
                    </a:lnTo>
                    <a:lnTo>
                      <a:pt x="807" y="439"/>
                    </a:lnTo>
                    <a:lnTo>
                      <a:pt x="819" y="400"/>
                    </a:lnTo>
                    <a:lnTo>
                      <a:pt x="832" y="363"/>
                    </a:lnTo>
                    <a:lnTo>
                      <a:pt x="844" y="326"/>
                    </a:lnTo>
                    <a:lnTo>
                      <a:pt x="856" y="287"/>
                    </a:lnTo>
                    <a:lnTo>
                      <a:pt x="870" y="250"/>
                    </a:lnTo>
                    <a:lnTo>
                      <a:pt x="882" y="212"/>
                    </a:lnTo>
                    <a:lnTo>
                      <a:pt x="894" y="174"/>
                    </a:lnTo>
                    <a:lnTo>
                      <a:pt x="907" y="137"/>
                    </a:lnTo>
                    <a:lnTo>
                      <a:pt x="919" y="98"/>
                    </a:lnTo>
                    <a:lnTo>
                      <a:pt x="932" y="61"/>
                    </a:lnTo>
                    <a:lnTo>
                      <a:pt x="910" y="59"/>
                    </a:lnTo>
                    <a:lnTo>
                      <a:pt x="888" y="57"/>
                    </a:lnTo>
                    <a:lnTo>
                      <a:pt x="866" y="55"/>
                    </a:lnTo>
                    <a:lnTo>
                      <a:pt x="843" y="53"/>
                    </a:lnTo>
                    <a:lnTo>
                      <a:pt x="821" y="52"/>
                    </a:lnTo>
                    <a:lnTo>
                      <a:pt x="799" y="50"/>
                    </a:lnTo>
                    <a:lnTo>
                      <a:pt x="777" y="48"/>
                    </a:lnTo>
                    <a:lnTo>
                      <a:pt x="755" y="46"/>
                    </a:lnTo>
                    <a:lnTo>
                      <a:pt x="732" y="44"/>
                    </a:lnTo>
                    <a:lnTo>
                      <a:pt x="710" y="42"/>
                    </a:lnTo>
                    <a:lnTo>
                      <a:pt x="688" y="40"/>
                    </a:lnTo>
                    <a:lnTo>
                      <a:pt x="666" y="38"/>
                    </a:lnTo>
                    <a:lnTo>
                      <a:pt x="644" y="37"/>
                    </a:lnTo>
                    <a:lnTo>
                      <a:pt x="621" y="35"/>
                    </a:lnTo>
                    <a:lnTo>
                      <a:pt x="599" y="33"/>
                    </a:lnTo>
                    <a:lnTo>
                      <a:pt x="577" y="31"/>
                    </a:lnTo>
                    <a:lnTo>
                      <a:pt x="555" y="29"/>
                    </a:lnTo>
                    <a:lnTo>
                      <a:pt x="533" y="27"/>
                    </a:lnTo>
                    <a:lnTo>
                      <a:pt x="510" y="25"/>
                    </a:lnTo>
                    <a:lnTo>
                      <a:pt x="488" y="23"/>
                    </a:lnTo>
                    <a:lnTo>
                      <a:pt x="466" y="22"/>
                    </a:lnTo>
                    <a:lnTo>
                      <a:pt x="444" y="20"/>
                    </a:lnTo>
                    <a:lnTo>
                      <a:pt x="422" y="18"/>
                    </a:lnTo>
                    <a:lnTo>
                      <a:pt x="399" y="16"/>
                    </a:lnTo>
                    <a:lnTo>
                      <a:pt x="377" y="13"/>
                    </a:lnTo>
                    <a:lnTo>
                      <a:pt x="355" y="11"/>
                    </a:lnTo>
                    <a:lnTo>
                      <a:pt x="333" y="9"/>
                    </a:lnTo>
                    <a:lnTo>
                      <a:pt x="310" y="7"/>
                    </a:lnTo>
                    <a:lnTo>
                      <a:pt x="287" y="6"/>
                    </a:lnTo>
                    <a:lnTo>
                      <a:pt x="265" y="4"/>
                    </a:lnTo>
                    <a:lnTo>
                      <a:pt x="243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74920" y="4525920"/>
                <a:ext cx="180360" cy="149400"/>
              </a:xfrm>
              <a:custGeom>
                <a:avLst/>
                <a:gdLst/>
                <a:ahLst/>
                <a:rect l="l" t="t" r="r" b="b"/>
                <a:pathLst>
                  <a:path w="884" h="659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1" y="580"/>
                    </a:lnTo>
                    <a:lnTo>
                      <a:pt x="42" y="582"/>
                    </a:lnTo>
                    <a:lnTo>
                      <a:pt x="64" y="585"/>
                    </a:lnTo>
                    <a:lnTo>
                      <a:pt x="86" y="587"/>
                    </a:lnTo>
                    <a:lnTo>
                      <a:pt x="107" y="590"/>
                    </a:lnTo>
                    <a:lnTo>
                      <a:pt x="128" y="592"/>
                    </a:lnTo>
                    <a:lnTo>
                      <a:pt x="149" y="596"/>
                    </a:lnTo>
                    <a:lnTo>
                      <a:pt x="171" y="598"/>
                    </a:lnTo>
                    <a:lnTo>
                      <a:pt x="193" y="601"/>
                    </a:lnTo>
                    <a:lnTo>
                      <a:pt x="214" y="603"/>
                    </a:lnTo>
                    <a:lnTo>
                      <a:pt x="235" y="606"/>
                    </a:lnTo>
                    <a:lnTo>
                      <a:pt x="256" y="608"/>
                    </a:lnTo>
                    <a:lnTo>
                      <a:pt x="277" y="611"/>
                    </a:lnTo>
                    <a:lnTo>
                      <a:pt x="300" y="613"/>
                    </a:lnTo>
                    <a:lnTo>
                      <a:pt x="321" y="616"/>
                    </a:lnTo>
                    <a:lnTo>
                      <a:pt x="342" y="618"/>
                    </a:lnTo>
                    <a:lnTo>
                      <a:pt x="363" y="621"/>
                    </a:lnTo>
                    <a:lnTo>
                      <a:pt x="384" y="624"/>
                    </a:lnTo>
                    <a:lnTo>
                      <a:pt x="406" y="626"/>
                    </a:lnTo>
                    <a:lnTo>
                      <a:pt x="428" y="629"/>
                    </a:lnTo>
                    <a:lnTo>
                      <a:pt x="449" y="631"/>
                    </a:lnTo>
                    <a:lnTo>
                      <a:pt x="470" y="634"/>
                    </a:lnTo>
                    <a:lnTo>
                      <a:pt x="491" y="636"/>
                    </a:lnTo>
                    <a:lnTo>
                      <a:pt x="513" y="639"/>
                    </a:lnTo>
                    <a:lnTo>
                      <a:pt x="535" y="641"/>
                    </a:lnTo>
                    <a:lnTo>
                      <a:pt x="556" y="644"/>
                    </a:lnTo>
                    <a:lnTo>
                      <a:pt x="577" y="646"/>
                    </a:lnTo>
                    <a:lnTo>
                      <a:pt x="598" y="649"/>
                    </a:lnTo>
                    <a:lnTo>
                      <a:pt x="619" y="651"/>
                    </a:lnTo>
                    <a:lnTo>
                      <a:pt x="642" y="654"/>
                    </a:lnTo>
                    <a:lnTo>
                      <a:pt x="663" y="656"/>
                    </a:lnTo>
                    <a:lnTo>
                      <a:pt x="684" y="659"/>
                    </a:lnTo>
                    <a:lnTo>
                      <a:pt x="697" y="622"/>
                    </a:lnTo>
                    <a:lnTo>
                      <a:pt x="709" y="583"/>
                    </a:lnTo>
                    <a:lnTo>
                      <a:pt x="722" y="546"/>
                    </a:lnTo>
                    <a:lnTo>
                      <a:pt x="734" y="509"/>
                    </a:lnTo>
                    <a:lnTo>
                      <a:pt x="748" y="471"/>
                    </a:lnTo>
                    <a:lnTo>
                      <a:pt x="760" y="433"/>
                    </a:lnTo>
                    <a:lnTo>
                      <a:pt x="773" y="395"/>
                    </a:lnTo>
                    <a:lnTo>
                      <a:pt x="785" y="358"/>
                    </a:lnTo>
                    <a:lnTo>
                      <a:pt x="798" y="321"/>
                    </a:lnTo>
                    <a:lnTo>
                      <a:pt x="810" y="283"/>
                    </a:lnTo>
                    <a:lnTo>
                      <a:pt x="822" y="245"/>
                    </a:lnTo>
                    <a:lnTo>
                      <a:pt x="834" y="207"/>
                    </a:lnTo>
                    <a:lnTo>
                      <a:pt x="847" y="170"/>
                    </a:lnTo>
                    <a:lnTo>
                      <a:pt x="860" y="133"/>
                    </a:lnTo>
                    <a:lnTo>
                      <a:pt x="872" y="94"/>
                    </a:lnTo>
                    <a:lnTo>
                      <a:pt x="884" y="57"/>
                    </a:lnTo>
                    <a:lnTo>
                      <a:pt x="864" y="55"/>
                    </a:lnTo>
                    <a:lnTo>
                      <a:pt x="842" y="54"/>
                    </a:lnTo>
                    <a:lnTo>
                      <a:pt x="822" y="52"/>
                    </a:lnTo>
                    <a:lnTo>
                      <a:pt x="802" y="50"/>
                    </a:lnTo>
                    <a:lnTo>
                      <a:pt x="781" y="48"/>
                    </a:lnTo>
                    <a:lnTo>
                      <a:pt x="761" y="47"/>
                    </a:lnTo>
                    <a:lnTo>
                      <a:pt x="739" y="45"/>
                    </a:lnTo>
                    <a:lnTo>
                      <a:pt x="719" y="43"/>
                    </a:lnTo>
                    <a:lnTo>
                      <a:pt x="698" y="42"/>
                    </a:lnTo>
                    <a:lnTo>
                      <a:pt x="678" y="40"/>
                    </a:lnTo>
                    <a:lnTo>
                      <a:pt x="658" y="38"/>
                    </a:lnTo>
                    <a:lnTo>
                      <a:pt x="637" y="36"/>
                    </a:lnTo>
                    <a:lnTo>
                      <a:pt x="616" y="35"/>
                    </a:lnTo>
                    <a:lnTo>
                      <a:pt x="595" y="33"/>
                    </a:lnTo>
                    <a:lnTo>
                      <a:pt x="575" y="31"/>
                    </a:lnTo>
                    <a:lnTo>
                      <a:pt x="554" y="29"/>
                    </a:lnTo>
                    <a:lnTo>
                      <a:pt x="533" y="28"/>
                    </a:lnTo>
                    <a:lnTo>
                      <a:pt x="512" y="26"/>
                    </a:lnTo>
                    <a:lnTo>
                      <a:pt x="491" y="24"/>
                    </a:lnTo>
                    <a:lnTo>
                      <a:pt x="471" y="22"/>
                    </a:lnTo>
                    <a:lnTo>
                      <a:pt x="450" y="21"/>
                    </a:lnTo>
                    <a:lnTo>
                      <a:pt x="430" y="19"/>
                    </a:lnTo>
                    <a:lnTo>
                      <a:pt x="408" y="17"/>
                    </a:lnTo>
                    <a:lnTo>
                      <a:pt x="387" y="14"/>
                    </a:lnTo>
                    <a:lnTo>
                      <a:pt x="367" y="12"/>
                    </a:lnTo>
                    <a:lnTo>
                      <a:pt x="346" y="11"/>
                    </a:lnTo>
                    <a:lnTo>
                      <a:pt x="325" y="9"/>
                    </a:lnTo>
                    <a:lnTo>
                      <a:pt x="305" y="7"/>
                    </a:lnTo>
                    <a:lnTo>
                      <a:pt x="283" y="5"/>
                    </a:lnTo>
                    <a:lnTo>
                      <a:pt x="262" y="4"/>
                    </a:lnTo>
                    <a:lnTo>
                      <a:pt x="242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74920" y="4525920"/>
                <a:ext cx="170640" cy="147960"/>
              </a:xfrm>
              <a:custGeom>
                <a:avLst/>
                <a:gdLst/>
                <a:ahLst/>
                <a:rect l="l" t="t" r="r" b="b"/>
                <a:pathLst>
                  <a:path w="837" h="652">
                    <a:moveTo>
                      <a:pt x="222" y="0"/>
                    </a:moveTo>
                    <a:lnTo>
                      <a:pt x="208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40" y="582"/>
                    </a:lnTo>
                    <a:lnTo>
                      <a:pt x="80" y="586"/>
                    </a:lnTo>
                    <a:lnTo>
                      <a:pt x="120" y="591"/>
                    </a:lnTo>
                    <a:lnTo>
                      <a:pt x="160" y="596"/>
                    </a:lnTo>
                    <a:lnTo>
                      <a:pt x="200" y="601"/>
                    </a:lnTo>
                    <a:lnTo>
                      <a:pt x="240" y="605"/>
                    </a:lnTo>
                    <a:lnTo>
                      <a:pt x="279" y="610"/>
                    </a:lnTo>
                    <a:lnTo>
                      <a:pt x="320" y="615"/>
                    </a:lnTo>
                    <a:lnTo>
                      <a:pt x="359" y="619"/>
                    </a:lnTo>
                    <a:lnTo>
                      <a:pt x="399" y="624"/>
                    </a:lnTo>
                    <a:lnTo>
                      <a:pt x="439" y="629"/>
                    </a:lnTo>
                    <a:lnTo>
                      <a:pt x="478" y="633"/>
                    </a:lnTo>
                    <a:lnTo>
                      <a:pt x="518" y="638"/>
                    </a:lnTo>
                    <a:lnTo>
                      <a:pt x="558" y="643"/>
                    </a:lnTo>
                    <a:lnTo>
                      <a:pt x="598" y="647"/>
                    </a:lnTo>
                    <a:lnTo>
                      <a:pt x="638" y="652"/>
                    </a:lnTo>
                    <a:lnTo>
                      <a:pt x="651" y="615"/>
                    </a:lnTo>
                    <a:lnTo>
                      <a:pt x="663" y="577"/>
                    </a:lnTo>
                    <a:lnTo>
                      <a:pt x="676" y="540"/>
                    </a:lnTo>
                    <a:lnTo>
                      <a:pt x="688" y="503"/>
                    </a:lnTo>
                    <a:lnTo>
                      <a:pt x="701" y="465"/>
                    </a:lnTo>
                    <a:lnTo>
                      <a:pt x="713" y="428"/>
                    </a:lnTo>
                    <a:lnTo>
                      <a:pt x="726" y="390"/>
                    </a:lnTo>
                    <a:lnTo>
                      <a:pt x="738" y="353"/>
                    </a:lnTo>
                    <a:lnTo>
                      <a:pt x="752" y="316"/>
                    </a:lnTo>
                    <a:lnTo>
                      <a:pt x="764" y="278"/>
                    </a:lnTo>
                    <a:lnTo>
                      <a:pt x="776" y="241"/>
                    </a:lnTo>
                    <a:lnTo>
                      <a:pt x="788" y="203"/>
                    </a:lnTo>
                    <a:lnTo>
                      <a:pt x="801" y="166"/>
                    </a:lnTo>
                    <a:lnTo>
                      <a:pt x="813" y="129"/>
                    </a:lnTo>
                    <a:lnTo>
                      <a:pt x="825" y="91"/>
                    </a:lnTo>
                    <a:lnTo>
                      <a:pt x="837" y="54"/>
                    </a:lnTo>
                    <a:lnTo>
                      <a:pt x="799" y="51"/>
                    </a:lnTo>
                    <a:lnTo>
                      <a:pt x="761" y="47"/>
                    </a:lnTo>
                    <a:lnTo>
                      <a:pt x="722" y="44"/>
                    </a:lnTo>
                    <a:lnTo>
                      <a:pt x="684" y="41"/>
                    </a:lnTo>
                    <a:lnTo>
                      <a:pt x="646" y="37"/>
                    </a:lnTo>
                    <a:lnTo>
                      <a:pt x="607" y="34"/>
                    </a:lnTo>
                    <a:lnTo>
                      <a:pt x="569" y="31"/>
                    </a:lnTo>
                    <a:lnTo>
                      <a:pt x="531" y="27"/>
                    </a:lnTo>
                    <a:lnTo>
                      <a:pt x="492" y="24"/>
                    </a:lnTo>
                    <a:lnTo>
                      <a:pt x="453" y="21"/>
                    </a:lnTo>
                    <a:lnTo>
                      <a:pt x="415" y="18"/>
                    </a:lnTo>
                    <a:lnTo>
                      <a:pt x="376" y="13"/>
                    </a:lnTo>
                    <a:lnTo>
                      <a:pt x="338" y="10"/>
                    </a:lnTo>
                    <a:lnTo>
                      <a:pt x="298" y="7"/>
                    </a:lnTo>
                    <a:lnTo>
                      <a:pt x="260" y="3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74920" y="4525920"/>
                <a:ext cx="160920" cy="146160"/>
              </a:xfrm>
              <a:custGeom>
                <a:avLst/>
                <a:gdLst/>
                <a:ahLst/>
                <a:rect l="l" t="t" r="r" b="b"/>
                <a:pathLst>
                  <a:path w="792" h="645">
                    <a:moveTo>
                      <a:pt x="222" y="0"/>
                    </a:moveTo>
                    <a:lnTo>
                      <a:pt x="208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7" y="581"/>
                    </a:lnTo>
                    <a:lnTo>
                      <a:pt x="73" y="585"/>
                    </a:lnTo>
                    <a:lnTo>
                      <a:pt x="111" y="589"/>
                    </a:lnTo>
                    <a:lnTo>
                      <a:pt x="147" y="594"/>
                    </a:lnTo>
                    <a:lnTo>
                      <a:pt x="184" y="599"/>
                    </a:lnTo>
                    <a:lnTo>
                      <a:pt x="221" y="603"/>
                    </a:lnTo>
                    <a:lnTo>
                      <a:pt x="258" y="607"/>
                    </a:lnTo>
                    <a:lnTo>
                      <a:pt x="295" y="611"/>
                    </a:lnTo>
                    <a:lnTo>
                      <a:pt x="332" y="616"/>
                    </a:lnTo>
                    <a:lnTo>
                      <a:pt x="369" y="620"/>
                    </a:lnTo>
                    <a:lnTo>
                      <a:pt x="406" y="624"/>
                    </a:lnTo>
                    <a:lnTo>
                      <a:pt x="443" y="628"/>
                    </a:lnTo>
                    <a:lnTo>
                      <a:pt x="480" y="633"/>
                    </a:lnTo>
                    <a:lnTo>
                      <a:pt x="517" y="637"/>
                    </a:lnTo>
                    <a:lnTo>
                      <a:pt x="554" y="641"/>
                    </a:lnTo>
                    <a:lnTo>
                      <a:pt x="591" y="645"/>
                    </a:lnTo>
                    <a:lnTo>
                      <a:pt x="603" y="608"/>
                    </a:lnTo>
                    <a:lnTo>
                      <a:pt x="616" y="570"/>
                    </a:lnTo>
                    <a:lnTo>
                      <a:pt x="628" y="534"/>
                    </a:lnTo>
                    <a:lnTo>
                      <a:pt x="642" y="496"/>
                    </a:lnTo>
                    <a:lnTo>
                      <a:pt x="654" y="459"/>
                    </a:lnTo>
                    <a:lnTo>
                      <a:pt x="667" y="422"/>
                    </a:lnTo>
                    <a:lnTo>
                      <a:pt x="679" y="384"/>
                    </a:lnTo>
                    <a:lnTo>
                      <a:pt x="692" y="347"/>
                    </a:lnTo>
                    <a:lnTo>
                      <a:pt x="704" y="311"/>
                    </a:lnTo>
                    <a:lnTo>
                      <a:pt x="716" y="273"/>
                    </a:lnTo>
                    <a:lnTo>
                      <a:pt x="729" y="236"/>
                    </a:lnTo>
                    <a:lnTo>
                      <a:pt x="741" y="198"/>
                    </a:lnTo>
                    <a:lnTo>
                      <a:pt x="755" y="161"/>
                    </a:lnTo>
                    <a:lnTo>
                      <a:pt x="767" y="125"/>
                    </a:lnTo>
                    <a:lnTo>
                      <a:pt x="780" y="87"/>
                    </a:lnTo>
                    <a:lnTo>
                      <a:pt x="792" y="50"/>
                    </a:lnTo>
                    <a:lnTo>
                      <a:pt x="757" y="47"/>
                    </a:lnTo>
                    <a:lnTo>
                      <a:pt x="720" y="44"/>
                    </a:lnTo>
                    <a:lnTo>
                      <a:pt x="685" y="41"/>
                    </a:lnTo>
                    <a:lnTo>
                      <a:pt x="650" y="38"/>
                    </a:lnTo>
                    <a:lnTo>
                      <a:pt x="614" y="35"/>
                    </a:lnTo>
                    <a:lnTo>
                      <a:pt x="578" y="32"/>
                    </a:lnTo>
                    <a:lnTo>
                      <a:pt x="543" y="29"/>
                    </a:lnTo>
                    <a:lnTo>
                      <a:pt x="507" y="25"/>
                    </a:lnTo>
                    <a:lnTo>
                      <a:pt x="472" y="22"/>
                    </a:lnTo>
                    <a:lnTo>
                      <a:pt x="436" y="19"/>
                    </a:lnTo>
                    <a:lnTo>
                      <a:pt x="400" y="16"/>
                    </a:lnTo>
                    <a:lnTo>
                      <a:pt x="365" y="12"/>
                    </a:lnTo>
                    <a:lnTo>
                      <a:pt x="329" y="9"/>
                    </a:lnTo>
                    <a:lnTo>
                      <a:pt x="293" y="6"/>
                    </a:lnTo>
                    <a:lnTo>
                      <a:pt x="257" y="3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74920" y="4525920"/>
                <a:ext cx="150840" cy="144720"/>
              </a:xfrm>
              <a:custGeom>
                <a:avLst/>
                <a:gdLst/>
                <a:ahLst/>
                <a:rect l="l" t="t" r="r" b="b"/>
                <a:pathLst>
                  <a:path w="745" h="639">
                    <a:moveTo>
                      <a:pt x="223" y="0"/>
                    </a:moveTo>
                    <a:lnTo>
                      <a:pt x="209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4" y="581"/>
                    </a:lnTo>
                    <a:lnTo>
                      <a:pt x="67" y="585"/>
                    </a:lnTo>
                    <a:lnTo>
                      <a:pt x="102" y="588"/>
                    </a:lnTo>
                    <a:lnTo>
                      <a:pt x="136" y="592"/>
                    </a:lnTo>
                    <a:lnTo>
                      <a:pt x="170" y="597"/>
                    </a:lnTo>
                    <a:lnTo>
                      <a:pt x="204" y="601"/>
                    </a:lnTo>
                    <a:lnTo>
                      <a:pt x="238" y="605"/>
                    </a:lnTo>
                    <a:lnTo>
                      <a:pt x="272" y="608"/>
                    </a:lnTo>
                    <a:lnTo>
                      <a:pt x="306" y="612"/>
                    </a:lnTo>
                    <a:lnTo>
                      <a:pt x="340" y="616"/>
                    </a:lnTo>
                    <a:lnTo>
                      <a:pt x="373" y="620"/>
                    </a:lnTo>
                    <a:lnTo>
                      <a:pt x="407" y="624"/>
                    </a:lnTo>
                    <a:lnTo>
                      <a:pt x="442" y="628"/>
                    </a:lnTo>
                    <a:lnTo>
                      <a:pt x="476" y="631"/>
                    </a:lnTo>
                    <a:lnTo>
                      <a:pt x="509" y="635"/>
                    </a:lnTo>
                    <a:lnTo>
                      <a:pt x="544" y="639"/>
                    </a:lnTo>
                    <a:lnTo>
                      <a:pt x="557" y="602"/>
                    </a:lnTo>
                    <a:lnTo>
                      <a:pt x="569" y="565"/>
                    </a:lnTo>
                    <a:lnTo>
                      <a:pt x="582" y="528"/>
                    </a:lnTo>
                    <a:lnTo>
                      <a:pt x="594" y="490"/>
                    </a:lnTo>
                    <a:lnTo>
                      <a:pt x="607" y="453"/>
                    </a:lnTo>
                    <a:lnTo>
                      <a:pt x="619" y="417"/>
                    </a:lnTo>
                    <a:lnTo>
                      <a:pt x="632" y="379"/>
                    </a:lnTo>
                    <a:lnTo>
                      <a:pt x="645" y="342"/>
                    </a:lnTo>
                    <a:lnTo>
                      <a:pt x="657" y="306"/>
                    </a:lnTo>
                    <a:lnTo>
                      <a:pt x="670" y="268"/>
                    </a:lnTo>
                    <a:lnTo>
                      <a:pt x="682" y="232"/>
                    </a:lnTo>
                    <a:lnTo>
                      <a:pt x="695" y="194"/>
                    </a:lnTo>
                    <a:lnTo>
                      <a:pt x="707" y="157"/>
                    </a:lnTo>
                    <a:lnTo>
                      <a:pt x="720" y="120"/>
                    </a:lnTo>
                    <a:lnTo>
                      <a:pt x="732" y="83"/>
                    </a:lnTo>
                    <a:lnTo>
                      <a:pt x="745" y="46"/>
                    </a:lnTo>
                    <a:lnTo>
                      <a:pt x="713" y="43"/>
                    </a:lnTo>
                    <a:lnTo>
                      <a:pt x="680" y="40"/>
                    </a:lnTo>
                    <a:lnTo>
                      <a:pt x="648" y="38"/>
                    </a:lnTo>
                    <a:lnTo>
                      <a:pt x="615" y="35"/>
                    </a:lnTo>
                    <a:lnTo>
                      <a:pt x="582" y="32"/>
                    </a:lnTo>
                    <a:lnTo>
                      <a:pt x="550" y="29"/>
                    </a:lnTo>
                    <a:lnTo>
                      <a:pt x="517" y="26"/>
                    </a:lnTo>
                    <a:lnTo>
                      <a:pt x="484" y="23"/>
                    </a:lnTo>
                    <a:lnTo>
                      <a:pt x="452" y="21"/>
                    </a:lnTo>
                    <a:lnTo>
                      <a:pt x="420" y="18"/>
                    </a:lnTo>
                    <a:lnTo>
                      <a:pt x="386" y="14"/>
                    </a:lnTo>
                    <a:lnTo>
                      <a:pt x="354" y="11"/>
                    </a:lnTo>
                    <a:lnTo>
                      <a:pt x="321" y="8"/>
                    </a:lnTo>
                    <a:lnTo>
                      <a:pt x="288" y="6"/>
                    </a:lnTo>
                    <a:lnTo>
                      <a:pt x="255" y="3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474920" y="4525920"/>
                <a:ext cx="142200" cy="142920"/>
              </a:xfrm>
              <a:custGeom>
                <a:avLst/>
                <a:gdLst/>
                <a:ahLst/>
                <a:rect l="l" t="t" r="r" b="b"/>
                <a:pathLst>
                  <a:path w="698" h="632">
                    <a:moveTo>
                      <a:pt x="223" y="0"/>
                    </a:moveTo>
                    <a:lnTo>
                      <a:pt x="209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1" y="580"/>
                    </a:lnTo>
                    <a:lnTo>
                      <a:pt x="62" y="584"/>
                    </a:lnTo>
                    <a:lnTo>
                      <a:pt x="93" y="587"/>
                    </a:lnTo>
                    <a:lnTo>
                      <a:pt x="124" y="590"/>
                    </a:lnTo>
                    <a:lnTo>
                      <a:pt x="155" y="594"/>
                    </a:lnTo>
                    <a:lnTo>
                      <a:pt x="186" y="598"/>
                    </a:lnTo>
                    <a:lnTo>
                      <a:pt x="217" y="602"/>
                    </a:lnTo>
                    <a:lnTo>
                      <a:pt x="248" y="605"/>
                    </a:lnTo>
                    <a:lnTo>
                      <a:pt x="279" y="608"/>
                    </a:lnTo>
                    <a:lnTo>
                      <a:pt x="311" y="612"/>
                    </a:lnTo>
                    <a:lnTo>
                      <a:pt x="341" y="615"/>
                    </a:lnTo>
                    <a:lnTo>
                      <a:pt x="372" y="618"/>
                    </a:lnTo>
                    <a:lnTo>
                      <a:pt x="403" y="622"/>
                    </a:lnTo>
                    <a:lnTo>
                      <a:pt x="435" y="625"/>
                    </a:lnTo>
                    <a:lnTo>
                      <a:pt x="465" y="629"/>
                    </a:lnTo>
                    <a:lnTo>
                      <a:pt x="496" y="632"/>
                    </a:lnTo>
                    <a:lnTo>
                      <a:pt x="509" y="596"/>
                    </a:lnTo>
                    <a:lnTo>
                      <a:pt x="521" y="558"/>
                    </a:lnTo>
                    <a:lnTo>
                      <a:pt x="535" y="522"/>
                    </a:lnTo>
                    <a:lnTo>
                      <a:pt x="547" y="484"/>
                    </a:lnTo>
                    <a:lnTo>
                      <a:pt x="560" y="448"/>
                    </a:lnTo>
                    <a:lnTo>
                      <a:pt x="572" y="411"/>
                    </a:lnTo>
                    <a:lnTo>
                      <a:pt x="585" y="374"/>
                    </a:lnTo>
                    <a:lnTo>
                      <a:pt x="597" y="337"/>
                    </a:lnTo>
                    <a:lnTo>
                      <a:pt x="609" y="300"/>
                    </a:lnTo>
                    <a:lnTo>
                      <a:pt x="622" y="263"/>
                    </a:lnTo>
                    <a:lnTo>
                      <a:pt x="634" y="227"/>
                    </a:lnTo>
                    <a:lnTo>
                      <a:pt x="648" y="189"/>
                    </a:lnTo>
                    <a:lnTo>
                      <a:pt x="660" y="153"/>
                    </a:lnTo>
                    <a:lnTo>
                      <a:pt x="673" y="116"/>
                    </a:lnTo>
                    <a:lnTo>
                      <a:pt x="685" y="79"/>
                    </a:lnTo>
                    <a:lnTo>
                      <a:pt x="698" y="42"/>
                    </a:lnTo>
                    <a:lnTo>
                      <a:pt x="669" y="39"/>
                    </a:lnTo>
                    <a:lnTo>
                      <a:pt x="639" y="37"/>
                    </a:lnTo>
                    <a:lnTo>
                      <a:pt x="609" y="34"/>
                    </a:lnTo>
                    <a:lnTo>
                      <a:pt x="579" y="32"/>
                    </a:lnTo>
                    <a:lnTo>
                      <a:pt x="550" y="29"/>
                    </a:lnTo>
                    <a:lnTo>
                      <a:pt x="520" y="27"/>
                    </a:lnTo>
                    <a:lnTo>
                      <a:pt x="490" y="24"/>
                    </a:lnTo>
                    <a:lnTo>
                      <a:pt x="461" y="21"/>
                    </a:lnTo>
                    <a:lnTo>
                      <a:pt x="431" y="19"/>
                    </a:lnTo>
                    <a:lnTo>
                      <a:pt x="401" y="16"/>
                    </a:lnTo>
                    <a:lnTo>
                      <a:pt x="372" y="13"/>
                    </a:lnTo>
                    <a:lnTo>
                      <a:pt x="342" y="10"/>
                    </a:lnTo>
                    <a:lnTo>
                      <a:pt x="313" y="8"/>
                    </a:lnTo>
                    <a:lnTo>
                      <a:pt x="282" y="5"/>
                    </a:lnTo>
                    <a:lnTo>
                      <a:pt x="253" y="3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74920" y="4525920"/>
                <a:ext cx="132480" cy="141480"/>
              </a:xfrm>
              <a:custGeom>
                <a:avLst/>
                <a:gdLst/>
                <a:ahLst/>
                <a:rect l="l" t="t" r="r" b="b"/>
                <a:pathLst>
                  <a:path w="652" h="626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8" y="580"/>
                    </a:lnTo>
                    <a:lnTo>
                      <a:pt x="56" y="583"/>
                    </a:lnTo>
                    <a:lnTo>
                      <a:pt x="85" y="586"/>
                    </a:lnTo>
                    <a:lnTo>
                      <a:pt x="113" y="589"/>
                    </a:lnTo>
                    <a:lnTo>
                      <a:pt x="141" y="592"/>
                    </a:lnTo>
                    <a:lnTo>
                      <a:pt x="169" y="596"/>
                    </a:lnTo>
                    <a:lnTo>
                      <a:pt x="198" y="599"/>
                    </a:lnTo>
                    <a:lnTo>
                      <a:pt x="226" y="602"/>
                    </a:lnTo>
                    <a:lnTo>
                      <a:pt x="254" y="605"/>
                    </a:lnTo>
                    <a:lnTo>
                      <a:pt x="281" y="608"/>
                    </a:lnTo>
                    <a:lnTo>
                      <a:pt x="310" y="611"/>
                    </a:lnTo>
                    <a:lnTo>
                      <a:pt x="338" y="614"/>
                    </a:lnTo>
                    <a:lnTo>
                      <a:pt x="366" y="617"/>
                    </a:lnTo>
                    <a:lnTo>
                      <a:pt x="393" y="620"/>
                    </a:lnTo>
                    <a:lnTo>
                      <a:pt x="422" y="623"/>
                    </a:lnTo>
                    <a:lnTo>
                      <a:pt x="450" y="626"/>
                    </a:lnTo>
                    <a:lnTo>
                      <a:pt x="463" y="589"/>
                    </a:lnTo>
                    <a:lnTo>
                      <a:pt x="475" y="552"/>
                    </a:lnTo>
                    <a:lnTo>
                      <a:pt x="488" y="516"/>
                    </a:lnTo>
                    <a:lnTo>
                      <a:pt x="500" y="478"/>
                    </a:lnTo>
                    <a:lnTo>
                      <a:pt x="513" y="442"/>
                    </a:lnTo>
                    <a:lnTo>
                      <a:pt x="525" y="406"/>
                    </a:lnTo>
                    <a:lnTo>
                      <a:pt x="539" y="368"/>
                    </a:lnTo>
                    <a:lnTo>
                      <a:pt x="551" y="332"/>
                    </a:lnTo>
                    <a:lnTo>
                      <a:pt x="563" y="295"/>
                    </a:lnTo>
                    <a:lnTo>
                      <a:pt x="576" y="258"/>
                    </a:lnTo>
                    <a:lnTo>
                      <a:pt x="588" y="222"/>
                    </a:lnTo>
                    <a:lnTo>
                      <a:pt x="601" y="184"/>
                    </a:lnTo>
                    <a:lnTo>
                      <a:pt x="613" y="148"/>
                    </a:lnTo>
                    <a:lnTo>
                      <a:pt x="626" y="111"/>
                    </a:lnTo>
                    <a:lnTo>
                      <a:pt x="639" y="74"/>
                    </a:lnTo>
                    <a:lnTo>
                      <a:pt x="652" y="38"/>
                    </a:lnTo>
                    <a:lnTo>
                      <a:pt x="625" y="36"/>
                    </a:lnTo>
                    <a:lnTo>
                      <a:pt x="598" y="33"/>
                    </a:lnTo>
                    <a:lnTo>
                      <a:pt x="572" y="31"/>
                    </a:lnTo>
                    <a:lnTo>
                      <a:pt x="545" y="29"/>
                    </a:lnTo>
                    <a:lnTo>
                      <a:pt x="518" y="27"/>
                    </a:lnTo>
                    <a:lnTo>
                      <a:pt x="491" y="24"/>
                    </a:lnTo>
                    <a:lnTo>
                      <a:pt x="465" y="22"/>
                    </a:lnTo>
                    <a:lnTo>
                      <a:pt x="438" y="20"/>
                    </a:lnTo>
                    <a:lnTo>
                      <a:pt x="410" y="18"/>
                    </a:lnTo>
                    <a:lnTo>
                      <a:pt x="384" y="14"/>
                    </a:lnTo>
                    <a:lnTo>
                      <a:pt x="357" y="12"/>
                    </a:lnTo>
                    <a:lnTo>
                      <a:pt x="331" y="10"/>
                    </a:lnTo>
                    <a:lnTo>
                      <a:pt x="304" y="7"/>
                    </a:lnTo>
                    <a:lnTo>
                      <a:pt x="277" y="5"/>
                    </a:lnTo>
                    <a:lnTo>
                      <a:pt x="250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74920" y="4525920"/>
                <a:ext cx="122400" cy="140040"/>
              </a:xfrm>
              <a:custGeom>
                <a:avLst/>
                <a:gdLst/>
                <a:ahLst/>
                <a:rect l="l" t="t" r="r" b="b"/>
                <a:pathLst>
                  <a:path w="604" h="619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5" y="580"/>
                    </a:lnTo>
                    <a:lnTo>
                      <a:pt x="50" y="582"/>
                    </a:lnTo>
                    <a:lnTo>
                      <a:pt x="75" y="585"/>
                    </a:lnTo>
                    <a:lnTo>
                      <a:pt x="101" y="587"/>
                    </a:lnTo>
                    <a:lnTo>
                      <a:pt x="126" y="590"/>
                    </a:lnTo>
                    <a:lnTo>
                      <a:pt x="151" y="592"/>
                    </a:lnTo>
                    <a:lnTo>
                      <a:pt x="176" y="596"/>
                    </a:lnTo>
                    <a:lnTo>
                      <a:pt x="202" y="598"/>
                    </a:lnTo>
                    <a:lnTo>
                      <a:pt x="227" y="601"/>
                    </a:lnTo>
                    <a:lnTo>
                      <a:pt x="252" y="604"/>
                    </a:lnTo>
                    <a:lnTo>
                      <a:pt x="277" y="606"/>
                    </a:lnTo>
                    <a:lnTo>
                      <a:pt x="303" y="609"/>
                    </a:lnTo>
                    <a:lnTo>
                      <a:pt x="328" y="611"/>
                    </a:lnTo>
                    <a:lnTo>
                      <a:pt x="353" y="614"/>
                    </a:lnTo>
                    <a:lnTo>
                      <a:pt x="378" y="616"/>
                    </a:lnTo>
                    <a:lnTo>
                      <a:pt x="403" y="619"/>
                    </a:lnTo>
                    <a:lnTo>
                      <a:pt x="416" y="582"/>
                    </a:lnTo>
                    <a:lnTo>
                      <a:pt x="428" y="546"/>
                    </a:lnTo>
                    <a:lnTo>
                      <a:pt x="441" y="509"/>
                    </a:lnTo>
                    <a:lnTo>
                      <a:pt x="453" y="472"/>
                    </a:lnTo>
                    <a:lnTo>
                      <a:pt x="465" y="436"/>
                    </a:lnTo>
                    <a:lnTo>
                      <a:pt x="478" y="399"/>
                    </a:lnTo>
                    <a:lnTo>
                      <a:pt x="490" y="363"/>
                    </a:lnTo>
                    <a:lnTo>
                      <a:pt x="503" y="326"/>
                    </a:lnTo>
                    <a:lnTo>
                      <a:pt x="515" y="289"/>
                    </a:lnTo>
                    <a:lnTo>
                      <a:pt x="529" y="253"/>
                    </a:lnTo>
                    <a:lnTo>
                      <a:pt x="541" y="217"/>
                    </a:lnTo>
                    <a:lnTo>
                      <a:pt x="554" y="180"/>
                    </a:lnTo>
                    <a:lnTo>
                      <a:pt x="566" y="144"/>
                    </a:lnTo>
                    <a:lnTo>
                      <a:pt x="579" y="106"/>
                    </a:lnTo>
                    <a:lnTo>
                      <a:pt x="591" y="70"/>
                    </a:lnTo>
                    <a:lnTo>
                      <a:pt x="604" y="34"/>
                    </a:lnTo>
                    <a:lnTo>
                      <a:pt x="580" y="32"/>
                    </a:lnTo>
                    <a:lnTo>
                      <a:pt x="557" y="30"/>
                    </a:lnTo>
                    <a:lnTo>
                      <a:pt x="533" y="28"/>
                    </a:lnTo>
                    <a:lnTo>
                      <a:pt x="509" y="26"/>
                    </a:lnTo>
                    <a:lnTo>
                      <a:pt x="485" y="24"/>
                    </a:lnTo>
                    <a:lnTo>
                      <a:pt x="462" y="22"/>
                    </a:lnTo>
                    <a:lnTo>
                      <a:pt x="438" y="20"/>
                    </a:lnTo>
                    <a:lnTo>
                      <a:pt x="415" y="17"/>
                    </a:lnTo>
                    <a:lnTo>
                      <a:pt x="390" y="14"/>
                    </a:lnTo>
                    <a:lnTo>
                      <a:pt x="366" y="12"/>
                    </a:lnTo>
                    <a:lnTo>
                      <a:pt x="343" y="10"/>
                    </a:lnTo>
                    <a:lnTo>
                      <a:pt x="319" y="8"/>
                    </a:lnTo>
                    <a:lnTo>
                      <a:pt x="295" y="6"/>
                    </a:lnTo>
                    <a:lnTo>
                      <a:pt x="271" y="4"/>
                    </a:lnTo>
                    <a:lnTo>
                      <a:pt x="248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74920" y="4525920"/>
                <a:ext cx="112320" cy="138240"/>
              </a:xfrm>
              <a:custGeom>
                <a:avLst/>
                <a:gdLst/>
                <a:ahLst/>
                <a:rect l="l" t="t" r="r" b="b"/>
                <a:pathLst>
                  <a:path w="557" h="613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2" y="579"/>
                    </a:lnTo>
                    <a:lnTo>
                      <a:pt x="44" y="581"/>
                    </a:lnTo>
                    <a:lnTo>
                      <a:pt x="66" y="583"/>
                    </a:lnTo>
                    <a:lnTo>
                      <a:pt x="89" y="585"/>
                    </a:lnTo>
                    <a:lnTo>
                      <a:pt x="111" y="588"/>
                    </a:lnTo>
                    <a:lnTo>
                      <a:pt x="133" y="590"/>
                    </a:lnTo>
                    <a:lnTo>
                      <a:pt x="155" y="592"/>
                    </a:lnTo>
                    <a:lnTo>
                      <a:pt x="177" y="594"/>
                    </a:lnTo>
                    <a:lnTo>
                      <a:pt x="200" y="597"/>
                    </a:lnTo>
                    <a:lnTo>
                      <a:pt x="222" y="600"/>
                    </a:lnTo>
                    <a:lnTo>
                      <a:pt x="244" y="602"/>
                    </a:lnTo>
                    <a:lnTo>
                      <a:pt x="266" y="604"/>
                    </a:lnTo>
                    <a:lnTo>
                      <a:pt x="288" y="606"/>
                    </a:lnTo>
                    <a:lnTo>
                      <a:pt x="311" y="609"/>
                    </a:lnTo>
                    <a:lnTo>
                      <a:pt x="333" y="611"/>
                    </a:lnTo>
                    <a:lnTo>
                      <a:pt x="355" y="613"/>
                    </a:lnTo>
                    <a:lnTo>
                      <a:pt x="367" y="576"/>
                    </a:lnTo>
                    <a:lnTo>
                      <a:pt x="380" y="540"/>
                    </a:lnTo>
                    <a:lnTo>
                      <a:pt x="392" y="504"/>
                    </a:lnTo>
                    <a:lnTo>
                      <a:pt x="405" y="467"/>
                    </a:lnTo>
                    <a:lnTo>
                      <a:pt x="418" y="431"/>
                    </a:lnTo>
                    <a:lnTo>
                      <a:pt x="431" y="394"/>
                    </a:lnTo>
                    <a:lnTo>
                      <a:pt x="443" y="358"/>
                    </a:lnTo>
                    <a:lnTo>
                      <a:pt x="456" y="322"/>
                    </a:lnTo>
                    <a:lnTo>
                      <a:pt x="468" y="285"/>
                    </a:lnTo>
                    <a:lnTo>
                      <a:pt x="481" y="249"/>
                    </a:lnTo>
                    <a:lnTo>
                      <a:pt x="493" y="213"/>
                    </a:lnTo>
                    <a:lnTo>
                      <a:pt x="506" y="176"/>
                    </a:lnTo>
                    <a:lnTo>
                      <a:pt x="518" y="140"/>
                    </a:lnTo>
                    <a:lnTo>
                      <a:pt x="532" y="103"/>
                    </a:lnTo>
                    <a:lnTo>
                      <a:pt x="544" y="67"/>
                    </a:lnTo>
                    <a:lnTo>
                      <a:pt x="557" y="31"/>
                    </a:lnTo>
                    <a:lnTo>
                      <a:pt x="537" y="29"/>
                    </a:lnTo>
                    <a:lnTo>
                      <a:pt x="515" y="27"/>
                    </a:lnTo>
                    <a:lnTo>
                      <a:pt x="494" y="25"/>
                    </a:lnTo>
                    <a:lnTo>
                      <a:pt x="474" y="23"/>
                    </a:lnTo>
                    <a:lnTo>
                      <a:pt x="453" y="22"/>
                    </a:lnTo>
                    <a:lnTo>
                      <a:pt x="433" y="20"/>
                    </a:lnTo>
                    <a:lnTo>
                      <a:pt x="411" y="18"/>
                    </a:lnTo>
                    <a:lnTo>
                      <a:pt x="390" y="16"/>
                    </a:lnTo>
                    <a:lnTo>
                      <a:pt x="370" y="13"/>
                    </a:lnTo>
                    <a:lnTo>
                      <a:pt x="349" y="11"/>
                    </a:lnTo>
                    <a:lnTo>
                      <a:pt x="328" y="9"/>
                    </a:lnTo>
                    <a:lnTo>
                      <a:pt x="308" y="7"/>
                    </a:lnTo>
                    <a:lnTo>
                      <a:pt x="286" y="6"/>
                    </a:lnTo>
                    <a:lnTo>
                      <a:pt x="265" y="4"/>
                    </a:lnTo>
                    <a:lnTo>
                      <a:pt x="245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74920" y="4525920"/>
                <a:ext cx="103680" cy="136800"/>
              </a:xfrm>
              <a:custGeom>
                <a:avLst/>
                <a:gdLst/>
                <a:ahLst/>
                <a:rect l="l" t="t" r="r" b="b"/>
                <a:pathLst>
                  <a:path w="510" h="606">
                    <a:moveTo>
                      <a:pt x="225" y="0"/>
                    </a:moveTo>
                    <a:lnTo>
                      <a:pt x="211" y="37"/>
                    </a:lnTo>
                    <a:lnTo>
                      <a:pt x="197" y="72"/>
                    </a:lnTo>
                    <a:lnTo>
                      <a:pt x="182" y="108"/>
                    </a:lnTo>
                    <a:lnTo>
                      <a:pt x="168" y="145"/>
                    </a:lnTo>
                    <a:lnTo>
                      <a:pt x="155" y="180"/>
                    </a:lnTo>
                    <a:lnTo>
                      <a:pt x="141" y="217"/>
                    </a:lnTo>
                    <a:lnTo>
                      <a:pt x="127" y="253"/>
                    </a:lnTo>
                    <a:lnTo>
                      <a:pt x="113" y="288"/>
                    </a:lnTo>
                    <a:lnTo>
                      <a:pt x="99" y="325"/>
                    </a:lnTo>
                    <a:lnTo>
                      <a:pt x="85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19" y="579"/>
                    </a:lnTo>
                    <a:lnTo>
                      <a:pt x="38" y="580"/>
                    </a:lnTo>
                    <a:lnTo>
                      <a:pt x="57" y="582"/>
                    </a:lnTo>
                    <a:lnTo>
                      <a:pt x="77" y="584"/>
                    </a:lnTo>
                    <a:lnTo>
                      <a:pt x="97" y="586"/>
                    </a:lnTo>
                    <a:lnTo>
                      <a:pt x="116" y="587"/>
                    </a:lnTo>
                    <a:lnTo>
                      <a:pt x="135" y="589"/>
                    </a:lnTo>
                    <a:lnTo>
                      <a:pt x="154" y="591"/>
                    </a:lnTo>
                    <a:lnTo>
                      <a:pt x="173" y="593"/>
                    </a:lnTo>
                    <a:lnTo>
                      <a:pt x="193" y="596"/>
                    </a:lnTo>
                    <a:lnTo>
                      <a:pt x="212" y="597"/>
                    </a:lnTo>
                    <a:lnTo>
                      <a:pt x="232" y="599"/>
                    </a:lnTo>
                    <a:lnTo>
                      <a:pt x="251" y="601"/>
                    </a:lnTo>
                    <a:lnTo>
                      <a:pt x="270" y="603"/>
                    </a:lnTo>
                    <a:lnTo>
                      <a:pt x="289" y="604"/>
                    </a:lnTo>
                    <a:lnTo>
                      <a:pt x="309" y="606"/>
                    </a:lnTo>
                    <a:lnTo>
                      <a:pt x="321" y="569"/>
                    </a:lnTo>
                    <a:lnTo>
                      <a:pt x="334" y="533"/>
                    </a:lnTo>
                    <a:lnTo>
                      <a:pt x="346" y="497"/>
                    </a:lnTo>
                    <a:lnTo>
                      <a:pt x="359" y="461"/>
                    </a:lnTo>
                    <a:lnTo>
                      <a:pt x="371" y="425"/>
                    </a:lnTo>
                    <a:lnTo>
                      <a:pt x="384" y="388"/>
                    </a:lnTo>
                    <a:lnTo>
                      <a:pt x="396" y="352"/>
                    </a:lnTo>
                    <a:lnTo>
                      <a:pt x="409" y="316"/>
                    </a:lnTo>
                    <a:lnTo>
                      <a:pt x="422" y="280"/>
                    </a:lnTo>
                    <a:lnTo>
                      <a:pt x="435" y="244"/>
                    </a:lnTo>
                    <a:lnTo>
                      <a:pt x="447" y="207"/>
                    </a:lnTo>
                    <a:lnTo>
                      <a:pt x="460" y="171"/>
                    </a:lnTo>
                    <a:lnTo>
                      <a:pt x="472" y="135"/>
                    </a:lnTo>
                    <a:lnTo>
                      <a:pt x="485" y="99"/>
                    </a:lnTo>
                    <a:lnTo>
                      <a:pt x="497" y="63"/>
                    </a:lnTo>
                    <a:lnTo>
                      <a:pt x="510" y="27"/>
                    </a:lnTo>
                    <a:lnTo>
                      <a:pt x="492" y="25"/>
                    </a:lnTo>
                    <a:lnTo>
                      <a:pt x="475" y="24"/>
                    </a:lnTo>
                    <a:lnTo>
                      <a:pt x="457" y="22"/>
                    </a:lnTo>
                    <a:lnTo>
                      <a:pt x="439" y="20"/>
                    </a:lnTo>
                    <a:lnTo>
                      <a:pt x="422" y="19"/>
                    </a:lnTo>
                    <a:lnTo>
                      <a:pt x="403" y="17"/>
                    </a:lnTo>
                    <a:lnTo>
                      <a:pt x="385" y="16"/>
                    </a:lnTo>
                    <a:lnTo>
                      <a:pt x="368" y="13"/>
                    </a:lnTo>
                    <a:lnTo>
                      <a:pt x="350" y="11"/>
                    </a:lnTo>
                    <a:lnTo>
                      <a:pt x="332" y="10"/>
                    </a:lnTo>
                    <a:lnTo>
                      <a:pt x="314" y="8"/>
                    </a:lnTo>
                    <a:lnTo>
                      <a:pt x="296" y="7"/>
                    </a:lnTo>
                    <a:lnTo>
                      <a:pt x="278" y="5"/>
                    </a:lnTo>
                    <a:lnTo>
                      <a:pt x="260" y="3"/>
                    </a:lnTo>
                    <a:lnTo>
                      <a:pt x="243" y="2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74920" y="4525920"/>
                <a:ext cx="93600" cy="135000"/>
              </a:xfrm>
              <a:custGeom>
                <a:avLst/>
                <a:gdLst/>
                <a:ahLst/>
                <a:rect l="l" t="t" r="r" b="b"/>
                <a:pathLst>
                  <a:path w="463" h="600">
                    <a:moveTo>
                      <a:pt x="225" y="0"/>
                    </a:moveTo>
                    <a:lnTo>
                      <a:pt x="211" y="37"/>
                    </a:lnTo>
                    <a:lnTo>
                      <a:pt x="197" y="72"/>
                    </a:lnTo>
                    <a:lnTo>
                      <a:pt x="182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3" y="288"/>
                    </a:lnTo>
                    <a:lnTo>
                      <a:pt x="99" y="325"/>
                    </a:lnTo>
                    <a:lnTo>
                      <a:pt x="85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16" y="578"/>
                    </a:lnTo>
                    <a:lnTo>
                      <a:pt x="32" y="580"/>
                    </a:lnTo>
                    <a:lnTo>
                      <a:pt x="48" y="581"/>
                    </a:lnTo>
                    <a:lnTo>
                      <a:pt x="65" y="582"/>
                    </a:lnTo>
                    <a:lnTo>
                      <a:pt x="82" y="584"/>
                    </a:lnTo>
                    <a:lnTo>
                      <a:pt x="98" y="585"/>
                    </a:lnTo>
                    <a:lnTo>
                      <a:pt x="114" y="586"/>
                    </a:lnTo>
                    <a:lnTo>
                      <a:pt x="130" y="588"/>
                    </a:lnTo>
                    <a:lnTo>
                      <a:pt x="146" y="589"/>
                    </a:lnTo>
                    <a:lnTo>
                      <a:pt x="162" y="590"/>
                    </a:lnTo>
                    <a:lnTo>
                      <a:pt x="178" y="592"/>
                    </a:lnTo>
                    <a:lnTo>
                      <a:pt x="196" y="593"/>
                    </a:lnTo>
                    <a:lnTo>
                      <a:pt x="212" y="596"/>
                    </a:lnTo>
                    <a:lnTo>
                      <a:pt x="228" y="597"/>
                    </a:lnTo>
                    <a:lnTo>
                      <a:pt x="244" y="599"/>
                    </a:lnTo>
                    <a:lnTo>
                      <a:pt x="260" y="600"/>
                    </a:lnTo>
                    <a:lnTo>
                      <a:pt x="273" y="563"/>
                    </a:lnTo>
                    <a:lnTo>
                      <a:pt x="285" y="528"/>
                    </a:lnTo>
                    <a:lnTo>
                      <a:pt x="298" y="491"/>
                    </a:lnTo>
                    <a:lnTo>
                      <a:pt x="311" y="455"/>
                    </a:lnTo>
                    <a:lnTo>
                      <a:pt x="324" y="420"/>
                    </a:lnTo>
                    <a:lnTo>
                      <a:pt x="336" y="383"/>
                    </a:lnTo>
                    <a:lnTo>
                      <a:pt x="349" y="347"/>
                    </a:lnTo>
                    <a:lnTo>
                      <a:pt x="362" y="311"/>
                    </a:lnTo>
                    <a:lnTo>
                      <a:pt x="374" y="275"/>
                    </a:lnTo>
                    <a:lnTo>
                      <a:pt x="387" y="239"/>
                    </a:lnTo>
                    <a:lnTo>
                      <a:pt x="399" y="202"/>
                    </a:lnTo>
                    <a:lnTo>
                      <a:pt x="412" y="167"/>
                    </a:lnTo>
                    <a:lnTo>
                      <a:pt x="425" y="131"/>
                    </a:lnTo>
                    <a:lnTo>
                      <a:pt x="438" y="94"/>
                    </a:lnTo>
                    <a:lnTo>
                      <a:pt x="450" y="59"/>
                    </a:lnTo>
                    <a:lnTo>
                      <a:pt x="463" y="23"/>
                    </a:lnTo>
                    <a:lnTo>
                      <a:pt x="448" y="22"/>
                    </a:lnTo>
                    <a:lnTo>
                      <a:pt x="434" y="20"/>
                    </a:lnTo>
                    <a:lnTo>
                      <a:pt x="419" y="19"/>
                    </a:lnTo>
                    <a:lnTo>
                      <a:pt x="403" y="18"/>
                    </a:lnTo>
                    <a:lnTo>
                      <a:pt x="389" y="16"/>
                    </a:lnTo>
                    <a:lnTo>
                      <a:pt x="374" y="14"/>
                    </a:lnTo>
                    <a:lnTo>
                      <a:pt x="359" y="13"/>
                    </a:lnTo>
                    <a:lnTo>
                      <a:pt x="344" y="11"/>
                    </a:lnTo>
                    <a:lnTo>
                      <a:pt x="330" y="10"/>
                    </a:lnTo>
                    <a:lnTo>
                      <a:pt x="315" y="9"/>
                    </a:lnTo>
                    <a:lnTo>
                      <a:pt x="299" y="7"/>
                    </a:lnTo>
                    <a:lnTo>
                      <a:pt x="284" y="6"/>
                    </a:lnTo>
                    <a:lnTo>
                      <a:pt x="269" y="4"/>
                    </a:lnTo>
                    <a:lnTo>
                      <a:pt x="255" y="3"/>
                    </a:lnTo>
                    <a:lnTo>
                      <a:pt x="240" y="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74920" y="4525920"/>
                <a:ext cx="83880" cy="133560"/>
              </a:xfrm>
              <a:custGeom>
                <a:avLst/>
                <a:gdLst/>
                <a:ahLst/>
                <a:rect l="l" t="t" r="r" b="b"/>
                <a:pathLst>
                  <a:path w="417" h="592">
                    <a:moveTo>
                      <a:pt x="226" y="0"/>
                    </a:moveTo>
                    <a:lnTo>
                      <a:pt x="0" y="577"/>
                    </a:lnTo>
                    <a:lnTo>
                      <a:pt x="214" y="592"/>
                    </a:lnTo>
                    <a:lnTo>
                      <a:pt x="417" y="19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56840" y="4762800"/>
                <a:ext cx="244800" cy="68040"/>
              </a:xfrm>
              <a:custGeom>
                <a:avLst/>
                <a:gdLst/>
                <a:ahLst/>
                <a:rect l="l" t="t" r="r" b="b"/>
                <a:pathLst>
                  <a:path w="1201" h="303">
                    <a:moveTo>
                      <a:pt x="0" y="111"/>
                    </a:moveTo>
                    <a:lnTo>
                      <a:pt x="187" y="0"/>
                    </a:lnTo>
                    <a:lnTo>
                      <a:pt x="237" y="9"/>
                    </a:lnTo>
                    <a:lnTo>
                      <a:pt x="259" y="27"/>
                    </a:lnTo>
                    <a:lnTo>
                      <a:pt x="648" y="86"/>
                    </a:lnTo>
                    <a:lnTo>
                      <a:pt x="698" y="67"/>
                    </a:lnTo>
                    <a:lnTo>
                      <a:pt x="1074" y="125"/>
                    </a:lnTo>
                    <a:lnTo>
                      <a:pt x="1120" y="123"/>
                    </a:lnTo>
                    <a:lnTo>
                      <a:pt x="1195" y="100"/>
                    </a:lnTo>
                    <a:lnTo>
                      <a:pt x="1201" y="194"/>
                    </a:lnTo>
                    <a:lnTo>
                      <a:pt x="1164" y="237"/>
                    </a:lnTo>
                    <a:lnTo>
                      <a:pt x="1160" y="277"/>
                    </a:lnTo>
                    <a:lnTo>
                      <a:pt x="1121" y="303"/>
                    </a:lnTo>
                    <a:lnTo>
                      <a:pt x="720" y="242"/>
                    </a:lnTo>
                    <a:lnTo>
                      <a:pt x="729" y="210"/>
                    </a:lnTo>
                    <a:lnTo>
                      <a:pt x="277" y="136"/>
                    </a:lnTo>
                    <a:lnTo>
                      <a:pt x="215" y="154"/>
                    </a:lnTo>
                    <a:lnTo>
                      <a:pt x="59" y="11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c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87880" y="4670640"/>
                <a:ext cx="126720" cy="25200"/>
              </a:xfrm>
              <a:custGeom>
                <a:avLst/>
                <a:gdLst/>
                <a:ahLst/>
                <a:rect l="l" t="t" r="r" b="b"/>
                <a:pathLst>
                  <a:path w="623" h="114">
                    <a:moveTo>
                      <a:pt x="19" y="22"/>
                    </a:moveTo>
                    <a:lnTo>
                      <a:pt x="50" y="0"/>
                    </a:lnTo>
                    <a:lnTo>
                      <a:pt x="623" y="68"/>
                    </a:lnTo>
                    <a:lnTo>
                      <a:pt x="601" y="114"/>
                    </a:lnTo>
                    <a:lnTo>
                      <a:pt x="0" y="36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609920" y="4694400"/>
                <a:ext cx="54000" cy="17280"/>
              </a:xfrm>
              <a:custGeom>
                <a:avLst/>
                <a:gdLst/>
                <a:ahLst/>
                <a:rect l="l" t="t" r="r" b="b"/>
                <a:pathLst>
                  <a:path w="265" h="78">
                    <a:moveTo>
                      <a:pt x="10" y="2"/>
                    </a:moveTo>
                    <a:lnTo>
                      <a:pt x="157" y="7"/>
                    </a:lnTo>
                    <a:lnTo>
                      <a:pt x="169" y="0"/>
                    </a:lnTo>
                    <a:lnTo>
                      <a:pt x="265" y="14"/>
                    </a:lnTo>
                    <a:lnTo>
                      <a:pt x="240" y="78"/>
                    </a:lnTo>
                    <a:lnTo>
                      <a:pt x="0" y="52"/>
                    </a:lnTo>
                    <a:lnTo>
                      <a:pt x="0" y="25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6480" y="466596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19" y="0"/>
                    </a:moveTo>
                    <a:lnTo>
                      <a:pt x="98" y="10"/>
                    </a:lnTo>
                    <a:lnTo>
                      <a:pt x="98" y="36"/>
                    </a:lnTo>
                    <a:lnTo>
                      <a:pt x="210" y="52"/>
                    </a:lnTo>
                    <a:lnTo>
                      <a:pt x="197" y="94"/>
                    </a:lnTo>
                    <a:lnTo>
                      <a:pt x="0" y="62"/>
                    </a:lnTo>
                    <a:lnTo>
                      <a:pt x="3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9920" y="469584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149" h="58">
                    <a:moveTo>
                      <a:pt x="17" y="0"/>
                    </a:moveTo>
                    <a:lnTo>
                      <a:pt x="149" y="16"/>
                    </a:lnTo>
                    <a:lnTo>
                      <a:pt x="140" y="27"/>
                    </a:lnTo>
                    <a:lnTo>
                      <a:pt x="135" y="42"/>
                    </a:lnTo>
                    <a:lnTo>
                      <a:pt x="132" y="58"/>
                    </a:lnTo>
                    <a:lnTo>
                      <a:pt x="0" y="40"/>
                    </a:lnTo>
                    <a:lnTo>
                      <a:pt x="1" y="24"/>
                    </a:lnTo>
                    <a:lnTo>
                      <a:pt x="4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2320" y="46738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18" h="43">
                    <a:moveTo>
                      <a:pt x="115" y="10"/>
                    </a:moveTo>
                    <a:lnTo>
                      <a:pt x="13" y="0"/>
                    </a:lnTo>
                    <a:lnTo>
                      <a:pt x="13" y="10"/>
                    </a:lnTo>
                    <a:lnTo>
                      <a:pt x="8" y="21"/>
                    </a:lnTo>
                    <a:lnTo>
                      <a:pt x="0" y="34"/>
                    </a:lnTo>
                    <a:lnTo>
                      <a:pt x="103" y="43"/>
                    </a:lnTo>
                    <a:lnTo>
                      <a:pt x="112" y="30"/>
                    </a:lnTo>
                    <a:lnTo>
                      <a:pt x="118" y="20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9920" y="469908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143" h="37">
                    <a:moveTo>
                      <a:pt x="7" y="0"/>
                    </a:moveTo>
                    <a:lnTo>
                      <a:pt x="143" y="11"/>
                    </a:lnTo>
                    <a:lnTo>
                      <a:pt x="138" y="25"/>
                    </a:lnTo>
                    <a:lnTo>
                      <a:pt x="134" y="37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63760" y="4675320"/>
                <a:ext cx="22680" cy="6480"/>
              </a:xfrm>
              <a:custGeom>
                <a:avLst/>
                <a:gdLst/>
                <a:ahLst/>
                <a:rect l="l" t="t" r="r" b="b"/>
                <a:pathLst>
                  <a:path w="111" h="32">
                    <a:moveTo>
                      <a:pt x="111" y="15"/>
                    </a:moveTo>
                    <a:lnTo>
                      <a:pt x="9" y="0"/>
                    </a:lnTo>
                    <a:lnTo>
                      <a:pt x="5" y="12"/>
                    </a:lnTo>
                    <a:lnTo>
                      <a:pt x="0" y="21"/>
                    </a:lnTo>
                    <a:lnTo>
                      <a:pt x="102" y="32"/>
                    </a:lnTo>
                    <a:lnTo>
                      <a:pt x="109" y="23"/>
                    </a:lnTo>
                    <a:lnTo>
                      <a:pt x="109" y="22"/>
                    </a:lnTo>
                    <a:lnTo>
                      <a:pt x="110" y="19"/>
                    </a:lnTo>
                    <a:lnTo>
                      <a:pt x="110" y="16"/>
                    </a:lnTo>
                    <a:lnTo>
                      <a:pt x="111" y="15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1720" y="470088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136" y="14"/>
                    </a:moveTo>
                    <a:lnTo>
                      <a:pt x="133" y="21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36" y="14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65200" y="4676760"/>
                <a:ext cx="19440" cy="3240"/>
              </a:xfrm>
              <a:custGeom>
                <a:avLst/>
                <a:gdLst/>
                <a:ahLst/>
                <a:rect l="l" t="t" r="r" b="b"/>
                <a:pathLst>
                  <a:path w="103" h="18">
                    <a:moveTo>
                      <a:pt x="2" y="0"/>
                    </a:moveTo>
                    <a:lnTo>
                      <a:pt x="0" y="5"/>
                    </a:lnTo>
                    <a:lnTo>
                      <a:pt x="100" y="18"/>
                    </a:lnTo>
                    <a:lnTo>
                      <a:pt x="103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41240" y="4699080"/>
                <a:ext cx="19800" cy="11160"/>
              </a:xfrm>
              <a:custGeom>
                <a:avLst/>
                <a:gdLst/>
                <a:ahLst/>
                <a:rect l="l" t="t" r="r" b="b"/>
                <a:pathLst>
                  <a:path w="101" h="52">
                    <a:moveTo>
                      <a:pt x="15" y="0"/>
                    </a:moveTo>
                    <a:lnTo>
                      <a:pt x="101" y="12"/>
                    </a:lnTo>
                    <a:lnTo>
                      <a:pt x="90" y="24"/>
                    </a:lnTo>
                    <a:lnTo>
                      <a:pt x="81" y="52"/>
                    </a:lnTo>
                    <a:lnTo>
                      <a:pt x="0" y="40"/>
                    </a:lnTo>
                    <a:lnTo>
                      <a:pt x="3" y="29"/>
                    </a:lnTo>
                    <a:lnTo>
                      <a:pt x="5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8280" y="46706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76" h="38">
                    <a:moveTo>
                      <a:pt x="76" y="6"/>
                    </a:moveTo>
                    <a:lnTo>
                      <a:pt x="10" y="0"/>
                    </a:lnTo>
                    <a:lnTo>
                      <a:pt x="11" y="11"/>
                    </a:lnTo>
                    <a:lnTo>
                      <a:pt x="0" y="33"/>
                    </a:lnTo>
                    <a:lnTo>
                      <a:pt x="64" y="38"/>
                    </a:lnTo>
                    <a:lnTo>
                      <a:pt x="69" y="29"/>
                    </a:lnTo>
                    <a:lnTo>
                      <a:pt x="75" y="17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41240" y="470088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9"/>
                    </a:moveTo>
                    <a:lnTo>
                      <a:pt x="81" y="22"/>
                    </a:lnTo>
                    <a:lnTo>
                      <a:pt x="78" y="36"/>
                    </a:lnTo>
                    <a:lnTo>
                      <a:pt x="0" y="25"/>
                    </a:lnTo>
                    <a:lnTo>
                      <a:pt x="1" y="10"/>
                    </a:lnTo>
                    <a:lnTo>
                      <a:pt x="9" y="0"/>
                    </a:lnTo>
                    <a:lnTo>
                      <a:pt x="87" y="9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48280" y="467208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69" h="25">
                    <a:moveTo>
                      <a:pt x="10" y="0"/>
                    </a:moveTo>
                    <a:lnTo>
                      <a:pt x="7" y="10"/>
                    </a:lnTo>
                    <a:lnTo>
                      <a:pt x="0" y="21"/>
                    </a:lnTo>
                    <a:lnTo>
                      <a:pt x="62" y="25"/>
                    </a:lnTo>
                    <a:lnTo>
                      <a:pt x="68" y="15"/>
                    </a:lnTo>
                    <a:lnTo>
                      <a:pt x="6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1240" y="470232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81" h="18">
                    <a:moveTo>
                      <a:pt x="4" y="0"/>
                    </a:moveTo>
                    <a:lnTo>
                      <a:pt x="81" y="11"/>
                    </a:lnTo>
                    <a:lnTo>
                      <a:pt x="79" y="18"/>
                    </a:lnTo>
                    <a:lnTo>
                      <a:pt x="0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49360" y="46738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59" y="13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63120" y="4738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16"/>
                    </a:moveTo>
                    <a:lnTo>
                      <a:pt x="30" y="0"/>
                    </a:lnTo>
                    <a:lnTo>
                      <a:pt x="43" y="13"/>
                    </a:lnTo>
                    <a:lnTo>
                      <a:pt x="9" y="3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80400" y="4741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17"/>
                    </a:moveTo>
                    <a:lnTo>
                      <a:pt x="31" y="0"/>
                    </a:lnTo>
                    <a:lnTo>
                      <a:pt x="45" y="14"/>
                    </a:lnTo>
                    <a:lnTo>
                      <a:pt x="8" y="3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93000" y="4743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0" y="16"/>
                    </a:moveTo>
                    <a:lnTo>
                      <a:pt x="30" y="0"/>
                    </a:lnTo>
                    <a:lnTo>
                      <a:pt x="44" y="14"/>
                    </a:lnTo>
                    <a:lnTo>
                      <a:pt x="9" y="3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473724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6"/>
                    </a:moveTo>
                    <a:lnTo>
                      <a:pt x="28" y="0"/>
                    </a:lnTo>
                    <a:lnTo>
                      <a:pt x="41" y="13"/>
                    </a:lnTo>
                    <a:lnTo>
                      <a:pt x="7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2160" y="473580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15"/>
                    </a:moveTo>
                    <a:lnTo>
                      <a:pt x="29" y="0"/>
                    </a:lnTo>
                    <a:lnTo>
                      <a:pt x="42" y="13"/>
                    </a:lnTo>
                    <a:lnTo>
                      <a:pt x="7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17760" y="473256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15"/>
                    </a:moveTo>
                    <a:lnTo>
                      <a:pt x="28" y="0"/>
                    </a:lnTo>
                    <a:lnTo>
                      <a:pt x="41" y="13"/>
                    </a:lnTo>
                    <a:lnTo>
                      <a:pt x="7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31000" y="47167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0" y="16"/>
                    </a:moveTo>
                    <a:lnTo>
                      <a:pt x="24" y="0"/>
                    </a:lnTo>
                    <a:lnTo>
                      <a:pt x="40" y="13"/>
                    </a:lnTo>
                    <a:lnTo>
                      <a:pt x="12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31000" y="4707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15"/>
                    </a:moveTo>
                    <a:lnTo>
                      <a:pt x="23" y="0"/>
                    </a:lnTo>
                    <a:lnTo>
                      <a:pt x="40" y="12"/>
                    </a:lnTo>
                    <a:lnTo>
                      <a:pt x="12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16960" y="47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5"/>
                    </a:moveTo>
                    <a:lnTo>
                      <a:pt x="23" y="0"/>
                    </a:lnTo>
                    <a:lnTo>
                      <a:pt x="41" y="13"/>
                    </a:lnTo>
                    <a:lnTo>
                      <a:pt x="11" y="3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960" y="47037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7"/>
                    </a:moveTo>
                    <a:lnTo>
                      <a:pt x="24" y="0"/>
                    </a:lnTo>
                    <a:lnTo>
                      <a:pt x="41" y="14"/>
                    </a:lnTo>
                    <a:lnTo>
                      <a:pt x="12" y="3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1520" y="4721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0" y="16"/>
                    </a:moveTo>
                    <a:lnTo>
                      <a:pt x="23" y="0"/>
                    </a:lnTo>
                    <a:lnTo>
                      <a:pt x="40" y="13"/>
                    </a:lnTo>
                    <a:lnTo>
                      <a:pt x="11" y="3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21800" y="47181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15"/>
                    </a:moveTo>
                    <a:lnTo>
                      <a:pt x="22" y="0"/>
                    </a:lnTo>
                    <a:lnTo>
                      <a:pt x="40" y="12"/>
                    </a:lnTo>
                    <a:lnTo>
                      <a:pt x="11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04000" y="471348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6"/>
                    </a:moveTo>
                    <a:lnTo>
                      <a:pt x="24" y="0"/>
                    </a:lnTo>
                    <a:lnTo>
                      <a:pt x="41" y="13"/>
                    </a:lnTo>
                    <a:lnTo>
                      <a:pt x="12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53400" y="47419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11" y="0"/>
                    </a:moveTo>
                    <a:lnTo>
                      <a:pt x="56" y="4"/>
                    </a:lnTo>
                    <a:lnTo>
                      <a:pt x="58" y="20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70320" y="47437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10" y="0"/>
                    </a:moveTo>
                    <a:lnTo>
                      <a:pt x="53" y="4"/>
                    </a:lnTo>
                    <a:lnTo>
                      <a:pt x="56" y="22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83280" y="474660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11" y="0"/>
                    </a:moveTo>
                    <a:lnTo>
                      <a:pt x="54" y="4"/>
                    </a:lnTo>
                    <a:lnTo>
                      <a:pt x="58" y="22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37560" y="473868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10" y="0"/>
                    </a:moveTo>
                    <a:lnTo>
                      <a:pt x="51" y="4"/>
                    </a:lnTo>
                    <a:lnTo>
                      <a:pt x="53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2080" y="47372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10" y="0"/>
                    </a:moveTo>
                    <a:lnTo>
                      <a:pt x="51" y="4"/>
                    </a:lnTo>
                    <a:lnTo>
                      <a:pt x="53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07680" y="473580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11" y="0"/>
                    </a:moveTo>
                    <a:lnTo>
                      <a:pt x="53" y="4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22360" y="471960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7" y="0"/>
                    </a:moveTo>
                    <a:lnTo>
                      <a:pt x="49" y="3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420920" y="47088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7" y="0"/>
                    </a:moveTo>
                    <a:lnTo>
                      <a:pt x="49" y="4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07960" y="47167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6" y="0"/>
                    </a:moveTo>
                    <a:lnTo>
                      <a:pt x="48" y="4"/>
                    </a:lnTo>
                    <a:lnTo>
                      <a:pt x="55" y="20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07960" y="47070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6" y="0"/>
                    </a:moveTo>
                    <a:lnTo>
                      <a:pt x="48" y="3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21800" y="4724640"/>
                <a:ext cx="12240" cy="468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6" y="0"/>
                    </a:moveTo>
                    <a:lnTo>
                      <a:pt x="49" y="4"/>
                    </a:lnTo>
                    <a:lnTo>
                      <a:pt x="57" y="20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3" y="8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11720" y="47214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6" y="0"/>
                    </a:moveTo>
                    <a:lnTo>
                      <a:pt x="48" y="4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93920" y="47149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6" y="0"/>
                    </a:moveTo>
                    <a:lnTo>
                      <a:pt x="49" y="4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56280" y="473868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0" y="11"/>
                    </a:moveTo>
                    <a:lnTo>
                      <a:pt x="23" y="0"/>
                    </a:lnTo>
                    <a:lnTo>
                      <a:pt x="70" y="0"/>
                    </a:lnTo>
                    <a:lnTo>
                      <a:pt x="42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71760" y="474192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69" h="13">
                    <a:moveTo>
                      <a:pt x="0" y="11"/>
                    </a:moveTo>
                    <a:lnTo>
                      <a:pt x="22" y="0"/>
                    </a:lnTo>
                    <a:lnTo>
                      <a:pt x="69" y="0"/>
                    </a:lnTo>
                    <a:lnTo>
                      <a:pt x="4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85800" y="474372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68" h="14">
                    <a:moveTo>
                      <a:pt x="0" y="11"/>
                    </a:moveTo>
                    <a:lnTo>
                      <a:pt x="22" y="0"/>
                    </a:lnTo>
                    <a:lnTo>
                      <a:pt x="68" y="0"/>
                    </a:lnTo>
                    <a:lnTo>
                      <a:pt x="41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40440" y="47372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0"/>
                    </a:moveTo>
                    <a:lnTo>
                      <a:pt x="21" y="0"/>
                    </a:lnTo>
                    <a:lnTo>
                      <a:pt x="64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4960" y="473580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65" h="13">
                    <a:moveTo>
                      <a:pt x="0" y="10"/>
                    </a:moveTo>
                    <a:lnTo>
                      <a:pt x="21" y="0"/>
                    </a:lnTo>
                    <a:lnTo>
                      <a:pt x="65" y="0"/>
                    </a:lnTo>
                    <a:lnTo>
                      <a:pt x="38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10560" y="473256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65" h="13">
                    <a:moveTo>
                      <a:pt x="0" y="10"/>
                    </a:moveTo>
                    <a:lnTo>
                      <a:pt x="21" y="0"/>
                    </a:lnTo>
                    <a:lnTo>
                      <a:pt x="65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23800" y="4718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23800" y="4707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7" y="0"/>
                    </a:lnTo>
                    <a:lnTo>
                      <a:pt x="61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09760" y="47149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1"/>
                    </a:moveTo>
                    <a:lnTo>
                      <a:pt x="17" y="0"/>
                    </a:lnTo>
                    <a:lnTo>
                      <a:pt x="60" y="0"/>
                    </a:lnTo>
                    <a:lnTo>
                      <a:pt x="39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09760" y="47055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24320" y="4722840"/>
                <a:ext cx="1152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12800" y="471960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395360" y="47134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7" y="0"/>
                    </a:lnTo>
                    <a:lnTo>
                      <a:pt x="61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38200" y="472284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330" h="61">
                    <a:moveTo>
                      <a:pt x="0" y="14"/>
                    </a:moveTo>
                    <a:lnTo>
                      <a:pt x="15" y="0"/>
                    </a:lnTo>
                    <a:lnTo>
                      <a:pt x="328" y="44"/>
                    </a:lnTo>
                    <a:lnTo>
                      <a:pt x="330" y="6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41080" y="472140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331" h="52">
                    <a:moveTo>
                      <a:pt x="0" y="8"/>
                    </a:moveTo>
                    <a:lnTo>
                      <a:pt x="19" y="0"/>
                    </a:lnTo>
                    <a:lnTo>
                      <a:pt x="331" y="44"/>
                    </a:lnTo>
                    <a:lnTo>
                      <a:pt x="312" y="5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04800" y="473076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" y="33"/>
                    </a:moveTo>
                    <a:lnTo>
                      <a:pt x="36" y="11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93640" y="4676760"/>
                <a:ext cx="110880" cy="24120"/>
              </a:xfrm>
              <a:custGeom>
                <a:avLst/>
                <a:gdLst/>
                <a:ahLst/>
                <a:rect l="l" t="t" r="r" b="b"/>
                <a:pathLst>
                  <a:path w="546" h="108">
                    <a:moveTo>
                      <a:pt x="0" y="36"/>
                    </a:moveTo>
                    <a:lnTo>
                      <a:pt x="29" y="0"/>
                    </a:lnTo>
                    <a:lnTo>
                      <a:pt x="546" y="66"/>
                    </a:lnTo>
                    <a:lnTo>
                      <a:pt x="528" y="10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56840" y="4762800"/>
                <a:ext cx="120960" cy="41040"/>
              </a:xfrm>
              <a:custGeom>
                <a:avLst/>
                <a:gdLst/>
                <a:ahLst/>
                <a:rect l="l" t="t" r="r" b="b"/>
                <a:pathLst>
                  <a:path w="592" h="180">
                    <a:moveTo>
                      <a:pt x="187" y="0"/>
                    </a:moveTo>
                    <a:lnTo>
                      <a:pt x="246" y="0"/>
                    </a:lnTo>
                    <a:lnTo>
                      <a:pt x="256" y="25"/>
                    </a:lnTo>
                    <a:lnTo>
                      <a:pt x="592" y="80"/>
                    </a:lnTo>
                    <a:lnTo>
                      <a:pt x="592" y="180"/>
                    </a:lnTo>
                    <a:lnTo>
                      <a:pt x="290" y="136"/>
                    </a:lnTo>
                    <a:lnTo>
                      <a:pt x="236" y="155"/>
                    </a:lnTo>
                    <a:lnTo>
                      <a:pt x="0" y="11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c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56840" y="4762800"/>
                <a:ext cx="116640" cy="39600"/>
              </a:xfrm>
              <a:custGeom>
                <a:avLst/>
                <a:gdLst/>
                <a:ahLst/>
                <a:rect l="l" t="t" r="r" b="b"/>
                <a:pathLst>
                  <a:path w="572" h="174">
                    <a:moveTo>
                      <a:pt x="188" y="0"/>
                    </a:moveTo>
                    <a:lnTo>
                      <a:pt x="195" y="0"/>
                    </a:lnTo>
                    <a:lnTo>
                      <a:pt x="202" y="1"/>
                    </a:lnTo>
                    <a:lnTo>
                      <a:pt x="211" y="1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0" y="7"/>
                    </a:lnTo>
                    <a:lnTo>
                      <a:pt x="252" y="13"/>
                    </a:lnTo>
                    <a:lnTo>
                      <a:pt x="255" y="19"/>
                    </a:lnTo>
                    <a:lnTo>
                      <a:pt x="257" y="25"/>
                    </a:lnTo>
                    <a:lnTo>
                      <a:pt x="277" y="28"/>
                    </a:lnTo>
                    <a:lnTo>
                      <a:pt x="296" y="31"/>
                    </a:lnTo>
                    <a:lnTo>
                      <a:pt x="316" y="36"/>
                    </a:lnTo>
                    <a:lnTo>
                      <a:pt x="336" y="39"/>
                    </a:lnTo>
                    <a:lnTo>
                      <a:pt x="356" y="42"/>
                    </a:lnTo>
                    <a:lnTo>
                      <a:pt x="375" y="45"/>
                    </a:lnTo>
                    <a:lnTo>
                      <a:pt x="395" y="49"/>
                    </a:lnTo>
                    <a:lnTo>
                      <a:pt x="414" y="52"/>
                    </a:lnTo>
                    <a:lnTo>
                      <a:pt x="435" y="55"/>
                    </a:lnTo>
                    <a:lnTo>
                      <a:pt x="454" y="59"/>
                    </a:lnTo>
                    <a:lnTo>
                      <a:pt x="474" y="62"/>
                    </a:lnTo>
                    <a:lnTo>
                      <a:pt x="493" y="65"/>
                    </a:lnTo>
                    <a:lnTo>
                      <a:pt x="513" y="68"/>
                    </a:lnTo>
                    <a:lnTo>
                      <a:pt x="532" y="72"/>
                    </a:lnTo>
                    <a:lnTo>
                      <a:pt x="553" y="75"/>
                    </a:lnTo>
                    <a:lnTo>
                      <a:pt x="572" y="78"/>
                    </a:lnTo>
                    <a:lnTo>
                      <a:pt x="572" y="102"/>
                    </a:lnTo>
                    <a:lnTo>
                      <a:pt x="572" y="126"/>
                    </a:lnTo>
                    <a:lnTo>
                      <a:pt x="572" y="151"/>
                    </a:lnTo>
                    <a:lnTo>
                      <a:pt x="572" y="174"/>
                    </a:lnTo>
                    <a:lnTo>
                      <a:pt x="554" y="172"/>
                    </a:lnTo>
                    <a:lnTo>
                      <a:pt x="536" y="169"/>
                    </a:lnTo>
                    <a:lnTo>
                      <a:pt x="518" y="167"/>
                    </a:lnTo>
                    <a:lnTo>
                      <a:pt x="501" y="164"/>
                    </a:lnTo>
                    <a:lnTo>
                      <a:pt x="483" y="162"/>
                    </a:lnTo>
                    <a:lnTo>
                      <a:pt x="465" y="159"/>
                    </a:lnTo>
                    <a:lnTo>
                      <a:pt x="448" y="157"/>
                    </a:lnTo>
                    <a:lnTo>
                      <a:pt x="429" y="154"/>
                    </a:lnTo>
                    <a:lnTo>
                      <a:pt x="412" y="152"/>
                    </a:lnTo>
                    <a:lnTo>
                      <a:pt x="394" y="150"/>
                    </a:lnTo>
                    <a:lnTo>
                      <a:pt x="376" y="147"/>
                    </a:lnTo>
                    <a:lnTo>
                      <a:pt x="359" y="145"/>
                    </a:lnTo>
                    <a:lnTo>
                      <a:pt x="341" y="142"/>
                    </a:lnTo>
                    <a:lnTo>
                      <a:pt x="324" y="140"/>
                    </a:lnTo>
                    <a:lnTo>
                      <a:pt x="305" y="137"/>
                    </a:lnTo>
                    <a:lnTo>
                      <a:pt x="288" y="135"/>
                    </a:lnTo>
                    <a:lnTo>
                      <a:pt x="282" y="137"/>
                    </a:lnTo>
                    <a:lnTo>
                      <a:pt x="275" y="140"/>
                    </a:lnTo>
                    <a:lnTo>
                      <a:pt x="269" y="142"/>
                    </a:lnTo>
                    <a:lnTo>
                      <a:pt x="263" y="144"/>
                    </a:lnTo>
                    <a:lnTo>
                      <a:pt x="256" y="147"/>
                    </a:lnTo>
                    <a:lnTo>
                      <a:pt x="250" y="149"/>
                    </a:lnTo>
                    <a:lnTo>
                      <a:pt x="243" y="152"/>
                    </a:lnTo>
                    <a:lnTo>
                      <a:pt x="237" y="154"/>
                    </a:lnTo>
                    <a:lnTo>
                      <a:pt x="222" y="152"/>
                    </a:lnTo>
                    <a:lnTo>
                      <a:pt x="207" y="149"/>
                    </a:lnTo>
                    <a:lnTo>
                      <a:pt x="192" y="147"/>
                    </a:lnTo>
                    <a:lnTo>
                      <a:pt x="177" y="144"/>
                    </a:lnTo>
                    <a:lnTo>
                      <a:pt x="163" y="142"/>
                    </a:lnTo>
                    <a:lnTo>
                      <a:pt x="148" y="140"/>
                    </a:lnTo>
                    <a:lnTo>
                      <a:pt x="133" y="137"/>
                    </a:lnTo>
                    <a:lnTo>
                      <a:pt x="119" y="135"/>
                    </a:lnTo>
                    <a:lnTo>
                      <a:pt x="104" y="133"/>
                    </a:lnTo>
                    <a:lnTo>
                      <a:pt x="88" y="130"/>
                    </a:lnTo>
                    <a:lnTo>
                      <a:pt x="73" y="127"/>
                    </a:lnTo>
                    <a:lnTo>
                      <a:pt x="59" y="125"/>
                    </a:lnTo>
                    <a:lnTo>
                      <a:pt x="44" y="122"/>
                    </a:lnTo>
                    <a:lnTo>
                      <a:pt x="29" y="120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3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8" y="79"/>
                    </a:lnTo>
                    <a:lnTo>
                      <a:pt x="70" y="72"/>
                    </a:lnTo>
                    <a:lnTo>
                      <a:pt x="81" y="65"/>
                    </a:lnTo>
                    <a:lnTo>
                      <a:pt x="93" y="58"/>
                    </a:lnTo>
                    <a:lnTo>
                      <a:pt x="106" y="51"/>
                    </a:lnTo>
                    <a:lnTo>
                      <a:pt x="117" y="44"/>
                    </a:lnTo>
                    <a:lnTo>
                      <a:pt x="129" y="37"/>
                    </a:lnTo>
                    <a:lnTo>
                      <a:pt x="141" y="28"/>
                    </a:lnTo>
                    <a:lnTo>
                      <a:pt x="153" y="21"/>
                    </a:lnTo>
                    <a:lnTo>
                      <a:pt x="164" y="14"/>
                    </a:lnTo>
                    <a:lnTo>
                      <a:pt x="176" y="7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0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56840" y="4762800"/>
                <a:ext cx="112320" cy="37800"/>
              </a:xfrm>
              <a:custGeom>
                <a:avLst/>
                <a:gdLst/>
                <a:ahLst/>
                <a:rect l="l" t="t" r="r" b="b"/>
                <a:pathLst>
                  <a:path w="552" h="169">
                    <a:moveTo>
                      <a:pt x="189" y="0"/>
                    </a:moveTo>
                    <a:lnTo>
                      <a:pt x="196" y="0"/>
                    </a:lnTo>
                    <a:lnTo>
                      <a:pt x="203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6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1" y="7"/>
                    </a:lnTo>
                    <a:lnTo>
                      <a:pt x="253" y="13"/>
                    </a:lnTo>
                    <a:lnTo>
                      <a:pt x="256" y="19"/>
                    </a:lnTo>
                    <a:lnTo>
                      <a:pt x="258" y="25"/>
                    </a:lnTo>
                    <a:lnTo>
                      <a:pt x="276" y="28"/>
                    </a:lnTo>
                    <a:lnTo>
                      <a:pt x="294" y="31"/>
                    </a:lnTo>
                    <a:lnTo>
                      <a:pt x="313" y="35"/>
                    </a:lnTo>
                    <a:lnTo>
                      <a:pt x="332" y="39"/>
                    </a:lnTo>
                    <a:lnTo>
                      <a:pt x="350" y="42"/>
                    </a:lnTo>
                    <a:lnTo>
                      <a:pt x="368" y="45"/>
                    </a:lnTo>
                    <a:lnTo>
                      <a:pt x="386" y="48"/>
                    </a:lnTo>
                    <a:lnTo>
                      <a:pt x="405" y="51"/>
                    </a:lnTo>
                    <a:lnTo>
                      <a:pt x="423" y="54"/>
                    </a:lnTo>
                    <a:lnTo>
                      <a:pt x="442" y="57"/>
                    </a:lnTo>
                    <a:lnTo>
                      <a:pt x="460" y="60"/>
                    </a:lnTo>
                    <a:lnTo>
                      <a:pt x="478" y="63"/>
                    </a:lnTo>
                    <a:lnTo>
                      <a:pt x="496" y="67"/>
                    </a:lnTo>
                    <a:lnTo>
                      <a:pt x="515" y="70"/>
                    </a:lnTo>
                    <a:lnTo>
                      <a:pt x="533" y="73"/>
                    </a:lnTo>
                    <a:lnTo>
                      <a:pt x="552" y="76"/>
                    </a:lnTo>
                    <a:lnTo>
                      <a:pt x="552" y="99"/>
                    </a:lnTo>
                    <a:lnTo>
                      <a:pt x="552" y="122"/>
                    </a:lnTo>
                    <a:lnTo>
                      <a:pt x="552" y="146"/>
                    </a:lnTo>
                    <a:lnTo>
                      <a:pt x="552" y="169"/>
                    </a:lnTo>
                    <a:lnTo>
                      <a:pt x="535" y="167"/>
                    </a:lnTo>
                    <a:lnTo>
                      <a:pt x="518" y="164"/>
                    </a:lnTo>
                    <a:lnTo>
                      <a:pt x="502" y="162"/>
                    </a:lnTo>
                    <a:lnTo>
                      <a:pt x="485" y="160"/>
                    </a:lnTo>
                    <a:lnTo>
                      <a:pt x="469" y="158"/>
                    </a:lnTo>
                    <a:lnTo>
                      <a:pt x="452" y="155"/>
                    </a:lnTo>
                    <a:lnTo>
                      <a:pt x="436" y="153"/>
                    </a:lnTo>
                    <a:lnTo>
                      <a:pt x="418" y="151"/>
                    </a:lnTo>
                    <a:lnTo>
                      <a:pt x="402" y="149"/>
                    </a:lnTo>
                    <a:lnTo>
                      <a:pt x="385" y="146"/>
                    </a:lnTo>
                    <a:lnTo>
                      <a:pt x="369" y="144"/>
                    </a:lnTo>
                    <a:lnTo>
                      <a:pt x="352" y="142"/>
                    </a:lnTo>
                    <a:lnTo>
                      <a:pt x="336" y="140"/>
                    </a:lnTo>
                    <a:lnTo>
                      <a:pt x="318" y="137"/>
                    </a:lnTo>
                    <a:lnTo>
                      <a:pt x="302" y="135"/>
                    </a:lnTo>
                    <a:lnTo>
                      <a:pt x="285" y="133"/>
                    </a:lnTo>
                    <a:lnTo>
                      <a:pt x="279" y="136"/>
                    </a:lnTo>
                    <a:lnTo>
                      <a:pt x="274" y="138"/>
                    </a:lnTo>
                    <a:lnTo>
                      <a:pt x="268" y="141"/>
                    </a:lnTo>
                    <a:lnTo>
                      <a:pt x="262" y="143"/>
                    </a:lnTo>
                    <a:lnTo>
                      <a:pt x="256" y="146"/>
                    </a:lnTo>
                    <a:lnTo>
                      <a:pt x="250" y="148"/>
                    </a:lnTo>
                    <a:lnTo>
                      <a:pt x="244" y="151"/>
                    </a:lnTo>
                    <a:lnTo>
                      <a:pt x="238" y="153"/>
                    </a:lnTo>
                    <a:lnTo>
                      <a:pt x="223" y="151"/>
                    </a:lnTo>
                    <a:lnTo>
                      <a:pt x="208" y="148"/>
                    </a:lnTo>
                    <a:lnTo>
                      <a:pt x="193" y="146"/>
                    </a:lnTo>
                    <a:lnTo>
                      <a:pt x="178" y="144"/>
                    </a:lnTo>
                    <a:lnTo>
                      <a:pt x="164" y="142"/>
                    </a:lnTo>
                    <a:lnTo>
                      <a:pt x="149" y="139"/>
                    </a:lnTo>
                    <a:lnTo>
                      <a:pt x="134" y="137"/>
                    </a:lnTo>
                    <a:lnTo>
                      <a:pt x="119" y="134"/>
                    </a:lnTo>
                    <a:lnTo>
                      <a:pt x="105" y="132"/>
                    </a:lnTo>
                    <a:lnTo>
                      <a:pt x="89" y="130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4" y="122"/>
                    </a:lnTo>
                    <a:lnTo>
                      <a:pt x="30" y="120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3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8" y="79"/>
                    </a:lnTo>
                    <a:lnTo>
                      <a:pt x="70" y="72"/>
                    </a:lnTo>
                    <a:lnTo>
                      <a:pt x="82" y="65"/>
                    </a:lnTo>
                    <a:lnTo>
                      <a:pt x="94" y="58"/>
                    </a:lnTo>
                    <a:lnTo>
                      <a:pt x="106" y="51"/>
                    </a:lnTo>
                    <a:lnTo>
                      <a:pt x="118" y="44"/>
                    </a:lnTo>
                    <a:lnTo>
                      <a:pt x="130" y="37"/>
                    </a:lnTo>
                    <a:lnTo>
                      <a:pt x="142" y="28"/>
                    </a:lnTo>
                    <a:lnTo>
                      <a:pt x="154" y="21"/>
                    </a:lnTo>
                    <a:lnTo>
                      <a:pt x="165" y="14"/>
                    </a:lnTo>
                    <a:lnTo>
                      <a:pt x="177" y="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11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56840" y="4762800"/>
                <a:ext cx="108360" cy="36360"/>
              </a:xfrm>
              <a:custGeom>
                <a:avLst/>
                <a:gdLst/>
                <a:ahLst/>
                <a:rect l="l" t="t" r="r" b="b"/>
                <a:pathLst>
                  <a:path w="531" h="163">
                    <a:moveTo>
                      <a:pt x="190" y="0"/>
                    </a:moveTo>
                    <a:lnTo>
                      <a:pt x="197" y="0"/>
                    </a:lnTo>
                    <a:lnTo>
                      <a:pt x="204" y="1"/>
                    </a:lnTo>
                    <a:lnTo>
                      <a:pt x="213" y="1"/>
                    </a:lnTo>
                    <a:lnTo>
                      <a:pt x="220" y="1"/>
                    </a:lnTo>
                    <a:lnTo>
                      <a:pt x="227" y="2"/>
                    </a:lnTo>
                    <a:lnTo>
                      <a:pt x="235" y="2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2" y="8"/>
                    </a:lnTo>
                    <a:lnTo>
                      <a:pt x="254" y="13"/>
                    </a:lnTo>
                    <a:lnTo>
                      <a:pt x="257" y="19"/>
                    </a:lnTo>
                    <a:lnTo>
                      <a:pt x="259" y="25"/>
                    </a:lnTo>
                    <a:lnTo>
                      <a:pt x="276" y="28"/>
                    </a:lnTo>
                    <a:lnTo>
                      <a:pt x="293" y="31"/>
                    </a:lnTo>
                    <a:lnTo>
                      <a:pt x="310" y="35"/>
                    </a:lnTo>
                    <a:lnTo>
                      <a:pt x="328" y="38"/>
                    </a:lnTo>
                    <a:lnTo>
                      <a:pt x="344" y="41"/>
                    </a:lnTo>
                    <a:lnTo>
                      <a:pt x="361" y="44"/>
                    </a:lnTo>
                    <a:lnTo>
                      <a:pt x="378" y="47"/>
                    </a:lnTo>
                    <a:lnTo>
                      <a:pt x="395" y="50"/>
                    </a:lnTo>
                    <a:lnTo>
                      <a:pt x="412" y="53"/>
                    </a:lnTo>
                    <a:lnTo>
                      <a:pt x="429" y="56"/>
                    </a:lnTo>
                    <a:lnTo>
                      <a:pt x="447" y="59"/>
                    </a:lnTo>
                    <a:lnTo>
                      <a:pt x="464" y="62"/>
                    </a:lnTo>
                    <a:lnTo>
                      <a:pt x="480" y="65"/>
                    </a:lnTo>
                    <a:lnTo>
                      <a:pt x="497" y="68"/>
                    </a:lnTo>
                    <a:lnTo>
                      <a:pt x="514" y="71"/>
                    </a:lnTo>
                    <a:lnTo>
                      <a:pt x="531" y="74"/>
                    </a:lnTo>
                    <a:lnTo>
                      <a:pt x="531" y="96"/>
                    </a:lnTo>
                    <a:lnTo>
                      <a:pt x="531" y="118"/>
                    </a:lnTo>
                    <a:lnTo>
                      <a:pt x="531" y="141"/>
                    </a:lnTo>
                    <a:lnTo>
                      <a:pt x="531" y="163"/>
                    </a:lnTo>
                    <a:lnTo>
                      <a:pt x="516" y="161"/>
                    </a:lnTo>
                    <a:lnTo>
                      <a:pt x="500" y="159"/>
                    </a:lnTo>
                    <a:lnTo>
                      <a:pt x="485" y="157"/>
                    </a:lnTo>
                    <a:lnTo>
                      <a:pt x="470" y="155"/>
                    </a:lnTo>
                    <a:lnTo>
                      <a:pt x="454" y="154"/>
                    </a:lnTo>
                    <a:lnTo>
                      <a:pt x="439" y="152"/>
                    </a:lnTo>
                    <a:lnTo>
                      <a:pt x="422" y="150"/>
                    </a:lnTo>
                    <a:lnTo>
                      <a:pt x="407" y="148"/>
                    </a:lnTo>
                    <a:lnTo>
                      <a:pt x="392" y="146"/>
                    </a:lnTo>
                    <a:lnTo>
                      <a:pt x="376" y="144"/>
                    </a:lnTo>
                    <a:lnTo>
                      <a:pt x="361" y="142"/>
                    </a:lnTo>
                    <a:lnTo>
                      <a:pt x="346" y="140"/>
                    </a:lnTo>
                    <a:lnTo>
                      <a:pt x="330" y="138"/>
                    </a:lnTo>
                    <a:lnTo>
                      <a:pt x="314" y="136"/>
                    </a:lnTo>
                    <a:lnTo>
                      <a:pt x="298" y="134"/>
                    </a:lnTo>
                    <a:lnTo>
                      <a:pt x="283" y="132"/>
                    </a:lnTo>
                    <a:lnTo>
                      <a:pt x="277" y="135"/>
                    </a:lnTo>
                    <a:lnTo>
                      <a:pt x="272" y="137"/>
                    </a:lnTo>
                    <a:lnTo>
                      <a:pt x="266" y="140"/>
                    </a:lnTo>
                    <a:lnTo>
                      <a:pt x="261" y="142"/>
                    </a:lnTo>
                    <a:lnTo>
                      <a:pt x="256" y="145"/>
                    </a:lnTo>
                    <a:lnTo>
                      <a:pt x="250" y="147"/>
                    </a:lnTo>
                    <a:lnTo>
                      <a:pt x="245" y="150"/>
                    </a:lnTo>
                    <a:lnTo>
                      <a:pt x="239" y="152"/>
                    </a:lnTo>
                    <a:lnTo>
                      <a:pt x="224" y="150"/>
                    </a:lnTo>
                    <a:lnTo>
                      <a:pt x="208" y="147"/>
                    </a:lnTo>
                    <a:lnTo>
                      <a:pt x="194" y="145"/>
                    </a:lnTo>
                    <a:lnTo>
                      <a:pt x="179" y="143"/>
                    </a:lnTo>
                    <a:lnTo>
                      <a:pt x="164" y="141"/>
                    </a:lnTo>
                    <a:lnTo>
                      <a:pt x="149" y="138"/>
                    </a:lnTo>
                    <a:lnTo>
                      <a:pt x="134" y="136"/>
                    </a:lnTo>
                    <a:lnTo>
                      <a:pt x="120" y="134"/>
                    </a:lnTo>
                    <a:lnTo>
                      <a:pt x="105" y="132"/>
                    </a:lnTo>
                    <a:lnTo>
                      <a:pt x="89" y="129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4" y="122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9" y="79"/>
                    </a:lnTo>
                    <a:lnTo>
                      <a:pt x="71" y="72"/>
                    </a:lnTo>
                    <a:lnTo>
                      <a:pt x="83" y="65"/>
                    </a:lnTo>
                    <a:lnTo>
                      <a:pt x="95" y="58"/>
                    </a:lnTo>
                    <a:lnTo>
                      <a:pt x="107" y="51"/>
                    </a:lnTo>
                    <a:lnTo>
                      <a:pt x="119" y="44"/>
                    </a:lnTo>
                    <a:lnTo>
                      <a:pt x="131" y="37"/>
                    </a:lnTo>
                    <a:lnTo>
                      <a:pt x="143" y="28"/>
                    </a:lnTo>
                    <a:lnTo>
                      <a:pt x="155" y="21"/>
                    </a:lnTo>
                    <a:lnTo>
                      <a:pt x="166" y="14"/>
                    </a:lnTo>
                    <a:lnTo>
                      <a:pt x="178" y="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14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56840" y="4762800"/>
                <a:ext cx="103680" cy="36360"/>
              </a:xfrm>
              <a:custGeom>
                <a:avLst/>
                <a:gdLst/>
                <a:ahLst/>
                <a:rect l="l" t="t" r="r" b="b"/>
                <a:pathLst>
                  <a:path w="511" h="157">
                    <a:moveTo>
                      <a:pt x="191" y="0"/>
                    </a:moveTo>
                    <a:lnTo>
                      <a:pt x="198" y="0"/>
                    </a:lnTo>
                    <a:lnTo>
                      <a:pt x="205" y="1"/>
                    </a:lnTo>
                    <a:lnTo>
                      <a:pt x="214" y="1"/>
                    </a:lnTo>
                    <a:lnTo>
                      <a:pt x="221" y="1"/>
                    </a:lnTo>
                    <a:lnTo>
                      <a:pt x="228" y="2"/>
                    </a:lnTo>
                    <a:lnTo>
                      <a:pt x="236" y="2"/>
                    </a:lnTo>
                    <a:lnTo>
                      <a:pt x="243" y="3"/>
                    </a:lnTo>
                    <a:lnTo>
                      <a:pt x="250" y="3"/>
                    </a:lnTo>
                    <a:lnTo>
                      <a:pt x="253" y="8"/>
                    </a:lnTo>
                    <a:lnTo>
                      <a:pt x="255" y="14"/>
                    </a:lnTo>
                    <a:lnTo>
                      <a:pt x="258" y="20"/>
                    </a:lnTo>
                    <a:lnTo>
                      <a:pt x="260" y="25"/>
                    </a:lnTo>
                    <a:lnTo>
                      <a:pt x="276" y="28"/>
                    </a:lnTo>
                    <a:lnTo>
                      <a:pt x="291" y="31"/>
                    </a:lnTo>
                    <a:lnTo>
                      <a:pt x="307" y="35"/>
                    </a:lnTo>
                    <a:lnTo>
                      <a:pt x="322" y="37"/>
                    </a:lnTo>
                    <a:lnTo>
                      <a:pt x="339" y="40"/>
                    </a:lnTo>
                    <a:lnTo>
                      <a:pt x="354" y="43"/>
                    </a:lnTo>
                    <a:lnTo>
                      <a:pt x="370" y="46"/>
                    </a:lnTo>
                    <a:lnTo>
                      <a:pt x="386" y="49"/>
                    </a:lnTo>
                    <a:lnTo>
                      <a:pt x="401" y="52"/>
                    </a:lnTo>
                    <a:lnTo>
                      <a:pt x="417" y="55"/>
                    </a:lnTo>
                    <a:lnTo>
                      <a:pt x="432" y="58"/>
                    </a:lnTo>
                    <a:lnTo>
                      <a:pt x="449" y="61"/>
                    </a:lnTo>
                    <a:lnTo>
                      <a:pt x="464" y="63"/>
                    </a:lnTo>
                    <a:lnTo>
                      <a:pt x="480" y="66"/>
                    </a:lnTo>
                    <a:lnTo>
                      <a:pt x="495" y="69"/>
                    </a:lnTo>
                    <a:lnTo>
                      <a:pt x="511" y="72"/>
                    </a:lnTo>
                    <a:lnTo>
                      <a:pt x="511" y="93"/>
                    </a:lnTo>
                    <a:lnTo>
                      <a:pt x="511" y="114"/>
                    </a:lnTo>
                    <a:lnTo>
                      <a:pt x="511" y="136"/>
                    </a:lnTo>
                    <a:lnTo>
                      <a:pt x="511" y="157"/>
                    </a:lnTo>
                    <a:lnTo>
                      <a:pt x="497" y="155"/>
                    </a:lnTo>
                    <a:lnTo>
                      <a:pt x="482" y="154"/>
                    </a:lnTo>
                    <a:lnTo>
                      <a:pt x="468" y="152"/>
                    </a:lnTo>
                    <a:lnTo>
                      <a:pt x="454" y="151"/>
                    </a:lnTo>
                    <a:lnTo>
                      <a:pt x="440" y="149"/>
                    </a:lnTo>
                    <a:lnTo>
                      <a:pt x="424" y="148"/>
                    </a:lnTo>
                    <a:lnTo>
                      <a:pt x="410" y="146"/>
                    </a:lnTo>
                    <a:lnTo>
                      <a:pt x="396" y="144"/>
                    </a:lnTo>
                    <a:lnTo>
                      <a:pt x="381" y="143"/>
                    </a:lnTo>
                    <a:lnTo>
                      <a:pt x="367" y="141"/>
                    </a:lnTo>
                    <a:lnTo>
                      <a:pt x="352" y="139"/>
                    </a:lnTo>
                    <a:lnTo>
                      <a:pt x="338" y="138"/>
                    </a:lnTo>
                    <a:lnTo>
                      <a:pt x="323" y="136"/>
                    </a:lnTo>
                    <a:lnTo>
                      <a:pt x="309" y="134"/>
                    </a:lnTo>
                    <a:lnTo>
                      <a:pt x="294" y="133"/>
                    </a:lnTo>
                    <a:lnTo>
                      <a:pt x="280" y="131"/>
                    </a:lnTo>
                    <a:lnTo>
                      <a:pt x="275" y="134"/>
                    </a:lnTo>
                    <a:lnTo>
                      <a:pt x="270" y="136"/>
                    </a:lnTo>
                    <a:lnTo>
                      <a:pt x="265" y="139"/>
                    </a:lnTo>
                    <a:lnTo>
                      <a:pt x="260" y="141"/>
                    </a:lnTo>
                    <a:lnTo>
                      <a:pt x="255" y="144"/>
                    </a:lnTo>
                    <a:lnTo>
                      <a:pt x="250" y="146"/>
                    </a:lnTo>
                    <a:lnTo>
                      <a:pt x="245" y="149"/>
                    </a:lnTo>
                    <a:lnTo>
                      <a:pt x="240" y="151"/>
                    </a:lnTo>
                    <a:lnTo>
                      <a:pt x="225" y="149"/>
                    </a:lnTo>
                    <a:lnTo>
                      <a:pt x="209" y="147"/>
                    </a:lnTo>
                    <a:lnTo>
                      <a:pt x="194" y="144"/>
                    </a:lnTo>
                    <a:lnTo>
                      <a:pt x="180" y="142"/>
                    </a:lnTo>
                    <a:lnTo>
                      <a:pt x="165" y="140"/>
                    </a:lnTo>
                    <a:lnTo>
                      <a:pt x="150" y="138"/>
                    </a:lnTo>
                    <a:lnTo>
                      <a:pt x="135" y="136"/>
                    </a:lnTo>
                    <a:lnTo>
                      <a:pt x="120" y="133"/>
                    </a:lnTo>
                    <a:lnTo>
                      <a:pt x="105" y="131"/>
                    </a:lnTo>
                    <a:lnTo>
                      <a:pt x="89" y="129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5" y="122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9" y="79"/>
                    </a:lnTo>
                    <a:lnTo>
                      <a:pt x="71" y="72"/>
                    </a:lnTo>
                    <a:lnTo>
                      <a:pt x="83" y="65"/>
                    </a:lnTo>
                    <a:lnTo>
                      <a:pt x="95" y="58"/>
                    </a:lnTo>
                    <a:lnTo>
                      <a:pt x="107" y="51"/>
                    </a:lnTo>
                    <a:lnTo>
                      <a:pt x="119" y="44"/>
                    </a:lnTo>
                    <a:lnTo>
                      <a:pt x="131" y="37"/>
                    </a:lnTo>
                    <a:lnTo>
                      <a:pt x="143" y="28"/>
                    </a:lnTo>
                    <a:lnTo>
                      <a:pt x="155" y="21"/>
                    </a:lnTo>
                    <a:lnTo>
                      <a:pt x="167" y="14"/>
                    </a:lnTo>
                    <a:lnTo>
                      <a:pt x="179" y="7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1c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55400" y="4762800"/>
                <a:ext cx="100800" cy="34920"/>
              </a:xfrm>
              <a:custGeom>
                <a:avLst/>
                <a:gdLst/>
                <a:ahLst/>
                <a:rect l="l" t="t" r="r" b="b"/>
                <a:pathLst>
                  <a:path w="492" h="152">
                    <a:moveTo>
                      <a:pt x="193" y="0"/>
                    </a:moveTo>
                    <a:lnTo>
                      <a:pt x="200" y="0"/>
                    </a:lnTo>
                    <a:lnTo>
                      <a:pt x="207" y="1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30" y="3"/>
                    </a:lnTo>
                    <a:lnTo>
                      <a:pt x="238" y="3"/>
                    </a:lnTo>
                    <a:lnTo>
                      <a:pt x="245" y="4"/>
                    </a:lnTo>
                    <a:lnTo>
                      <a:pt x="252" y="4"/>
                    </a:lnTo>
                    <a:lnTo>
                      <a:pt x="255" y="9"/>
                    </a:lnTo>
                    <a:lnTo>
                      <a:pt x="257" y="14"/>
                    </a:lnTo>
                    <a:lnTo>
                      <a:pt x="260" y="20"/>
                    </a:lnTo>
                    <a:lnTo>
                      <a:pt x="262" y="25"/>
                    </a:lnTo>
                    <a:lnTo>
                      <a:pt x="276" y="28"/>
                    </a:lnTo>
                    <a:lnTo>
                      <a:pt x="291" y="31"/>
                    </a:lnTo>
                    <a:lnTo>
                      <a:pt x="305" y="34"/>
                    </a:lnTo>
                    <a:lnTo>
                      <a:pt x="319" y="37"/>
                    </a:lnTo>
                    <a:lnTo>
                      <a:pt x="334" y="40"/>
                    </a:lnTo>
                    <a:lnTo>
                      <a:pt x="349" y="43"/>
                    </a:lnTo>
                    <a:lnTo>
                      <a:pt x="363" y="45"/>
                    </a:lnTo>
                    <a:lnTo>
                      <a:pt x="377" y="48"/>
                    </a:lnTo>
                    <a:lnTo>
                      <a:pt x="391" y="51"/>
                    </a:lnTo>
                    <a:lnTo>
                      <a:pt x="406" y="53"/>
                    </a:lnTo>
                    <a:lnTo>
                      <a:pt x="420" y="56"/>
                    </a:lnTo>
                    <a:lnTo>
                      <a:pt x="434" y="59"/>
                    </a:lnTo>
                    <a:lnTo>
                      <a:pt x="449" y="62"/>
                    </a:lnTo>
                    <a:lnTo>
                      <a:pt x="464" y="64"/>
                    </a:lnTo>
                    <a:lnTo>
                      <a:pt x="478" y="67"/>
                    </a:lnTo>
                    <a:lnTo>
                      <a:pt x="492" y="70"/>
                    </a:lnTo>
                    <a:lnTo>
                      <a:pt x="492" y="90"/>
                    </a:lnTo>
                    <a:lnTo>
                      <a:pt x="492" y="110"/>
                    </a:lnTo>
                    <a:lnTo>
                      <a:pt x="492" y="132"/>
                    </a:lnTo>
                    <a:lnTo>
                      <a:pt x="492" y="152"/>
                    </a:lnTo>
                    <a:lnTo>
                      <a:pt x="479" y="151"/>
                    </a:lnTo>
                    <a:lnTo>
                      <a:pt x="466" y="149"/>
                    </a:lnTo>
                    <a:lnTo>
                      <a:pt x="453" y="148"/>
                    </a:lnTo>
                    <a:lnTo>
                      <a:pt x="438" y="147"/>
                    </a:lnTo>
                    <a:lnTo>
                      <a:pt x="425" y="145"/>
                    </a:lnTo>
                    <a:lnTo>
                      <a:pt x="412" y="144"/>
                    </a:lnTo>
                    <a:lnTo>
                      <a:pt x="399" y="142"/>
                    </a:lnTo>
                    <a:lnTo>
                      <a:pt x="386" y="141"/>
                    </a:lnTo>
                    <a:lnTo>
                      <a:pt x="372" y="140"/>
                    </a:lnTo>
                    <a:lnTo>
                      <a:pt x="359" y="138"/>
                    </a:lnTo>
                    <a:lnTo>
                      <a:pt x="346" y="137"/>
                    </a:lnTo>
                    <a:lnTo>
                      <a:pt x="333" y="135"/>
                    </a:lnTo>
                    <a:lnTo>
                      <a:pt x="318" y="134"/>
                    </a:lnTo>
                    <a:lnTo>
                      <a:pt x="305" y="133"/>
                    </a:lnTo>
                    <a:lnTo>
                      <a:pt x="292" y="131"/>
                    </a:lnTo>
                    <a:lnTo>
                      <a:pt x="279" y="130"/>
                    </a:lnTo>
                    <a:lnTo>
                      <a:pt x="274" y="133"/>
                    </a:lnTo>
                    <a:lnTo>
                      <a:pt x="270" y="135"/>
                    </a:lnTo>
                    <a:lnTo>
                      <a:pt x="265" y="138"/>
                    </a:lnTo>
                    <a:lnTo>
                      <a:pt x="261" y="140"/>
                    </a:lnTo>
                    <a:lnTo>
                      <a:pt x="256" y="142"/>
                    </a:lnTo>
                    <a:lnTo>
                      <a:pt x="252" y="145"/>
                    </a:lnTo>
                    <a:lnTo>
                      <a:pt x="247" y="147"/>
                    </a:lnTo>
                    <a:lnTo>
                      <a:pt x="242" y="150"/>
                    </a:lnTo>
                    <a:lnTo>
                      <a:pt x="227" y="148"/>
                    </a:lnTo>
                    <a:lnTo>
                      <a:pt x="211" y="146"/>
                    </a:lnTo>
                    <a:lnTo>
                      <a:pt x="196" y="144"/>
                    </a:lnTo>
                    <a:lnTo>
                      <a:pt x="181" y="142"/>
                    </a:lnTo>
                    <a:lnTo>
                      <a:pt x="166" y="139"/>
                    </a:lnTo>
                    <a:lnTo>
                      <a:pt x="151" y="137"/>
                    </a:lnTo>
                    <a:lnTo>
                      <a:pt x="136" y="135"/>
                    </a:lnTo>
                    <a:lnTo>
                      <a:pt x="121" y="133"/>
                    </a:lnTo>
                    <a:lnTo>
                      <a:pt x="106" y="131"/>
                    </a:lnTo>
                    <a:lnTo>
                      <a:pt x="90" y="129"/>
                    </a:lnTo>
                    <a:lnTo>
                      <a:pt x="75" y="126"/>
                    </a:lnTo>
                    <a:lnTo>
                      <a:pt x="60" y="123"/>
                    </a:lnTo>
                    <a:lnTo>
                      <a:pt x="45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8" y="86"/>
                    </a:lnTo>
                    <a:lnTo>
                      <a:pt x="60" y="79"/>
                    </a:lnTo>
                    <a:lnTo>
                      <a:pt x="72" y="72"/>
                    </a:lnTo>
                    <a:lnTo>
                      <a:pt x="84" y="65"/>
                    </a:lnTo>
                    <a:lnTo>
                      <a:pt x="96" y="58"/>
                    </a:lnTo>
                    <a:lnTo>
                      <a:pt x="109" y="51"/>
                    </a:lnTo>
                    <a:lnTo>
                      <a:pt x="121" y="44"/>
                    </a:lnTo>
                    <a:lnTo>
                      <a:pt x="133" y="37"/>
                    </a:lnTo>
                    <a:lnTo>
                      <a:pt x="145" y="28"/>
                    </a:lnTo>
                    <a:lnTo>
                      <a:pt x="157" y="21"/>
                    </a:lnTo>
                    <a:lnTo>
                      <a:pt x="169" y="14"/>
                    </a:lnTo>
                    <a:lnTo>
                      <a:pt x="181" y="7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e2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55400" y="476280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472" h="149">
                    <a:moveTo>
                      <a:pt x="194" y="0"/>
                    </a:moveTo>
                    <a:lnTo>
                      <a:pt x="201" y="1"/>
                    </a:lnTo>
                    <a:lnTo>
                      <a:pt x="208" y="1"/>
                    </a:lnTo>
                    <a:lnTo>
                      <a:pt x="217" y="2"/>
                    </a:lnTo>
                    <a:lnTo>
                      <a:pt x="224" y="2"/>
                    </a:lnTo>
                    <a:lnTo>
                      <a:pt x="231" y="3"/>
                    </a:lnTo>
                    <a:lnTo>
                      <a:pt x="239" y="4"/>
                    </a:lnTo>
                    <a:lnTo>
                      <a:pt x="246" y="4"/>
                    </a:lnTo>
                    <a:lnTo>
                      <a:pt x="253" y="5"/>
                    </a:lnTo>
                    <a:lnTo>
                      <a:pt x="256" y="10"/>
                    </a:lnTo>
                    <a:lnTo>
                      <a:pt x="258" y="15"/>
                    </a:lnTo>
                    <a:lnTo>
                      <a:pt x="261" y="20"/>
                    </a:lnTo>
                    <a:lnTo>
                      <a:pt x="263" y="25"/>
                    </a:lnTo>
                    <a:lnTo>
                      <a:pt x="276" y="28"/>
                    </a:lnTo>
                    <a:lnTo>
                      <a:pt x="289" y="30"/>
                    </a:lnTo>
                    <a:lnTo>
                      <a:pt x="302" y="34"/>
                    </a:lnTo>
                    <a:lnTo>
                      <a:pt x="315" y="36"/>
                    </a:lnTo>
                    <a:lnTo>
                      <a:pt x="329" y="39"/>
                    </a:lnTo>
                    <a:lnTo>
                      <a:pt x="342" y="42"/>
                    </a:lnTo>
                    <a:lnTo>
                      <a:pt x="355" y="44"/>
                    </a:lnTo>
                    <a:lnTo>
                      <a:pt x="368" y="47"/>
                    </a:lnTo>
                    <a:lnTo>
                      <a:pt x="380" y="50"/>
                    </a:lnTo>
                    <a:lnTo>
                      <a:pt x="393" y="52"/>
                    </a:lnTo>
                    <a:lnTo>
                      <a:pt x="406" y="55"/>
                    </a:lnTo>
                    <a:lnTo>
                      <a:pt x="419" y="57"/>
                    </a:lnTo>
                    <a:lnTo>
                      <a:pt x="432" y="60"/>
                    </a:lnTo>
                    <a:lnTo>
                      <a:pt x="446" y="63"/>
                    </a:lnTo>
                    <a:lnTo>
                      <a:pt x="459" y="65"/>
                    </a:lnTo>
                    <a:lnTo>
                      <a:pt x="472" y="68"/>
                    </a:lnTo>
                    <a:lnTo>
                      <a:pt x="472" y="87"/>
                    </a:lnTo>
                    <a:lnTo>
                      <a:pt x="472" y="106"/>
                    </a:lnTo>
                    <a:lnTo>
                      <a:pt x="472" y="126"/>
                    </a:lnTo>
                    <a:lnTo>
                      <a:pt x="472" y="146"/>
                    </a:lnTo>
                    <a:lnTo>
                      <a:pt x="460" y="145"/>
                    </a:lnTo>
                    <a:lnTo>
                      <a:pt x="448" y="144"/>
                    </a:lnTo>
                    <a:lnTo>
                      <a:pt x="435" y="143"/>
                    </a:lnTo>
                    <a:lnTo>
                      <a:pt x="422" y="142"/>
                    </a:lnTo>
                    <a:lnTo>
                      <a:pt x="410" y="141"/>
                    </a:lnTo>
                    <a:lnTo>
                      <a:pt x="398" y="140"/>
                    </a:lnTo>
                    <a:lnTo>
                      <a:pt x="386" y="139"/>
                    </a:lnTo>
                    <a:lnTo>
                      <a:pt x="374" y="138"/>
                    </a:lnTo>
                    <a:lnTo>
                      <a:pt x="362" y="137"/>
                    </a:lnTo>
                    <a:lnTo>
                      <a:pt x="350" y="136"/>
                    </a:lnTo>
                    <a:lnTo>
                      <a:pt x="338" y="135"/>
                    </a:lnTo>
                    <a:lnTo>
                      <a:pt x="325" y="133"/>
                    </a:lnTo>
                    <a:lnTo>
                      <a:pt x="312" y="132"/>
                    </a:lnTo>
                    <a:lnTo>
                      <a:pt x="300" y="131"/>
                    </a:lnTo>
                    <a:lnTo>
                      <a:pt x="288" y="130"/>
                    </a:lnTo>
                    <a:lnTo>
                      <a:pt x="276" y="129"/>
                    </a:lnTo>
                    <a:lnTo>
                      <a:pt x="272" y="132"/>
                    </a:lnTo>
                    <a:lnTo>
                      <a:pt x="268" y="134"/>
                    </a:lnTo>
                    <a:lnTo>
                      <a:pt x="264" y="137"/>
                    </a:lnTo>
                    <a:lnTo>
                      <a:pt x="260" y="139"/>
                    </a:lnTo>
                    <a:lnTo>
                      <a:pt x="255" y="141"/>
                    </a:lnTo>
                    <a:lnTo>
                      <a:pt x="251" y="144"/>
                    </a:lnTo>
                    <a:lnTo>
                      <a:pt x="247" y="146"/>
                    </a:lnTo>
                    <a:lnTo>
                      <a:pt x="243" y="149"/>
                    </a:lnTo>
                    <a:lnTo>
                      <a:pt x="228" y="147"/>
                    </a:lnTo>
                    <a:lnTo>
                      <a:pt x="212" y="145"/>
                    </a:lnTo>
                    <a:lnTo>
                      <a:pt x="197" y="143"/>
                    </a:lnTo>
                    <a:lnTo>
                      <a:pt x="182" y="141"/>
                    </a:lnTo>
                    <a:lnTo>
                      <a:pt x="167" y="139"/>
                    </a:lnTo>
                    <a:lnTo>
                      <a:pt x="152" y="137"/>
                    </a:lnTo>
                    <a:lnTo>
                      <a:pt x="137" y="135"/>
                    </a:lnTo>
                    <a:lnTo>
                      <a:pt x="122" y="132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5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8" y="86"/>
                    </a:lnTo>
                    <a:lnTo>
                      <a:pt x="60" y="79"/>
                    </a:lnTo>
                    <a:lnTo>
                      <a:pt x="72" y="72"/>
                    </a:lnTo>
                    <a:lnTo>
                      <a:pt x="84" y="65"/>
                    </a:lnTo>
                    <a:lnTo>
                      <a:pt x="97" y="58"/>
                    </a:lnTo>
                    <a:lnTo>
                      <a:pt x="110" y="51"/>
                    </a:lnTo>
                    <a:lnTo>
                      <a:pt x="122" y="44"/>
                    </a:lnTo>
                    <a:lnTo>
                      <a:pt x="134" y="37"/>
                    </a:lnTo>
                    <a:lnTo>
                      <a:pt x="146" y="28"/>
                    </a:lnTo>
                    <a:lnTo>
                      <a:pt x="158" y="21"/>
                    </a:lnTo>
                    <a:lnTo>
                      <a:pt x="170" y="14"/>
                    </a:lnTo>
                    <a:lnTo>
                      <a:pt x="182" y="7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21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55400" y="47628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452" h="148">
                    <a:moveTo>
                      <a:pt x="195" y="0"/>
                    </a:moveTo>
                    <a:lnTo>
                      <a:pt x="202" y="1"/>
                    </a:lnTo>
                    <a:lnTo>
                      <a:pt x="209" y="1"/>
                    </a:lnTo>
                    <a:lnTo>
                      <a:pt x="218" y="2"/>
                    </a:lnTo>
                    <a:lnTo>
                      <a:pt x="225" y="3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7" y="5"/>
                    </a:lnTo>
                    <a:lnTo>
                      <a:pt x="254" y="5"/>
                    </a:lnTo>
                    <a:lnTo>
                      <a:pt x="257" y="10"/>
                    </a:lnTo>
                    <a:lnTo>
                      <a:pt x="259" y="15"/>
                    </a:lnTo>
                    <a:lnTo>
                      <a:pt x="262" y="20"/>
                    </a:lnTo>
                    <a:lnTo>
                      <a:pt x="264" y="25"/>
                    </a:lnTo>
                    <a:lnTo>
                      <a:pt x="276" y="27"/>
                    </a:lnTo>
                    <a:lnTo>
                      <a:pt x="287" y="30"/>
                    </a:lnTo>
                    <a:lnTo>
                      <a:pt x="299" y="33"/>
                    </a:lnTo>
                    <a:lnTo>
                      <a:pt x="311" y="36"/>
                    </a:lnTo>
                    <a:lnTo>
                      <a:pt x="322" y="38"/>
                    </a:lnTo>
                    <a:lnTo>
                      <a:pt x="335" y="41"/>
                    </a:lnTo>
                    <a:lnTo>
                      <a:pt x="346" y="43"/>
                    </a:lnTo>
                    <a:lnTo>
                      <a:pt x="358" y="45"/>
                    </a:lnTo>
                    <a:lnTo>
                      <a:pt x="370" y="48"/>
                    </a:lnTo>
                    <a:lnTo>
                      <a:pt x="381" y="50"/>
                    </a:lnTo>
                    <a:lnTo>
                      <a:pt x="393" y="53"/>
                    </a:lnTo>
                    <a:lnTo>
                      <a:pt x="405" y="55"/>
                    </a:lnTo>
                    <a:lnTo>
                      <a:pt x="416" y="58"/>
                    </a:lnTo>
                    <a:lnTo>
                      <a:pt x="428" y="60"/>
                    </a:lnTo>
                    <a:lnTo>
                      <a:pt x="439" y="63"/>
                    </a:lnTo>
                    <a:lnTo>
                      <a:pt x="452" y="65"/>
                    </a:lnTo>
                    <a:lnTo>
                      <a:pt x="452" y="84"/>
                    </a:lnTo>
                    <a:lnTo>
                      <a:pt x="452" y="102"/>
                    </a:lnTo>
                    <a:lnTo>
                      <a:pt x="452" y="121"/>
                    </a:lnTo>
                    <a:lnTo>
                      <a:pt x="452" y="141"/>
                    </a:lnTo>
                    <a:lnTo>
                      <a:pt x="440" y="140"/>
                    </a:lnTo>
                    <a:lnTo>
                      <a:pt x="429" y="139"/>
                    </a:lnTo>
                    <a:lnTo>
                      <a:pt x="418" y="138"/>
                    </a:lnTo>
                    <a:lnTo>
                      <a:pt x="407" y="137"/>
                    </a:lnTo>
                    <a:lnTo>
                      <a:pt x="396" y="137"/>
                    </a:lnTo>
                    <a:lnTo>
                      <a:pt x="385" y="136"/>
                    </a:lnTo>
                    <a:lnTo>
                      <a:pt x="374" y="135"/>
                    </a:lnTo>
                    <a:lnTo>
                      <a:pt x="363" y="134"/>
                    </a:lnTo>
                    <a:lnTo>
                      <a:pt x="352" y="133"/>
                    </a:lnTo>
                    <a:lnTo>
                      <a:pt x="341" y="133"/>
                    </a:lnTo>
                    <a:lnTo>
                      <a:pt x="330" y="132"/>
                    </a:lnTo>
                    <a:lnTo>
                      <a:pt x="318" y="131"/>
                    </a:lnTo>
                    <a:lnTo>
                      <a:pt x="307" y="130"/>
                    </a:lnTo>
                    <a:lnTo>
                      <a:pt x="296" y="130"/>
                    </a:lnTo>
                    <a:lnTo>
                      <a:pt x="285" y="129"/>
                    </a:lnTo>
                    <a:lnTo>
                      <a:pt x="274" y="127"/>
                    </a:lnTo>
                    <a:lnTo>
                      <a:pt x="270" y="131"/>
                    </a:lnTo>
                    <a:lnTo>
                      <a:pt x="267" y="133"/>
                    </a:lnTo>
                    <a:lnTo>
                      <a:pt x="263" y="136"/>
                    </a:lnTo>
                    <a:lnTo>
                      <a:pt x="259" y="138"/>
                    </a:lnTo>
                    <a:lnTo>
                      <a:pt x="255" y="140"/>
                    </a:lnTo>
                    <a:lnTo>
                      <a:pt x="252" y="143"/>
                    </a:lnTo>
                    <a:lnTo>
                      <a:pt x="248" y="145"/>
                    </a:lnTo>
                    <a:lnTo>
                      <a:pt x="244" y="148"/>
                    </a:lnTo>
                    <a:lnTo>
                      <a:pt x="229" y="146"/>
                    </a:lnTo>
                    <a:lnTo>
                      <a:pt x="213" y="144"/>
                    </a:lnTo>
                    <a:lnTo>
                      <a:pt x="198" y="142"/>
                    </a:lnTo>
                    <a:lnTo>
                      <a:pt x="183" y="140"/>
                    </a:lnTo>
                    <a:lnTo>
                      <a:pt x="168" y="138"/>
                    </a:lnTo>
                    <a:lnTo>
                      <a:pt x="153" y="136"/>
                    </a:lnTo>
                    <a:lnTo>
                      <a:pt x="138" y="134"/>
                    </a:lnTo>
                    <a:lnTo>
                      <a:pt x="122" y="132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6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7" y="58"/>
                    </a:lnTo>
                    <a:lnTo>
                      <a:pt x="110" y="51"/>
                    </a:lnTo>
                    <a:lnTo>
                      <a:pt x="122" y="44"/>
                    </a:lnTo>
                    <a:lnTo>
                      <a:pt x="134" y="37"/>
                    </a:lnTo>
                    <a:lnTo>
                      <a:pt x="146" y="28"/>
                    </a:lnTo>
                    <a:lnTo>
                      <a:pt x="159" y="21"/>
                    </a:lnTo>
                    <a:lnTo>
                      <a:pt x="171" y="14"/>
                    </a:lnTo>
                    <a:lnTo>
                      <a:pt x="183" y="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232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55400" y="4762800"/>
                <a:ext cx="86760" cy="33120"/>
              </a:xfrm>
              <a:custGeom>
                <a:avLst/>
                <a:gdLst/>
                <a:ahLst/>
                <a:rect l="l" t="t" r="r" b="b"/>
                <a:pathLst>
                  <a:path w="431" h="147">
                    <a:moveTo>
                      <a:pt x="196" y="0"/>
                    </a:moveTo>
                    <a:lnTo>
                      <a:pt x="203" y="1"/>
                    </a:lnTo>
                    <a:lnTo>
                      <a:pt x="210" y="1"/>
                    </a:lnTo>
                    <a:lnTo>
                      <a:pt x="219" y="2"/>
                    </a:lnTo>
                    <a:lnTo>
                      <a:pt x="226" y="3"/>
                    </a:lnTo>
                    <a:lnTo>
                      <a:pt x="233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5" y="6"/>
                    </a:lnTo>
                    <a:lnTo>
                      <a:pt x="258" y="11"/>
                    </a:lnTo>
                    <a:lnTo>
                      <a:pt x="260" y="15"/>
                    </a:lnTo>
                    <a:lnTo>
                      <a:pt x="263" y="20"/>
                    </a:lnTo>
                    <a:lnTo>
                      <a:pt x="265" y="25"/>
                    </a:lnTo>
                    <a:lnTo>
                      <a:pt x="275" y="27"/>
                    </a:lnTo>
                    <a:lnTo>
                      <a:pt x="286" y="30"/>
                    </a:lnTo>
                    <a:lnTo>
                      <a:pt x="296" y="33"/>
                    </a:lnTo>
                    <a:lnTo>
                      <a:pt x="306" y="35"/>
                    </a:lnTo>
                    <a:lnTo>
                      <a:pt x="317" y="37"/>
                    </a:lnTo>
                    <a:lnTo>
                      <a:pt x="327" y="40"/>
                    </a:lnTo>
                    <a:lnTo>
                      <a:pt x="338" y="42"/>
                    </a:lnTo>
                    <a:lnTo>
                      <a:pt x="349" y="44"/>
                    </a:lnTo>
                    <a:lnTo>
                      <a:pt x="359" y="47"/>
                    </a:lnTo>
                    <a:lnTo>
                      <a:pt x="369" y="49"/>
                    </a:lnTo>
                    <a:lnTo>
                      <a:pt x="379" y="52"/>
                    </a:lnTo>
                    <a:lnTo>
                      <a:pt x="390" y="54"/>
                    </a:lnTo>
                    <a:lnTo>
                      <a:pt x="400" y="56"/>
                    </a:lnTo>
                    <a:lnTo>
                      <a:pt x="410" y="58"/>
                    </a:lnTo>
                    <a:lnTo>
                      <a:pt x="421" y="61"/>
                    </a:lnTo>
                    <a:lnTo>
                      <a:pt x="431" y="63"/>
                    </a:lnTo>
                    <a:lnTo>
                      <a:pt x="431" y="81"/>
                    </a:lnTo>
                    <a:lnTo>
                      <a:pt x="431" y="98"/>
                    </a:lnTo>
                    <a:lnTo>
                      <a:pt x="431" y="116"/>
                    </a:lnTo>
                    <a:lnTo>
                      <a:pt x="431" y="135"/>
                    </a:lnTo>
                    <a:lnTo>
                      <a:pt x="411" y="134"/>
                    </a:lnTo>
                    <a:lnTo>
                      <a:pt x="391" y="133"/>
                    </a:lnTo>
                    <a:lnTo>
                      <a:pt x="371" y="132"/>
                    </a:lnTo>
                    <a:lnTo>
                      <a:pt x="352" y="131"/>
                    </a:lnTo>
                    <a:lnTo>
                      <a:pt x="332" y="130"/>
                    </a:lnTo>
                    <a:lnTo>
                      <a:pt x="311" y="129"/>
                    </a:lnTo>
                    <a:lnTo>
                      <a:pt x="291" y="127"/>
                    </a:lnTo>
                    <a:lnTo>
                      <a:pt x="271" y="126"/>
                    </a:lnTo>
                    <a:lnTo>
                      <a:pt x="265" y="132"/>
                    </a:lnTo>
                    <a:lnTo>
                      <a:pt x="258" y="137"/>
                    </a:lnTo>
                    <a:lnTo>
                      <a:pt x="252" y="142"/>
                    </a:lnTo>
                    <a:lnTo>
                      <a:pt x="245" y="147"/>
                    </a:lnTo>
                    <a:lnTo>
                      <a:pt x="230" y="145"/>
                    </a:lnTo>
                    <a:lnTo>
                      <a:pt x="214" y="143"/>
                    </a:lnTo>
                    <a:lnTo>
                      <a:pt x="198" y="141"/>
                    </a:lnTo>
                    <a:lnTo>
                      <a:pt x="183" y="139"/>
                    </a:lnTo>
                    <a:lnTo>
                      <a:pt x="168" y="137"/>
                    </a:lnTo>
                    <a:lnTo>
                      <a:pt x="153" y="135"/>
                    </a:lnTo>
                    <a:lnTo>
                      <a:pt x="138" y="133"/>
                    </a:lnTo>
                    <a:lnTo>
                      <a:pt x="123" y="131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6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8" y="58"/>
                    </a:lnTo>
                    <a:lnTo>
                      <a:pt x="111" y="51"/>
                    </a:lnTo>
                    <a:lnTo>
                      <a:pt x="123" y="44"/>
                    </a:lnTo>
                    <a:lnTo>
                      <a:pt x="135" y="37"/>
                    </a:lnTo>
                    <a:lnTo>
                      <a:pt x="147" y="28"/>
                    </a:lnTo>
                    <a:lnTo>
                      <a:pt x="159" y="21"/>
                    </a:lnTo>
                    <a:lnTo>
                      <a:pt x="172" y="14"/>
                    </a:lnTo>
                    <a:lnTo>
                      <a:pt x="184" y="7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26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55400" y="4762800"/>
                <a:ext cx="82440" cy="33120"/>
              </a:xfrm>
              <a:custGeom>
                <a:avLst/>
                <a:gdLst/>
                <a:ahLst/>
                <a:rect l="l" t="t" r="r" b="b"/>
                <a:pathLst>
                  <a:path w="411" h="146">
                    <a:moveTo>
                      <a:pt x="197" y="0"/>
                    </a:moveTo>
                    <a:lnTo>
                      <a:pt x="204" y="1"/>
                    </a:lnTo>
                    <a:lnTo>
                      <a:pt x="211" y="2"/>
                    </a:lnTo>
                    <a:lnTo>
                      <a:pt x="220" y="3"/>
                    </a:lnTo>
                    <a:lnTo>
                      <a:pt x="227" y="3"/>
                    </a:lnTo>
                    <a:lnTo>
                      <a:pt x="234" y="4"/>
                    </a:lnTo>
                    <a:lnTo>
                      <a:pt x="242" y="5"/>
                    </a:lnTo>
                    <a:lnTo>
                      <a:pt x="249" y="6"/>
                    </a:lnTo>
                    <a:lnTo>
                      <a:pt x="256" y="7"/>
                    </a:lnTo>
                    <a:lnTo>
                      <a:pt x="259" y="11"/>
                    </a:lnTo>
                    <a:lnTo>
                      <a:pt x="261" y="16"/>
                    </a:lnTo>
                    <a:lnTo>
                      <a:pt x="264" y="20"/>
                    </a:lnTo>
                    <a:lnTo>
                      <a:pt x="266" y="25"/>
                    </a:lnTo>
                    <a:lnTo>
                      <a:pt x="284" y="29"/>
                    </a:lnTo>
                    <a:lnTo>
                      <a:pt x="302" y="35"/>
                    </a:lnTo>
                    <a:lnTo>
                      <a:pt x="320" y="39"/>
                    </a:lnTo>
                    <a:lnTo>
                      <a:pt x="339" y="43"/>
                    </a:lnTo>
                    <a:lnTo>
                      <a:pt x="357" y="48"/>
                    </a:lnTo>
                    <a:lnTo>
                      <a:pt x="375" y="52"/>
                    </a:lnTo>
                    <a:lnTo>
                      <a:pt x="393" y="57"/>
                    </a:lnTo>
                    <a:lnTo>
                      <a:pt x="411" y="61"/>
                    </a:lnTo>
                    <a:lnTo>
                      <a:pt x="411" y="78"/>
                    </a:lnTo>
                    <a:lnTo>
                      <a:pt x="411" y="95"/>
                    </a:lnTo>
                    <a:lnTo>
                      <a:pt x="411" y="111"/>
                    </a:lnTo>
                    <a:lnTo>
                      <a:pt x="411" y="129"/>
                    </a:lnTo>
                    <a:lnTo>
                      <a:pt x="393" y="129"/>
                    </a:lnTo>
                    <a:lnTo>
                      <a:pt x="376" y="127"/>
                    </a:lnTo>
                    <a:lnTo>
                      <a:pt x="358" y="127"/>
                    </a:lnTo>
                    <a:lnTo>
                      <a:pt x="341" y="126"/>
                    </a:lnTo>
                    <a:lnTo>
                      <a:pt x="322" y="126"/>
                    </a:lnTo>
                    <a:lnTo>
                      <a:pt x="304" y="126"/>
                    </a:lnTo>
                    <a:lnTo>
                      <a:pt x="287" y="125"/>
                    </a:lnTo>
                    <a:lnTo>
                      <a:pt x="269" y="125"/>
                    </a:lnTo>
                    <a:lnTo>
                      <a:pt x="263" y="131"/>
                    </a:lnTo>
                    <a:lnTo>
                      <a:pt x="258" y="136"/>
                    </a:lnTo>
                    <a:lnTo>
                      <a:pt x="252" y="141"/>
                    </a:lnTo>
                    <a:lnTo>
                      <a:pt x="246" y="146"/>
                    </a:lnTo>
                    <a:lnTo>
                      <a:pt x="231" y="144"/>
                    </a:lnTo>
                    <a:lnTo>
                      <a:pt x="215" y="142"/>
                    </a:lnTo>
                    <a:lnTo>
                      <a:pt x="199" y="140"/>
                    </a:lnTo>
                    <a:lnTo>
                      <a:pt x="184" y="138"/>
                    </a:lnTo>
                    <a:lnTo>
                      <a:pt x="169" y="137"/>
                    </a:lnTo>
                    <a:lnTo>
                      <a:pt x="154" y="135"/>
                    </a:lnTo>
                    <a:lnTo>
                      <a:pt x="139" y="133"/>
                    </a:lnTo>
                    <a:lnTo>
                      <a:pt x="123" y="131"/>
                    </a:lnTo>
                    <a:lnTo>
                      <a:pt x="108" y="129"/>
                    </a:lnTo>
                    <a:lnTo>
                      <a:pt x="92" y="126"/>
                    </a:lnTo>
                    <a:lnTo>
                      <a:pt x="77" y="124"/>
                    </a:lnTo>
                    <a:lnTo>
                      <a:pt x="61" y="122"/>
                    </a:lnTo>
                    <a:lnTo>
                      <a:pt x="46" y="121"/>
                    </a:lnTo>
                    <a:lnTo>
                      <a:pt x="31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8" y="58"/>
                    </a:lnTo>
                    <a:lnTo>
                      <a:pt x="111" y="51"/>
                    </a:lnTo>
                    <a:lnTo>
                      <a:pt x="123" y="44"/>
                    </a:lnTo>
                    <a:lnTo>
                      <a:pt x="135" y="37"/>
                    </a:lnTo>
                    <a:lnTo>
                      <a:pt x="148" y="28"/>
                    </a:lnTo>
                    <a:lnTo>
                      <a:pt x="160" y="21"/>
                    </a:lnTo>
                    <a:lnTo>
                      <a:pt x="172" y="14"/>
                    </a:lnTo>
                    <a:lnTo>
                      <a:pt x="185" y="7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283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355400" y="4762800"/>
                <a:ext cx="78120" cy="33120"/>
              </a:xfrm>
              <a:custGeom>
                <a:avLst/>
                <a:gdLst/>
                <a:ahLst/>
                <a:rect l="l" t="t" r="r" b="b"/>
                <a:pathLst>
                  <a:path w="391" h="145">
                    <a:moveTo>
                      <a:pt x="198" y="0"/>
                    </a:moveTo>
                    <a:lnTo>
                      <a:pt x="205" y="1"/>
                    </a:lnTo>
                    <a:lnTo>
                      <a:pt x="212" y="2"/>
                    </a:lnTo>
                    <a:lnTo>
                      <a:pt x="221" y="3"/>
                    </a:lnTo>
                    <a:lnTo>
                      <a:pt x="228" y="4"/>
                    </a:lnTo>
                    <a:lnTo>
                      <a:pt x="235" y="5"/>
                    </a:lnTo>
                    <a:lnTo>
                      <a:pt x="243" y="5"/>
                    </a:lnTo>
                    <a:lnTo>
                      <a:pt x="250" y="6"/>
                    </a:lnTo>
                    <a:lnTo>
                      <a:pt x="257" y="7"/>
                    </a:lnTo>
                    <a:lnTo>
                      <a:pt x="260" y="11"/>
                    </a:lnTo>
                    <a:lnTo>
                      <a:pt x="262" y="16"/>
                    </a:lnTo>
                    <a:lnTo>
                      <a:pt x="265" y="20"/>
                    </a:lnTo>
                    <a:lnTo>
                      <a:pt x="267" y="25"/>
                    </a:lnTo>
                    <a:lnTo>
                      <a:pt x="282" y="29"/>
                    </a:lnTo>
                    <a:lnTo>
                      <a:pt x="298" y="34"/>
                    </a:lnTo>
                    <a:lnTo>
                      <a:pt x="313" y="38"/>
                    </a:lnTo>
                    <a:lnTo>
                      <a:pt x="329" y="42"/>
                    </a:lnTo>
                    <a:lnTo>
                      <a:pt x="345" y="47"/>
                    </a:lnTo>
                    <a:lnTo>
                      <a:pt x="360" y="51"/>
                    </a:lnTo>
                    <a:lnTo>
                      <a:pt x="376" y="55"/>
                    </a:lnTo>
                    <a:lnTo>
                      <a:pt x="391" y="59"/>
                    </a:lnTo>
                    <a:lnTo>
                      <a:pt x="391" y="75"/>
                    </a:lnTo>
                    <a:lnTo>
                      <a:pt x="391" y="91"/>
                    </a:lnTo>
                    <a:lnTo>
                      <a:pt x="391" y="107"/>
                    </a:lnTo>
                    <a:lnTo>
                      <a:pt x="391" y="123"/>
                    </a:lnTo>
                    <a:lnTo>
                      <a:pt x="376" y="123"/>
                    </a:lnTo>
                    <a:lnTo>
                      <a:pt x="360" y="123"/>
                    </a:lnTo>
                    <a:lnTo>
                      <a:pt x="345" y="123"/>
                    </a:lnTo>
                    <a:lnTo>
                      <a:pt x="328" y="123"/>
                    </a:lnTo>
                    <a:lnTo>
                      <a:pt x="313" y="124"/>
                    </a:lnTo>
                    <a:lnTo>
                      <a:pt x="297" y="124"/>
                    </a:lnTo>
                    <a:lnTo>
                      <a:pt x="282" y="124"/>
                    </a:lnTo>
                    <a:lnTo>
                      <a:pt x="266" y="124"/>
                    </a:lnTo>
                    <a:lnTo>
                      <a:pt x="261" y="130"/>
                    </a:lnTo>
                    <a:lnTo>
                      <a:pt x="257" y="135"/>
                    </a:lnTo>
                    <a:lnTo>
                      <a:pt x="252" y="140"/>
                    </a:lnTo>
                    <a:lnTo>
                      <a:pt x="247" y="145"/>
                    </a:lnTo>
                    <a:lnTo>
                      <a:pt x="232" y="143"/>
                    </a:lnTo>
                    <a:lnTo>
                      <a:pt x="216" y="141"/>
                    </a:lnTo>
                    <a:lnTo>
                      <a:pt x="200" y="139"/>
                    </a:lnTo>
                    <a:lnTo>
                      <a:pt x="185" y="138"/>
                    </a:lnTo>
                    <a:lnTo>
                      <a:pt x="170" y="136"/>
                    </a:lnTo>
                    <a:lnTo>
                      <a:pt x="155" y="134"/>
                    </a:lnTo>
                    <a:lnTo>
                      <a:pt x="139" y="132"/>
                    </a:lnTo>
                    <a:lnTo>
                      <a:pt x="124" y="130"/>
                    </a:lnTo>
                    <a:lnTo>
                      <a:pt x="109" y="127"/>
                    </a:lnTo>
                    <a:lnTo>
                      <a:pt x="92" y="125"/>
                    </a:lnTo>
                    <a:lnTo>
                      <a:pt x="77" y="124"/>
                    </a:lnTo>
                    <a:lnTo>
                      <a:pt x="61" y="122"/>
                    </a:lnTo>
                    <a:lnTo>
                      <a:pt x="46" y="120"/>
                    </a:lnTo>
                    <a:lnTo>
                      <a:pt x="31" y="118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6" y="65"/>
                    </a:lnTo>
                    <a:lnTo>
                      <a:pt x="99" y="58"/>
                    </a:lnTo>
                    <a:lnTo>
                      <a:pt x="112" y="51"/>
                    </a:lnTo>
                    <a:lnTo>
                      <a:pt x="124" y="44"/>
                    </a:lnTo>
                    <a:lnTo>
                      <a:pt x="136" y="37"/>
                    </a:lnTo>
                    <a:lnTo>
                      <a:pt x="149" y="28"/>
                    </a:lnTo>
                    <a:lnTo>
                      <a:pt x="161" y="21"/>
                    </a:lnTo>
                    <a:lnTo>
                      <a:pt x="173" y="14"/>
                    </a:lnTo>
                    <a:lnTo>
                      <a:pt x="186" y="7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2b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54320" y="4762800"/>
                <a:ext cx="74880" cy="33120"/>
              </a:xfrm>
              <a:custGeom>
                <a:avLst/>
                <a:gdLst/>
                <a:ahLst/>
                <a:rect l="l" t="t" r="r" b="b"/>
                <a:pathLst>
                  <a:path w="371" h="144">
                    <a:moveTo>
                      <a:pt x="199" y="0"/>
                    </a:moveTo>
                    <a:lnTo>
                      <a:pt x="206" y="1"/>
                    </a:lnTo>
                    <a:lnTo>
                      <a:pt x="213" y="2"/>
                    </a:lnTo>
                    <a:lnTo>
                      <a:pt x="222" y="3"/>
                    </a:lnTo>
                    <a:lnTo>
                      <a:pt x="229" y="4"/>
                    </a:lnTo>
                    <a:lnTo>
                      <a:pt x="236" y="5"/>
                    </a:lnTo>
                    <a:lnTo>
                      <a:pt x="244" y="6"/>
                    </a:lnTo>
                    <a:lnTo>
                      <a:pt x="251" y="7"/>
                    </a:lnTo>
                    <a:lnTo>
                      <a:pt x="258" y="8"/>
                    </a:lnTo>
                    <a:lnTo>
                      <a:pt x="261" y="12"/>
                    </a:lnTo>
                    <a:lnTo>
                      <a:pt x="263" y="16"/>
                    </a:lnTo>
                    <a:lnTo>
                      <a:pt x="266" y="21"/>
                    </a:lnTo>
                    <a:lnTo>
                      <a:pt x="268" y="25"/>
                    </a:lnTo>
                    <a:lnTo>
                      <a:pt x="281" y="29"/>
                    </a:lnTo>
                    <a:lnTo>
                      <a:pt x="294" y="34"/>
                    </a:lnTo>
                    <a:lnTo>
                      <a:pt x="306" y="38"/>
                    </a:lnTo>
                    <a:lnTo>
                      <a:pt x="319" y="41"/>
                    </a:lnTo>
                    <a:lnTo>
                      <a:pt x="332" y="45"/>
                    </a:lnTo>
                    <a:lnTo>
                      <a:pt x="346" y="49"/>
                    </a:lnTo>
                    <a:lnTo>
                      <a:pt x="358" y="53"/>
                    </a:lnTo>
                    <a:lnTo>
                      <a:pt x="371" y="57"/>
                    </a:lnTo>
                    <a:lnTo>
                      <a:pt x="371" y="72"/>
                    </a:lnTo>
                    <a:lnTo>
                      <a:pt x="371" y="87"/>
                    </a:lnTo>
                    <a:lnTo>
                      <a:pt x="371" y="102"/>
                    </a:lnTo>
                    <a:lnTo>
                      <a:pt x="371" y="117"/>
                    </a:lnTo>
                    <a:lnTo>
                      <a:pt x="358" y="118"/>
                    </a:lnTo>
                    <a:lnTo>
                      <a:pt x="345" y="118"/>
                    </a:lnTo>
                    <a:lnTo>
                      <a:pt x="330" y="119"/>
                    </a:lnTo>
                    <a:lnTo>
                      <a:pt x="317" y="120"/>
                    </a:lnTo>
                    <a:lnTo>
                      <a:pt x="304" y="121"/>
                    </a:lnTo>
                    <a:lnTo>
                      <a:pt x="290" y="121"/>
                    </a:lnTo>
                    <a:lnTo>
                      <a:pt x="277" y="122"/>
                    </a:lnTo>
                    <a:lnTo>
                      <a:pt x="264" y="123"/>
                    </a:lnTo>
                    <a:lnTo>
                      <a:pt x="260" y="129"/>
                    </a:lnTo>
                    <a:lnTo>
                      <a:pt x="256" y="134"/>
                    </a:lnTo>
                    <a:lnTo>
                      <a:pt x="252" y="139"/>
                    </a:lnTo>
                    <a:lnTo>
                      <a:pt x="248" y="144"/>
                    </a:lnTo>
                    <a:lnTo>
                      <a:pt x="233" y="142"/>
                    </a:lnTo>
                    <a:lnTo>
                      <a:pt x="216" y="140"/>
                    </a:lnTo>
                    <a:lnTo>
                      <a:pt x="201" y="138"/>
                    </a:lnTo>
                    <a:lnTo>
                      <a:pt x="186" y="137"/>
                    </a:lnTo>
                    <a:lnTo>
                      <a:pt x="170" y="135"/>
                    </a:lnTo>
                    <a:lnTo>
                      <a:pt x="155" y="133"/>
                    </a:lnTo>
                    <a:lnTo>
                      <a:pt x="139" y="131"/>
                    </a:lnTo>
                    <a:lnTo>
                      <a:pt x="124" y="130"/>
                    </a:lnTo>
                    <a:lnTo>
                      <a:pt x="108" y="127"/>
                    </a:lnTo>
                    <a:lnTo>
                      <a:pt x="92" y="125"/>
                    </a:lnTo>
                    <a:lnTo>
                      <a:pt x="77" y="123"/>
                    </a:lnTo>
                    <a:lnTo>
                      <a:pt x="62" y="122"/>
                    </a:lnTo>
                    <a:lnTo>
                      <a:pt x="46" y="120"/>
                    </a:lnTo>
                    <a:lnTo>
                      <a:pt x="31" y="118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50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2" y="51"/>
                    </a:lnTo>
                    <a:lnTo>
                      <a:pt x="125" y="44"/>
                    </a:lnTo>
                    <a:lnTo>
                      <a:pt x="137" y="37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4" y="14"/>
                    </a:lnTo>
                    <a:lnTo>
                      <a:pt x="187" y="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33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54320" y="476280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351" h="143">
                    <a:moveTo>
                      <a:pt x="200" y="0"/>
                    </a:moveTo>
                    <a:lnTo>
                      <a:pt x="207" y="1"/>
                    </a:lnTo>
                    <a:lnTo>
                      <a:pt x="214" y="2"/>
                    </a:lnTo>
                    <a:lnTo>
                      <a:pt x="223" y="3"/>
                    </a:lnTo>
                    <a:lnTo>
                      <a:pt x="230" y="4"/>
                    </a:lnTo>
                    <a:lnTo>
                      <a:pt x="237" y="6"/>
                    </a:lnTo>
                    <a:lnTo>
                      <a:pt x="245" y="7"/>
                    </a:lnTo>
                    <a:lnTo>
                      <a:pt x="252" y="8"/>
                    </a:lnTo>
                    <a:lnTo>
                      <a:pt x="259" y="9"/>
                    </a:lnTo>
                    <a:lnTo>
                      <a:pt x="262" y="13"/>
                    </a:lnTo>
                    <a:lnTo>
                      <a:pt x="264" y="17"/>
                    </a:lnTo>
                    <a:lnTo>
                      <a:pt x="267" y="21"/>
                    </a:lnTo>
                    <a:lnTo>
                      <a:pt x="269" y="25"/>
                    </a:lnTo>
                    <a:lnTo>
                      <a:pt x="279" y="29"/>
                    </a:lnTo>
                    <a:lnTo>
                      <a:pt x="289" y="33"/>
                    </a:lnTo>
                    <a:lnTo>
                      <a:pt x="299" y="37"/>
                    </a:lnTo>
                    <a:lnTo>
                      <a:pt x="310" y="40"/>
                    </a:lnTo>
                    <a:lnTo>
                      <a:pt x="320" y="44"/>
                    </a:lnTo>
                    <a:lnTo>
                      <a:pt x="330" y="48"/>
                    </a:lnTo>
                    <a:lnTo>
                      <a:pt x="341" y="51"/>
                    </a:lnTo>
                    <a:lnTo>
                      <a:pt x="351" y="55"/>
                    </a:lnTo>
                    <a:lnTo>
                      <a:pt x="351" y="69"/>
                    </a:lnTo>
                    <a:lnTo>
                      <a:pt x="351" y="83"/>
                    </a:lnTo>
                    <a:lnTo>
                      <a:pt x="351" y="97"/>
                    </a:lnTo>
                    <a:lnTo>
                      <a:pt x="351" y="111"/>
                    </a:lnTo>
                    <a:lnTo>
                      <a:pt x="340" y="112"/>
                    </a:lnTo>
                    <a:lnTo>
                      <a:pt x="328" y="114"/>
                    </a:lnTo>
                    <a:lnTo>
                      <a:pt x="317" y="115"/>
                    </a:lnTo>
                    <a:lnTo>
                      <a:pt x="306" y="116"/>
                    </a:lnTo>
                    <a:lnTo>
                      <a:pt x="295" y="118"/>
                    </a:lnTo>
                    <a:lnTo>
                      <a:pt x="283" y="119"/>
                    </a:lnTo>
                    <a:lnTo>
                      <a:pt x="272" y="121"/>
                    </a:lnTo>
                    <a:lnTo>
                      <a:pt x="261" y="122"/>
                    </a:lnTo>
                    <a:lnTo>
                      <a:pt x="258" y="127"/>
                    </a:lnTo>
                    <a:lnTo>
                      <a:pt x="255" y="133"/>
                    </a:lnTo>
                    <a:lnTo>
                      <a:pt x="252" y="138"/>
                    </a:lnTo>
                    <a:lnTo>
                      <a:pt x="249" y="143"/>
                    </a:lnTo>
                    <a:lnTo>
                      <a:pt x="234" y="141"/>
                    </a:lnTo>
                    <a:lnTo>
                      <a:pt x="217" y="140"/>
                    </a:lnTo>
                    <a:lnTo>
                      <a:pt x="202" y="138"/>
                    </a:lnTo>
                    <a:lnTo>
                      <a:pt x="186" y="136"/>
                    </a:lnTo>
                    <a:lnTo>
                      <a:pt x="171" y="135"/>
                    </a:lnTo>
                    <a:lnTo>
                      <a:pt x="156" y="133"/>
                    </a:lnTo>
                    <a:lnTo>
                      <a:pt x="140" y="131"/>
                    </a:lnTo>
                    <a:lnTo>
                      <a:pt x="125" y="129"/>
                    </a:lnTo>
                    <a:lnTo>
                      <a:pt x="108" y="127"/>
                    </a:lnTo>
                    <a:lnTo>
                      <a:pt x="93" y="125"/>
                    </a:lnTo>
                    <a:lnTo>
                      <a:pt x="78" y="123"/>
                    </a:lnTo>
                    <a:lnTo>
                      <a:pt x="62" y="122"/>
                    </a:lnTo>
                    <a:lnTo>
                      <a:pt x="47" y="120"/>
                    </a:lnTo>
                    <a:lnTo>
                      <a:pt x="31" y="118"/>
                    </a:lnTo>
                    <a:lnTo>
                      <a:pt x="16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50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3" y="51"/>
                    </a:lnTo>
                    <a:lnTo>
                      <a:pt x="125" y="44"/>
                    </a:lnTo>
                    <a:lnTo>
                      <a:pt x="137" y="37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5" y="14"/>
                    </a:lnTo>
                    <a:lnTo>
                      <a:pt x="187" y="7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353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54320" y="476280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330" h="142">
                    <a:moveTo>
                      <a:pt x="201" y="0"/>
                    </a:moveTo>
                    <a:lnTo>
                      <a:pt x="208" y="1"/>
                    </a:lnTo>
                    <a:lnTo>
                      <a:pt x="215" y="2"/>
                    </a:lnTo>
                    <a:lnTo>
                      <a:pt x="224" y="3"/>
                    </a:lnTo>
                    <a:lnTo>
                      <a:pt x="231" y="4"/>
                    </a:lnTo>
                    <a:lnTo>
                      <a:pt x="238" y="6"/>
                    </a:lnTo>
                    <a:lnTo>
                      <a:pt x="246" y="7"/>
                    </a:lnTo>
                    <a:lnTo>
                      <a:pt x="253" y="8"/>
                    </a:lnTo>
                    <a:lnTo>
                      <a:pt x="260" y="9"/>
                    </a:lnTo>
                    <a:lnTo>
                      <a:pt x="263" y="13"/>
                    </a:lnTo>
                    <a:lnTo>
                      <a:pt x="265" y="17"/>
                    </a:lnTo>
                    <a:lnTo>
                      <a:pt x="268" y="21"/>
                    </a:lnTo>
                    <a:lnTo>
                      <a:pt x="270" y="25"/>
                    </a:lnTo>
                    <a:lnTo>
                      <a:pt x="278" y="28"/>
                    </a:lnTo>
                    <a:lnTo>
                      <a:pt x="285" y="33"/>
                    </a:lnTo>
                    <a:lnTo>
                      <a:pt x="293" y="36"/>
                    </a:lnTo>
                    <a:lnTo>
                      <a:pt x="300" y="39"/>
                    </a:lnTo>
                    <a:lnTo>
                      <a:pt x="308" y="43"/>
                    </a:lnTo>
                    <a:lnTo>
                      <a:pt x="315" y="46"/>
                    </a:lnTo>
                    <a:lnTo>
                      <a:pt x="323" y="50"/>
                    </a:lnTo>
                    <a:lnTo>
                      <a:pt x="330" y="53"/>
                    </a:lnTo>
                    <a:lnTo>
                      <a:pt x="330" y="66"/>
                    </a:lnTo>
                    <a:lnTo>
                      <a:pt x="330" y="79"/>
                    </a:lnTo>
                    <a:lnTo>
                      <a:pt x="330" y="93"/>
                    </a:lnTo>
                    <a:lnTo>
                      <a:pt x="330" y="106"/>
                    </a:lnTo>
                    <a:lnTo>
                      <a:pt x="321" y="108"/>
                    </a:lnTo>
                    <a:lnTo>
                      <a:pt x="312" y="110"/>
                    </a:lnTo>
                    <a:lnTo>
                      <a:pt x="303" y="112"/>
                    </a:lnTo>
                    <a:lnTo>
                      <a:pt x="295" y="113"/>
                    </a:lnTo>
                    <a:lnTo>
                      <a:pt x="286" y="115"/>
                    </a:lnTo>
                    <a:lnTo>
                      <a:pt x="277" y="117"/>
                    </a:lnTo>
                    <a:lnTo>
                      <a:pt x="268" y="119"/>
                    </a:lnTo>
                    <a:lnTo>
                      <a:pt x="259" y="121"/>
                    </a:lnTo>
                    <a:lnTo>
                      <a:pt x="257" y="126"/>
                    </a:lnTo>
                    <a:lnTo>
                      <a:pt x="255" y="132"/>
                    </a:lnTo>
                    <a:lnTo>
                      <a:pt x="252" y="137"/>
                    </a:lnTo>
                    <a:lnTo>
                      <a:pt x="250" y="142"/>
                    </a:lnTo>
                    <a:lnTo>
                      <a:pt x="235" y="140"/>
                    </a:lnTo>
                    <a:lnTo>
                      <a:pt x="218" y="139"/>
                    </a:lnTo>
                    <a:lnTo>
                      <a:pt x="203" y="137"/>
                    </a:lnTo>
                    <a:lnTo>
                      <a:pt x="187" y="135"/>
                    </a:lnTo>
                    <a:lnTo>
                      <a:pt x="172" y="134"/>
                    </a:lnTo>
                    <a:lnTo>
                      <a:pt x="156" y="132"/>
                    </a:lnTo>
                    <a:lnTo>
                      <a:pt x="141" y="130"/>
                    </a:lnTo>
                    <a:lnTo>
                      <a:pt x="125" y="129"/>
                    </a:lnTo>
                    <a:lnTo>
                      <a:pt x="109" y="126"/>
                    </a:lnTo>
                    <a:lnTo>
                      <a:pt x="93" y="124"/>
                    </a:lnTo>
                    <a:lnTo>
                      <a:pt x="78" y="123"/>
                    </a:lnTo>
                    <a:lnTo>
                      <a:pt x="62" y="121"/>
                    </a:lnTo>
                    <a:lnTo>
                      <a:pt x="47" y="120"/>
                    </a:lnTo>
                    <a:lnTo>
                      <a:pt x="31" y="118"/>
                    </a:lnTo>
                    <a:lnTo>
                      <a:pt x="16" y="117"/>
                    </a:lnTo>
                    <a:lnTo>
                      <a:pt x="0" y="115"/>
                    </a:lnTo>
                    <a:lnTo>
                      <a:pt x="13" y="108"/>
                    </a:lnTo>
                    <a:lnTo>
                      <a:pt x="25" y="101"/>
                    </a:lnTo>
                    <a:lnTo>
                      <a:pt x="38" y="94"/>
                    </a:lnTo>
                    <a:lnTo>
                      <a:pt x="50" y="86"/>
                    </a:lnTo>
                    <a:lnTo>
                      <a:pt x="63" y="79"/>
                    </a:lnTo>
                    <a:lnTo>
                      <a:pt x="75" y="72"/>
                    </a:lnTo>
                    <a:lnTo>
                      <a:pt x="88" y="65"/>
                    </a:lnTo>
                    <a:lnTo>
                      <a:pt x="100" y="58"/>
                    </a:lnTo>
                    <a:lnTo>
                      <a:pt x="113" y="51"/>
                    </a:lnTo>
                    <a:lnTo>
                      <a:pt x="126" y="44"/>
                    </a:lnTo>
                    <a:lnTo>
                      <a:pt x="138" y="37"/>
                    </a:lnTo>
                    <a:lnTo>
                      <a:pt x="151" y="28"/>
                    </a:lnTo>
                    <a:lnTo>
                      <a:pt x="163" y="21"/>
                    </a:lnTo>
                    <a:lnTo>
                      <a:pt x="176" y="14"/>
                    </a:lnTo>
                    <a:lnTo>
                      <a:pt x="188" y="7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384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54320" y="4762800"/>
                <a:ext cx="62280" cy="31680"/>
              </a:xfrm>
              <a:custGeom>
                <a:avLst/>
                <a:gdLst/>
                <a:ahLst/>
                <a:rect l="l" t="t" r="r" b="b"/>
                <a:pathLst>
                  <a:path w="311" h="141">
                    <a:moveTo>
                      <a:pt x="203" y="0"/>
                    </a:moveTo>
                    <a:lnTo>
                      <a:pt x="262" y="10"/>
                    </a:lnTo>
                    <a:lnTo>
                      <a:pt x="272" y="25"/>
                    </a:lnTo>
                    <a:lnTo>
                      <a:pt x="311" y="51"/>
                    </a:lnTo>
                    <a:lnTo>
                      <a:pt x="311" y="100"/>
                    </a:lnTo>
                    <a:lnTo>
                      <a:pt x="257" y="120"/>
                    </a:lnTo>
                    <a:lnTo>
                      <a:pt x="252" y="141"/>
                    </a:lnTo>
                    <a:lnTo>
                      <a:pt x="0" y="115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32440" y="4737240"/>
                <a:ext cx="65160" cy="111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31" y="0"/>
                    </a:moveTo>
                    <a:lnTo>
                      <a:pt x="322" y="32"/>
                    </a:lnTo>
                    <a:lnTo>
                      <a:pt x="296" y="48"/>
                    </a:lnTo>
                    <a:lnTo>
                      <a:pt x="0" y="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12280" y="473724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138" h="61">
                    <a:moveTo>
                      <a:pt x="0" y="61"/>
                    </a:moveTo>
                    <a:lnTo>
                      <a:pt x="33" y="61"/>
                    </a:lnTo>
                    <a:lnTo>
                      <a:pt x="138" y="14"/>
                    </a:lnTo>
                    <a:lnTo>
                      <a:pt x="1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33880" y="4795920"/>
                <a:ext cx="170640" cy="33480"/>
              </a:xfrm>
              <a:custGeom>
                <a:avLst/>
                <a:gdLst/>
                <a:ahLst/>
                <a:rect l="l" t="t" r="r" b="b"/>
                <a:pathLst>
                  <a:path w="844" h="149">
                    <a:moveTo>
                      <a:pt x="758" y="149"/>
                    </a:moveTo>
                    <a:lnTo>
                      <a:pt x="844" y="96"/>
                    </a:lnTo>
                    <a:lnTo>
                      <a:pt x="696" y="86"/>
                    </a:lnTo>
                    <a:lnTo>
                      <a:pt x="448" y="57"/>
                    </a:lnTo>
                    <a:lnTo>
                      <a:pt x="289" y="28"/>
                    </a:lnTo>
                    <a:lnTo>
                      <a:pt x="0" y="0"/>
                    </a:lnTo>
                    <a:lnTo>
                      <a:pt x="366" y="52"/>
                    </a:lnTo>
                    <a:lnTo>
                      <a:pt x="366" y="84"/>
                    </a:lnTo>
                    <a:lnTo>
                      <a:pt x="758" y="149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22880" y="477072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250" h="137">
                    <a:moveTo>
                      <a:pt x="164" y="0"/>
                    </a:moveTo>
                    <a:lnTo>
                      <a:pt x="250" y="12"/>
                    </a:lnTo>
                    <a:lnTo>
                      <a:pt x="38" y="137"/>
                    </a:lnTo>
                    <a:lnTo>
                      <a:pt x="0" y="127"/>
                    </a:lnTo>
                    <a:lnTo>
                      <a:pt x="0" y="99"/>
                    </a:lnTo>
                    <a:lnTo>
                      <a:pt x="48" y="39"/>
                    </a:lnTo>
                    <a:lnTo>
                      <a:pt x="100" y="39"/>
                    </a:lnTo>
                    <a:lnTo>
                      <a:pt x="148" y="35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74640" y="4714920"/>
                <a:ext cx="89640" cy="76320"/>
              </a:xfrm>
              <a:custGeom>
                <a:avLst/>
                <a:gdLst/>
                <a:ahLst/>
                <a:rect l="l" t="t" r="r" b="b"/>
                <a:pathLst>
                  <a:path w="437" h="331">
                    <a:moveTo>
                      <a:pt x="0" y="249"/>
                    </a:moveTo>
                    <a:lnTo>
                      <a:pt x="434" y="0"/>
                    </a:lnTo>
                    <a:lnTo>
                      <a:pt x="437" y="67"/>
                    </a:lnTo>
                    <a:lnTo>
                      <a:pt x="1" y="331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80400" y="471492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410" h="315">
                    <a:moveTo>
                      <a:pt x="0" y="233"/>
                    </a:moveTo>
                    <a:lnTo>
                      <a:pt x="26" y="219"/>
                    </a:lnTo>
                    <a:lnTo>
                      <a:pt x="52" y="204"/>
                    </a:lnTo>
                    <a:lnTo>
                      <a:pt x="77" y="190"/>
                    </a:lnTo>
                    <a:lnTo>
                      <a:pt x="102" y="175"/>
                    </a:lnTo>
                    <a:lnTo>
                      <a:pt x="129" y="161"/>
                    </a:lnTo>
                    <a:lnTo>
                      <a:pt x="154" y="146"/>
                    </a:lnTo>
                    <a:lnTo>
                      <a:pt x="179" y="131"/>
                    </a:lnTo>
                    <a:lnTo>
                      <a:pt x="204" y="116"/>
                    </a:lnTo>
                    <a:lnTo>
                      <a:pt x="230" y="102"/>
                    </a:lnTo>
                    <a:lnTo>
                      <a:pt x="256" y="88"/>
                    </a:lnTo>
                    <a:lnTo>
                      <a:pt x="281" y="73"/>
                    </a:lnTo>
                    <a:lnTo>
                      <a:pt x="306" y="59"/>
                    </a:lnTo>
                    <a:lnTo>
                      <a:pt x="332" y="43"/>
                    </a:lnTo>
                    <a:lnTo>
                      <a:pt x="358" y="29"/>
                    </a:lnTo>
                    <a:lnTo>
                      <a:pt x="383" y="14"/>
                    </a:lnTo>
                    <a:lnTo>
                      <a:pt x="408" y="0"/>
                    </a:lnTo>
                    <a:lnTo>
                      <a:pt x="409" y="16"/>
                    </a:lnTo>
                    <a:lnTo>
                      <a:pt x="409" y="33"/>
                    </a:lnTo>
                    <a:lnTo>
                      <a:pt x="410" y="50"/>
                    </a:lnTo>
                    <a:lnTo>
                      <a:pt x="410" y="67"/>
                    </a:lnTo>
                    <a:lnTo>
                      <a:pt x="385" y="82"/>
                    </a:lnTo>
                    <a:lnTo>
                      <a:pt x="360" y="98"/>
                    </a:lnTo>
                    <a:lnTo>
                      <a:pt x="334" y="113"/>
                    </a:lnTo>
                    <a:lnTo>
                      <a:pt x="309" y="128"/>
                    </a:lnTo>
                    <a:lnTo>
                      <a:pt x="284" y="145"/>
                    </a:lnTo>
                    <a:lnTo>
                      <a:pt x="258" y="160"/>
                    </a:lnTo>
                    <a:lnTo>
                      <a:pt x="233" y="176"/>
                    </a:lnTo>
                    <a:lnTo>
                      <a:pt x="207" y="191"/>
                    </a:lnTo>
                    <a:lnTo>
                      <a:pt x="181" y="206"/>
                    </a:lnTo>
                    <a:lnTo>
                      <a:pt x="156" y="222"/>
                    </a:lnTo>
                    <a:lnTo>
                      <a:pt x="130" y="237"/>
                    </a:lnTo>
                    <a:lnTo>
                      <a:pt x="104" y="253"/>
                    </a:lnTo>
                    <a:lnTo>
                      <a:pt x="78" y="269"/>
                    </a:lnTo>
                    <a:lnTo>
                      <a:pt x="53" y="284"/>
                    </a:lnTo>
                    <a:lnTo>
                      <a:pt x="27" y="300"/>
                    </a:lnTo>
                    <a:lnTo>
                      <a:pt x="1" y="315"/>
                    </a:lnTo>
                    <a:lnTo>
                      <a:pt x="0" y="295"/>
                    </a:lnTo>
                    <a:lnTo>
                      <a:pt x="0" y="274"/>
                    </a:lnTo>
                    <a:lnTo>
                      <a:pt x="0" y="254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85800" y="471492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84" h="299">
                    <a:moveTo>
                      <a:pt x="0" y="218"/>
                    </a:moveTo>
                    <a:lnTo>
                      <a:pt x="24" y="204"/>
                    </a:lnTo>
                    <a:lnTo>
                      <a:pt x="48" y="191"/>
                    </a:lnTo>
                    <a:lnTo>
                      <a:pt x="71" y="177"/>
                    </a:lnTo>
                    <a:lnTo>
                      <a:pt x="96" y="164"/>
                    </a:lnTo>
                    <a:lnTo>
                      <a:pt x="120" y="150"/>
                    </a:lnTo>
                    <a:lnTo>
                      <a:pt x="143" y="136"/>
                    </a:lnTo>
                    <a:lnTo>
                      <a:pt x="167" y="122"/>
                    </a:lnTo>
                    <a:lnTo>
                      <a:pt x="191" y="109"/>
                    </a:lnTo>
                    <a:lnTo>
                      <a:pt x="215" y="95"/>
                    </a:lnTo>
                    <a:lnTo>
                      <a:pt x="239" y="82"/>
                    </a:lnTo>
                    <a:lnTo>
                      <a:pt x="263" y="68"/>
                    </a:lnTo>
                    <a:lnTo>
                      <a:pt x="286" y="55"/>
                    </a:lnTo>
                    <a:lnTo>
                      <a:pt x="310" y="40"/>
                    </a:lnTo>
                    <a:lnTo>
                      <a:pt x="334" y="27"/>
                    </a:lnTo>
                    <a:lnTo>
                      <a:pt x="358" y="13"/>
                    </a:lnTo>
                    <a:lnTo>
                      <a:pt x="381" y="0"/>
                    </a:lnTo>
                    <a:lnTo>
                      <a:pt x="382" y="16"/>
                    </a:lnTo>
                    <a:lnTo>
                      <a:pt x="383" y="33"/>
                    </a:lnTo>
                    <a:lnTo>
                      <a:pt x="383" y="50"/>
                    </a:lnTo>
                    <a:lnTo>
                      <a:pt x="384" y="67"/>
                    </a:lnTo>
                    <a:lnTo>
                      <a:pt x="361" y="81"/>
                    </a:lnTo>
                    <a:lnTo>
                      <a:pt x="337" y="96"/>
                    </a:lnTo>
                    <a:lnTo>
                      <a:pt x="312" y="110"/>
                    </a:lnTo>
                    <a:lnTo>
                      <a:pt x="289" y="125"/>
                    </a:lnTo>
                    <a:lnTo>
                      <a:pt x="265" y="139"/>
                    </a:lnTo>
                    <a:lnTo>
                      <a:pt x="241" y="155"/>
                    </a:lnTo>
                    <a:lnTo>
                      <a:pt x="218" y="169"/>
                    </a:lnTo>
                    <a:lnTo>
                      <a:pt x="193" y="183"/>
                    </a:lnTo>
                    <a:lnTo>
                      <a:pt x="169" y="198"/>
                    </a:lnTo>
                    <a:lnTo>
                      <a:pt x="145" y="212"/>
                    </a:lnTo>
                    <a:lnTo>
                      <a:pt x="121" y="226"/>
                    </a:lnTo>
                    <a:lnTo>
                      <a:pt x="97" y="242"/>
                    </a:lnTo>
                    <a:lnTo>
                      <a:pt x="73" y="256"/>
                    </a:lnTo>
                    <a:lnTo>
                      <a:pt x="49" y="270"/>
                    </a:lnTo>
                    <a:lnTo>
                      <a:pt x="25" y="285"/>
                    </a:lnTo>
                    <a:lnTo>
                      <a:pt x="1" y="299"/>
                    </a:lnTo>
                    <a:lnTo>
                      <a:pt x="1" y="279"/>
                    </a:lnTo>
                    <a:lnTo>
                      <a:pt x="1" y="259"/>
                    </a:lnTo>
                    <a:lnTo>
                      <a:pt x="0" y="238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1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91560" y="4714920"/>
                <a:ext cx="72360" cy="65160"/>
              </a:xfrm>
              <a:custGeom>
                <a:avLst/>
                <a:gdLst/>
                <a:ahLst/>
                <a:rect l="l" t="t" r="r" b="b"/>
                <a:pathLst>
                  <a:path w="357" h="284">
                    <a:moveTo>
                      <a:pt x="0" y="202"/>
                    </a:moveTo>
                    <a:lnTo>
                      <a:pt x="22" y="190"/>
                    </a:lnTo>
                    <a:lnTo>
                      <a:pt x="44" y="177"/>
                    </a:lnTo>
                    <a:lnTo>
                      <a:pt x="67" y="165"/>
                    </a:lnTo>
                    <a:lnTo>
                      <a:pt x="89" y="152"/>
                    </a:lnTo>
                    <a:lnTo>
                      <a:pt x="111" y="139"/>
                    </a:lnTo>
                    <a:lnTo>
                      <a:pt x="133" y="126"/>
                    </a:lnTo>
                    <a:lnTo>
                      <a:pt x="155" y="114"/>
                    </a:lnTo>
                    <a:lnTo>
                      <a:pt x="178" y="101"/>
                    </a:lnTo>
                    <a:lnTo>
                      <a:pt x="200" y="89"/>
                    </a:lnTo>
                    <a:lnTo>
                      <a:pt x="222" y="76"/>
                    </a:lnTo>
                    <a:lnTo>
                      <a:pt x="244" y="64"/>
                    </a:lnTo>
                    <a:lnTo>
                      <a:pt x="266" y="51"/>
                    </a:lnTo>
                    <a:lnTo>
                      <a:pt x="288" y="38"/>
                    </a:lnTo>
                    <a:lnTo>
                      <a:pt x="311" y="25"/>
                    </a:lnTo>
                    <a:lnTo>
                      <a:pt x="333" y="13"/>
                    </a:lnTo>
                    <a:lnTo>
                      <a:pt x="355" y="0"/>
                    </a:lnTo>
                    <a:lnTo>
                      <a:pt x="355" y="16"/>
                    </a:lnTo>
                    <a:lnTo>
                      <a:pt x="356" y="33"/>
                    </a:lnTo>
                    <a:lnTo>
                      <a:pt x="356" y="50"/>
                    </a:lnTo>
                    <a:lnTo>
                      <a:pt x="357" y="67"/>
                    </a:lnTo>
                    <a:lnTo>
                      <a:pt x="335" y="80"/>
                    </a:lnTo>
                    <a:lnTo>
                      <a:pt x="313" y="94"/>
                    </a:lnTo>
                    <a:lnTo>
                      <a:pt x="291" y="107"/>
                    </a:lnTo>
                    <a:lnTo>
                      <a:pt x="268" y="121"/>
                    </a:lnTo>
                    <a:lnTo>
                      <a:pt x="246" y="134"/>
                    </a:lnTo>
                    <a:lnTo>
                      <a:pt x="224" y="149"/>
                    </a:lnTo>
                    <a:lnTo>
                      <a:pt x="202" y="162"/>
                    </a:lnTo>
                    <a:lnTo>
                      <a:pt x="180" y="175"/>
                    </a:lnTo>
                    <a:lnTo>
                      <a:pt x="157" y="189"/>
                    </a:lnTo>
                    <a:lnTo>
                      <a:pt x="135" y="202"/>
                    </a:lnTo>
                    <a:lnTo>
                      <a:pt x="112" y="216"/>
                    </a:lnTo>
                    <a:lnTo>
                      <a:pt x="90" y="229"/>
                    </a:lnTo>
                    <a:lnTo>
                      <a:pt x="68" y="244"/>
                    </a:lnTo>
                    <a:lnTo>
                      <a:pt x="45" y="257"/>
                    </a:lnTo>
                    <a:lnTo>
                      <a:pt x="22" y="271"/>
                    </a:lnTo>
                    <a:lnTo>
                      <a:pt x="0" y="284"/>
                    </a:lnTo>
                    <a:lnTo>
                      <a:pt x="0" y="264"/>
                    </a:lnTo>
                    <a:lnTo>
                      <a:pt x="0" y="243"/>
                    </a:lnTo>
                    <a:lnTo>
                      <a:pt x="0" y="222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1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95880" y="471492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333" h="268">
                    <a:moveTo>
                      <a:pt x="0" y="187"/>
                    </a:moveTo>
                    <a:lnTo>
                      <a:pt x="21" y="175"/>
                    </a:lnTo>
                    <a:lnTo>
                      <a:pt x="42" y="164"/>
                    </a:lnTo>
                    <a:lnTo>
                      <a:pt x="63" y="152"/>
                    </a:lnTo>
                    <a:lnTo>
                      <a:pt x="83" y="140"/>
                    </a:lnTo>
                    <a:lnTo>
                      <a:pt x="104" y="128"/>
                    </a:lnTo>
                    <a:lnTo>
                      <a:pt x="125" y="117"/>
                    </a:lnTo>
                    <a:lnTo>
                      <a:pt x="145" y="105"/>
                    </a:lnTo>
                    <a:lnTo>
                      <a:pt x="167" y="93"/>
                    </a:lnTo>
                    <a:lnTo>
                      <a:pt x="187" y="82"/>
                    </a:lnTo>
                    <a:lnTo>
                      <a:pt x="208" y="70"/>
                    </a:lnTo>
                    <a:lnTo>
                      <a:pt x="228" y="59"/>
                    </a:lnTo>
                    <a:lnTo>
                      <a:pt x="248" y="46"/>
                    </a:lnTo>
                    <a:lnTo>
                      <a:pt x="270" y="35"/>
                    </a:lnTo>
                    <a:lnTo>
                      <a:pt x="290" y="23"/>
                    </a:lnTo>
                    <a:lnTo>
                      <a:pt x="310" y="12"/>
                    </a:lnTo>
                    <a:lnTo>
                      <a:pt x="330" y="0"/>
                    </a:lnTo>
                    <a:lnTo>
                      <a:pt x="331" y="17"/>
                    </a:lnTo>
                    <a:lnTo>
                      <a:pt x="332" y="33"/>
                    </a:lnTo>
                    <a:lnTo>
                      <a:pt x="332" y="51"/>
                    </a:lnTo>
                    <a:lnTo>
                      <a:pt x="333" y="68"/>
                    </a:lnTo>
                    <a:lnTo>
                      <a:pt x="313" y="80"/>
                    </a:lnTo>
                    <a:lnTo>
                      <a:pt x="292" y="93"/>
                    </a:lnTo>
                    <a:lnTo>
                      <a:pt x="272" y="105"/>
                    </a:lnTo>
                    <a:lnTo>
                      <a:pt x="251" y="117"/>
                    </a:lnTo>
                    <a:lnTo>
                      <a:pt x="230" y="130"/>
                    </a:lnTo>
                    <a:lnTo>
                      <a:pt x="210" y="142"/>
                    </a:lnTo>
                    <a:lnTo>
                      <a:pt x="189" y="156"/>
                    </a:lnTo>
                    <a:lnTo>
                      <a:pt x="169" y="168"/>
                    </a:lnTo>
                    <a:lnTo>
                      <a:pt x="147" y="180"/>
                    </a:lnTo>
                    <a:lnTo>
                      <a:pt x="127" y="193"/>
                    </a:lnTo>
                    <a:lnTo>
                      <a:pt x="106" y="205"/>
                    </a:lnTo>
                    <a:lnTo>
                      <a:pt x="85" y="217"/>
                    </a:lnTo>
                    <a:lnTo>
                      <a:pt x="65" y="230"/>
                    </a:lnTo>
                    <a:lnTo>
                      <a:pt x="44" y="243"/>
                    </a:lnTo>
                    <a:lnTo>
                      <a:pt x="23" y="256"/>
                    </a:lnTo>
                    <a:lnTo>
                      <a:pt x="2" y="268"/>
                    </a:lnTo>
                    <a:lnTo>
                      <a:pt x="1" y="248"/>
                    </a:lnTo>
                    <a:lnTo>
                      <a:pt x="1" y="227"/>
                    </a:lnTo>
                    <a:lnTo>
                      <a:pt x="1" y="20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001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01640" y="4714920"/>
                <a:ext cx="62280" cy="57240"/>
              </a:xfrm>
              <a:custGeom>
                <a:avLst/>
                <a:gdLst/>
                <a:ahLst/>
                <a:rect l="l" t="t" r="r" b="b"/>
                <a:pathLst>
                  <a:path w="306" h="253">
                    <a:moveTo>
                      <a:pt x="0" y="173"/>
                    </a:moveTo>
                    <a:lnTo>
                      <a:pt x="20" y="162"/>
                    </a:lnTo>
                    <a:lnTo>
                      <a:pt x="39" y="152"/>
                    </a:lnTo>
                    <a:lnTo>
                      <a:pt x="58" y="140"/>
                    </a:lnTo>
                    <a:lnTo>
                      <a:pt x="76" y="129"/>
                    </a:lnTo>
                    <a:lnTo>
                      <a:pt x="95" y="119"/>
                    </a:lnTo>
                    <a:lnTo>
                      <a:pt x="114" y="108"/>
                    </a:lnTo>
                    <a:lnTo>
                      <a:pt x="134" y="97"/>
                    </a:lnTo>
                    <a:lnTo>
                      <a:pt x="153" y="86"/>
                    </a:lnTo>
                    <a:lnTo>
                      <a:pt x="171" y="76"/>
                    </a:lnTo>
                    <a:lnTo>
                      <a:pt x="190" y="65"/>
                    </a:lnTo>
                    <a:lnTo>
                      <a:pt x="209" y="54"/>
                    </a:lnTo>
                    <a:lnTo>
                      <a:pt x="228" y="43"/>
                    </a:lnTo>
                    <a:lnTo>
                      <a:pt x="247" y="32"/>
                    </a:lnTo>
                    <a:lnTo>
                      <a:pt x="266" y="21"/>
                    </a:lnTo>
                    <a:lnTo>
                      <a:pt x="285" y="11"/>
                    </a:lnTo>
                    <a:lnTo>
                      <a:pt x="304" y="0"/>
                    </a:lnTo>
                    <a:lnTo>
                      <a:pt x="304" y="17"/>
                    </a:lnTo>
                    <a:lnTo>
                      <a:pt x="305" y="34"/>
                    </a:lnTo>
                    <a:lnTo>
                      <a:pt x="305" y="52"/>
                    </a:lnTo>
                    <a:lnTo>
                      <a:pt x="306" y="69"/>
                    </a:lnTo>
                    <a:lnTo>
                      <a:pt x="287" y="80"/>
                    </a:lnTo>
                    <a:lnTo>
                      <a:pt x="268" y="92"/>
                    </a:lnTo>
                    <a:lnTo>
                      <a:pt x="249" y="103"/>
                    </a:lnTo>
                    <a:lnTo>
                      <a:pt x="229" y="114"/>
                    </a:lnTo>
                    <a:lnTo>
                      <a:pt x="211" y="126"/>
                    </a:lnTo>
                    <a:lnTo>
                      <a:pt x="192" y="137"/>
                    </a:lnTo>
                    <a:lnTo>
                      <a:pt x="173" y="149"/>
                    </a:lnTo>
                    <a:lnTo>
                      <a:pt x="154" y="161"/>
                    </a:lnTo>
                    <a:lnTo>
                      <a:pt x="135" y="172"/>
                    </a:lnTo>
                    <a:lnTo>
                      <a:pt x="115" y="183"/>
                    </a:lnTo>
                    <a:lnTo>
                      <a:pt x="96" y="195"/>
                    </a:lnTo>
                    <a:lnTo>
                      <a:pt x="78" y="206"/>
                    </a:lnTo>
                    <a:lnTo>
                      <a:pt x="59" y="218"/>
                    </a:lnTo>
                    <a:lnTo>
                      <a:pt x="40" y="229"/>
                    </a:lnTo>
                    <a:lnTo>
                      <a:pt x="21" y="241"/>
                    </a:lnTo>
                    <a:lnTo>
                      <a:pt x="1" y="253"/>
                    </a:lnTo>
                    <a:lnTo>
                      <a:pt x="1" y="232"/>
                    </a:lnTo>
                    <a:lnTo>
                      <a:pt x="1" y="213"/>
                    </a:lnTo>
                    <a:lnTo>
                      <a:pt x="0" y="19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07400" y="4714920"/>
                <a:ext cx="56520" cy="54000"/>
              </a:xfrm>
              <a:custGeom>
                <a:avLst/>
                <a:gdLst/>
                <a:ahLst/>
                <a:rect l="l" t="t" r="r" b="b"/>
                <a:pathLst>
                  <a:path w="279" h="236">
                    <a:moveTo>
                      <a:pt x="0" y="158"/>
                    </a:moveTo>
                    <a:lnTo>
                      <a:pt x="17" y="148"/>
                    </a:lnTo>
                    <a:lnTo>
                      <a:pt x="34" y="137"/>
                    </a:lnTo>
                    <a:lnTo>
                      <a:pt x="52" y="128"/>
                    </a:lnTo>
                    <a:lnTo>
                      <a:pt x="69" y="118"/>
                    </a:lnTo>
                    <a:lnTo>
                      <a:pt x="86" y="108"/>
                    </a:lnTo>
                    <a:lnTo>
                      <a:pt x="104" y="98"/>
                    </a:lnTo>
                    <a:lnTo>
                      <a:pt x="121" y="89"/>
                    </a:lnTo>
                    <a:lnTo>
                      <a:pt x="139" y="79"/>
                    </a:lnTo>
                    <a:lnTo>
                      <a:pt x="156" y="69"/>
                    </a:lnTo>
                    <a:lnTo>
                      <a:pt x="173" y="59"/>
                    </a:lnTo>
                    <a:lnTo>
                      <a:pt x="190" y="50"/>
                    </a:lnTo>
                    <a:lnTo>
                      <a:pt x="207" y="39"/>
                    </a:lnTo>
                    <a:lnTo>
                      <a:pt x="225" y="29"/>
                    </a:lnTo>
                    <a:lnTo>
                      <a:pt x="243" y="19"/>
                    </a:lnTo>
                    <a:lnTo>
                      <a:pt x="260" y="10"/>
                    </a:lnTo>
                    <a:lnTo>
                      <a:pt x="277" y="0"/>
                    </a:lnTo>
                    <a:lnTo>
                      <a:pt x="278" y="17"/>
                    </a:lnTo>
                    <a:lnTo>
                      <a:pt x="278" y="34"/>
                    </a:lnTo>
                    <a:lnTo>
                      <a:pt x="279" y="52"/>
                    </a:lnTo>
                    <a:lnTo>
                      <a:pt x="279" y="69"/>
                    </a:lnTo>
                    <a:lnTo>
                      <a:pt x="262" y="79"/>
                    </a:lnTo>
                    <a:lnTo>
                      <a:pt x="245" y="90"/>
                    </a:lnTo>
                    <a:lnTo>
                      <a:pt x="227" y="100"/>
                    </a:lnTo>
                    <a:lnTo>
                      <a:pt x="209" y="110"/>
                    </a:lnTo>
                    <a:lnTo>
                      <a:pt x="192" y="121"/>
                    </a:lnTo>
                    <a:lnTo>
                      <a:pt x="175" y="131"/>
                    </a:lnTo>
                    <a:lnTo>
                      <a:pt x="158" y="141"/>
                    </a:lnTo>
                    <a:lnTo>
                      <a:pt x="140" y="153"/>
                    </a:lnTo>
                    <a:lnTo>
                      <a:pt x="123" y="163"/>
                    </a:lnTo>
                    <a:lnTo>
                      <a:pt x="106" y="173"/>
                    </a:lnTo>
                    <a:lnTo>
                      <a:pt x="88" y="184"/>
                    </a:lnTo>
                    <a:lnTo>
                      <a:pt x="70" y="194"/>
                    </a:lnTo>
                    <a:lnTo>
                      <a:pt x="53" y="205"/>
                    </a:lnTo>
                    <a:lnTo>
                      <a:pt x="36" y="215"/>
                    </a:lnTo>
                    <a:lnTo>
                      <a:pt x="18" y="226"/>
                    </a:lnTo>
                    <a:lnTo>
                      <a:pt x="1" y="236"/>
                    </a:lnTo>
                    <a:lnTo>
                      <a:pt x="1" y="216"/>
                    </a:lnTo>
                    <a:lnTo>
                      <a:pt x="1" y="197"/>
                    </a:lnTo>
                    <a:lnTo>
                      <a:pt x="0" y="177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00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12800" y="4714920"/>
                <a:ext cx="51120" cy="50760"/>
              </a:xfrm>
              <a:custGeom>
                <a:avLst/>
                <a:gdLst/>
                <a:ahLst/>
                <a:rect l="l" t="t" r="r" b="b"/>
                <a:pathLst>
                  <a:path w="254" h="220">
                    <a:moveTo>
                      <a:pt x="0" y="142"/>
                    </a:moveTo>
                    <a:lnTo>
                      <a:pt x="16" y="133"/>
                    </a:lnTo>
                    <a:lnTo>
                      <a:pt x="31" y="124"/>
                    </a:lnTo>
                    <a:lnTo>
                      <a:pt x="47" y="116"/>
                    </a:lnTo>
                    <a:lnTo>
                      <a:pt x="63" y="107"/>
                    </a:lnTo>
                    <a:lnTo>
                      <a:pt x="79" y="98"/>
                    </a:lnTo>
                    <a:lnTo>
                      <a:pt x="95" y="89"/>
                    </a:lnTo>
                    <a:lnTo>
                      <a:pt x="110" y="80"/>
                    </a:lnTo>
                    <a:lnTo>
                      <a:pt x="126" y="71"/>
                    </a:lnTo>
                    <a:lnTo>
                      <a:pt x="141" y="63"/>
                    </a:lnTo>
                    <a:lnTo>
                      <a:pt x="157" y="54"/>
                    </a:lnTo>
                    <a:lnTo>
                      <a:pt x="172" y="44"/>
                    </a:lnTo>
                    <a:lnTo>
                      <a:pt x="189" y="35"/>
                    </a:lnTo>
                    <a:lnTo>
                      <a:pt x="204" y="26"/>
                    </a:lnTo>
                    <a:lnTo>
                      <a:pt x="220" y="18"/>
                    </a:lnTo>
                    <a:lnTo>
                      <a:pt x="235" y="9"/>
                    </a:lnTo>
                    <a:lnTo>
                      <a:pt x="251" y="0"/>
                    </a:lnTo>
                    <a:lnTo>
                      <a:pt x="252" y="17"/>
                    </a:lnTo>
                    <a:lnTo>
                      <a:pt x="253" y="34"/>
                    </a:lnTo>
                    <a:lnTo>
                      <a:pt x="253" y="52"/>
                    </a:lnTo>
                    <a:lnTo>
                      <a:pt x="254" y="69"/>
                    </a:lnTo>
                    <a:lnTo>
                      <a:pt x="238" y="78"/>
                    </a:lnTo>
                    <a:lnTo>
                      <a:pt x="223" y="88"/>
                    </a:lnTo>
                    <a:lnTo>
                      <a:pt x="207" y="97"/>
                    </a:lnTo>
                    <a:lnTo>
                      <a:pt x="191" y="106"/>
                    </a:lnTo>
                    <a:lnTo>
                      <a:pt x="175" y="116"/>
                    </a:lnTo>
                    <a:lnTo>
                      <a:pt x="159" y="125"/>
                    </a:lnTo>
                    <a:lnTo>
                      <a:pt x="144" y="135"/>
                    </a:lnTo>
                    <a:lnTo>
                      <a:pt x="128" y="144"/>
                    </a:lnTo>
                    <a:lnTo>
                      <a:pt x="112" y="154"/>
                    </a:lnTo>
                    <a:lnTo>
                      <a:pt x="97" y="164"/>
                    </a:lnTo>
                    <a:lnTo>
                      <a:pt x="81" y="173"/>
                    </a:lnTo>
                    <a:lnTo>
                      <a:pt x="65" y="182"/>
                    </a:lnTo>
                    <a:lnTo>
                      <a:pt x="49" y="192"/>
                    </a:lnTo>
                    <a:lnTo>
                      <a:pt x="33" y="201"/>
                    </a:lnTo>
                    <a:lnTo>
                      <a:pt x="18" y="211"/>
                    </a:lnTo>
                    <a:lnTo>
                      <a:pt x="2" y="220"/>
                    </a:lnTo>
                    <a:lnTo>
                      <a:pt x="1" y="201"/>
                    </a:lnTo>
                    <a:lnTo>
                      <a:pt x="1" y="181"/>
                    </a:lnTo>
                    <a:lnTo>
                      <a:pt x="1" y="16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17120" y="4714920"/>
                <a:ext cx="46800" cy="46080"/>
              </a:xfrm>
              <a:custGeom>
                <a:avLst/>
                <a:gdLst/>
                <a:ahLst/>
                <a:rect l="l" t="t" r="r" b="b"/>
                <a:pathLst>
                  <a:path w="228" h="204">
                    <a:moveTo>
                      <a:pt x="0" y="127"/>
                    </a:moveTo>
                    <a:lnTo>
                      <a:pt x="14" y="119"/>
                    </a:lnTo>
                    <a:lnTo>
                      <a:pt x="29" y="111"/>
                    </a:lnTo>
                    <a:lnTo>
                      <a:pt x="43" y="103"/>
                    </a:lnTo>
                    <a:lnTo>
                      <a:pt x="58" y="95"/>
                    </a:lnTo>
                    <a:lnTo>
                      <a:pt x="72" y="88"/>
                    </a:lnTo>
                    <a:lnTo>
                      <a:pt x="86" y="80"/>
                    </a:lnTo>
                    <a:lnTo>
                      <a:pt x="100" y="72"/>
                    </a:lnTo>
                    <a:lnTo>
                      <a:pt x="114" y="64"/>
                    </a:lnTo>
                    <a:lnTo>
                      <a:pt x="128" y="56"/>
                    </a:lnTo>
                    <a:lnTo>
                      <a:pt x="141" y="47"/>
                    </a:lnTo>
                    <a:lnTo>
                      <a:pt x="155" y="39"/>
                    </a:lnTo>
                    <a:lnTo>
                      <a:pt x="170" y="31"/>
                    </a:lnTo>
                    <a:lnTo>
                      <a:pt x="184" y="24"/>
                    </a:lnTo>
                    <a:lnTo>
                      <a:pt x="198" y="16"/>
                    </a:lnTo>
                    <a:lnTo>
                      <a:pt x="212" y="8"/>
                    </a:lnTo>
                    <a:lnTo>
                      <a:pt x="226" y="0"/>
                    </a:lnTo>
                    <a:lnTo>
                      <a:pt x="227" y="17"/>
                    </a:lnTo>
                    <a:lnTo>
                      <a:pt x="227" y="34"/>
                    </a:lnTo>
                    <a:lnTo>
                      <a:pt x="227" y="52"/>
                    </a:lnTo>
                    <a:lnTo>
                      <a:pt x="228" y="69"/>
                    </a:lnTo>
                    <a:lnTo>
                      <a:pt x="214" y="77"/>
                    </a:lnTo>
                    <a:lnTo>
                      <a:pt x="200" y="86"/>
                    </a:lnTo>
                    <a:lnTo>
                      <a:pt x="186" y="94"/>
                    </a:lnTo>
                    <a:lnTo>
                      <a:pt x="172" y="103"/>
                    </a:lnTo>
                    <a:lnTo>
                      <a:pt x="157" y="111"/>
                    </a:lnTo>
                    <a:lnTo>
                      <a:pt x="143" y="119"/>
                    </a:lnTo>
                    <a:lnTo>
                      <a:pt x="129" y="128"/>
                    </a:lnTo>
                    <a:lnTo>
                      <a:pt x="115" y="136"/>
                    </a:lnTo>
                    <a:lnTo>
                      <a:pt x="101" y="144"/>
                    </a:lnTo>
                    <a:lnTo>
                      <a:pt x="87" y="154"/>
                    </a:lnTo>
                    <a:lnTo>
                      <a:pt x="73" y="162"/>
                    </a:lnTo>
                    <a:lnTo>
                      <a:pt x="59" y="170"/>
                    </a:lnTo>
                    <a:lnTo>
                      <a:pt x="44" y="179"/>
                    </a:lnTo>
                    <a:lnTo>
                      <a:pt x="30" y="187"/>
                    </a:lnTo>
                    <a:lnTo>
                      <a:pt x="16" y="196"/>
                    </a:lnTo>
                    <a:lnTo>
                      <a:pt x="2" y="204"/>
                    </a:lnTo>
                    <a:lnTo>
                      <a:pt x="2" y="185"/>
                    </a:lnTo>
                    <a:lnTo>
                      <a:pt x="1" y="166"/>
                    </a:lnTo>
                    <a:lnTo>
                      <a:pt x="1" y="14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21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22880" y="471492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01" h="188">
                    <a:moveTo>
                      <a:pt x="0" y="112"/>
                    </a:moveTo>
                    <a:lnTo>
                      <a:pt x="12" y="105"/>
                    </a:lnTo>
                    <a:lnTo>
                      <a:pt x="26" y="98"/>
                    </a:lnTo>
                    <a:lnTo>
                      <a:pt x="38" y="91"/>
                    </a:lnTo>
                    <a:lnTo>
                      <a:pt x="50" y="84"/>
                    </a:lnTo>
                    <a:lnTo>
                      <a:pt x="63" y="77"/>
                    </a:lnTo>
                    <a:lnTo>
                      <a:pt x="75" y="70"/>
                    </a:lnTo>
                    <a:lnTo>
                      <a:pt x="87" y="63"/>
                    </a:lnTo>
                    <a:lnTo>
                      <a:pt x="100" y="56"/>
                    </a:lnTo>
                    <a:lnTo>
                      <a:pt x="112" y="50"/>
                    </a:lnTo>
                    <a:lnTo>
                      <a:pt x="124" y="42"/>
                    </a:lnTo>
                    <a:lnTo>
                      <a:pt x="137" y="35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4" y="14"/>
                    </a:lnTo>
                    <a:lnTo>
                      <a:pt x="187" y="7"/>
                    </a:lnTo>
                    <a:lnTo>
                      <a:pt x="199" y="0"/>
                    </a:lnTo>
                    <a:lnTo>
                      <a:pt x="200" y="17"/>
                    </a:lnTo>
                    <a:lnTo>
                      <a:pt x="200" y="34"/>
                    </a:lnTo>
                    <a:lnTo>
                      <a:pt x="201" y="52"/>
                    </a:lnTo>
                    <a:lnTo>
                      <a:pt x="201" y="69"/>
                    </a:lnTo>
                    <a:lnTo>
                      <a:pt x="189" y="76"/>
                    </a:lnTo>
                    <a:lnTo>
                      <a:pt x="176" y="84"/>
                    </a:lnTo>
                    <a:lnTo>
                      <a:pt x="164" y="91"/>
                    </a:lnTo>
                    <a:lnTo>
                      <a:pt x="152" y="98"/>
                    </a:lnTo>
                    <a:lnTo>
                      <a:pt x="139" y="106"/>
                    </a:lnTo>
                    <a:lnTo>
                      <a:pt x="126" y="113"/>
                    </a:lnTo>
                    <a:lnTo>
                      <a:pt x="114" y="121"/>
                    </a:lnTo>
                    <a:lnTo>
                      <a:pt x="102" y="128"/>
                    </a:lnTo>
                    <a:lnTo>
                      <a:pt x="89" y="135"/>
                    </a:lnTo>
                    <a:lnTo>
                      <a:pt x="77" y="143"/>
                    </a:lnTo>
                    <a:lnTo>
                      <a:pt x="65" y="151"/>
                    </a:lnTo>
                    <a:lnTo>
                      <a:pt x="52" y="159"/>
                    </a:lnTo>
                    <a:lnTo>
                      <a:pt x="40" y="166"/>
                    </a:lnTo>
                    <a:lnTo>
                      <a:pt x="28" y="173"/>
                    </a:lnTo>
                    <a:lnTo>
                      <a:pt x="14" y="181"/>
                    </a:lnTo>
                    <a:lnTo>
                      <a:pt x="2" y="188"/>
                    </a:lnTo>
                    <a:lnTo>
                      <a:pt x="1" y="169"/>
                    </a:lnTo>
                    <a:lnTo>
                      <a:pt x="1" y="150"/>
                    </a:lnTo>
                    <a:lnTo>
                      <a:pt x="0" y="13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2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28640" y="471492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0" y="98"/>
                    </a:moveTo>
                    <a:lnTo>
                      <a:pt x="11" y="92"/>
                    </a:lnTo>
                    <a:lnTo>
                      <a:pt x="22" y="86"/>
                    </a:lnTo>
                    <a:lnTo>
                      <a:pt x="32" y="80"/>
                    </a:lnTo>
                    <a:lnTo>
                      <a:pt x="43" y="74"/>
                    </a:lnTo>
                    <a:lnTo>
                      <a:pt x="54" y="68"/>
                    </a:lnTo>
                    <a:lnTo>
                      <a:pt x="65" y="62"/>
                    </a:lnTo>
                    <a:lnTo>
                      <a:pt x="75" y="56"/>
                    </a:lnTo>
                    <a:lnTo>
                      <a:pt x="86" y="50"/>
                    </a:lnTo>
                    <a:lnTo>
                      <a:pt x="97" y="43"/>
                    </a:lnTo>
                    <a:lnTo>
                      <a:pt x="108" y="37"/>
                    </a:lnTo>
                    <a:lnTo>
                      <a:pt x="119" y="31"/>
                    </a:lnTo>
                    <a:lnTo>
                      <a:pt x="130" y="25"/>
                    </a:lnTo>
                    <a:lnTo>
                      <a:pt x="141" y="18"/>
                    </a:lnTo>
                    <a:lnTo>
                      <a:pt x="151" y="12"/>
                    </a:lnTo>
                    <a:lnTo>
                      <a:pt x="162" y="6"/>
                    </a:lnTo>
                    <a:lnTo>
                      <a:pt x="173" y="0"/>
                    </a:lnTo>
                    <a:lnTo>
                      <a:pt x="173" y="17"/>
                    </a:lnTo>
                    <a:lnTo>
                      <a:pt x="174" y="34"/>
                    </a:lnTo>
                    <a:lnTo>
                      <a:pt x="174" y="53"/>
                    </a:lnTo>
                    <a:lnTo>
                      <a:pt x="175" y="70"/>
                    </a:lnTo>
                    <a:lnTo>
                      <a:pt x="164" y="76"/>
                    </a:lnTo>
                    <a:lnTo>
                      <a:pt x="153" y="83"/>
                    </a:lnTo>
                    <a:lnTo>
                      <a:pt x="143" y="89"/>
                    </a:lnTo>
                    <a:lnTo>
                      <a:pt x="132" y="95"/>
                    </a:lnTo>
                    <a:lnTo>
                      <a:pt x="121" y="102"/>
                    </a:lnTo>
                    <a:lnTo>
                      <a:pt x="110" y="108"/>
                    </a:lnTo>
                    <a:lnTo>
                      <a:pt x="99" y="115"/>
                    </a:lnTo>
                    <a:lnTo>
                      <a:pt x="88" y="121"/>
                    </a:lnTo>
                    <a:lnTo>
                      <a:pt x="77" y="127"/>
                    </a:lnTo>
                    <a:lnTo>
                      <a:pt x="67" y="134"/>
                    </a:lnTo>
                    <a:lnTo>
                      <a:pt x="56" y="140"/>
                    </a:lnTo>
                    <a:lnTo>
                      <a:pt x="46" y="147"/>
                    </a:lnTo>
                    <a:lnTo>
                      <a:pt x="35" y="154"/>
                    </a:lnTo>
                    <a:lnTo>
                      <a:pt x="24" y="160"/>
                    </a:lnTo>
                    <a:lnTo>
                      <a:pt x="14" y="167"/>
                    </a:lnTo>
                    <a:lnTo>
                      <a:pt x="3" y="173"/>
                    </a:lnTo>
                    <a:lnTo>
                      <a:pt x="2" y="155"/>
                    </a:lnTo>
                    <a:lnTo>
                      <a:pt x="1" y="135"/>
                    </a:lnTo>
                    <a:lnTo>
                      <a:pt x="1" y="117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2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34400" y="471492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49" h="157">
                    <a:moveTo>
                      <a:pt x="0" y="83"/>
                    </a:moveTo>
                    <a:lnTo>
                      <a:pt x="18" y="73"/>
                    </a:lnTo>
                    <a:lnTo>
                      <a:pt x="36" y="63"/>
                    </a:lnTo>
                    <a:lnTo>
                      <a:pt x="54" y="53"/>
                    </a:lnTo>
                    <a:lnTo>
                      <a:pt x="73" y="41"/>
                    </a:lnTo>
                    <a:lnTo>
                      <a:pt x="92" y="31"/>
                    </a:lnTo>
                    <a:lnTo>
                      <a:pt x="110" y="21"/>
                    </a:lnTo>
                    <a:lnTo>
                      <a:pt x="129" y="10"/>
                    </a:lnTo>
                    <a:lnTo>
                      <a:pt x="147" y="0"/>
                    </a:lnTo>
                    <a:lnTo>
                      <a:pt x="148" y="17"/>
                    </a:lnTo>
                    <a:lnTo>
                      <a:pt x="148" y="34"/>
                    </a:lnTo>
                    <a:lnTo>
                      <a:pt x="148" y="53"/>
                    </a:lnTo>
                    <a:lnTo>
                      <a:pt x="149" y="70"/>
                    </a:lnTo>
                    <a:lnTo>
                      <a:pt x="131" y="81"/>
                    </a:lnTo>
                    <a:lnTo>
                      <a:pt x="112" y="92"/>
                    </a:lnTo>
                    <a:lnTo>
                      <a:pt x="94" y="103"/>
                    </a:lnTo>
                    <a:lnTo>
                      <a:pt x="74" y="113"/>
                    </a:lnTo>
                    <a:lnTo>
                      <a:pt x="56" y="124"/>
                    </a:lnTo>
                    <a:lnTo>
                      <a:pt x="38" y="135"/>
                    </a:lnTo>
                    <a:lnTo>
                      <a:pt x="20" y="145"/>
                    </a:lnTo>
                    <a:lnTo>
                      <a:pt x="2" y="157"/>
                    </a:lnTo>
                    <a:lnTo>
                      <a:pt x="2" y="138"/>
                    </a:lnTo>
                    <a:lnTo>
                      <a:pt x="1" y="120"/>
                    </a:lnTo>
                    <a:lnTo>
                      <a:pt x="1" y="102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2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0160" y="4714920"/>
                <a:ext cx="24120" cy="31680"/>
              </a:xfrm>
              <a:custGeom>
                <a:avLst/>
                <a:gdLst/>
                <a:ahLst/>
                <a:rect l="l" t="t" r="r" b="b"/>
                <a:pathLst>
                  <a:path w="123" h="140">
                    <a:moveTo>
                      <a:pt x="0" y="68"/>
                    </a:moveTo>
                    <a:lnTo>
                      <a:pt x="15" y="60"/>
                    </a:lnTo>
                    <a:lnTo>
                      <a:pt x="30" y="51"/>
                    </a:lnTo>
                    <a:lnTo>
                      <a:pt x="45" y="42"/>
                    </a:lnTo>
                    <a:lnTo>
                      <a:pt x="61" y="34"/>
                    </a:lnTo>
                    <a:lnTo>
                      <a:pt x="76" y="26"/>
                    </a:lnTo>
                    <a:lnTo>
                      <a:pt x="91" y="17"/>
                    </a:lnTo>
                    <a:lnTo>
                      <a:pt x="107" y="9"/>
                    </a:lnTo>
                    <a:lnTo>
                      <a:pt x="122" y="0"/>
                    </a:lnTo>
                    <a:lnTo>
                      <a:pt x="122" y="17"/>
                    </a:lnTo>
                    <a:lnTo>
                      <a:pt x="123" y="35"/>
                    </a:lnTo>
                    <a:lnTo>
                      <a:pt x="123" y="53"/>
                    </a:lnTo>
                    <a:lnTo>
                      <a:pt x="123" y="71"/>
                    </a:lnTo>
                    <a:lnTo>
                      <a:pt x="108" y="80"/>
                    </a:lnTo>
                    <a:lnTo>
                      <a:pt x="93" y="88"/>
                    </a:lnTo>
                    <a:lnTo>
                      <a:pt x="78" y="97"/>
                    </a:lnTo>
                    <a:lnTo>
                      <a:pt x="63" y="105"/>
                    </a:lnTo>
                    <a:lnTo>
                      <a:pt x="47" y="114"/>
                    </a:lnTo>
                    <a:lnTo>
                      <a:pt x="32" y="123"/>
                    </a:lnTo>
                    <a:lnTo>
                      <a:pt x="17" y="131"/>
                    </a:lnTo>
                    <a:lnTo>
                      <a:pt x="3" y="140"/>
                    </a:lnTo>
                    <a:lnTo>
                      <a:pt x="2" y="122"/>
                    </a:lnTo>
                    <a:lnTo>
                      <a:pt x="2" y="104"/>
                    </a:lnTo>
                    <a:lnTo>
                      <a:pt x="1" y="86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2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44120" y="471492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0" y="53"/>
                    </a:moveTo>
                    <a:lnTo>
                      <a:pt x="12" y="46"/>
                    </a:lnTo>
                    <a:lnTo>
                      <a:pt x="24" y="39"/>
                    </a:lnTo>
                    <a:lnTo>
                      <a:pt x="37" y="33"/>
                    </a:lnTo>
                    <a:lnTo>
                      <a:pt x="49" y="26"/>
                    </a:lnTo>
                    <a:lnTo>
                      <a:pt x="61" y="19"/>
                    </a:lnTo>
                    <a:lnTo>
                      <a:pt x="73" y="13"/>
                    </a:lnTo>
                    <a:lnTo>
                      <a:pt x="85" y="6"/>
                    </a:lnTo>
                    <a:lnTo>
                      <a:pt x="97" y="0"/>
                    </a:lnTo>
                    <a:lnTo>
                      <a:pt x="98" y="17"/>
                    </a:lnTo>
                    <a:lnTo>
                      <a:pt x="98" y="35"/>
                    </a:lnTo>
                    <a:lnTo>
                      <a:pt x="98" y="53"/>
                    </a:lnTo>
                    <a:lnTo>
                      <a:pt x="99" y="71"/>
                    </a:lnTo>
                    <a:lnTo>
                      <a:pt x="87" y="78"/>
                    </a:lnTo>
                    <a:lnTo>
                      <a:pt x="75" y="84"/>
                    </a:lnTo>
                    <a:lnTo>
                      <a:pt x="63" y="91"/>
                    </a:lnTo>
                    <a:lnTo>
                      <a:pt x="51" y="98"/>
                    </a:lnTo>
                    <a:lnTo>
                      <a:pt x="39" y="105"/>
                    </a:lnTo>
                    <a:lnTo>
                      <a:pt x="26" y="111"/>
                    </a:lnTo>
                    <a:lnTo>
                      <a:pt x="14" y="118"/>
                    </a:lnTo>
                    <a:lnTo>
                      <a:pt x="2" y="125"/>
                    </a:lnTo>
                    <a:lnTo>
                      <a:pt x="1" y="107"/>
                    </a:lnTo>
                    <a:lnTo>
                      <a:pt x="1" y="89"/>
                    </a:lnTo>
                    <a:lnTo>
                      <a:pt x="0" y="7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2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50240" y="4714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0" y="37"/>
                    </a:moveTo>
                    <a:lnTo>
                      <a:pt x="72" y="0"/>
                    </a:lnTo>
                    <a:lnTo>
                      <a:pt x="73" y="71"/>
                    </a:lnTo>
                    <a:lnTo>
                      <a:pt x="3" y="10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30080" y="477360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218" h="200">
                    <a:moveTo>
                      <a:pt x="2" y="124"/>
                    </a:moveTo>
                    <a:lnTo>
                      <a:pt x="212" y="0"/>
                    </a:lnTo>
                    <a:lnTo>
                      <a:pt x="218" y="45"/>
                    </a:lnTo>
                    <a:lnTo>
                      <a:pt x="0" y="200"/>
                    </a:lnTo>
                    <a:lnTo>
                      <a:pt x="2" y="124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32960" y="47736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05" h="191">
                    <a:moveTo>
                      <a:pt x="1" y="117"/>
                    </a:moveTo>
                    <a:lnTo>
                      <a:pt x="13" y="110"/>
                    </a:lnTo>
                    <a:lnTo>
                      <a:pt x="25" y="102"/>
                    </a:lnTo>
                    <a:lnTo>
                      <a:pt x="37" y="95"/>
                    </a:lnTo>
                    <a:lnTo>
                      <a:pt x="49" y="88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2" y="50"/>
                    </a:lnTo>
                    <a:lnTo>
                      <a:pt x="124" y="43"/>
                    </a:lnTo>
                    <a:lnTo>
                      <a:pt x="136" y="36"/>
                    </a:lnTo>
                    <a:lnTo>
                      <a:pt x="149" y="29"/>
                    </a:lnTo>
                    <a:lnTo>
                      <a:pt x="161" y="21"/>
                    </a:lnTo>
                    <a:lnTo>
                      <a:pt x="173" y="14"/>
                    </a:lnTo>
                    <a:lnTo>
                      <a:pt x="186" y="7"/>
                    </a:lnTo>
                    <a:lnTo>
                      <a:pt x="199" y="0"/>
                    </a:lnTo>
                    <a:lnTo>
                      <a:pt x="201" y="11"/>
                    </a:lnTo>
                    <a:lnTo>
                      <a:pt x="202" y="23"/>
                    </a:lnTo>
                    <a:lnTo>
                      <a:pt x="204" y="34"/>
                    </a:lnTo>
                    <a:lnTo>
                      <a:pt x="205" y="46"/>
                    </a:lnTo>
                    <a:lnTo>
                      <a:pt x="191" y="55"/>
                    </a:lnTo>
                    <a:lnTo>
                      <a:pt x="178" y="64"/>
                    </a:lnTo>
                    <a:lnTo>
                      <a:pt x="165" y="73"/>
                    </a:lnTo>
                    <a:lnTo>
                      <a:pt x="152" y="83"/>
                    </a:lnTo>
                    <a:lnTo>
                      <a:pt x="140" y="92"/>
                    </a:lnTo>
                    <a:lnTo>
                      <a:pt x="127" y="101"/>
                    </a:lnTo>
                    <a:lnTo>
                      <a:pt x="114" y="110"/>
                    </a:lnTo>
                    <a:lnTo>
                      <a:pt x="101" y="118"/>
                    </a:lnTo>
                    <a:lnTo>
                      <a:pt x="89" y="127"/>
                    </a:lnTo>
                    <a:lnTo>
                      <a:pt x="75" y="136"/>
                    </a:lnTo>
                    <a:lnTo>
                      <a:pt x="62" y="145"/>
                    </a:lnTo>
                    <a:lnTo>
                      <a:pt x="50" y="154"/>
                    </a:lnTo>
                    <a:lnTo>
                      <a:pt x="37" y="163"/>
                    </a:lnTo>
                    <a:lnTo>
                      <a:pt x="25" y="172"/>
                    </a:lnTo>
                    <a:lnTo>
                      <a:pt x="12" y="182"/>
                    </a:lnTo>
                    <a:lnTo>
                      <a:pt x="0" y="191"/>
                    </a:lnTo>
                    <a:lnTo>
                      <a:pt x="0" y="172"/>
                    </a:lnTo>
                    <a:lnTo>
                      <a:pt x="1" y="153"/>
                    </a:lnTo>
                    <a:lnTo>
                      <a:pt x="1" y="135"/>
                    </a:lnTo>
                    <a:lnTo>
                      <a:pt x="1" y="117"/>
                    </a:lnTo>
                    <a:close/>
                  </a:path>
                </a:pathLst>
              </a:custGeom>
              <a:solidFill>
                <a:srgbClr val="00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35840" y="47736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92" h="182">
                    <a:moveTo>
                      <a:pt x="0" y="110"/>
                    </a:moveTo>
                    <a:lnTo>
                      <a:pt x="11" y="103"/>
                    </a:lnTo>
                    <a:lnTo>
                      <a:pt x="23" y="96"/>
                    </a:lnTo>
                    <a:lnTo>
                      <a:pt x="34" y="90"/>
                    </a:lnTo>
                    <a:lnTo>
                      <a:pt x="45" y="83"/>
                    </a:lnTo>
                    <a:lnTo>
                      <a:pt x="57" y="75"/>
                    </a:lnTo>
                    <a:lnTo>
                      <a:pt x="68" y="68"/>
                    </a:lnTo>
                    <a:lnTo>
                      <a:pt x="81" y="61"/>
                    </a:lnTo>
                    <a:lnTo>
                      <a:pt x="92" y="54"/>
                    </a:lnTo>
                    <a:lnTo>
                      <a:pt x="104" y="48"/>
                    </a:lnTo>
                    <a:lnTo>
                      <a:pt x="115" y="41"/>
                    </a:lnTo>
                    <a:lnTo>
                      <a:pt x="127" y="34"/>
                    </a:lnTo>
                    <a:lnTo>
                      <a:pt x="139" y="27"/>
                    </a:lnTo>
                    <a:lnTo>
                      <a:pt x="150" y="20"/>
                    </a:lnTo>
                    <a:lnTo>
                      <a:pt x="162" y="14"/>
                    </a:lnTo>
                    <a:lnTo>
                      <a:pt x="173" y="7"/>
                    </a:lnTo>
                    <a:lnTo>
                      <a:pt x="186" y="0"/>
                    </a:lnTo>
                    <a:lnTo>
                      <a:pt x="188" y="11"/>
                    </a:lnTo>
                    <a:lnTo>
                      <a:pt x="189" y="23"/>
                    </a:lnTo>
                    <a:lnTo>
                      <a:pt x="191" y="35"/>
                    </a:lnTo>
                    <a:lnTo>
                      <a:pt x="192" y="47"/>
                    </a:lnTo>
                    <a:lnTo>
                      <a:pt x="179" y="55"/>
                    </a:lnTo>
                    <a:lnTo>
                      <a:pt x="167" y="64"/>
                    </a:lnTo>
                    <a:lnTo>
                      <a:pt x="155" y="72"/>
                    </a:lnTo>
                    <a:lnTo>
                      <a:pt x="143" y="80"/>
                    </a:lnTo>
                    <a:lnTo>
                      <a:pt x="131" y="89"/>
                    </a:lnTo>
                    <a:lnTo>
                      <a:pt x="119" y="98"/>
                    </a:lnTo>
                    <a:lnTo>
                      <a:pt x="107" y="106"/>
                    </a:lnTo>
                    <a:lnTo>
                      <a:pt x="95" y="114"/>
                    </a:lnTo>
                    <a:lnTo>
                      <a:pt x="83" y="123"/>
                    </a:lnTo>
                    <a:lnTo>
                      <a:pt x="71" y="131"/>
                    </a:lnTo>
                    <a:lnTo>
                      <a:pt x="59" y="140"/>
                    </a:lnTo>
                    <a:lnTo>
                      <a:pt x="47" y="148"/>
                    </a:lnTo>
                    <a:lnTo>
                      <a:pt x="35" y="156"/>
                    </a:lnTo>
                    <a:lnTo>
                      <a:pt x="23" y="164"/>
                    </a:lnTo>
                    <a:lnTo>
                      <a:pt x="12" y="173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46"/>
                    </a:lnTo>
                    <a:lnTo>
                      <a:pt x="0" y="128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1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38720" y="4773600"/>
                <a:ext cx="35280" cy="39960"/>
              </a:xfrm>
              <a:custGeom>
                <a:avLst/>
                <a:gdLst/>
                <a:ahLst/>
                <a:rect l="l" t="t" r="r" b="b"/>
                <a:pathLst>
                  <a:path w="179" h="174">
                    <a:moveTo>
                      <a:pt x="0" y="104"/>
                    </a:moveTo>
                    <a:lnTo>
                      <a:pt x="11" y="98"/>
                    </a:lnTo>
                    <a:lnTo>
                      <a:pt x="21" y="91"/>
                    </a:lnTo>
                    <a:lnTo>
                      <a:pt x="32" y="85"/>
                    </a:lnTo>
                    <a:lnTo>
                      <a:pt x="42" y="77"/>
                    </a:lnTo>
                    <a:lnTo>
                      <a:pt x="53" y="71"/>
                    </a:lnTo>
                    <a:lnTo>
                      <a:pt x="65" y="65"/>
                    </a:lnTo>
                    <a:lnTo>
                      <a:pt x="76" y="58"/>
                    </a:lnTo>
                    <a:lnTo>
                      <a:pt x="86" y="52"/>
                    </a:lnTo>
                    <a:lnTo>
                      <a:pt x="97" y="45"/>
                    </a:lnTo>
                    <a:lnTo>
                      <a:pt x="108" y="39"/>
                    </a:lnTo>
                    <a:lnTo>
                      <a:pt x="119" y="33"/>
                    </a:lnTo>
                    <a:lnTo>
                      <a:pt x="130" y="26"/>
                    </a:lnTo>
                    <a:lnTo>
                      <a:pt x="141" y="20"/>
                    </a:lnTo>
                    <a:lnTo>
                      <a:pt x="152" y="13"/>
                    </a:lnTo>
                    <a:lnTo>
                      <a:pt x="163" y="7"/>
                    </a:lnTo>
                    <a:lnTo>
                      <a:pt x="175" y="0"/>
                    </a:lnTo>
                    <a:lnTo>
                      <a:pt x="176" y="12"/>
                    </a:lnTo>
                    <a:lnTo>
                      <a:pt x="177" y="24"/>
                    </a:lnTo>
                    <a:lnTo>
                      <a:pt x="178" y="36"/>
                    </a:lnTo>
                    <a:lnTo>
                      <a:pt x="179" y="48"/>
                    </a:lnTo>
                    <a:lnTo>
                      <a:pt x="167" y="56"/>
                    </a:lnTo>
                    <a:lnTo>
                      <a:pt x="156" y="64"/>
                    </a:lnTo>
                    <a:lnTo>
                      <a:pt x="145" y="72"/>
                    </a:lnTo>
                    <a:lnTo>
                      <a:pt x="134" y="79"/>
                    </a:lnTo>
                    <a:lnTo>
                      <a:pt x="122" y="88"/>
                    </a:lnTo>
                    <a:lnTo>
                      <a:pt x="111" y="96"/>
                    </a:lnTo>
                    <a:lnTo>
                      <a:pt x="100" y="104"/>
                    </a:lnTo>
                    <a:lnTo>
                      <a:pt x="89" y="111"/>
                    </a:lnTo>
                    <a:lnTo>
                      <a:pt x="78" y="119"/>
                    </a:lnTo>
                    <a:lnTo>
                      <a:pt x="67" y="127"/>
                    </a:lnTo>
                    <a:lnTo>
                      <a:pt x="55" y="135"/>
                    </a:lnTo>
                    <a:lnTo>
                      <a:pt x="44" y="143"/>
                    </a:lnTo>
                    <a:lnTo>
                      <a:pt x="33" y="150"/>
                    </a:lnTo>
                    <a:lnTo>
                      <a:pt x="22" y="158"/>
                    </a:lnTo>
                    <a:lnTo>
                      <a:pt x="11" y="166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0" y="12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1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40160" y="4773600"/>
                <a:ext cx="33840" cy="36720"/>
              </a:xfrm>
              <a:custGeom>
                <a:avLst/>
                <a:gdLst/>
                <a:ahLst/>
                <a:rect l="l" t="t" r="r" b="b"/>
                <a:pathLst>
                  <a:path w="167" h="165">
                    <a:moveTo>
                      <a:pt x="0" y="97"/>
                    </a:moveTo>
                    <a:lnTo>
                      <a:pt x="10" y="91"/>
                    </a:lnTo>
                    <a:lnTo>
                      <a:pt x="20" y="85"/>
                    </a:lnTo>
                    <a:lnTo>
                      <a:pt x="30" y="78"/>
                    </a:lnTo>
                    <a:lnTo>
                      <a:pt x="40" y="72"/>
                    </a:lnTo>
                    <a:lnTo>
                      <a:pt x="51" y="66"/>
                    </a:lnTo>
                    <a:lnTo>
                      <a:pt x="61" y="60"/>
                    </a:lnTo>
                    <a:lnTo>
                      <a:pt x="71" y="54"/>
                    </a:lnTo>
                    <a:lnTo>
                      <a:pt x="81" y="48"/>
                    </a:lnTo>
                    <a:lnTo>
                      <a:pt x="91" y="42"/>
                    </a:lnTo>
                    <a:lnTo>
                      <a:pt x="101" y="36"/>
                    </a:lnTo>
                    <a:lnTo>
                      <a:pt x="111" y="30"/>
                    </a:lnTo>
                    <a:lnTo>
                      <a:pt x="121" y="24"/>
                    </a:lnTo>
                    <a:lnTo>
                      <a:pt x="132" y="18"/>
                    </a:lnTo>
                    <a:lnTo>
                      <a:pt x="142" y="12"/>
                    </a:lnTo>
                    <a:lnTo>
                      <a:pt x="152" y="6"/>
                    </a:lnTo>
                    <a:lnTo>
                      <a:pt x="163" y="0"/>
                    </a:lnTo>
                    <a:lnTo>
                      <a:pt x="164" y="13"/>
                    </a:lnTo>
                    <a:lnTo>
                      <a:pt x="165" y="25"/>
                    </a:lnTo>
                    <a:lnTo>
                      <a:pt x="166" y="37"/>
                    </a:lnTo>
                    <a:lnTo>
                      <a:pt x="167" y="49"/>
                    </a:lnTo>
                    <a:lnTo>
                      <a:pt x="156" y="56"/>
                    </a:lnTo>
                    <a:lnTo>
                      <a:pt x="145" y="63"/>
                    </a:lnTo>
                    <a:lnTo>
                      <a:pt x="135" y="70"/>
                    </a:lnTo>
                    <a:lnTo>
                      <a:pt x="125" y="78"/>
                    </a:lnTo>
                    <a:lnTo>
                      <a:pt x="114" y="86"/>
                    </a:lnTo>
                    <a:lnTo>
                      <a:pt x="104" y="93"/>
                    </a:lnTo>
                    <a:lnTo>
                      <a:pt x="94" y="100"/>
                    </a:lnTo>
                    <a:lnTo>
                      <a:pt x="83" y="107"/>
                    </a:lnTo>
                    <a:lnTo>
                      <a:pt x="73" y="115"/>
                    </a:lnTo>
                    <a:lnTo>
                      <a:pt x="63" y="122"/>
                    </a:lnTo>
                    <a:lnTo>
                      <a:pt x="52" y="129"/>
                    </a:lnTo>
                    <a:lnTo>
                      <a:pt x="41" y="136"/>
                    </a:lnTo>
                    <a:lnTo>
                      <a:pt x="31" y="144"/>
                    </a:lnTo>
                    <a:lnTo>
                      <a:pt x="21" y="151"/>
                    </a:lnTo>
                    <a:lnTo>
                      <a:pt x="11" y="158"/>
                    </a:lnTo>
                    <a:lnTo>
                      <a:pt x="1" y="165"/>
                    </a:lnTo>
                    <a:lnTo>
                      <a:pt x="1" y="148"/>
                    </a:lnTo>
                    <a:lnTo>
                      <a:pt x="1" y="131"/>
                    </a:lnTo>
                    <a:lnTo>
                      <a:pt x="0" y="1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1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3040" y="4773600"/>
                <a:ext cx="30960" cy="34920"/>
              </a:xfrm>
              <a:custGeom>
                <a:avLst/>
                <a:gdLst/>
                <a:ahLst/>
                <a:rect l="l" t="t" r="r" b="b"/>
                <a:pathLst>
                  <a:path w="157" h="156">
                    <a:moveTo>
                      <a:pt x="0" y="90"/>
                    </a:moveTo>
                    <a:lnTo>
                      <a:pt x="19" y="78"/>
                    </a:lnTo>
                    <a:lnTo>
                      <a:pt x="39" y="67"/>
                    </a:lnTo>
                    <a:lnTo>
                      <a:pt x="58" y="56"/>
                    </a:lnTo>
                    <a:lnTo>
                      <a:pt x="77" y="44"/>
                    </a:lnTo>
                    <a:lnTo>
                      <a:pt x="96" y="33"/>
                    </a:lnTo>
                    <a:lnTo>
                      <a:pt x="114" y="22"/>
                    </a:lnTo>
                    <a:lnTo>
                      <a:pt x="133" y="11"/>
                    </a:lnTo>
                    <a:lnTo>
                      <a:pt x="153" y="0"/>
                    </a:lnTo>
                    <a:lnTo>
                      <a:pt x="154" y="13"/>
                    </a:lnTo>
                    <a:lnTo>
                      <a:pt x="155" y="25"/>
                    </a:lnTo>
                    <a:lnTo>
                      <a:pt x="156" y="37"/>
                    </a:lnTo>
                    <a:lnTo>
                      <a:pt x="157" y="50"/>
                    </a:lnTo>
                    <a:lnTo>
                      <a:pt x="137" y="63"/>
                    </a:lnTo>
                    <a:lnTo>
                      <a:pt x="118" y="76"/>
                    </a:lnTo>
                    <a:lnTo>
                      <a:pt x="99" y="90"/>
                    </a:lnTo>
                    <a:lnTo>
                      <a:pt x="80" y="103"/>
                    </a:lnTo>
                    <a:lnTo>
                      <a:pt x="60" y="117"/>
                    </a:lnTo>
                    <a:lnTo>
                      <a:pt x="41" y="130"/>
                    </a:lnTo>
                    <a:lnTo>
                      <a:pt x="21" y="143"/>
                    </a:lnTo>
                    <a:lnTo>
                      <a:pt x="2" y="156"/>
                    </a:lnTo>
                    <a:lnTo>
                      <a:pt x="1" y="139"/>
                    </a:lnTo>
                    <a:lnTo>
                      <a:pt x="1" y="123"/>
                    </a:lnTo>
                    <a:lnTo>
                      <a:pt x="1" y="106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5920" y="4773600"/>
                <a:ext cx="28080" cy="3348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0" y="83"/>
                    </a:moveTo>
                    <a:lnTo>
                      <a:pt x="18" y="72"/>
                    </a:lnTo>
                    <a:lnTo>
                      <a:pt x="37" y="61"/>
                    </a:lnTo>
                    <a:lnTo>
                      <a:pt x="54" y="51"/>
                    </a:lnTo>
                    <a:lnTo>
                      <a:pt x="71" y="41"/>
                    </a:lnTo>
                    <a:lnTo>
                      <a:pt x="89" y="30"/>
                    </a:lnTo>
                    <a:lnTo>
                      <a:pt x="106" y="20"/>
                    </a:lnTo>
                    <a:lnTo>
                      <a:pt x="123" y="10"/>
                    </a:lnTo>
                    <a:lnTo>
                      <a:pt x="142" y="0"/>
                    </a:lnTo>
                    <a:lnTo>
                      <a:pt x="143" y="13"/>
                    </a:lnTo>
                    <a:lnTo>
                      <a:pt x="144" y="25"/>
                    </a:lnTo>
                    <a:lnTo>
                      <a:pt x="144" y="38"/>
                    </a:lnTo>
                    <a:lnTo>
                      <a:pt x="145" y="51"/>
                    </a:lnTo>
                    <a:lnTo>
                      <a:pt x="126" y="63"/>
                    </a:lnTo>
                    <a:lnTo>
                      <a:pt x="109" y="75"/>
                    </a:lnTo>
                    <a:lnTo>
                      <a:pt x="91" y="88"/>
                    </a:lnTo>
                    <a:lnTo>
                      <a:pt x="74" y="100"/>
                    </a:lnTo>
                    <a:lnTo>
                      <a:pt x="56" y="112"/>
                    </a:lnTo>
                    <a:lnTo>
                      <a:pt x="38" y="124"/>
                    </a:lnTo>
                    <a:lnTo>
                      <a:pt x="20" y="136"/>
                    </a:lnTo>
                    <a:lnTo>
                      <a:pt x="2" y="148"/>
                    </a:lnTo>
                    <a:lnTo>
                      <a:pt x="2" y="132"/>
                    </a:lnTo>
                    <a:lnTo>
                      <a:pt x="1" y="115"/>
                    </a:lnTo>
                    <a:lnTo>
                      <a:pt x="1" y="9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47000" y="47736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32" h="139">
                    <a:moveTo>
                      <a:pt x="0" y="75"/>
                    </a:moveTo>
                    <a:lnTo>
                      <a:pt x="17" y="66"/>
                    </a:lnTo>
                    <a:lnTo>
                      <a:pt x="33" y="56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1" y="28"/>
                    </a:lnTo>
                    <a:lnTo>
                      <a:pt x="97" y="19"/>
                    </a:lnTo>
                    <a:lnTo>
                      <a:pt x="113" y="9"/>
                    </a:lnTo>
                    <a:lnTo>
                      <a:pt x="130" y="0"/>
                    </a:lnTo>
                    <a:lnTo>
                      <a:pt x="131" y="13"/>
                    </a:lnTo>
                    <a:lnTo>
                      <a:pt x="131" y="25"/>
                    </a:lnTo>
                    <a:lnTo>
                      <a:pt x="132" y="38"/>
                    </a:lnTo>
                    <a:lnTo>
                      <a:pt x="132" y="51"/>
                    </a:lnTo>
                    <a:lnTo>
                      <a:pt x="115" y="62"/>
                    </a:lnTo>
                    <a:lnTo>
                      <a:pt x="99" y="73"/>
                    </a:lnTo>
                    <a:lnTo>
                      <a:pt x="83" y="85"/>
                    </a:lnTo>
                    <a:lnTo>
                      <a:pt x="68" y="95"/>
                    </a:lnTo>
                    <a:lnTo>
                      <a:pt x="52" y="106"/>
                    </a:lnTo>
                    <a:lnTo>
                      <a:pt x="36" y="117"/>
                    </a:lnTo>
                    <a:lnTo>
                      <a:pt x="20" y="128"/>
                    </a:lnTo>
                    <a:lnTo>
                      <a:pt x="3" y="139"/>
                    </a:lnTo>
                    <a:lnTo>
                      <a:pt x="2" y="123"/>
                    </a:lnTo>
                    <a:lnTo>
                      <a:pt x="2" y="107"/>
                    </a:lnTo>
                    <a:lnTo>
                      <a:pt x="1" y="9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0240" y="4773600"/>
                <a:ext cx="24120" cy="28800"/>
              </a:xfrm>
              <a:custGeom>
                <a:avLst/>
                <a:gdLst/>
                <a:ahLst/>
                <a:rect l="l" t="t" r="r" b="b"/>
                <a:pathLst>
                  <a:path w="119" h="130">
                    <a:moveTo>
                      <a:pt x="0" y="67"/>
                    </a:moveTo>
                    <a:lnTo>
                      <a:pt x="15" y="59"/>
                    </a:lnTo>
                    <a:lnTo>
                      <a:pt x="29" y="50"/>
                    </a:lnTo>
                    <a:lnTo>
                      <a:pt x="44" y="42"/>
                    </a:lnTo>
                    <a:lnTo>
                      <a:pt x="58" y="33"/>
                    </a:lnTo>
                    <a:lnTo>
                      <a:pt x="72" y="25"/>
                    </a:lnTo>
                    <a:lnTo>
                      <a:pt x="87" y="17"/>
                    </a:lnTo>
                    <a:lnTo>
                      <a:pt x="101" y="8"/>
                    </a:lnTo>
                    <a:lnTo>
                      <a:pt x="117" y="0"/>
                    </a:lnTo>
                    <a:lnTo>
                      <a:pt x="118" y="13"/>
                    </a:lnTo>
                    <a:lnTo>
                      <a:pt x="118" y="26"/>
                    </a:lnTo>
                    <a:lnTo>
                      <a:pt x="118" y="39"/>
                    </a:lnTo>
                    <a:lnTo>
                      <a:pt x="119" y="52"/>
                    </a:lnTo>
                    <a:lnTo>
                      <a:pt x="104" y="62"/>
                    </a:lnTo>
                    <a:lnTo>
                      <a:pt x="90" y="71"/>
                    </a:lnTo>
                    <a:lnTo>
                      <a:pt x="75" y="81"/>
                    </a:lnTo>
                    <a:lnTo>
                      <a:pt x="61" y="91"/>
                    </a:lnTo>
                    <a:lnTo>
                      <a:pt x="47" y="101"/>
                    </a:lnTo>
                    <a:lnTo>
                      <a:pt x="33" y="111"/>
                    </a:lnTo>
                    <a:lnTo>
                      <a:pt x="18" y="120"/>
                    </a:lnTo>
                    <a:lnTo>
                      <a:pt x="4" y="130"/>
                    </a:lnTo>
                    <a:lnTo>
                      <a:pt x="3" y="115"/>
                    </a:lnTo>
                    <a:lnTo>
                      <a:pt x="2" y="99"/>
                    </a:lnTo>
                    <a:lnTo>
                      <a:pt x="1" y="84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21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53120" y="4773600"/>
                <a:ext cx="21240" cy="27000"/>
              </a:xfrm>
              <a:custGeom>
                <a:avLst/>
                <a:gdLst/>
                <a:ahLst/>
                <a:rect l="l" t="t" r="r" b="b"/>
                <a:pathLst>
                  <a:path w="107" h="121">
                    <a:moveTo>
                      <a:pt x="0" y="60"/>
                    </a:moveTo>
                    <a:lnTo>
                      <a:pt x="13" y="52"/>
                    </a:lnTo>
                    <a:lnTo>
                      <a:pt x="26" y="45"/>
                    </a:lnTo>
                    <a:lnTo>
                      <a:pt x="39" y="37"/>
                    </a:lnTo>
                    <a:lnTo>
                      <a:pt x="52" y="30"/>
                    </a:lnTo>
                    <a:lnTo>
                      <a:pt x="65" y="22"/>
                    </a:lnTo>
                    <a:lnTo>
                      <a:pt x="78" y="15"/>
                    </a:lnTo>
                    <a:lnTo>
                      <a:pt x="91" y="7"/>
                    </a:lnTo>
                    <a:lnTo>
                      <a:pt x="105" y="0"/>
                    </a:lnTo>
                    <a:lnTo>
                      <a:pt x="106" y="13"/>
                    </a:lnTo>
                    <a:lnTo>
                      <a:pt x="106" y="26"/>
                    </a:lnTo>
                    <a:lnTo>
                      <a:pt x="106" y="40"/>
                    </a:lnTo>
                    <a:lnTo>
                      <a:pt x="107" y="53"/>
                    </a:lnTo>
                    <a:lnTo>
                      <a:pt x="94" y="61"/>
                    </a:lnTo>
                    <a:lnTo>
                      <a:pt x="81" y="70"/>
                    </a:lnTo>
                    <a:lnTo>
                      <a:pt x="68" y="78"/>
                    </a:lnTo>
                    <a:lnTo>
                      <a:pt x="55" y="87"/>
                    </a:lnTo>
                    <a:lnTo>
                      <a:pt x="43" y="96"/>
                    </a:lnTo>
                    <a:lnTo>
                      <a:pt x="30" y="104"/>
                    </a:lnTo>
                    <a:lnTo>
                      <a:pt x="17" y="113"/>
                    </a:lnTo>
                    <a:lnTo>
                      <a:pt x="4" y="121"/>
                    </a:lnTo>
                    <a:lnTo>
                      <a:pt x="3" y="106"/>
                    </a:lnTo>
                    <a:lnTo>
                      <a:pt x="2" y="91"/>
                    </a:lnTo>
                    <a:lnTo>
                      <a:pt x="1" y="75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2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5640" y="47736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95" h="113">
                    <a:moveTo>
                      <a:pt x="0" y="53"/>
                    </a:moveTo>
                    <a:lnTo>
                      <a:pt x="12" y="46"/>
                    </a:lnTo>
                    <a:lnTo>
                      <a:pt x="23" y="40"/>
                    </a:lnTo>
                    <a:lnTo>
                      <a:pt x="35" y="33"/>
                    </a:lnTo>
                    <a:lnTo>
                      <a:pt x="47" y="26"/>
                    </a:lnTo>
                    <a:lnTo>
                      <a:pt x="58" y="19"/>
                    </a:lnTo>
                    <a:lnTo>
                      <a:pt x="70" y="13"/>
                    </a:lnTo>
                    <a:lnTo>
                      <a:pt x="81" y="6"/>
                    </a:lnTo>
                    <a:lnTo>
                      <a:pt x="94" y="0"/>
                    </a:lnTo>
                    <a:lnTo>
                      <a:pt x="94" y="13"/>
                    </a:lnTo>
                    <a:lnTo>
                      <a:pt x="94" y="27"/>
                    </a:lnTo>
                    <a:lnTo>
                      <a:pt x="94" y="40"/>
                    </a:lnTo>
                    <a:lnTo>
                      <a:pt x="95" y="54"/>
                    </a:lnTo>
                    <a:lnTo>
                      <a:pt x="83" y="61"/>
                    </a:lnTo>
                    <a:lnTo>
                      <a:pt x="72" y="68"/>
                    </a:lnTo>
                    <a:lnTo>
                      <a:pt x="61" y="75"/>
                    </a:lnTo>
                    <a:lnTo>
                      <a:pt x="50" y="84"/>
                    </a:lnTo>
                    <a:lnTo>
                      <a:pt x="38" y="91"/>
                    </a:lnTo>
                    <a:lnTo>
                      <a:pt x="27" y="98"/>
                    </a:lnTo>
                    <a:lnTo>
                      <a:pt x="16" y="106"/>
                    </a:lnTo>
                    <a:lnTo>
                      <a:pt x="5" y="113"/>
                    </a:lnTo>
                    <a:lnTo>
                      <a:pt x="4" y="98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2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57080" y="477360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2" h="105">
                    <a:moveTo>
                      <a:pt x="0" y="47"/>
                    </a:moveTo>
                    <a:lnTo>
                      <a:pt x="10" y="41"/>
                    </a:lnTo>
                    <a:lnTo>
                      <a:pt x="20" y="36"/>
                    </a:lnTo>
                    <a:lnTo>
                      <a:pt x="30" y="30"/>
                    </a:lnTo>
                    <a:lnTo>
                      <a:pt x="41" y="24"/>
                    </a:lnTo>
                    <a:lnTo>
                      <a:pt x="51" y="18"/>
                    </a:lnTo>
                    <a:lnTo>
                      <a:pt x="61" y="12"/>
                    </a:lnTo>
                    <a:lnTo>
                      <a:pt x="71" y="6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28"/>
                    </a:lnTo>
                    <a:lnTo>
                      <a:pt x="82" y="41"/>
                    </a:lnTo>
                    <a:lnTo>
                      <a:pt x="82" y="55"/>
                    </a:lnTo>
                    <a:lnTo>
                      <a:pt x="72" y="61"/>
                    </a:lnTo>
                    <a:lnTo>
                      <a:pt x="62" y="68"/>
                    </a:lnTo>
                    <a:lnTo>
                      <a:pt x="53" y="74"/>
                    </a:lnTo>
                    <a:lnTo>
                      <a:pt x="44" y="80"/>
                    </a:lnTo>
                    <a:lnTo>
                      <a:pt x="34" y="87"/>
                    </a:lnTo>
                    <a:lnTo>
                      <a:pt x="25" y="93"/>
                    </a:lnTo>
                    <a:lnTo>
                      <a:pt x="15" y="99"/>
                    </a:lnTo>
                    <a:lnTo>
                      <a:pt x="6" y="105"/>
                    </a:lnTo>
                    <a:lnTo>
                      <a:pt x="5" y="91"/>
                    </a:lnTo>
                    <a:lnTo>
                      <a:pt x="3" y="75"/>
                    </a:lnTo>
                    <a:lnTo>
                      <a:pt x="2" y="6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2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59960" y="477360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70" h="96">
                    <a:moveTo>
                      <a:pt x="0" y="40"/>
                    </a:moveTo>
                    <a:lnTo>
                      <a:pt x="9" y="35"/>
                    </a:lnTo>
                    <a:lnTo>
                      <a:pt x="17" y="30"/>
                    </a:lnTo>
                    <a:lnTo>
                      <a:pt x="26" y="25"/>
                    </a:lnTo>
                    <a:lnTo>
                      <a:pt x="35" y="20"/>
                    </a:lnTo>
                    <a:lnTo>
                      <a:pt x="43" y="15"/>
                    </a:lnTo>
                    <a:lnTo>
                      <a:pt x="52" y="10"/>
                    </a:lnTo>
                    <a:lnTo>
                      <a:pt x="60" y="5"/>
                    </a:lnTo>
                    <a:lnTo>
                      <a:pt x="70" y="0"/>
                    </a:lnTo>
                    <a:lnTo>
                      <a:pt x="70" y="14"/>
                    </a:lnTo>
                    <a:lnTo>
                      <a:pt x="70" y="28"/>
                    </a:lnTo>
                    <a:lnTo>
                      <a:pt x="70" y="42"/>
                    </a:lnTo>
                    <a:lnTo>
                      <a:pt x="70" y="56"/>
                    </a:lnTo>
                    <a:lnTo>
                      <a:pt x="61" y="61"/>
                    </a:lnTo>
                    <a:lnTo>
                      <a:pt x="53" y="66"/>
                    </a:lnTo>
                    <a:lnTo>
                      <a:pt x="45" y="71"/>
                    </a:lnTo>
                    <a:lnTo>
                      <a:pt x="38" y="75"/>
                    </a:lnTo>
                    <a:lnTo>
                      <a:pt x="30" y="80"/>
                    </a:lnTo>
                    <a:lnTo>
                      <a:pt x="22" y="86"/>
                    </a:lnTo>
                    <a:lnTo>
                      <a:pt x="15" y="91"/>
                    </a:lnTo>
                    <a:lnTo>
                      <a:pt x="7" y="96"/>
                    </a:lnTo>
                    <a:lnTo>
                      <a:pt x="5" y="81"/>
                    </a:lnTo>
                    <a:lnTo>
                      <a:pt x="3" y="68"/>
                    </a:lnTo>
                    <a:lnTo>
                      <a:pt x="2" y="5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2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62480" y="47736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59" h="87">
                    <a:moveTo>
                      <a:pt x="0" y="33"/>
                    </a:moveTo>
                    <a:lnTo>
                      <a:pt x="7" y="29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9" y="16"/>
                    </a:lnTo>
                    <a:lnTo>
                      <a:pt x="36" y="12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59" y="0"/>
                    </a:lnTo>
                    <a:lnTo>
                      <a:pt x="58" y="14"/>
                    </a:lnTo>
                    <a:lnTo>
                      <a:pt x="58" y="28"/>
                    </a:lnTo>
                    <a:lnTo>
                      <a:pt x="58" y="43"/>
                    </a:lnTo>
                    <a:lnTo>
                      <a:pt x="58" y="57"/>
                    </a:lnTo>
                    <a:lnTo>
                      <a:pt x="52" y="61"/>
                    </a:lnTo>
                    <a:lnTo>
                      <a:pt x="45" y="64"/>
                    </a:lnTo>
                    <a:lnTo>
                      <a:pt x="38" y="68"/>
                    </a:lnTo>
                    <a:lnTo>
                      <a:pt x="32" y="72"/>
                    </a:lnTo>
                    <a:lnTo>
                      <a:pt x="26" y="76"/>
                    </a:lnTo>
                    <a:lnTo>
                      <a:pt x="20" y="79"/>
                    </a:lnTo>
                    <a:lnTo>
                      <a:pt x="14" y="84"/>
                    </a:lnTo>
                    <a:lnTo>
                      <a:pt x="7" y="87"/>
                    </a:lnTo>
                    <a:lnTo>
                      <a:pt x="5" y="73"/>
                    </a:lnTo>
                    <a:lnTo>
                      <a:pt x="4" y="60"/>
                    </a:lnTo>
                    <a:lnTo>
                      <a:pt x="2" y="46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2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64280" y="477360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0" y="26"/>
                    </a:moveTo>
                    <a:lnTo>
                      <a:pt x="47" y="0"/>
                    </a:lnTo>
                    <a:lnTo>
                      <a:pt x="46" y="58"/>
                    </a:lnTo>
                    <a:lnTo>
                      <a:pt x="8" y="7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88680" y="481824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79" h="121">
                    <a:moveTo>
                      <a:pt x="76" y="0"/>
                    </a:moveTo>
                    <a:lnTo>
                      <a:pt x="79" y="69"/>
                    </a:lnTo>
                    <a:lnTo>
                      <a:pt x="0" y="121"/>
                    </a:lnTo>
                    <a:lnTo>
                      <a:pt x="6" y="35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650960" y="2514600"/>
              <a:ext cx="1981080" cy="1320840"/>
              <a:chOff x="1650960" y="2514600"/>
              <a:chExt cx="1981080" cy="132084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2257920" y="2514600"/>
                <a:ext cx="711360" cy="1320840"/>
                <a:chOff x="2257920" y="2514600"/>
                <a:chExt cx="711360" cy="13208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614320" y="3276720"/>
                  <a:ext cx="0" cy="35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2614320" y="2971440"/>
                  <a:ext cx="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2257920" y="2514600"/>
                  <a:ext cx="711360" cy="457200"/>
                  <a:chOff x="2257920" y="2514600"/>
                  <a:chExt cx="711360" cy="4572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2644560" y="2606400"/>
                    <a:ext cx="301680" cy="31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603520" y="2514600"/>
                    <a:ext cx="264600" cy="374400"/>
                    <a:chOff x="2603520" y="2514600"/>
                    <a:chExt cx="264600" cy="374400"/>
                  </a:xfrm>
                </p:grpSpPr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2703600" y="2514600"/>
                      <a:ext cx="164520" cy="302040"/>
                      <a:chOff x="2703600" y="2514600"/>
                      <a:chExt cx="164520" cy="302040"/>
                    </a:xfrm>
                  </p:grpSpPr>
                  <p:grpSp>
                    <p:nvGrpSpPr>
                      <p:cNvPr id="493" name=""/>
                      <p:cNvGrpSpPr/>
                      <p:nvPr/>
                    </p:nvGrpSpPr>
                    <p:grpSpPr>
                      <a:xfrm>
                        <a:off x="2747520" y="2553120"/>
                        <a:ext cx="120600" cy="224640"/>
                        <a:chOff x="2747520" y="2553120"/>
                        <a:chExt cx="120600" cy="224640"/>
                      </a:xfrm>
                    </p:grpSpPr>
                    <p:grpSp>
                      <p:nvGrpSpPr>
                        <p:cNvPr id="494" name=""/>
                        <p:cNvGrpSpPr/>
                        <p:nvPr/>
                      </p:nvGrpSpPr>
                      <p:grpSpPr>
                        <a:xfrm>
                          <a:off x="2747520" y="2553120"/>
                          <a:ext cx="120600" cy="224640"/>
                          <a:chOff x="2747520" y="2553120"/>
                          <a:chExt cx="120600" cy="224640"/>
                        </a:xfrm>
                      </p:grpSpPr>
                      <p:grpSp>
                        <p:nvGrpSpPr>
                          <p:cNvPr id="495" name=""/>
                          <p:cNvGrpSpPr/>
                          <p:nvPr/>
                        </p:nvGrpSpPr>
                        <p:grpSpPr>
                          <a:xfrm>
                            <a:off x="2775240" y="2566800"/>
                            <a:ext cx="92880" cy="181440"/>
                            <a:chOff x="2775240" y="2566800"/>
                            <a:chExt cx="92880" cy="181440"/>
                          </a:xfrm>
                        </p:grpSpPr>
                        <p:grpSp>
                          <p:nvGrpSpPr>
                            <p:cNvPr id="496" name=""/>
                            <p:cNvGrpSpPr/>
                            <p:nvPr/>
                          </p:nvGrpSpPr>
                          <p:grpSpPr>
                            <a:xfrm>
                              <a:off x="2787480" y="2566800"/>
                              <a:ext cx="80640" cy="181440"/>
                              <a:chOff x="2787480" y="2566800"/>
                              <a:chExt cx="80640" cy="181440"/>
                            </a:xfrm>
                          </p:grpSpPr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2827440" y="2673720"/>
                                <a:ext cx="40680" cy="5004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1160" bIns="-111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8" name=""/>
                              <p:cNvSpPr/>
                              <p:nvPr/>
                            </p:nvSpPr>
                            <p:spPr>
                              <a:xfrm>
                                <a:off x="2795040" y="2683440"/>
                                <a:ext cx="52920" cy="6480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" bIns="-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9" name=""/>
                              <p:cNvSpPr/>
                              <p:nvPr/>
                            </p:nvSpPr>
                            <p:spPr>
                              <a:xfrm>
                                <a:off x="2819880" y="2605680"/>
                                <a:ext cx="36000" cy="5076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440" bIns="-10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" name=""/>
                              <p:cNvSpPr/>
                              <p:nvPr/>
                            </p:nvSpPr>
                            <p:spPr>
                              <a:xfrm>
                                <a:off x="2787480" y="2566800"/>
                                <a:ext cx="48240" cy="6480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" bIns="-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1" name=""/>
                              <p:cNvSpPr/>
                              <p:nvPr/>
                            </p:nvSpPr>
                            <p:spPr>
                              <a:xfrm>
                                <a:off x="2818080" y="2604240"/>
                                <a:ext cx="36360" cy="106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1" h="160">
                                    <a:moveTo>
                                      <a:pt x="70" y="159"/>
                                    </a:moveTo>
                                    <a:lnTo>
                                      <a:pt x="39" y="159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9" y="14"/>
                                    </a:lnTo>
                                    <a:lnTo>
                                      <a:pt x="46" y="94"/>
                                    </a:lnTo>
                                    <a:lnTo>
                                      <a:pt x="70" y="159"/>
                                    </a:lnTo>
                                  </a:path>
                                </a:pathLst>
                              </a:cu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2775240" y="2620080"/>
                              <a:ext cx="72720" cy="8892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2775240" y="2673720"/>
                              <a:ext cx="52920" cy="6480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720" bIns="-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2789280" y="2594160"/>
                              <a:ext cx="36720" cy="112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168">
                                  <a:moveTo>
                                    <a:pt x="71" y="29"/>
                                  </a:moveTo>
                                  <a:lnTo>
                                    <a:pt x="62" y="66"/>
                                  </a:lnTo>
                                  <a:lnTo>
                                    <a:pt x="71" y="145"/>
                                  </a:lnTo>
                                  <a:lnTo>
                                    <a:pt x="47" y="167"/>
                                  </a:lnTo>
                                  <a:lnTo>
                                    <a:pt x="0" y="73"/>
                                  </a:lnTo>
                                  <a:lnTo>
                                    <a:pt x="39" y="0"/>
                                  </a:lnTo>
                                  <a:lnTo>
                                    <a:pt x="71" y="29"/>
                                  </a:ln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2775240" y="2727720"/>
                            <a:ext cx="4032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2747520" y="2553120"/>
                            <a:ext cx="493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7" name=""/>
                          <p:cNvSpPr/>
                          <p:nvPr/>
                        </p:nvSpPr>
                        <p:spPr>
                          <a:xfrm>
                            <a:off x="2786040" y="2711520"/>
                            <a:ext cx="2844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37">
                                <a:moveTo>
                                  <a:pt x="55" y="21"/>
                                </a:moveTo>
                                <a:lnTo>
                                  <a:pt x="39" y="36"/>
                                </a:lnTo>
                                <a:lnTo>
                                  <a:pt x="0" y="21"/>
                                </a:lnTo>
                                <a:lnTo>
                                  <a:pt x="39" y="0"/>
                                </a:lnTo>
                                <a:lnTo>
                                  <a:pt x="55" y="21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2781720" y="2580840"/>
                          <a:ext cx="1656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58">
                              <a:moveTo>
                                <a:pt x="15" y="0"/>
                              </a:moveTo>
                              <a:lnTo>
                                <a:pt x="32" y="7"/>
                              </a:lnTo>
                              <a:lnTo>
                                <a:pt x="32" y="57"/>
                              </a:lnTo>
                              <a:lnTo>
                                <a:pt x="0" y="50"/>
                              </a:lnTo>
                              <a:lnTo>
                                <a:pt x="15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280" bIns="-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9" name=""/>
                      <p:cNvGrpSpPr/>
                      <p:nvPr/>
                    </p:nvGrpSpPr>
                    <p:grpSpPr>
                      <a:xfrm>
                        <a:off x="2703600" y="2514600"/>
                        <a:ext cx="112680" cy="272160"/>
                        <a:chOff x="2703600" y="2514600"/>
                        <a:chExt cx="112680" cy="272160"/>
                      </a:xfrm>
                    </p:grpSpPr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2715840" y="2674080"/>
                          <a:ext cx="92880" cy="1126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480" bIns="33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>
                          <a:off x="2723400" y="2596680"/>
                          <a:ext cx="92880" cy="1134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480" bIns="33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703600" y="2514600"/>
                          <a:ext cx="7308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747160" y="2567880"/>
                          <a:ext cx="36720" cy="500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160" bIns="-11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2721960" y="2556720"/>
                          <a:ext cx="64800" cy="10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153">
                              <a:moveTo>
                                <a:pt x="85" y="7"/>
                              </a:moveTo>
                              <a:lnTo>
                                <a:pt x="85" y="21"/>
                              </a:lnTo>
                              <a:lnTo>
                                <a:pt x="116" y="58"/>
                              </a:lnTo>
                              <a:lnTo>
                                <a:pt x="125" y="65"/>
                              </a:lnTo>
                              <a:lnTo>
                                <a:pt x="78" y="152"/>
                              </a:lnTo>
                              <a:lnTo>
                                <a:pt x="0" y="0"/>
                              </a:lnTo>
                              <a:lnTo>
                                <a:pt x="85" y="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>
                          <a:off x="2754360" y="2691720"/>
                          <a:ext cx="399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53">
                              <a:moveTo>
                                <a:pt x="68" y="7"/>
                              </a:moveTo>
                              <a:lnTo>
                                <a:pt x="77" y="22"/>
                              </a:lnTo>
                              <a:lnTo>
                                <a:pt x="0" y="52"/>
                              </a:lnTo>
                              <a:lnTo>
                                <a:pt x="0" y="0"/>
                              </a:lnTo>
                              <a:lnTo>
                                <a:pt x="68" y="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2703600" y="2752560"/>
                        <a:ext cx="49320" cy="64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40" bIns="-1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2734200" y="2745720"/>
                        <a:ext cx="280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51">
                            <a:moveTo>
                              <a:pt x="23" y="50"/>
                            </a:moveTo>
                            <a:lnTo>
                              <a:pt x="54" y="36"/>
                            </a:lnTo>
                            <a:lnTo>
                              <a:pt x="15" y="0"/>
                            </a:lnTo>
                            <a:lnTo>
                              <a:pt x="0" y="14"/>
                            </a:lnTo>
                            <a:lnTo>
                              <a:pt x="23" y="5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603520" y="2809440"/>
                      <a:ext cx="61560" cy="7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651040" y="2809440"/>
                      <a:ext cx="53280" cy="65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678760" y="2790720"/>
                      <a:ext cx="54000" cy="64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2637720" y="2779200"/>
                      <a:ext cx="10044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32">
                          <a:moveTo>
                            <a:pt x="186" y="37"/>
                          </a:moveTo>
                          <a:lnTo>
                            <a:pt x="164" y="44"/>
                          </a:lnTo>
                          <a:lnTo>
                            <a:pt x="108" y="94"/>
                          </a:lnTo>
                          <a:lnTo>
                            <a:pt x="101" y="117"/>
                          </a:lnTo>
                          <a:lnTo>
                            <a:pt x="39" y="117"/>
                          </a:lnTo>
                          <a:lnTo>
                            <a:pt x="31" y="131"/>
                          </a:lnTo>
                          <a:lnTo>
                            <a:pt x="0" y="87"/>
                          </a:lnTo>
                          <a:lnTo>
                            <a:pt x="132" y="0"/>
                          </a:lnTo>
                          <a:lnTo>
                            <a:pt x="195" y="21"/>
                          </a:lnTo>
                          <a:lnTo>
                            <a:pt x="186" y="3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260440" y="2651040"/>
                    <a:ext cx="160200" cy="259920"/>
                    <a:chOff x="2260440" y="2651040"/>
                    <a:chExt cx="160200" cy="259920"/>
                  </a:xfrm>
                </p:grpSpPr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2260440" y="2685240"/>
                      <a:ext cx="88920" cy="157680"/>
                      <a:chOff x="2260440" y="2685240"/>
                      <a:chExt cx="88920" cy="15768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2260440" y="2738880"/>
                        <a:ext cx="41400" cy="50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2268000" y="2777760"/>
                        <a:ext cx="48960" cy="65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" bIns="-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2276280" y="2685240"/>
                        <a:ext cx="7308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2270880" y="2742480"/>
                        <a:ext cx="2844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81">
                            <a:moveTo>
                              <a:pt x="31" y="0"/>
                            </a:moveTo>
                            <a:lnTo>
                              <a:pt x="0" y="14"/>
                            </a:lnTo>
                            <a:lnTo>
                              <a:pt x="0" y="66"/>
                            </a:lnTo>
                            <a:lnTo>
                              <a:pt x="15" y="80"/>
                            </a:lnTo>
                            <a:lnTo>
                              <a:pt x="55" y="66"/>
                            </a:lnTo>
                            <a:lnTo>
                              <a:pt x="31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287800" y="2651040"/>
                      <a:ext cx="132840" cy="259920"/>
                      <a:chOff x="2287800" y="2651040"/>
                      <a:chExt cx="132840" cy="25992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2331720" y="2660400"/>
                        <a:ext cx="8892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2287800" y="2739240"/>
                        <a:ext cx="48960" cy="64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2300040" y="2777400"/>
                        <a:ext cx="6912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2319840" y="2816280"/>
                        <a:ext cx="7308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2324160" y="2714040"/>
                        <a:ext cx="64080" cy="79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080" bIns="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2375640" y="2651040"/>
                        <a:ext cx="40680" cy="50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2342520" y="2697840"/>
                        <a:ext cx="4860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67">
                            <a:moveTo>
                              <a:pt x="0" y="14"/>
                            </a:moveTo>
                            <a:lnTo>
                              <a:pt x="15" y="44"/>
                            </a:lnTo>
                            <a:lnTo>
                              <a:pt x="94" y="66"/>
                            </a:lnTo>
                            <a:lnTo>
                              <a:pt x="94" y="22"/>
                            </a:lnTo>
                            <a:lnTo>
                              <a:pt x="8" y="0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301840" y="2765880"/>
                        <a:ext cx="52920" cy="8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26">
                            <a:moveTo>
                              <a:pt x="64" y="0"/>
                            </a:moveTo>
                            <a:lnTo>
                              <a:pt x="0" y="29"/>
                            </a:lnTo>
                            <a:lnTo>
                              <a:pt x="24" y="59"/>
                            </a:lnTo>
                            <a:lnTo>
                              <a:pt x="24" y="118"/>
                            </a:lnTo>
                            <a:lnTo>
                              <a:pt x="39" y="125"/>
                            </a:lnTo>
                            <a:lnTo>
                              <a:pt x="94" y="88"/>
                            </a:lnTo>
                            <a:lnTo>
                              <a:pt x="103" y="14"/>
                            </a:lnTo>
                            <a:lnTo>
                              <a:pt x="64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2370240" y="2673000"/>
                      <a:ext cx="3276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67">
                          <a:moveTo>
                            <a:pt x="0" y="37"/>
                          </a:moveTo>
                          <a:lnTo>
                            <a:pt x="31" y="0"/>
                          </a:lnTo>
                          <a:lnTo>
                            <a:pt x="63" y="37"/>
                          </a:lnTo>
                          <a:lnTo>
                            <a:pt x="31" y="66"/>
                          </a:lnTo>
                          <a:lnTo>
                            <a:pt x="0" y="3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2444760" y="2552760"/>
                    <a:ext cx="117360" cy="14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541600" y="2538360"/>
                    <a:ext cx="91800" cy="11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624040" y="2658960"/>
                    <a:ext cx="14436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54040" y="2736720"/>
                    <a:ext cx="163440" cy="21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560320" y="2651040"/>
                    <a:ext cx="385920" cy="32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14440" y="2774880"/>
                    <a:ext cx="87120" cy="11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1840" y="2684520"/>
                    <a:ext cx="91800" cy="11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41440" y="2577960"/>
                    <a:ext cx="144360" cy="18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468520" y="2790720"/>
                    <a:ext cx="144360" cy="18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612880" y="2538360"/>
                    <a:ext cx="104760" cy="127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34960" y="2570040"/>
                    <a:ext cx="40824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515">
                        <a:moveTo>
                          <a:pt x="249" y="51"/>
                        </a:moveTo>
                        <a:lnTo>
                          <a:pt x="281" y="14"/>
                        </a:lnTo>
                        <a:lnTo>
                          <a:pt x="428" y="14"/>
                        </a:lnTo>
                        <a:lnTo>
                          <a:pt x="529" y="0"/>
                        </a:lnTo>
                        <a:lnTo>
                          <a:pt x="663" y="65"/>
                        </a:lnTo>
                        <a:lnTo>
                          <a:pt x="732" y="44"/>
                        </a:lnTo>
                        <a:lnTo>
                          <a:pt x="764" y="51"/>
                        </a:lnTo>
                        <a:lnTo>
                          <a:pt x="771" y="202"/>
                        </a:lnTo>
                        <a:lnTo>
                          <a:pt x="795" y="232"/>
                        </a:lnTo>
                        <a:lnTo>
                          <a:pt x="732" y="347"/>
                        </a:lnTo>
                        <a:lnTo>
                          <a:pt x="663" y="260"/>
                        </a:lnTo>
                        <a:lnTo>
                          <a:pt x="646" y="304"/>
                        </a:lnTo>
                        <a:lnTo>
                          <a:pt x="553" y="470"/>
                        </a:lnTo>
                        <a:lnTo>
                          <a:pt x="242" y="514"/>
                        </a:lnTo>
                        <a:lnTo>
                          <a:pt x="78" y="478"/>
                        </a:lnTo>
                        <a:lnTo>
                          <a:pt x="31" y="376"/>
                        </a:lnTo>
                        <a:lnTo>
                          <a:pt x="31" y="275"/>
                        </a:lnTo>
                        <a:lnTo>
                          <a:pt x="0" y="195"/>
                        </a:lnTo>
                        <a:lnTo>
                          <a:pt x="249" y="5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257920" y="2643120"/>
                    <a:ext cx="711360" cy="27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5400" rIns="95400" tIns="47520" bIns="4752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8960" y="3352680"/>
                  <a:ext cx="449280" cy="482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1" name=""/>
              <p:cNvSpPr/>
              <p:nvPr/>
            </p:nvSpPr>
            <p:spPr>
              <a:xfrm>
                <a:off x="1650960" y="3200400"/>
                <a:ext cx="19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66960" y="3429000"/>
                <a:ext cx="7192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95408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32400" y="1909800"/>
              <a:ext cx="313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tspot deployed with HiperLAN2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1657080" y="5410440"/>
              <a:ext cx="762120" cy="609480"/>
              <a:chOff x="1657080" y="5410440"/>
              <a:chExt cx="762120" cy="609480"/>
            </a:xfrm>
          </p:grpSpPr>
          <p:sp>
            <p:nvSpPr>
              <p:cNvPr id="556" name=""/>
              <p:cNvSpPr/>
              <p:nvPr/>
            </p:nvSpPr>
            <p:spPr>
              <a:xfrm>
                <a:off x="1657080" y="574848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1904760" y="5410440"/>
                <a:ext cx="457200" cy="350640"/>
                <a:chOff x="1904760" y="5410440"/>
                <a:chExt cx="457200" cy="3506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904760" y="5410440"/>
                  <a:ext cx="457200" cy="350640"/>
                  <a:chOff x="1904760" y="5410440"/>
                  <a:chExt cx="457200" cy="3506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944720" y="5570640"/>
                    <a:ext cx="368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062080" y="541044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904760" y="5585040"/>
                    <a:ext cx="3682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904760" y="5597640"/>
                    <a:ext cx="355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904760" y="5597640"/>
                    <a:ext cx="3445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904760" y="5597640"/>
                    <a:ext cx="333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904760" y="5597640"/>
                    <a:ext cx="32076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904760" y="5597640"/>
                    <a:ext cx="309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904760" y="5597640"/>
                    <a:ext cx="298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904760" y="5597640"/>
                    <a:ext cx="2872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904760" y="5597640"/>
                    <a:ext cx="274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904760" y="5597640"/>
                    <a:ext cx="263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904760" y="5597640"/>
                    <a:ext cx="252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1904760" y="5597640"/>
                    <a:ext cx="239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904760" y="5597640"/>
                    <a:ext cx="228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904760" y="5597640"/>
                    <a:ext cx="2174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904760" y="5597640"/>
                    <a:ext cx="2066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904760" y="5597640"/>
                    <a:ext cx="19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065320" y="5610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082600" y="56134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98440" y="561528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047680" y="56088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030400" y="56070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014560" y="56041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054160" y="5613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071440" y="56152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087280" y="561816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036520" y="561204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019240" y="56088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003400" y="5607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55600" y="56102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074680" y="56134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090520" y="56167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039760" y="56088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020680" y="56070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006640" y="560412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63520" y="56181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081160" y="56214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097000" y="56232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046240" y="561672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27160" y="561528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012760" y="56120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052360" y="56214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70000" y="5623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08584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35080" y="56181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016000" y="56167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001600" y="56134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054160" y="5618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073240" y="56214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87280" y="562320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036520" y="56167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019240" y="56152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004840" y="56120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073240" y="56246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092320" y="56260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108160" y="5629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55600" y="56214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38320" y="56199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022480" y="5618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620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08116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095200" y="5631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044440" y="56246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027160" y="5623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011320" y="56199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065320" y="56246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082600" y="5626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098440" y="56293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047680" y="562320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30400" y="56214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014560" y="5618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070000" y="56293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087280" y="56325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103480" y="56340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052360" y="56278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035080" y="5626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019240" y="56232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058840" y="5632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076480" y="5634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92320" y="5637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04156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023920" y="56278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008080" y="56260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062080" y="56293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079360" y="56325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095200" y="563400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044440" y="56278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027160" y="5626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011320" y="562320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22480" y="542628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166840" y="56246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184120" y="562608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200320" y="5629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149200" y="56214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131920" y="56199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116080" y="5618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1556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17332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189160" y="56311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138400" y="56246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120760" y="56232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104920" y="56199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158920" y="56246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176200" y="5626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192040" y="56293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141280" y="562320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122200" y="562140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108160" y="5618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165040" y="56311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184120" y="56325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198520" y="56358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147760" y="56278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130120" y="56260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114280" y="56246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154240" y="5632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173320" y="56358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187360" y="56372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136600" y="56311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119320" y="562932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1034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157120" y="563112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174760" y="56325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190600" y="56358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139840" y="562932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122200" y="5626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106360" y="56246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176200" y="56372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193840" y="56390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209680" y="564192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157120" y="56358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139840" y="5634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124000" y="563112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163600" y="56390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182680" y="56419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197080" y="564516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147760" y="56372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128680" y="56358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114280" y="5632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166840" y="56372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184120" y="564048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200320" y="5641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149200" y="56358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131920" y="5634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116080" y="563112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171520" y="5641920"/>
                    <a:ext cx="97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189160" y="56451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205000" y="56484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154240" y="5640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136600" y="563904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120760" y="56358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160360" y="564516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178000" y="564840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193840" y="5650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143080" y="56437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125440" y="564192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109600" y="56390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163600" y="56437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181240" y="5645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197080" y="5648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146320" y="56404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128680" y="5639040"/>
                    <a:ext cx="14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112840" y="563724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160360" y="56484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060280" y="56358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179440" y="56502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077920" y="5637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195280" y="56530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093760" y="56404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143080" y="564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043000" y="5632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125440" y="56437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023920" y="56311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109600" y="564192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009520" y="562932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149200" y="56502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049480" y="5637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168280" y="565308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066760" y="5640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182680" y="565488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082600" y="56419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131920" y="5648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031840" y="56358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114280" y="564696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014560" y="563400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100240" y="56437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998360" y="56293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998360" y="56311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152440" y="5648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050920" y="56358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170080" y="565020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070000" y="5637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185920" y="5653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084400" y="56404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35160" y="56469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033280" y="563400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117520" y="564516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016000" y="5632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101680" y="56419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001600" y="56278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2025360" y="5426280"/>
                  <a:ext cx="29232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025360" y="5426280"/>
                  <a:ext cx="28440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038320" y="5426280"/>
                  <a:ext cx="27612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025360" y="5426280"/>
                  <a:ext cx="26676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025360" y="5426280"/>
                  <a:ext cx="25884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025360" y="5426280"/>
                  <a:ext cx="24948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025360" y="5426280"/>
                  <a:ext cx="24156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025360" y="5426280"/>
                  <a:ext cx="23364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025360" y="5426280"/>
                  <a:ext cx="22392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025360" y="5426280"/>
                  <a:ext cx="21600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025360" y="5426280"/>
                  <a:ext cx="21600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023920" y="5426280"/>
                  <a:ext cx="21744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023920" y="542628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023920" y="542628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023920" y="5426280"/>
                  <a:ext cx="21744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044440" y="5434200"/>
                  <a:ext cx="25416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052360" y="5440320"/>
                  <a:ext cx="24444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052360" y="5440320"/>
                  <a:ext cx="23364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052360" y="5440320"/>
                  <a:ext cx="22248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052360" y="5440320"/>
                  <a:ext cx="21132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052360" y="5440320"/>
                  <a:ext cx="20160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052360" y="5440320"/>
                  <a:ext cx="19080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052360" y="5440320"/>
                  <a:ext cx="17964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052360" y="5440320"/>
                  <a:ext cx="16848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052360" y="5440320"/>
                  <a:ext cx="15876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052360" y="5440320"/>
                  <a:ext cx="14796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052360" y="5440320"/>
                  <a:ext cx="13680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052360" y="5440320"/>
                  <a:ext cx="12564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052360" y="5440320"/>
                  <a:ext cx="11592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052360" y="5440320"/>
                  <a:ext cx="10476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052360" y="5440320"/>
                  <a:ext cx="9396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920600" y="5677200"/>
                  <a:ext cx="27324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066760" y="5585040"/>
                  <a:ext cx="14148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03200" y="560880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020680" y="5580360"/>
                  <a:ext cx="4752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203200" y="5610240"/>
                  <a:ext cx="3492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038320" y="5588280"/>
                  <a:ext cx="2700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203200" y="561348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039760" y="5589720"/>
                  <a:ext cx="2556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205000" y="561528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041560" y="5591160"/>
                  <a:ext cx="2196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238120" y="5613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22480" y="5585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238120" y="5615280"/>
                  <a:ext cx="2088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022480" y="55864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238120" y="56167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023920" y="558828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151000" y="56530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170080" y="565632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184120" y="56581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133360" y="565164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116080" y="565020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100240" y="564696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003400" y="56311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003400" y="562140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987560" y="562932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87560" y="561816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226960" y="56358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216160" y="5632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73160" y="56278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139840" y="5656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158920" y="56581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173320" y="56610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122200" y="565308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104920" y="56516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089080" y="565020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993680" y="563400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992240" y="56232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977840" y="56311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977840" y="56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216160" y="563904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205000" y="56358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62000" y="5629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143080" y="565308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160360" y="56563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176200" y="565812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125440" y="565164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108160" y="565020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092320" y="56469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995480" y="56325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995480" y="5621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979640" y="5629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979640" y="56199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219040" y="5637240"/>
                  <a:ext cx="1296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206440" y="56340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963440" y="562788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011320" y="5637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2014560" y="5635800"/>
                  <a:ext cx="7452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085840" y="56451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073240" y="5591160"/>
                  <a:ext cx="12384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920600" y="5677200"/>
                  <a:ext cx="13500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920600" y="5677200"/>
                  <a:ext cx="13032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20600" y="5677200"/>
                  <a:ext cx="12564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920600" y="5677200"/>
                  <a:ext cx="12096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920600" y="5677200"/>
                  <a:ext cx="11592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919160" y="5677200"/>
                  <a:ext cx="11268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919160" y="5677200"/>
                  <a:ext cx="10800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919160" y="5677200"/>
                  <a:ext cx="10332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919160" y="5677200"/>
                  <a:ext cx="9684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919160" y="5677200"/>
                  <a:ext cx="9216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19160" y="5677200"/>
                  <a:ext cx="87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17720" y="5677200"/>
                  <a:ext cx="8388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17720" y="5677200"/>
                  <a:ext cx="7920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17720" y="5677200"/>
                  <a:ext cx="7452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17720" y="56772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04840" y="5651640"/>
                  <a:ext cx="7308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82520" y="565164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006640" y="5710320"/>
                  <a:ext cx="19044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217600" y="568512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163600" y="562932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170080" y="5629320"/>
                  <a:ext cx="9360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176200" y="5629320"/>
                  <a:ext cx="8748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182680" y="5629320"/>
                  <a:ext cx="8100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87360" y="562932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193840" y="5629320"/>
                  <a:ext cx="6984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200320" y="5629320"/>
                  <a:ext cx="6336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206440" y="562932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211120" y="562932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217600" y="562932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24080" y="562932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30200" y="562932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236680" y="56293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241360" y="5629320"/>
                  <a:ext cx="2232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247840" y="56293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225520" y="568800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228760" y="568800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232000" y="5688000"/>
                  <a:ext cx="4284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235240" y="568800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236680" y="5688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239920" y="56880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243160" y="5688000"/>
                  <a:ext cx="3168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244600" y="5688000"/>
                  <a:ext cx="3024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247840" y="568800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251080" y="568800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253960" y="5688000"/>
                  <a:ext cx="2088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255760" y="5688000"/>
                  <a:ext cx="1908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259000" y="568800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261880" y="56880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263680" y="568800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179440" y="5732640"/>
                  <a:ext cx="1908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5923440" y="5397480"/>
              <a:ext cx="1011960" cy="622440"/>
              <a:chOff x="5923440" y="5397480"/>
              <a:chExt cx="1011960" cy="622440"/>
            </a:xfrm>
          </p:grpSpPr>
          <p:sp>
            <p:nvSpPr>
              <p:cNvPr id="900" name=""/>
              <p:cNvSpPr/>
              <p:nvPr/>
            </p:nvSpPr>
            <p:spPr>
              <a:xfrm>
                <a:off x="5923440" y="57484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00280" y="5397480"/>
                <a:ext cx="456840" cy="3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2" name=""/>
            <p:cNvSpPr/>
            <p:nvPr/>
          </p:nvSpPr>
          <p:spPr>
            <a:xfrm>
              <a:off x="617220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86400" y="3886200"/>
              <a:ext cx="941400" cy="12956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2590200" y="3886200"/>
              <a:ext cx="915120" cy="2133720"/>
              <a:chOff x="2590200" y="3886200"/>
              <a:chExt cx="915120" cy="2133720"/>
            </a:xfrm>
          </p:grpSpPr>
          <p:sp>
            <p:nvSpPr>
              <p:cNvPr id="905" name=""/>
              <p:cNvSpPr/>
              <p:nvPr/>
            </p:nvSpPr>
            <p:spPr>
              <a:xfrm flipH="1">
                <a:off x="2589840" y="3886200"/>
                <a:ext cx="484200" cy="1524240"/>
              </a:xfrm>
              <a:custGeom>
                <a:avLst/>
                <a:gdLst/>
                <a:ahLst/>
                <a:rect l="l" t="t" r="r" b="b"/>
                <a:pathLst>
                  <a:path w="443" h="511">
                    <a:moveTo>
                      <a:pt x="0" y="510"/>
                    </a:moveTo>
                    <a:lnTo>
                      <a:pt x="227" y="209"/>
                    </a:lnTo>
                    <a:lnTo>
                      <a:pt x="214" y="276"/>
                    </a:lnTo>
                    <a:lnTo>
                      <a:pt x="442" y="0"/>
                    </a:lnTo>
                    <a:lnTo>
                      <a:pt x="180" y="357"/>
                    </a:lnTo>
                    <a:lnTo>
                      <a:pt x="184" y="292"/>
                    </a:lnTo>
                    <a:lnTo>
                      <a:pt x="0" y="5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2743200" y="5410440"/>
                <a:ext cx="762120" cy="609480"/>
                <a:chOff x="2743200" y="5410440"/>
                <a:chExt cx="762120" cy="60948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743200" y="5748480"/>
                  <a:ext cx="76212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L2 M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2990520" y="5410440"/>
                  <a:ext cx="456480" cy="350640"/>
                  <a:chOff x="2990520" y="5410440"/>
                  <a:chExt cx="456480" cy="350640"/>
                </a:xfrm>
              </p:grpSpPr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2990520" y="5410440"/>
                    <a:ext cx="456480" cy="350640"/>
                    <a:chOff x="2990520" y="5410440"/>
                    <a:chExt cx="456480" cy="35064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3030120" y="5570640"/>
                      <a:ext cx="36792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4" h="843">
                          <a:moveTo>
                            <a:pt x="1584" y="150"/>
                          </a:moveTo>
                          <a:lnTo>
                            <a:pt x="1584" y="268"/>
                          </a:lnTo>
                          <a:lnTo>
                            <a:pt x="1480" y="333"/>
                          </a:lnTo>
                          <a:lnTo>
                            <a:pt x="1498" y="402"/>
                          </a:lnTo>
                          <a:lnTo>
                            <a:pt x="1440" y="381"/>
                          </a:lnTo>
                          <a:lnTo>
                            <a:pt x="1543" y="385"/>
                          </a:lnTo>
                          <a:lnTo>
                            <a:pt x="1543" y="440"/>
                          </a:lnTo>
                          <a:lnTo>
                            <a:pt x="1624" y="455"/>
                          </a:lnTo>
                          <a:lnTo>
                            <a:pt x="1624" y="514"/>
                          </a:lnTo>
                          <a:lnTo>
                            <a:pt x="1414" y="651"/>
                          </a:lnTo>
                          <a:lnTo>
                            <a:pt x="1368" y="661"/>
                          </a:lnTo>
                          <a:lnTo>
                            <a:pt x="1303" y="692"/>
                          </a:lnTo>
                          <a:lnTo>
                            <a:pt x="1290" y="730"/>
                          </a:lnTo>
                          <a:lnTo>
                            <a:pt x="1046" y="843"/>
                          </a:lnTo>
                          <a:lnTo>
                            <a:pt x="50" y="585"/>
                          </a:lnTo>
                          <a:lnTo>
                            <a:pt x="48" y="524"/>
                          </a:lnTo>
                          <a:lnTo>
                            <a:pt x="265" y="409"/>
                          </a:lnTo>
                          <a:lnTo>
                            <a:pt x="3" y="363"/>
                          </a:lnTo>
                          <a:lnTo>
                            <a:pt x="0" y="290"/>
                          </a:lnTo>
                          <a:lnTo>
                            <a:pt x="511" y="46"/>
                          </a:lnTo>
                          <a:lnTo>
                            <a:pt x="529" y="0"/>
                          </a:lnTo>
                          <a:lnTo>
                            <a:pt x="1584" y="150"/>
                          </a:lnTo>
                          <a:close/>
                        </a:path>
                      </a:pathLst>
                    </a:custGeom>
                    <a:solidFill>
                      <a:srgbClr val="a0ba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3147480" y="5410440"/>
                      <a:ext cx="2995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6" h="884">
                          <a:moveTo>
                            <a:pt x="273" y="0"/>
                          </a:moveTo>
                          <a:lnTo>
                            <a:pt x="546" y="16"/>
                          </a:lnTo>
                          <a:lnTo>
                            <a:pt x="582" y="4"/>
                          </a:lnTo>
                          <a:lnTo>
                            <a:pt x="973" y="36"/>
                          </a:lnTo>
                          <a:lnTo>
                            <a:pt x="1021" y="61"/>
                          </a:lnTo>
                          <a:lnTo>
                            <a:pt x="1306" y="85"/>
                          </a:lnTo>
                          <a:lnTo>
                            <a:pt x="1326" y="122"/>
                          </a:lnTo>
                          <a:lnTo>
                            <a:pt x="1098" y="843"/>
                          </a:lnTo>
                          <a:lnTo>
                            <a:pt x="1058" y="884"/>
                          </a:lnTo>
                          <a:lnTo>
                            <a:pt x="0" y="746"/>
                          </a:lnTo>
                          <a:lnTo>
                            <a:pt x="0" y="709"/>
                          </a:lnTo>
                          <a:lnTo>
                            <a:pt x="20" y="701"/>
                          </a:lnTo>
                          <a:lnTo>
                            <a:pt x="12" y="665"/>
                          </a:lnTo>
                          <a:lnTo>
                            <a:pt x="273" y="0"/>
                          </a:lnTo>
                          <a:close/>
                        </a:path>
                      </a:pathLst>
                    </a:custGeom>
                    <a:solidFill>
                      <a:srgbClr val="a0ba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2990520" y="5585040"/>
                      <a:ext cx="36792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5" h="776">
                          <a:moveTo>
                            <a:pt x="1584" y="150"/>
                          </a:moveTo>
                          <a:lnTo>
                            <a:pt x="1584" y="267"/>
                          </a:lnTo>
                          <a:lnTo>
                            <a:pt x="1380" y="398"/>
                          </a:lnTo>
                          <a:lnTo>
                            <a:pt x="1435" y="401"/>
                          </a:lnTo>
                          <a:lnTo>
                            <a:pt x="1443" y="380"/>
                          </a:lnTo>
                          <a:lnTo>
                            <a:pt x="1544" y="385"/>
                          </a:lnTo>
                          <a:lnTo>
                            <a:pt x="1544" y="440"/>
                          </a:lnTo>
                          <a:lnTo>
                            <a:pt x="1625" y="454"/>
                          </a:lnTo>
                          <a:lnTo>
                            <a:pt x="1625" y="512"/>
                          </a:lnTo>
                          <a:lnTo>
                            <a:pt x="1417" y="650"/>
                          </a:lnTo>
                          <a:lnTo>
                            <a:pt x="1355" y="639"/>
                          </a:lnTo>
                          <a:lnTo>
                            <a:pt x="1291" y="670"/>
                          </a:lnTo>
                          <a:lnTo>
                            <a:pt x="1291" y="729"/>
                          </a:lnTo>
                          <a:lnTo>
                            <a:pt x="1221" y="776"/>
                          </a:lnTo>
                          <a:lnTo>
                            <a:pt x="48" y="585"/>
                          </a:lnTo>
                          <a:lnTo>
                            <a:pt x="48" y="522"/>
                          </a:lnTo>
                          <a:lnTo>
                            <a:pt x="265" y="407"/>
                          </a:lnTo>
                          <a:lnTo>
                            <a:pt x="0" y="364"/>
                          </a:lnTo>
                          <a:lnTo>
                            <a:pt x="0" y="289"/>
                          </a:lnTo>
                          <a:lnTo>
                            <a:pt x="512" y="45"/>
                          </a:lnTo>
                          <a:lnTo>
                            <a:pt x="530" y="0"/>
                          </a:lnTo>
                          <a:lnTo>
                            <a:pt x="1584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2990520" y="5597640"/>
                      <a:ext cx="3553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6" h="394">
                          <a:moveTo>
                            <a:pt x="0" y="230"/>
                          </a:moveTo>
                          <a:lnTo>
                            <a:pt x="479" y="0"/>
                          </a:lnTo>
                          <a:lnTo>
                            <a:pt x="1566" y="144"/>
                          </a:lnTo>
                          <a:lnTo>
                            <a:pt x="1131" y="394"/>
                          </a:lnTo>
                          <a:lnTo>
                            <a:pt x="801" y="348"/>
                          </a:lnTo>
                          <a:lnTo>
                            <a:pt x="735" y="357"/>
                          </a:lnTo>
                          <a:lnTo>
                            <a:pt x="300" y="289"/>
                          </a:lnTo>
                          <a:lnTo>
                            <a:pt x="314" y="271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73a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2990520" y="5597640"/>
                      <a:ext cx="34416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5" h="38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2" y="4"/>
                          </a:lnTo>
                          <a:lnTo>
                            <a:pt x="544" y="8"/>
                          </a:lnTo>
                          <a:lnTo>
                            <a:pt x="576" y="13"/>
                          </a:lnTo>
                          <a:lnTo>
                            <a:pt x="609" y="17"/>
                          </a:lnTo>
                          <a:lnTo>
                            <a:pt x="642" y="21"/>
                          </a:lnTo>
                          <a:lnTo>
                            <a:pt x="674" y="25"/>
                          </a:lnTo>
                          <a:lnTo>
                            <a:pt x="706" y="30"/>
                          </a:lnTo>
                          <a:lnTo>
                            <a:pt x="739" y="34"/>
                          </a:lnTo>
                          <a:lnTo>
                            <a:pt x="771" y="38"/>
                          </a:lnTo>
                          <a:lnTo>
                            <a:pt x="803" y="42"/>
                          </a:lnTo>
                          <a:lnTo>
                            <a:pt x="835" y="47"/>
                          </a:lnTo>
                          <a:lnTo>
                            <a:pt x="868" y="51"/>
                          </a:lnTo>
                          <a:lnTo>
                            <a:pt x="901" y="55"/>
                          </a:lnTo>
                          <a:lnTo>
                            <a:pt x="933" y="59"/>
                          </a:lnTo>
                          <a:lnTo>
                            <a:pt x="966" y="64"/>
                          </a:lnTo>
                          <a:lnTo>
                            <a:pt x="998" y="68"/>
                          </a:lnTo>
                          <a:lnTo>
                            <a:pt x="1030" y="72"/>
                          </a:lnTo>
                          <a:lnTo>
                            <a:pt x="1062" y="77"/>
                          </a:lnTo>
                          <a:lnTo>
                            <a:pt x="1095" y="81"/>
                          </a:lnTo>
                          <a:lnTo>
                            <a:pt x="1127" y="85"/>
                          </a:lnTo>
                          <a:lnTo>
                            <a:pt x="1159" y="89"/>
                          </a:lnTo>
                          <a:lnTo>
                            <a:pt x="1192" y="95"/>
                          </a:lnTo>
                          <a:lnTo>
                            <a:pt x="1224" y="99"/>
                          </a:lnTo>
                          <a:lnTo>
                            <a:pt x="1256" y="103"/>
                          </a:lnTo>
                          <a:lnTo>
                            <a:pt x="1289" y="107"/>
                          </a:lnTo>
                          <a:lnTo>
                            <a:pt x="1321" y="112"/>
                          </a:lnTo>
                          <a:lnTo>
                            <a:pt x="1353" y="116"/>
                          </a:lnTo>
                          <a:lnTo>
                            <a:pt x="1385" y="120"/>
                          </a:lnTo>
                          <a:lnTo>
                            <a:pt x="1418" y="124"/>
                          </a:lnTo>
                          <a:lnTo>
                            <a:pt x="1450" y="129"/>
                          </a:lnTo>
                          <a:lnTo>
                            <a:pt x="1482" y="133"/>
                          </a:lnTo>
                          <a:lnTo>
                            <a:pt x="1515" y="137"/>
                          </a:lnTo>
                          <a:lnTo>
                            <a:pt x="1488" y="152"/>
                          </a:lnTo>
                          <a:lnTo>
                            <a:pt x="1462" y="168"/>
                          </a:lnTo>
                          <a:lnTo>
                            <a:pt x="1436" y="183"/>
                          </a:lnTo>
                          <a:lnTo>
                            <a:pt x="1410" y="199"/>
                          </a:lnTo>
                          <a:lnTo>
                            <a:pt x="1383" y="215"/>
                          </a:lnTo>
                          <a:lnTo>
                            <a:pt x="1357" y="230"/>
                          </a:lnTo>
                          <a:lnTo>
                            <a:pt x="1331" y="246"/>
                          </a:lnTo>
                          <a:lnTo>
                            <a:pt x="1305" y="261"/>
                          </a:lnTo>
                          <a:lnTo>
                            <a:pt x="1278" y="276"/>
                          </a:lnTo>
                          <a:lnTo>
                            <a:pt x="1252" y="293"/>
                          </a:lnTo>
                          <a:lnTo>
                            <a:pt x="1226" y="308"/>
                          </a:lnTo>
                          <a:lnTo>
                            <a:pt x="1200" y="323"/>
                          </a:lnTo>
                          <a:lnTo>
                            <a:pt x="1173" y="339"/>
                          </a:lnTo>
                          <a:lnTo>
                            <a:pt x="1146" y="354"/>
                          </a:lnTo>
                          <a:lnTo>
                            <a:pt x="1120" y="370"/>
                          </a:lnTo>
                          <a:lnTo>
                            <a:pt x="1094" y="386"/>
                          </a:lnTo>
                          <a:lnTo>
                            <a:pt x="1075" y="382"/>
                          </a:lnTo>
                          <a:lnTo>
                            <a:pt x="1054" y="380"/>
                          </a:lnTo>
                          <a:lnTo>
                            <a:pt x="1035" y="377"/>
                          </a:lnTo>
                          <a:lnTo>
                            <a:pt x="1016" y="375"/>
                          </a:lnTo>
                          <a:lnTo>
                            <a:pt x="996" y="372"/>
                          </a:lnTo>
                          <a:lnTo>
                            <a:pt x="977" y="370"/>
                          </a:lnTo>
                          <a:lnTo>
                            <a:pt x="957" y="367"/>
                          </a:lnTo>
                          <a:lnTo>
                            <a:pt x="937" y="364"/>
                          </a:lnTo>
                          <a:lnTo>
                            <a:pt x="917" y="362"/>
                          </a:lnTo>
                          <a:lnTo>
                            <a:pt x="898" y="359"/>
                          </a:lnTo>
                          <a:lnTo>
                            <a:pt x="878" y="357"/>
                          </a:lnTo>
                          <a:lnTo>
                            <a:pt x="859" y="354"/>
                          </a:lnTo>
                          <a:lnTo>
                            <a:pt x="838" y="352"/>
                          </a:lnTo>
                          <a:lnTo>
                            <a:pt x="819" y="349"/>
                          </a:lnTo>
                          <a:lnTo>
                            <a:pt x="799" y="347"/>
                          </a:lnTo>
                          <a:lnTo>
                            <a:pt x="780" y="344"/>
                          </a:lnTo>
                          <a:lnTo>
                            <a:pt x="771" y="345"/>
                          </a:lnTo>
                          <a:lnTo>
                            <a:pt x="762" y="345"/>
                          </a:lnTo>
                          <a:lnTo>
                            <a:pt x="753" y="346"/>
                          </a:lnTo>
                          <a:lnTo>
                            <a:pt x="745" y="347"/>
                          </a:lnTo>
                          <a:lnTo>
                            <a:pt x="736" y="348"/>
                          </a:lnTo>
                          <a:lnTo>
                            <a:pt x="726" y="348"/>
                          </a:lnTo>
                          <a:lnTo>
                            <a:pt x="718" y="349"/>
                          </a:lnTo>
                          <a:lnTo>
                            <a:pt x="709" y="350"/>
                          </a:lnTo>
                          <a:lnTo>
                            <a:pt x="684" y="346"/>
                          </a:lnTo>
                          <a:lnTo>
                            <a:pt x="658" y="342"/>
                          </a:lnTo>
                          <a:lnTo>
                            <a:pt x="633" y="339"/>
                          </a:lnTo>
                          <a:lnTo>
                            <a:pt x="607" y="335"/>
                          </a:lnTo>
                          <a:lnTo>
                            <a:pt x="581" y="331"/>
                          </a:lnTo>
                          <a:lnTo>
                            <a:pt x="556" y="327"/>
                          </a:lnTo>
                          <a:lnTo>
                            <a:pt x="530" y="324"/>
                          </a:lnTo>
                          <a:lnTo>
                            <a:pt x="505" y="320"/>
                          </a:lnTo>
                          <a:lnTo>
                            <a:pt x="479" y="316"/>
                          </a:lnTo>
                          <a:lnTo>
                            <a:pt x="453" y="312"/>
                          </a:lnTo>
                          <a:lnTo>
                            <a:pt x="428" y="308"/>
                          </a:lnTo>
                          <a:lnTo>
                            <a:pt x="402" y="305"/>
                          </a:lnTo>
                          <a:lnTo>
                            <a:pt x="376" y="301"/>
                          </a:lnTo>
                          <a:lnTo>
                            <a:pt x="351" y="297"/>
                          </a:lnTo>
                          <a:lnTo>
                            <a:pt x="325" y="293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93f2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2990520" y="5597640"/>
                      <a:ext cx="333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6" h="37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1" y="4"/>
                          </a:lnTo>
                          <a:lnTo>
                            <a:pt x="541" y="8"/>
                          </a:lnTo>
                          <a:lnTo>
                            <a:pt x="572" y="12"/>
                          </a:lnTo>
                          <a:lnTo>
                            <a:pt x="602" y="16"/>
                          </a:lnTo>
                          <a:lnTo>
                            <a:pt x="634" y="20"/>
                          </a:lnTo>
                          <a:lnTo>
                            <a:pt x="664" y="24"/>
                          </a:lnTo>
                          <a:lnTo>
                            <a:pt x="695" y="28"/>
                          </a:lnTo>
                          <a:lnTo>
                            <a:pt x="726" y="32"/>
                          </a:lnTo>
                          <a:lnTo>
                            <a:pt x="757" y="36"/>
                          </a:lnTo>
                          <a:lnTo>
                            <a:pt x="788" y="40"/>
                          </a:lnTo>
                          <a:lnTo>
                            <a:pt x="818" y="44"/>
                          </a:lnTo>
                          <a:lnTo>
                            <a:pt x="850" y="48"/>
                          </a:lnTo>
                          <a:lnTo>
                            <a:pt x="880" y="52"/>
                          </a:lnTo>
                          <a:lnTo>
                            <a:pt x="911" y="57"/>
                          </a:lnTo>
                          <a:lnTo>
                            <a:pt x="941" y="61"/>
                          </a:lnTo>
                          <a:lnTo>
                            <a:pt x="973" y="65"/>
                          </a:lnTo>
                          <a:lnTo>
                            <a:pt x="1004" y="69"/>
                          </a:lnTo>
                          <a:lnTo>
                            <a:pt x="1034" y="73"/>
                          </a:lnTo>
                          <a:lnTo>
                            <a:pt x="1066" y="77"/>
                          </a:lnTo>
                          <a:lnTo>
                            <a:pt x="1096" y="81"/>
                          </a:lnTo>
                          <a:lnTo>
                            <a:pt x="1127" y="85"/>
                          </a:lnTo>
                          <a:lnTo>
                            <a:pt x="1157" y="89"/>
                          </a:lnTo>
                          <a:lnTo>
                            <a:pt x="1189" y="94"/>
                          </a:lnTo>
                          <a:lnTo>
                            <a:pt x="1220" y="98"/>
                          </a:lnTo>
                          <a:lnTo>
                            <a:pt x="1250" y="102"/>
                          </a:lnTo>
                          <a:lnTo>
                            <a:pt x="1281" y="106"/>
                          </a:lnTo>
                          <a:lnTo>
                            <a:pt x="1312" y="110"/>
                          </a:lnTo>
                          <a:lnTo>
                            <a:pt x="1343" y="115"/>
                          </a:lnTo>
                          <a:lnTo>
                            <a:pt x="1373" y="119"/>
                          </a:lnTo>
                          <a:lnTo>
                            <a:pt x="1405" y="123"/>
                          </a:lnTo>
                          <a:lnTo>
                            <a:pt x="1435" y="127"/>
                          </a:lnTo>
                          <a:lnTo>
                            <a:pt x="1466" y="131"/>
                          </a:lnTo>
                          <a:lnTo>
                            <a:pt x="1441" y="146"/>
                          </a:lnTo>
                          <a:lnTo>
                            <a:pt x="1415" y="161"/>
                          </a:lnTo>
                          <a:lnTo>
                            <a:pt x="1389" y="177"/>
                          </a:lnTo>
                          <a:lnTo>
                            <a:pt x="1363" y="193"/>
                          </a:lnTo>
                          <a:lnTo>
                            <a:pt x="1338" y="208"/>
                          </a:lnTo>
                          <a:lnTo>
                            <a:pt x="1312" y="223"/>
                          </a:lnTo>
                          <a:lnTo>
                            <a:pt x="1286" y="239"/>
                          </a:lnTo>
                          <a:lnTo>
                            <a:pt x="1261" y="254"/>
                          </a:lnTo>
                          <a:lnTo>
                            <a:pt x="1235" y="269"/>
                          </a:lnTo>
                          <a:lnTo>
                            <a:pt x="1210" y="285"/>
                          </a:lnTo>
                          <a:lnTo>
                            <a:pt x="1185" y="301"/>
                          </a:lnTo>
                          <a:lnTo>
                            <a:pt x="1158" y="317"/>
                          </a:lnTo>
                          <a:lnTo>
                            <a:pt x="1133" y="332"/>
                          </a:lnTo>
                          <a:lnTo>
                            <a:pt x="1108" y="347"/>
                          </a:lnTo>
                          <a:lnTo>
                            <a:pt x="1082" y="363"/>
                          </a:lnTo>
                          <a:lnTo>
                            <a:pt x="1056" y="378"/>
                          </a:lnTo>
                          <a:lnTo>
                            <a:pt x="1037" y="376"/>
                          </a:lnTo>
                          <a:lnTo>
                            <a:pt x="1019" y="373"/>
                          </a:lnTo>
                          <a:lnTo>
                            <a:pt x="1000" y="371"/>
                          </a:lnTo>
                          <a:lnTo>
                            <a:pt x="982" y="368"/>
                          </a:lnTo>
                          <a:lnTo>
                            <a:pt x="963" y="366"/>
                          </a:lnTo>
                          <a:lnTo>
                            <a:pt x="944" y="364"/>
                          </a:lnTo>
                          <a:lnTo>
                            <a:pt x="925" y="361"/>
                          </a:lnTo>
                          <a:lnTo>
                            <a:pt x="907" y="359"/>
                          </a:lnTo>
                          <a:lnTo>
                            <a:pt x="888" y="357"/>
                          </a:lnTo>
                          <a:lnTo>
                            <a:pt x="869" y="354"/>
                          </a:lnTo>
                          <a:lnTo>
                            <a:pt x="851" y="352"/>
                          </a:lnTo>
                          <a:lnTo>
                            <a:pt x="831" y="350"/>
                          </a:lnTo>
                          <a:lnTo>
                            <a:pt x="813" y="347"/>
                          </a:lnTo>
                          <a:lnTo>
                            <a:pt x="794" y="345"/>
                          </a:lnTo>
                          <a:lnTo>
                            <a:pt x="776" y="342"/>
                          </a:lnTo>
                          <a:lnTo>
                            <a:pt x="757" y="340"/>
                          </a:lnTo>
                          <a:lnTo>
                            <a:pt x="748" y="340"/>
                          </a:lnTo>
                          <a:lnTo>
                            <a:pt x="739" y="341"/>
                          </a:lnTo>
                          <a:lnTo>
                            <a:pt x="730" y="341"/>
                          </a:lnTo>
                          <a:lnTo>
                            <a:pt x="720" y="342"/>
                          </a:lnTo>
                          <a:lnTo>
                            <a:pt x="711" y="343"/>
                          </a:lnTo>
                          <a:lnTo>
                            <a:pt x="702" y="343"/>
                          </a:lnTo>
                          <a:lnTo>
                            <a:pt x="693" y="344"/>
                          </a:lnTo>
                          <a:lnTo>
                            <a:pt x="684" y="344"/>
                          </a:lnTo>
                          <a:lnTo>
                            <a:pt x="660" y="341"/>
                          </a:lnTo>
                          <a:lnTo>
                            <a:pt x="636" y="337"/>
                          </a:lnTo>
                          <a:lnTo>
                            <a:pt x="612" y="334"/>
                          </a:lnTo>
                          <a:lnTo>
                            <a:pt x="588" y="330"/>
                          </a:lnTo>
                          <a:lnTo>
                            <a:pt x="564" y="327"/>
                          </a:lnTo>
                          <a:lnTo>
                            <a:pt x="540" y="324"/>
                          </a:lnTo>
                          <a:lnTo>
                            <a:pt x="516" y="320"/>
                          </a:lnTo>
                          <a:lnTo>
                            <a:pt x="492" y="317"/>
                          </a:lnTo>
                          <a:lnTo>
                            <a:pt x="468" y="313"/>
                          </a:lnTo>
                          <a:lnTo>
                            <a:pt x="444" y="310"/>
                          </a:lnTo>
                          <a:lnTo>
                            <a:pt x="420" y="307"/>
                          </a:lnTo>
                          <a:lnTo>
                            <a:pt x="396" y="303"/>
                          </a:lnTo>
                          <a:lnTo>
                            <a:pt x="371" y="300"/>
                          </a:lnTo>
                          <a:lnTo>
                            <a:pt x="348" y="296"/>
                          </a:lnTo>
                          <a:lnTo>
                            <a:pt x="324" y="293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93f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2990520" y="5597640"/>
                      <a:ext cx="32040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5" h="370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9" y="4"/>
                          </a:lnTo>
                          <a:lnTo>
                            <a:pt x="538" y="8"/>
                          </a:lnTo>
                          <a:lnTo>
                            <a:pt x="567" y="12"/>
                          </a:lnTo>
                          <a:lnTo>
                            <a:pt x="596" y="15"/>
                          </a:lnTo>
                          <a:lnTo>
                            <a:pt x="626" y="19"/>
                          </a:lnTo>
                          <a:lnTo>
                            <a:pt x="655" y="23"/>
                          </a:lnTo>
                          <a:lnTo>
                            <a:pt x="684" y="27"/>
                          </a:lnTo>
                          <a:lnTo>
                            <a:pt x="713" y="31"/>
                          </a:lnTo>
                          <a:lnTo>
                            <a:pt x="743" y="35"/>
                          </a:lnTo>
                          <a:lnTo>
                            <a:pt x="772" y="38"/>
                          </a:lnTo>
                          <a:lnTo>
                            <a:pt x="801" y="42"/>
                          </a:lnTo>
                          <a:lnTo>
                            <a:pt x="830" y="46"/>
                          </a:lnTo>
                          <a:lnTo>
                            <a:pt x="860" y="50"/>
                          </a:lnTo>
                          <a:lnTo>
                            <a:pt x="889" y="54"/>
                          </a:lnTo>
                          <a:lnTo>
                            <a:pt x="918" y="58"/>
                          </a:lnTo>
                          <a:lnTo>
                            <a:pt x="947" y="61"/>
                          </a:lnTo>
                          <a:lnTo>
                            <a:pt x="976" y="65"/>
                          </a:lnTo>
                          <a:lnTo>
                            <a:pt x="1005" y="69"/>
                          </a:lnTo>
                          <a:lnTo>
                            <a:pt x="1034" y="73"/>
                          </a:lnTo>
                          <a:lnTo>
                            <a:pt x="1064" y="77"/>
                          </a:lnTo>
                          <a:lnTo>
                            <a:pt x="1093" y="81"/>
                          </a:lnTo>
                          <a:lnTo>
                            <a:pt x="1122" y="85"/>
                          </a:lnTo>
                          <a:lnTo>
                            <a:pt x="1151" y="88"/>
                          </a:lnTo>
                          <a:lnTo>
                            <a:pt x="1181" y="92"/>
                          </a:lnTo>
                          <a:lnTo>
                            <a:pt x="1210" y="97"/>
                          </a:lnTo>
                          <a:lnTo>
                            <a:pt x="1239" y="101"/>
                          </a:lnTo>
                          <a:lnTo>
                            <a:pt x="1268" y="105"/>
                          </a:lnTo>
                          <a:lnTo>
                            <a:pt x="1298" y="109"/>
                          </a:lnTo>
                          <a:lnTo>
                            <a:pt x="1327" y="112"/>
                          </a:lnTo>
                          <a:lnTo>
                            <a:pt x="1356" y="116"/>
                          </a:lnTo>
                          <a:lnTo>
                            <a:pt x="1385" y="120"/>
                          </a:lnTo>
                          <a:lnTo>
                            <a:pt x="1415" y="124"/>
                          </a:lnTo>
                          <a:lnTo>
                            <a:pt x="1390" y="139"/>
                          </a:lnTo>
                          <a:lnTo>
                            <a:pt x="1365" y="154"/>
                          </a:lnTo>
                          <a:lnTo>
                            <a:pt x="1341" y="170"/>
                          </a:lnTo>
                          <a:lnTo>
                            <a:pt x="1317" y="185"/>
                          </a:lnTo>
                          <a:lnTo>
                            <a:pt x="1292" y="201"/>
                          </a:lnTo>
                          <a:lnTo>
                            <a:pt x="1267" y="216"/>
                          </a:lnTo>
                          <a:lnTo>
                            <a:pt x="1242" y="232"/>
                          </a:lnTo>
                          <a:lnTo>
                            <a:pt x="1218" y="247"/>
                          </a:lnTo>
                          <a:lnTo>
                            <a:pt x="1193" y="262"/>
                          </a:lnTo>
                          <a:lnTo>
                            <a:pt x="1168" y="278"/>
                          </a:lnTo>
                          <a:lnTo>
                            <a:pt x="1143" y="294"/>
                          </a:lnTo>
                          <a:lnTo>
                            <a:pt x="1118" y="309"/>
                          </a:lnTo>
                          <a:lnTo>
                            <a:pt x="1094" y="324"/>
                          </a:lnTo>
                          <a:lnTo>
                            <a:pt x="1069" y="340"/>
                          </a:lnTo>
                          <a:lnTo>
                            <a:pt x="1044" y="355"/>
                          </a:lnTo>
                          <a:lnTo>
                            <a:pt x="1019" y="370"/>
                          </a:lnTo>
                          <a:lnTo>
                            <a:pt x="1001" y="368"/>
                          </a:lnTo>
                          <a:lnTo>
                            <a:pt x="984" y="366"/>
                          </a:lnTo>
                          <a:lnTo>
                            <a:pt x="966" y="364"/>
                          </a:lnTo>
                          <a:lnTo>
                            <a:pt x="948" y="362"/>
                          </a:lnTo>
                          <a:lnTo>
                            <a:pt x="930" y="360"/>
                          </a:lnTo>
                          <a:lnTo>
                            <a:pt x="912" y="358"/>
                          </a:lnTo>
                          <a:lnTo>
                            <a:pt x="895" y="355"/>
                          </a:lnTo>
                          <a:lnTo>
                            <a:pt x="877" y="353"/>
                          </a:lnTo>
                          <a:lnTo>
                            <a:pt x="859" y="351"/>
                          </a:lnTo>
                          <a:lnTo>
                            <a:pt x="842" y="349"/>
                          </a:lnTo>
                          <a:lnTo>
                            <a:pt x="823" y="347"/>
                          </a:lnTo>
                          <a:lnTo>
                            <a:pt x="806" y="345"/>
                          </a:lnTo>
                          <a:lnTo>
                            <a:pt x="788" y="343"/>
                          </a:lnTo>
                          <a:lnTo>
                            <a:pt x="770" y="340"/>
                          </a:lnTo>
                          <a:lnTo>
                            <a:pt x="753" y="338"/>
                          </a:lnTo>
                          <a:lnTo>
                            <a:pt x="735" y="336"/>
                          </a:lnTo>
                          <a:lnTo>
                            <a:pt x="725" y="336"/>
                          </a:lnTo>
                          <a:lnTo>
                            <a:pt x="715" y="337"/>
                          </a:lnTo>
                          <a:lnTo>
                            <a:pt x="706" y="337"/>
                          </a:lnTo>
                          <a:lnTo>
                            <a:pt x="697" y="337"/>
                          </a:lnTo>
                          <a:lnTo>
                            <a:pt x="687" y="337"/>
                          </a:lnTo>
                          <a:lnTo>
                            <a:pt x="678" y="337"/>
                          </a:lnTo>
                          <a:lnTo>
                            <a:pt x="668" y="337"/>
                          </a:lnTo>
                          <a:lnTo>
                            <a:pt x="659" y="337"/>
                          </a:lnTo>
                          <a:lnTo>
                            <a:pt x="637" y="334"/>
                          </a:lnTo>
                          <a:lnTo>
                            <a:pt x="613" y="331"/>
                          </a:lnTo>
                          <a:lnTo>
                            <a:pt x="591" y="328"/>
                          </a:lnTo>
                          <a:lnTo>
                            <a:pt x="569" y="325"/>
                          </a:lnTo>
                          <a:lnTo>
                            <a:pt x="547" y="322"/>
                          </a:lnTo>
                          <a:lnTo>
                            <a:pt x="524" y="319"/>
                          </a:lnTo>
                          <a:lnTo>
                            <a:pt x="501" y="316"/>
                          </a:lnTo>
                          <a:lnTo>
                            <a:pt x="479" y="313"/>
                          </a:lnTo>
                          <a:lnTo>
                            <a:pt x="457" y="310"/>
                          </a:lnTo>
                          <a:lnTo>
                            <a:pt x="435" y="307"/>
                          </a:lnTo>
                          <a:lnTo>
                            <a:pt x="412" y="304"/>
                          </a:lnTo>
                          <a:lnTo>
                            <a:pt x="389" y="301"/>
                          </a:lnTo>
                          <a:lnTo>
                            <a:pt x="367" y="298"/>
                          </a:lnTo>
                          <a:lnTo>
                            <a:pt x="345" y="295"/>
                          </a:lnTo>
                          <a:lnTo>
                            <a:pt x="322" y="292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c44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2990520" y="5597640"/>
                      <a:ext cx="309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4" h="363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7" y="4"/>
                          </a:lnTo>
                          <a:lnTo>
                            <a:pt x="535" y="7"/>
                          </a:lnTo>
                          <a:lnTo>
                            <a:pt x="562" y="11"/>
                          </a:lnTo>
                          <a:lnTo>
                            <a:pt x="590" y="14"/>
                          </a:lnTo>
                          <a:lnTo>
                            <a:pt x="618" y="18"/>
                          </a:lnTo>
                          <a:lnTo>
                            <a:pt x="645" y="21"/>
                          </a:lnTo>
                          <a:lnTo>
                            <a:pt x="673" y="25"/>
                          </a:lnTo>
                          <a:lnTo>
                            <a:pt x="700" y="29"/>
                          </a:lnTo>
                          <a:lnTo>
                            <a:pt x="729" y="32"/>
                          </a:lnTo>
                          <a:lnTo>
                            <a:pt x="756" y="36"/>
                          </a:lnTo>
                          <a:lnTo>
                            <a:pt x="783" y="40"/>
                          </a:lnTo>
                          <a:lnTo>
                            <a:pt x="811" y="43"/>
                          </a:lnTo>
                          <a:lnTo>
                            <a:pt x="838" y="47"/>
                          </a:lnTo>
                          <a:lnTo>
                            <a:pt x="867" y="50"/>
                          </a:lnTo>
                          <a:lnTo>
                            <a:pt x="894" y="54"/>
                          </a:lnTo>
                          <a:lnTo>
                            <a:pt x="922" y="58"/>
                          </a:lnTo>
                          <a:lnTo>
                            <a:pt x="949" y="61"/>
                          </a:lnTo>
                          <a:lnTo>
                            <a:pt x="977" y="65"/>
                          </a:lnTo>
                          <a:lnTo>
                            <a:pt x="1005" y="69"/>
                          </a:lnTo>
                          <a:lnTo>
                            <a:pt x="1032" y="72"/>
                          </a:lnTo>
                          <a:lnTo>
                            <a:pt x="1060" y="76"/>
                          </a:lnTo>
                          <a:lnTo>
                            <a:pt x="1088" y="79"/>
                          </a:lnTo>
                          <a:lnTo>
                            <a:pt x="1115" y="83"/>
                          </a:lnTo>
                          <a:lnTo>
                            <a:pt x="1143" y="87"/>
                          </a:lnTo>
                          <a:lnTo>
                            <a:pt x="1170" y="90"/>
                          </a:lnTo>
                          <a:lnTo>
                            <a:pt x="1199" y="95"/>
                          </a:lnTo>
                          <a:lnTo>
                            <a:pt x="1226" y="99"/>
                          </a:lnTo>
                          <a:lnTo>
                            <a:pt x="1253" y="102"/>
                          </a:lnTo>
                          <a:lnTo>
                            <a:pt x="1281" y="106"/>
                          </a:lnTo>
                          <a:lnTo>
                            <a:pt x="1309" y="110"/>
                          </a:lnTo>
                          <a:lnTo>
                            <a:pt x="1337" y="113"/>
                          </a:lnTo>
                          <a:lnTo>
                            <a:pt x="1364" y="117"/>
                          </a:lnTo>
                          <a:lnTo>
                            <a:pt x="1340" y="132"/>
                          </a:lnTo>
                          <a:lnTo>
                            <a:pt x="1317" y="147"/>
                          </a:lnTo>
                          <a:lnTo>
                            <a:pt x="1293" y="163"/>
                          </a:lnTo>
                          <a:lnTo>
                            <a:pt x="1268" y="178"/>
                          </a:lnTo>
                          <a:lnTo>
                            <a:pt x="1245" y="194"/>
                          </a:lnTo>
                          <a:lnTo>
                            <a:pt x="1221" y="209"/>
                          </a:lnTo>
                          <a:lnTo>
                            <a:pt x="1197" y="225"/>
                          </a:lnTo>
                          <a:lnTo>
                            <a:pt x="1173" y="240"/>
                          </a:lnTo>
                          <a:lnTo>
                            <a:pt x="1149" y="255"/>
                          </a:lnTo>
                          <a:lnTo>
                            <a:pt x="1125" y="271"/>
                          </a:lnTo>
                          <a:lnTo>
                            <a:pt x="1101" y="287"/>
                          </a:lnTo>
                          <a:lnTo>
                            <a:pt x="1078" y="302"/>
                          </a:lnTo>
                          <a:lnTo>
                            <a:pt x="1053" y="317"/>
                          </a:lnTo>
                          <a:lnTo>
                            <a:pt x="1029" y="333"/>
                          </a:lnTo>
                          <a:lnTo>
                            <a:pt x="1006" y="348"/>
                          </a:lnTo>
                          <a:lnTo>
                            <a:pt x="982" y="363"/>
                          </a:lnTo>
                          <a:lnTo>
                            <a:pt x="965" y="361"/>
                          </a:lnTo>
                          <a:lnTo>
                            <a:pt x="948" y="359"/>
                          </a:lnTo>
                          <a:lnTo>
                            <a:pt x="931" y="357"/>
                          </a:lnTo>
                          <a:lnTo>
                            <a:pt x="914" y="355"/>
                          </a:lnTo>
                          <a:lnTo>
                            <a:pt x="898" y="354"/>
                          </a:lnTo>
                          <a:lnTo>
                            <a:pt x="881" y="352"/>
                          </a:lnTo>
                          <a:lnTo>
                            <a:pt x="864" y="350"/>
                          </a:lnTo>
                          <a:lnTo>
                            <a:pt x="848" y="348"/>
                          </a:lnTo>
                          <a:lnTo>
                            <a:pt x="830" y="346"/>
                          </a:lnTo>
                          <a:lnTo>
                            <a:pt x="813" y="344"/>
                          </a:lnTo>
                          <a:lnTo>
                            <a:pt x="796" y="342"/>
                          </a:lnTo>
                          <a:lnTo>
                            <a:pt x="780" y="340"/>
                          </a:lnTo>
                          <a:lnTo>
                            <a:pt x="763" y="338"/>
                          </a:lnTo>
                          <a:lnTo>
                            <a:pt x="746" y="336"/>
                          </a:lnTo>
                          <a:lnTo>
                            <a:pt x="730" y="334"/>
                          </a:lnTo>
                          <a:lnTo>
                            <a:pt x="712" y="332"/>
                          </a:lnTo>
                          <a:lnTo>
                            <a:pt x="702" y="332"/>
                          </a:lnTo>
                          <a:lnTo>
                            <a:pt x="693" y="332"/>
                          </a:lnTo>
                          <a:lnTo>
                            <a:pt x="683" y="332"/>
                          </a:lnTo>
                          <a:lnTo>
                            <a:pt x="673" y="331"/>
                          </a:lnTo>
                          <a:lnTo>
                            <a:pt x="663" y="331"/>
                          </a:lnTo>
                          <a:lnTo>
                            <a:pt x="654" y="331"/>
                          </a:lnTo>
                          <a:lnTo>
                            <a:pt x="644" y="331"/>
                          </a:lnTo>
                          <a:lnTo>
                            <a:pt x="634" y="331"/>
                          </a:lnTo>
                          <a:lnTo>
                            <a:pt x="612" y="328"/>
                          </a:lnTo>
                          <a:lnTo>
                            <a:pt x="591" y="326"/>
                          </a:lnTo>
                          <a:lnTo>
                            <a:pt x="571" y="323"/>
                          </a:lnTo>
                          <a:lnTo>
                            <a:pt x="550" y="320"/>
                          </a:lnTo>
                          <a:lnTo>
                            <a:pt x="529" y="318"/>
                          </a:lnTo>
                          <a:lnTo>
                            <a:pt x="508" y="315"/>
                          </a:lnTo>
                          <a:lnTo>
                            <a:pt x="487" y="313"/>
                          </a:lnTo>
                          <a:lnTo>
                            <a:pt x="466" y="310"/>
                          </a:lnTo>
                          <a:lnTo>
                            <a:pt x="445" y="307"/>
                          </a:lnTo>
                          <a:lnTo>
                            <a:pt x="425" y="305"/>
                          </a:lnTo>
                          <a:lnTo>
                            <a:pt x="404" y="302"/>
                          </a:lnTo>
                          <a:lnTo>
                            <a:pt x="383" y="299"/>
                          </a:lnTo>
                          <a:lnTo>
                            <a:pt x="362" y="297"/>
                          </a:lnTo>
                          <a:lnTo>
                            <a:pt x="341" y="294"/>
                          </a:lnTo>
                          <a:lnTo>
                            <a:pt x="321" y="292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c473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2990520" y="5597640"/>
                      <a:ext cx="2980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3" h="35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6" y="3"/>
                          </a:lnTo>
                          <a:lnTo>
                            <a:pt x="532" y="7"/>
                          </a:lnTo>
                          <a:lnTo>
                            <a:pt x="557" y="10"/>
                          </a:lnTo>
                          <a:lnTo>
                            <a:pt x="583" y="14"/>
                          </a:lnTo>
                          <a:lnTo>
                            <a:pt x="609" y="17"/>
                          </a:lnTo>
                          <a:lnTo>
                            <a:pt x="636" y="20"/>
                          </a:lnTo>
                          <a:lnTo>
                            <a:pt x="662" y="24"/>
                          </a:lnTo>
                          <a:lnTo>
                            <a:pt x="687" y="27"/>
                          </a:lnTo>
                          <a:lnTo>
                            <a:pt x="713" y="31"/>
                          </a:lnTo>
                          <a:lnTo>
                            <a:pt x="740" y="34"/>
                          </a:lnTo>
                          <a:lnTo>
                            <a:pt x="766" y="37"/>
                          </a:lnTo>
                          <a:lnTo>
                            <a:pt x="792" y="41"/>
                          </a:lnTo>
                          <a:lnTo>
                            <a:pt x="818" y="44"/>
                          </a:lnTo>
                          <a:lnTo>
                            <a:pt x="844" y="48"/>
                          </a:lnTo>
                          <a:lnTo>
                            <a:pt x="870" y="51"/>
                          </a:lnTo>
                          <a:lnTo>
                            <a:pt x="896" y="54"/>
                          </a:lnTo>
                          <a:lnTo>
                            <a:pt x="922" y="58"/>
                          </a:lnTo>
                          <a:lnTo>
                            <a:pt x="948" y="61"/>
                          </a:lnTo>
                          <a:lnTo>
                            <a:pt x="974" y="65"/>
                          </a:lnTo>
                          <a:lnTo>
                            <a:pt x="1000" y="68"/>
                          </a:lnTo>
                          <a:lnTo>
                            <a:pt x="1026" y="72"/>
                          </a:lnTo>
                          <a:lnTo>
                            <a:pt x="1052" y="75"/>
                          </a:lnTo>
                          <a:lnTo>
                            <a:pt x="1079" y="78"/>
                          </a:lnTo>
                          <a:lnTo>
                            <a:pt x="1105" y="82"/>
                          </a:lnTo>
                          <a:lnTo>
                            <a:pt x="1130" y="85"/>
                          </a:lnTo>
                          <a:lnTo>
                            <a:pt x="1156" y="89"/>
                          </a:lnTo>
                          <a:lnTo>
                            <a:pt x="1183" y="92"/>
                          </a:lnTo>
                          <a:lnTo>
                            <a:pt x="1209" y="96"/>
                          </a:lnTo>
                          <a:lnTo>
                            <a:pt x="1235" y="100"/>
                          </a:lnTo>
                          <a:lnTo>
                            <a:pt x="1260" y="103"/>
                          </a:lnTo>
                          <a:lnTo>
                            <a:pt x="1286" y="107"/>
                          </a:lnTo>
                          <a:lnTo>
                            <a:pt x="1313" y="110"/>
                          </a:lnTo>
                          <a:lnTo>
                            <a:pt x="1290" y="125"/>
                          </a:lnTo>
                          <a:lnTo>
                            <a:pt x="1267" y="141"/>
                          </a:lnTo>
                          <a:lnTo>
                            <a:pt x="1244" y="156"/>
                          </a:lnTo>
                          <a:lnTo>
                            <a:pt x="1221" y="171"/>
                          </a:lnTo>
                          <a:lnTo>
                            <a:pt x="1198" y="187"/>
                          </a:lnTo>
                          <a:lnTo>
                            <a:pt x="1176" y="203"/>
                          </a:lnTo>
                          <a:lnTo>
                            <a:pt x="1152" y="218"/>
                          </a:lnTo>
                          <a:lnTo>
                            <a:pt x="1129" y="233"/>
                          </a:lnTo>
                          <a:lnTo>
                            <a:pt x="1106" y="249"/>
                          </a:lnTo>
                          <a:lnTo>
                            <a:pt x="1083" y="264"/>
                          </a:lnTo>
                          <a:lnTo>
                            <a:pt x="1059" y="279"/>
                          </a:lnTo>
                          <a:lnTo>
                            <a:pt x="1036" y="295"/>
                          </a:lnTo>
                          <a:lnTo>
                            <a:pt x="1014" y="310"/>
                          </a:lnTo>
                          <a:lnTo>
                            <a:pt x="991" y="326"/>
                          </a:lnTo>
                          <a:lnTo>
                            <a:pt x="968" y="341"/>
                          </a:lnTo>
                          <a:lnTo>
                            <a:pt x="944" y="356"/>
                          </a:lnTo>
                          <a:lnTo>
                            <a:pt x="928" y="354"/>
                          </a:lnTo>
                          <a:lnTo>
                            <a:pt x="912" y="353"/>
                          </a:lnTo>
                          <a:lnTo>
                            <a:pt x="897" y="351"/>
                          </a:lnTo>
                          <a:lnTo>
                            <a:pt x="881" y="349"/>
                          </a:lnTo>
                          <a:lnTo>
                            <a:pt x="865" y="348"/>
                          </a:lnTo>
                          <a:lnTo>
                            <a:pt x="849" y="346"/>
                          </a:lnTo>
                          <a:lnTo>
                            <a:pt x="833" y="344"/>
                          </a:lnTo>
                          <a:lnTo>
                            <a:pt x="817" y="342"/>
                          </a:lnTo>
                          <a:lnTo>
                            <a:pt x="801" y="341"/>
                          </a:lnTo>
                          <a:lnTo>
                            <a:pt x="785" y="339"/>
                          </a:lnTo>
                          <a:lnTo>
                            <a:pt x="769" y="337"/>
                          </a:lnTo>
                          <a:lnTo>
                            <a:pt x="754" y="335"/>
                          </a:lnTo>
                          <a:lnTo>
                            <a:pt x="738" y="334"/>
                          </a:lnTo>
                          <a:lnTo>
                            <a:pt x="721" y="332"/>
                          </a:lnTo>
                          <a:lnTo>
                            <a:pt x="705" y="330"/>
                          </a:lnTo>
                          <a:lnTo>
                            <a:pt x="689" y="328"/>
                          </a:lnTo>
                          <a:lnTo>
                            <a:pt x="679" y="328"/>
                          </a:lnTo>
                          <a:lnTo>
                            <a:pt x="669" y="327"/>
                          </a:lnTo>
                          <a:lnTo>
                            <a:pt x="659" y="327"/>
                          </a:lnTo>
                          <a:lnTo>
                            <a:pt x="649" y="326"/>
                          </a:lnTo>
                          <a:lnTo>
                            <a:pt x="639" y="326"/>
                          </a:lnTo>
                          <a:lnTo>
                            <a:pt x="629" y="326"/>
                          </a:lnTo>
                          <a:lnTo>
                            <a:pt x="619" y="325"/>
                          </a:lnTo>
                          <a:lnTo>
                            <a:pt x="608" y="325"/>
                          </a:lnTo>
                          <a:lnTo>
                            <a:pt x="589" y="323"/>
                          </a:lnTo>
                          <a:lnTo>
                            <a:pt x="570" y="320"/>
                          </a:lnTo>
                          <a:lnTo>
                            <a:pt x="551" y="318"/>
                          </a:lnTo>
                          <a:lnTo>
                            <a:pt x="532" y="316"/>
                          </a:lnTo>
                          <a:lnTo>
                            <a:pt x="512" y="314"/>
                          </a:lnTo>
                          <a:lnTo>
                            <a:pt x="492" y="311"/>
                          </a:lnTo>
                          <a:lnTo>
                            <a:pt x="473" y="309"/>
                          </a:lnTo>
                          <a:lnTo>
                            <a:pt x="454" y="307"/>
                          </a:lnTo>
                          <a:lnTo>
                            <a:pt x="435" y="305"/>
                          </a:lnTo>
                          <a:lnTo>
                            <a:pt x="416" y="302"/>
                          </a:lnTo>
                          <a:lnTo>
                            <a:pt x="397" y="300"/>
                          </a:lnTo>
                          <a:lnTo>
                            <a:pt x="377" y="298"/>
                          </a:lnTo>
                          <a:lnTo>
                            <a:pt x="357" y="296"/>
                          </a:lnTo>
                          <a:lnTo>
                            <a:pt x="338" y="293"/>
                          </a:lnTo>
                          <a:lnTo>
                            <a:pt x="319" y="291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f49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2990520" y="5597640"/>
                      <a:ext cx="28692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3" h="34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4" y="3"/>
                          </a:lnTo>
                          <a:lnTo>
                            <a:pt x="529" y="6"/>
                          </a:lnTo>
                          <a:lnTo>
                            <a:pt x="553" y="10"/>
                          </a:lnTo>
                          <a:lnTo>
                            <a:pt x="577" y="13"/>
                          </a:lnTo>
                          <a:lnTo>
                            <a:pt x="601" y="16"/>
                          </a:lnTo>
                          <a:lnTo>
                            <a:pt x="627" y="19"/>
                          </a:lnTo>
                          <a:lnTo>
                            <a:pt x="651" y="22"/>
                          </a:lnTo>
                          <a:lnTo>
                            <a:pt x="675" y="26"/>
                          </a:lnTo>
                          <a:lnTo>
                            <a:pt x="699" y="29"/>
                          </a:lnTo>
                          <a:lnTo>
                            <a:pt x="724" y="32"/>
                          </a:lnTo>
                          <a:lnTo>
                            <a:pt x="749" y="35"/>
                          </a:lnTo>
                          <a:lnTo>
                            <a:pt x="773" y="38"/>
                          </a:lnTo>
                          <a:lnTo>
                            <a:pt x="797" y="42"/>
                          </a:lnTo>
                          <a:lnTo>
                            <a:pt x="822" y="45"/>
                          </a:lnTo>
                          <a:lnTo>
                            <a:pt x="847" y="48"/>
                          </a:lnTo>
                          <a:lnTo>
                            <a:pt x="871" y="51"/>
                          </a:lnTo>
                          <a:lnTo>
                            <a:pt x="895" y="54"/>
                          </a:lnTo>
                          <a:lnTo>
                            <a:pt x="920" y="58"/>
                          </a:lnTo>
                          <a:lnTo>
                            <a:pt x="944" y="61"/>
                          </a:lnTo>
                          <a:lnTo>
                            <a:pt x="969" y="64"/>
                          </a:lnTo>
                          <a:lnTo>
                            <a:pt x="993" y="67"/>
                          </a:lnTo>
                          <a:lnTo>
                            <a:pt x="1018" y="70"/>
                          </a:lnTo>
                          <a:lnTo>
                            <a:pt x="1042" y="74"/>
                          </a:lnTo>
                          <a:lnTo>
                            <a:pt x="1067" y="77"/>
                          </a:lnTo>
                          <a:lnTo>
                            <a:pt x="1092" y="80"/>
                          </a:lnTo>
                          <a:lnTo>
                            <a:pt x="1116" y="83"/>
                          </a:lnTo>
                          <a:lnTo>
                            <a:pt x="1140" y="87"/>
                          </a:lnTo>
                          <a:lnTo>
                            <a:pt x="1165" y="90"/>
                          </a:lnTo>
                          <a:lnTo>
                            <a:pt x="1190" y="94"/>
                          </a:lnTo>
                          <a:lnTo>
                            <a:pt x="1214" y="97"/>
                          </a:lnTo>
                          <a:lnTo>
                            <a:pt x="1239" y="101"/>
                          </a:lnTo>
                          <a:lnTo>
                            <a:pt x="1263" y="104"/>
                          </a:lnTo>
                          <a:lnTo>
                            <a:pt x="1241" y="119"/>
                          </a:lnTo>
                          <a:lnTo>
                            <a:pt x="1219" y="134"/>
                          </a:lnTo>
                          <a:lnTo>
                            <a:pt x="1197" y="149"/>
                          </a:lnTo>
                          <a:lnTo>
                            <a:pt x="1174" y="165"/>
                          </a:lnTo>
                          <a:lnTo>
                            <a:pt x="1151" y="180"/>
                          </a:lnTo>
                          <a:lnTo>
                            <a:pt x="1129" y="196"/>
                          </a:lnTo>
                          <a:lnTo>
                            <a:pt x="1107" y="211"/>
                          </a:lnTo>
                          <a:lnTo>
                            <a:pt x="1085" y="226"/>
                          </a:lnTo>
                          <a:lnTo>
                            <a:pt x="1062" y="241"/>
                          </a:lnTo>
                          <a:lnTo>
                            <a:pt x="1040" y="256"/>
                          </a:lnTo>
                          <a:lnTo>
                            <a:pt x="1018" y="271"/>
                          </a:lnTo>
                          <a:lnTo>
                            <a:pt x="996" y="287"/>
                          </a:lnTo>
                          <a:lnTo>
                            <a:pt x="974" y="303"/>
                          </a:lnTo>
                          <a:lnTo>
                            <a:pt x="952" y="318"/>
                          </a:lnTo>
                          <a:lnTo>
                            <a:pt x="929" y="333"/>
                          </a:lnTo>
                          <a:lnTo>
                            <a:pt x="907" y="348"/>
                          </a:lnTo>
                          <a:lnTo>
                            <a:pt x="892" y="347"/>
                          </a:lnTo>
                          <a:lnTo>
                            <a:pt x="877" y="345"/>
                          </a:lnTo>
                          <a:lnTo>
                            <a:pt x="863" y="344"/>
                          </a:lnTo>
                          <a:lnTo>
                            <a:pt x="848" y="342"/>
                          </a:lnTo>
                          <a:lnTo>
                            <a:pt x="832" y="341"/>
                          </a:lnTo>
                          <a:lnTo>
                            <a:pt x="817" y="339"/>
                          </a:lnTo>
                          <a:lnTo>
                            <a:pt x="802" y="338"/>
                          </a:lnTo>
                          <a:lnTo>
                            <a:pt x="787" y="336"/>
                          </a:lnTo>
                          <a:lnTo>
                            <a:pt x="773" y="335"/>
                          </a:lnTo>
                          <a:lnTo>
                            <a:pt x="758" y="334"/>
                          </a:lnTo>
                          <a:lnTo>
                            <a:pt x="743" y="332"/>
                          </a:lnTo>
                          <a:lnTo>
                            <a:pt x="728" y="331"/>
                          </a:lnTo>
                          <a:lnTo>
                            <a:pt x="712" y="329"/>
                          </a:lnTo>
                          <a:lnTo>
                            <a:pt x="697" y="328"/>
                          </a:lnTo>
                          <a:lnTo>
                            <a:pt x="682" y="326"/>
                          </a:lnTo>
                          <a:lnTo>
                            <a:pt x="667" y="325"/>
                          </a:lnTo>
                          <a:lnTo>
                            <a:pt x="657" y="324"/>
                          </a:lnTo>
                          <a:lnTo>
                            <a:pt x="646" y="323"/>
                          </a:lnTo>
                          <a:lnTo>
                            <a:pt x="636" y="322"/>
                          </a:lnTo>
                          <a:lnTo>
                            <a:pt x="625" y="321"/>
                          </a:lnTo>
                          <a:lnTo>
                            <a:pt x="614" y="321"/>
                          </a:lnTo>
                          <a:lnTo>
                            <a:pt x="603" y="320"/>
                          </a:lnTo>
                          <a:lnTo>
                            <a:pt x="593" y="319"/>
                          </a:lnTo>
                          <a:lnTo>
                            <a:pt x="583" y="318"/>
                          </a:lnTo>
                          <a:lnTo>
                            <a:pt x="565" y="316"/>
                          </a:lnTo>
                          <a:lnTo>
                            <a:pt x="548" y="315"/>
                          </a:lnTo>
                          <a:lnTo>
                            <a:pt x="530" y="313"/>
                          </a:lnTo>
                          <a:lnTo>
                            <a:pt x="513" y="311"/>
                          </a:lnTo>
                          <a:lnTo>
                            <a:pt x="494" y="309"/>
                          </a:lnTo>
                          <a:lnTo>
                            <a:pt x="477" y="308"/>
                          </a:lnTo>
                          <a:lnTo>
                            <a:pt x="459" y="306"/>
                          </a:lnTo>
                          <a:lnTo>
                            <a:pt x="442" y="304"/>
                          </a:lnTo>
                          <a:lnTo>
                            <a:pt x="424" y="302"/>
                          </a:lnTo>
                          <a:lnTo>
                            <a:pt x="406" y="300"/>
                          </a:lnTo>
                          <a:lnTo>
                            <a:pt x="388" y="298"/>
                          </a:lnTo>
                          <a:lnTo>
                            <a:pt x="370" y="296"/>
                          </a:lnTo>
                          <a:lnTo>
                            <a:pt x="353" y="295"/>
                          </a:lnTo>
                          <a:lnTo>
                            <a:pt x="335" y="293"/>
                          </a:lnTo>
                          <a:lnTo>
                            <a:pt x="318" y="291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f4c4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2990520" y="5597640"/>
                      <a:ext cx="27432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2" h="341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2" y="3"/>
                          </a:lnTo>
                          <a:lnTo>
                            <a:pt x="525" y="6"/>
                          </a:lnTo>
                          <a:lnTo>
                            <a:pt x="548" y="9"/>
                          </a:lnTo>
                          <a:lnTo>
                            <a:pt x="571" y="12"/>
                          </a:lnTo>
                          <a:lnTo>
                            <a:pt x="593" y="15"/>
                          </a:lnTo>
                          <a:lnTo>
                            <a:pt x="617" y="18"/>
                          </a:lnTo>
                          <a:lnTo>
                            <a:pt x="640" y="21"/>
                          </a:lnTo>
                          <a:lnTo>
                            <a:pt x="663" y="24"/>
                          </a:lnTo>
                          <a:lnTo>
                            <a:pt x="685" y="27"/>
                          </a:lnTo>
                          <a:lnTo>
                            <a:pt x="708" y="30"/>
                          </a:lnTo>
                          <a:lnTo>
                            <a:pt x="732" y="33"/>
                          </a:lnTo>
                          <a:lnTo>
                            <a:pt x="754" y="36"/>
                          </a:lnTo>
                          <a:lnTo>
                            <a:pt x="777" y="39"/>
                          </a:lnTo>
                          <a:lnTo>
                            <a:pt x="800" y="42"/>
                          </a:lnTo>
                          <a:lnTo>
                            <a:pt x="822" y="45"/>
                          </a:lnTo>
                          <a:lnTo>
                            <a:pt x="846" y="48"/>
                          </a:lnTo>
                          <a:lnTo>
                            <a:pt x="869" y="51"/>
                          </a:lnTo>
                          <a:lnTo>
                            <a:pt x="891" y="54"/>
                          </a:lnTo>
                          <a:lnTo>
                            <a:pt x="914" y="57"/>
                          </a:lnTo>
                          <a:lnTo>
                            <a:pt x="937" y="60"/>
                          </a:lnTo>
                          <a:lnTo>
                            <a:pt x="960" y="63"/>
                          </a:lnTo>
                          <a:lnTo>
                            <a:pt x="983" y="66"/>
                          </a:lnTo>
                          <a:lnTo>
                            <a:pt x="1006" y="69"/>
                          </a:lnTo>
                          <a:lnTo>
                            <a:pt x="1029" y="72"/>
                          </a:lnTo>
                          <a:lnTo>
                            <a:pt x="1051" y="75"/>
                          </a:lnTo>
                          <a:lnTo>
                            <a:pt x="1075" y="78"/>
                          </a:lnTo>
                          <a:lnTo>
                            <a:pt x="1098" y="81"/>
                          </a:lnTo>
                          <a:lnTo>
                            <a:pt x="1120" y="84"/>
                          </a:lnTo>
                          <a:lnTo>
                            <a:pt x="1143" y="87"/>
                          </a:lnTo>
                          <a:lnTo>
                            <a:pt x="1166" y="90"/>
                          </a:lnTo>
                          <a:lnTo>
                            <a:pt x="1189" y="94"/>
                          </a:lnTo>
                          <a:lnTo>
                            <a:pt x="1212" y="97"/>
                          </a:lnTo>
                          <a:lnTo>
                            <a:pt x="1191" y="112"/>
                          </a:lnTo>
                          <a:lnTo>
                            <a:pt x="1169" y="127"/>
                          </a:lnTo>
                          <a:lnTo>
                            <a:pt x="1147" y="142"/>
                          </a:lnTo>
                          <a:lnTo>
                            <a:pt x="1126" y="158"/>
                          </a:lnTo>
                          <a:lnTo>
                            <a:pt x="1105" y="173"/>
                          </a:lnTo>
                          <a:lnTo>
                            <a:pt x="1084" y="188"/>
                          </a:lnTo>
                          <a:lnTo>
                            <a:pt x="1062" y="204"/>
                          </a:lnTo>
                          <a:lnTo>
                            <a:pt x="1041" y="219"/>
                          </a:lnTo>
                          <a:lnTo>
                            <a:pt x="1019" y="234"/>
                          </a:lnTo>
                          <a:lnTo>
                            <a:pt x="998" y="249"/>
                          </a:lnTo>
                          <a:lnTo>
                            <a:pt x="977" y="264"/>
                          </a:lnTo>
                          <a:lnTo>
                            <a:pt x="956" y="279"/>
                          </a:lnTo>
                          <a:lnTo>
                            <a:pt x="934" y="296"/>
                          </a:lnTo>
                          <a:lnTo>
                            <a:pt x="912" y="311"/>
                          </a:lnTo>
                          <a:lnTo>
                            <a:pt x="891" y="326"/>
                          </a:lnTo>
                          <a:lnTo>
                            <a:pt x="870" y="341"/>
                          </a:lnTo>
                          <a:lnTo>
                            <a:pt x="856" y="340"/>
                          </a:lnTo>
                          <a:lnTo>
                            <a:pt x="842" y="338"/>
                          </a:lnTo>
                          <a:lnTo>
                            <a:pt x="827" y="337"/>
                          </a:lnTo>
                          <a:lnTo>
                            <a:pt x="813" y="336"/>
                          </a:lnTo>
                          <a:lnTo>
                            <a:pt x="799" y="335"/>
                          </a:lnTo>
                          <a:lnTo>
                            <a:pt x="785" y="333"/>
                          </a:lnTo>
                          <a:lnTo>
                            <a:pt x="771" y="332"/>
                          </a:lnTo>
                          <a:lnTo>
                            <a:pt x="758" y="331"/>
                          </a:lnTo>
                          <a:lnTo>
                            <a:pt x="744" y="330"/>
                          </a:lnTo>
                          <a:lnTo>
                            <a:pt x="730" y="329"/>
                          </a:lnTo>
                          <a:lnTo>
                            <a:pt x="715" y="327"/>
                          </a:lnTo>
                          <a:lnTo>
                            <a:pt x="701" y="326"/>
                          </a:lnTo>
                          <a:lnTo>
                            <a:pt x="687" y="325"/>
                          </a:lnTo>
                          <a:lnTo>
                            <a:pt x="673" y="324"/>
                          </a:lnTo>
                          <a:lnTo>
                            <a:pt x="659" y="322"/>
                          </a:lnTo>
                          <a:lnTo>
                            <a:pt x="645" y="321"/>
                          </a:lnTo>
                          <a:lnTo>
                            <a:pt x="634" y="320"/>
                          </a:lnTo>
                          <a:lnTo>
                            <a:pt x="623" y="319"/>
                          </a:lnTo>
                          <a:lnTo>
                            <a:pt x="611" y="318"/>
                          </a:lnTo>
                          <a:lnTo>
                            <a:pt x="601" y="316"/>
                          </a:lnTo>
                          <a:lnTo>
                            <a:pt x="590" y="315"/>
                          </a:lnTo>
                          <a:lnTo>
                            <a:pt x="579" y="314"/>
                          </a:lnTo>
                          <a:lnTo>
                            <a:pt x="568" y="313"/>
                          </a:lnTo>
                          <a:lnTo>
                            <a:pt x="557" y="312"/>
                          </a:lnTo>
                          <a:lnTo>
                            <a:pt x="541" y="311"/>
                          </a:lnTo>
                          <a:lnTo>
                            <a:pt x="525" y="309"/>
                          </a:lnTo>
                          <a:lnTo>
                            <a:pt x="509" y="308"/>
                          </a:lnTo>
                          <a:lnTo>
                            <a:pt x="492" y="306"/>
                          </a:lnTo>
                          <a:lnTo>
                            <a:pt x="476" y="305"/>
                          </a:lnTo>
                          <a:lnTo>
                            <a:pt x="460" y="303"/>
                          </a:lnTo>
                          <a:lnTo>
                            <a:pt x="444" y="302"/>
                          </a:lnTo>
                          <a:lnTo>
                            <a:pt x="429" y="300"/>
                          </a:lnTo>
                          <a:lnTo>
                            <a:pt x="413" y="299"/>
                          </a:lnTo>
                          <a:lnTo>
                            <a:pt x="397" y="298"/>
                          </a:lnTo>
                          <a:lnTo>
                            <a:pt x="380" y="296"/>
                          </a:lnTo>
                          <a:lnTo>
                            <a:pt x="364" y="295"/>
                          </a:lnTo>
                          <a:lnTo>
                            <a:pt x="348" y="293"/>
                          </a:lnTo>
                          <a:lnTo>
                            <a:pt x="332" y="292"/>
                          </a:lnTo>
                          <a:lnTo>
                            <a:pt x="316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14f4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2990520" y="5597640"/>
                      <a:ext cx="2631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0" h="334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0" y="3"/>
                          </a:lnTo>
                          <a:lnTo>
                            <a:pt x="522" y="6"/>
                          </a:lnTo>
                          <a:lnTo>
                            <a:pt x="543" y="8"/>
                          </a:lnTo>
                          <a:lnTo>
                            <a:pt x="564" y="11"/>
                          </a:lnTo>
                          <a:lnTo>
                            <a:pt x="585" y="14"/>
                          </a:lnTo>
                          <a:lnTo>
                            <a:pt x="607" y="17"/>
                          </a:lnTo>
                          <a:lnTo>
                            <a:pt x="629" y="20"/>
                          </a:lnTo>
                          <a:lnTo>
                            <a:pt x="650" y="22"/>
                          </a:lnTo>
                          <a:lnTo>
                            <a:pt x="671" y="25"/>
                          </a:lnTo>
                          <a:lnTo>
                            <a:pt x="692" y="28"/>
                          </a:lnTo>
                          <a:lnTo>
                            <a:pt x="713" y="31"/>
                          </a:lnTo>
                          <a:lnTo>
                            <a:pt x="735" y="33"/>
                          </a:lnTo>
                          <a:lnTo>
                            <a:pt x="756" y="36"/>
                          </a:lnTo>
                          <a:lnTo>
                            <a:pt x="777" y="39"/>
                          </a:lnTo>
                          <a:lnTo>
                            <a:pt x="798" y="42"/>
                          </a:lnTo>
                          <a:lnTo>
                            <a:pt x="820" y="44"/>
                          </a:lnTo>
                          <a:lnTo>
                            <a:pt x="842" y="47"/>
                          </a:lnTo>
                          <a:lnTo>
                            <a:pt x="863" y="50"/>
                          </a:lnTo>
                          <a:lnTo>
                            <a:pt x="884" y="53"/>
                          </a:lnTo>
                          <a:lnTo>
                            <a:pt x="905" y="56"/>
                          </a:lnTo>
                          <a:lnTo>
                            <a:pt x="926" y="58"/>
                          </a:lnTo>
                          <a:lnTo>
                            <a:pt x="947" y="61"/>
                          </a:lnTo>
                          <a:lnTo>
                            <a:pt x="969" y="64"/>
                          </a:lnTo>
                          <a:lnTo>
                            <a:pt x="990" y="67"/>
                          </a:lnTo>
                          <a:lnTo>
                            <a:pt x="1011" y="69"/>
                          </a:lnTo>
                          <a:lnTo>
                            <a:pt x="1032" y="72"/>
                          </a:lnTo>
                          <a:lnTo>
                            <a:pt x="1054" y="75"/>
                          </a:lnTo>
                          <a:lnTo>
                            <a:pt x="1076" y="78"/>
                          </a:lnTo>
                          <a:lnTo>
                            <a:pt x="1097" y="81"/>
                          </a:lnTo>
                          <a:lnTo>
                            <a:pt x="1118" y="83"/>
                          </a:lnTo>
                          <a:lnTo>
                            <a:pt x="1139" y="86"/>
                          </a:lnTo>
                          <a:lnTo>
                            <a:pt x="1160" y="89"/>
                          </a:lnTo>
                          <a:lnTo>
                            <a:pt x="1140" y="105"/>
                          </a:lnTo>
                          <a:lnTo>
                            <a:pt x="1120" y="120"/>
                          </a:lnTo>
                          <a:lnTo>
                            <a:pt x="1100" y="135"/>
                          </a:lnTo>
                          <a:lnTo>
                            <a:pt x="1079" y="151"/>
                          </a:lnTo>
                          <a:lnTo>
                            <a:pt x="1058" y="166"/>
                          </a:lnTo>
                          <a:lnTo>
                            <a:pt x="1038" y="181"/>
                          </a:lnTo>
                          <a:lnTo>
                            <a:pt x="1018" y="197"/>
                          </a:lnTo>
                          <a:lnTo>
                            <a:pt x="997" y="212"/>
                          </a:lnTo>
                          <a:lnTo>
                            <a:pt x="977" y="227"/>
                          </a:lnTo>
                          <a:lnTo>
                            <a:pt x="957" y="242"/>
                          </a:lnTo>
                          <a:lnTo>
                            <a:pt x="935" y="257"/>
                          </a:lnTo>
                          <a:lnTo>
                            <a:pt x="915" y="272"/>
                          </a:lnTo>
                          <a:lnTo>
                            <a:pt x="894" y="289"/>
                          </a:lnTo>
                          <a:lnTo>
                            <a:pt x="874" y="304"/>
                          </a:lnTo>
                          <a:lnTo>
                            <a:pt x="853" y="319"/>
                          </a:lnTo>
                          <a:lnTo>
                            <a:pt x="832" y="334"/>
                          </a:lnTo>
                          <a:lnTo>
                            <a:pt x="819" y="333"/>
                          </a:lnTo>
                          <a:lnTo>
                            <a:pt x="806" y="332"/>
                          </a:lnTo>
                          <a:lnTo>
                            <a:pt x="793" y="331"/>
                          </a:lnTo>
                          <a:lnTo>
                            <a:pt x="780" y="330"/>
                          </a:lnTo>
                          <a:lnTo>
                            <a:pt x="767" y="329"/>
                          </a:lnTo>
                          <a:lnTo>
                            <a:pt x="754" y="328"/>
                          </a:lnTo>
                          <a:lnTo>
                            <a:pt x="741" y="327"/>
                          </a:lnTo>
                          <a:lnTo>
                            <a:pt x="728" y="325"/>
                          </a:lnTo>
                          <a:lnTo>
                            <a:pt x="714" y="324"/>
                          </a:lnTo>
                          <a:lnTo>
                            <a:pt x="701" y="323"/>
                          </a:lnTo>
                          <a:lnTo>
                            <a:pt x="688" y="322"/>
                          </a:lnTo>
                          <a:lnTo>
                            <a:pt x="675" y="321"/>
                          </a:lnTo>
                          <a:lnTo>
                            <a:pt x="662" y="320"/>
                          </a:lnTo>
                          <a:lnTo>
                            <a:pt x="649" y="319"/>
                          </a:lnTo>
                          <a:lnTo>
                            <a:pt x="636" y="318"/>
                          </a:lnTo>
                          <a:lnTo>
                            <a:pt x="623" y="317"/>
                          </a:lnTo>
                          <a:lnTo>
                            <a:pt x="611" y="315"/>
                          </a:lnTo>
                          <a:lnTo>
                            <a:pt x="600" y="314"/>
                          </a:lnTo>
                          <a:lnTo>
                            <a:pt x="588" y="312"/>
                          </a:lnTo>
                          <a:lnTo>
                            <a:pt x="577" y="311"/>
                          </a:lnTo>
                          <a:lnTo>
                            <a:pt x="566" y="309"/>
                          </a:lnTo>
                          <a:lnTo>
                            <a:pt x="555" y="308"/>
                          </a:lnTo>
                          <a:lnTo>
                            <a:pt x="543" y="306"/>
                          </a:lnTo>
                          <a:lnTo>
                            <a:pt x="532" y="305"/>
                          </a:lnTo>
                          <a:lnTo>
                            <a:pt x="518" y="304"/>
                          </a:lnTo>
                          <a:lnTo>
                            <a:pt x="502" y="303"/>
                          </a:lnTo>
                          <a:lnTo>
                            <a:pt x="488" y="302"/>
                          </a:lnTo>
                          <a:lnTo>
                            <a:pt x="474" y="301"/>
                          </a:lnTo>
                          <a:lnTo>
                            <a:pt x="459" y="300"/>
                          </a:lnTo>
                          <a:lnTo>
                            <a:pt x="445" y="299"/>
                          </a:lnTo>
                          <a:lnTo>
                            <a:pt x="431" y="298"/>
                          </a:lnTo>
                          <a:lnTo>
                            <a:pt x="416" y="297"/>
                          </a:lnTo>
                          <a:lnTo>
                            <a:pt x="402" y="296"/>
                          </a:lnTo>
                          <a:lnTo>
                            <a:pt x="387" y="295"/>
                          </a:lnTo>
                          <a:lnTo>
                            <a:pt x="372" y="294"/>
                          </a:lnTo>
                          <a:lnTo>
                            <a:pt x="358" y="293"/>
                          </a:lnTo>
                          <a:lnTo>
                            <a:pt x="343" y="292"/>
                          </a:lnTo>
                          <a:lnTo>
                            <a:pt x="329" y="291"/>
                          </a:lnTo>
                          <a:lnTo>
                            <a:pt x="314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4545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2990520" y="5597640"/>
                      <a:ext cx="252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0" h="32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9" y="5"/>
                          </a:lnTo>
                          <a:lnTo>
                            <a:pt x="558" y="10"/>
                          </a:lnTo>
                          <a:lnTo>
                            <a:pt x="597" y="15"/>
                          </a:lnTo>
                          <a:lnTo>
                            <a:pt x="637" y="20"/>
                          </a:lnTo>
                          <a:lnTo>
                            <a:pt x="676" y="26"/>
                          </a:lnTo>
                          <a:lnTo>
                            <a:pt x="715" y="31"/>
                          </a:lnTo>
                          <a:lnTo>
                            <a:pt x="755" y="36"/>
                          </a:lnTo>
                          <a:lnTo>
                            <a:pt x="794" y="41"/>
                          </a:lnTo>
                          <a:lnTo>
                            <a:pt x="833" y="46"/>
                          </a:lnTo>
                          <a:lnTo>
                            <a:pt x="873" y="52"/>
                          </a:lnTo>
                          <a:lnTo>
                            <a:pt x="912" y="57"/>
                          </a:lnTo>
                          <a:lnTo>
                            <a:pt x="952" y="62"/>
                          </a:lnTo>
                          <a:lnTo>
                            <a:pt x="992" y="67"/>
                          </a:lnTo>
                          <a:lnTo>
                            <a:pt x="1031" y="73"/>
                          </a:lnTo>
                          <a:lnTo>
                            <a:pt x="1071" y="78"/>
                          </a:lnTo>
                          <a:lnTo>
                            <a:pt x="1110" y="83"/>
                          </a:lnTo>
                          <a:lnTo>
                            <a:pt x="1091" y="99"/>
                          </a:lnTo>
                          <a:lnTo>
                            <a:pt x="1071" y="114"/>
                          </a:lnTo>
                          <a:lnTo>
                            <a:pt x="1051" y="129"/>
                          </a:lnTo>
                          <a:lnTo>
                            <a:pt x="1031" y="144"/>
                          </a:lnTo>
                          <a:lnTo>
                            <a:pt x="1012" y="159"/>
                          </a:lnTo>
                          <a:lnTo>
                            <a:pt x="992" y="174"/>
                          </a:lnTo>
                          <a:lnTo>
                            <a:pt x="973" y="190"/>
                          </a:lnTo>
                          <a:lnTo>
                            <a:pt x="953" y="205"/>
                          </a:lnTo>
                          <a:lnTo>
                            <a:pt x="933" y="220"/>
                          </a:lnTo>
                          <a:lnTo>
                            <a:pt x="913" y="235"/>
                          </a:lnTo>
                          <a:lnTo>
                            <a:pt x="894" y="250"/>
                          </a:lnTo>
                          <a:lnTo>
                            <a:pt x="874" y="265"/>
                          </a:lnTo>
                          <a:lnTo>
                            <a:pt x="855" y="280"/>
                          </a:lnTo>
                          <a:lnTo>
                            <a:pt x="834" y="296"/>
                          </a:lnTo>
                          <a:lnTo>
                            <a:pt x="815" y="311"/>
                          </a:lnTo>
                          <a:lnTo>
                            <a:pt x="795" y="326"/>
                          </a:lnTo>
                          <a:lnTo>
                            <a:pt x="783" y="325"/>
                          </a:lnTo>
                          <a:lnTo>
                            <a:pt x="771" y="324"/>
                          </a:lnTo>
                          <a:lnTo>
                            <a:pt x="759" y="324"/>
                          </a:lnTo>
                          <a:lnTo>
                            <a:pt x="747" y="323"/>
                          </a:lnTo>
                          <a:lnTo>
                            <a:pt x="735" y="322"/>
                          </a:lnTo>
                          <a:lnTo>
                            <a:pt x="722" y="321"/>
                          </a:lnTo>
                          <a:lnTo>
                            <a:pt x="710" y="320"/>
                          </a:lnTo>
                          <a:lnTo>
                            <a:pt x="698" y="319"/>
                          </a:lnTo>
                          <a:lnTo>
                            <a:pt x="685" y="319"/>
                          </a:lnTo>
                          <a:lnTo>
                            <a:pt x="673" y="318"/>
                          </a:lnTo>
                          <a:lnTo>
                            <a:pt x="661" y="317"/>
                          </a:lnTo>
                          <a:lnTo>
                            <a:pt x="649" y="316"/>
                          </a:lnTo>
                          <a:lnTo>
                            <a:pt x="637" y="315"/>
                          </a:lnTo>
                          <a:lnTo>
                            <a:pt x="625" y="315"/>
                          </a:lnTo>
                          <a:lnTo>
                            <a:pt x="612" y="314"/>
                          </a:lnTo>
                          <a:lnTo>
                            <a:pt x="600" y="313"/>
                          </a:lnTo>
                          <a:lnTo>
                            <a:pt x="588" y="311"/>
                          </a:lnTo>
                          <a:lnTo>
                            <a:pt x="577" y="309"/>
                          </a:lnTo>
                          <a:lnTo>
                            <a:pt x="565" y="308"/>
                          </a:lnTo>
                          <a:lnTo>
                            <a:pt x="554" y="306"/>
                          </a:lnTo>
                          <a:lnTo>
                            <a:pt x="542" y="304"/>
                          </a:lnTo>
                          <a:lnTo>
                            <a:pt x="530" y="303"/>
                          </a:lnTo>
                          <a:lnTo>
                            <a:pt x="519" y="301"/>
                          </a:lnTo>
                          <a:lnTo>
                            <a:pt x="507" y="299"/>
                          </a:lnTo>
                          <a:lnTo>
                            <a:pt x="493" y="298"/>
                          </a:lnTo>
                          <a:lnTo>
                            <a:pt x="480" y="298"/>
                          </a:lnTo>
                          <a:lnTo>
                            <a:pt x="468" y="297"/>
                          </a:lnTo>
                          <a:lnTo>
                            <a:pt x="455" y="297"/>
                          </a:lnTo>
                          <a:lnTo>
                            <a:pt x="442" y="296"/>
                          </a:lnTo>
                          <a:lnTo>
                            <a:pt x="429" y="296"/>
                          </a:lnTo>
                          <a:lnTo>
                            <a:pt x="417" y="295"/>
                          </a:lnTo>
                          <a:lnTo>
                            <a:pt x="404" y="294"/>
                          </a:lnTo>
                          <a:lnTo>
                            <a:pt x="390" y="294"/>
                          </a:lnTo>
                          <a:lnTo>
                            <a:pt x="377" y="293"/>
                          </a:lnTo>
                          <a:lnTo>
                            <a:pt x="364" y="292"/>
                          </a:lnTo>
                          <a:lnTo>
                            <a:pt x="352" y="292"/>
                          </a:lnTo>
                          <a:lnTo>
                            <a:pt x="339" y="291"/>
                          </a:lnTo>
                          <a:lnTo>
                            <a:pt x="326" y="290"/>
                          </a:lnTo>
                          <a:lnTo>
                            <a:pt x="313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456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2990520" y="5597640"/>
                      <a:ext cx="23940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8" h="319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6" y="5"/>
                          </a:lnTo>
                          <a:lnTo>
                            <a:pt x="552" y="9"/>
                          </a:lnTo>
                          <a:lnTo>
                            <a:pt x="588" y="14"/>
                          </a:lnTo>
                          <a:lnTo>
                            <a:pt x="624" y="19"/>
                          </a:lnTo>
                          <a:lnTo>
                            <a:pt x="660" y="23"/>
                          </a:lnTo>
                          <a:lnTo>
                            <a:pt x="696" y="28"/>
                          </a:lnTo>
                          <a:lnTo>
                            <a:pt x="733" y="33"/>
                          </a:lnTo>
                          <a:lnTo>
                            <a:pt x="769" y="38"/>
                          </a:lnTo>
                          <a:lnTo>
                            <a:pt x="805" y="42"/>
                          </a:lnTo>
                          <a:lnTo>
                            <a:pt x="842" y="47"/>
                          </a:lnTo>
                          <a:lnTo>
                            <a:pt x="878" y="52"/>
                          </a:lnTo>
                          <a:lnTo>
                            <a:pt x="914" y="57"/>
                          </a:lnTo>
                          <a:lnTo>
                            <a:pt x="949" y="61"/>
                          </a:lnTo>
                          <a:lnTo>
                            <a:pt x="986" y="66"/>
                          </a:lnTo>
                          <a:lnTo>
                            <a:pt x="1022" y="71"/>
                          </a:lnTo>
                          <a:lnTo>
                            <a:pt x="1058" y="76"/>
                          </a:lnTo>
                          <a:lnTo>
                            <a:pt x="1039" y="91"/>
                          </a:lnTo>
                          <a:lnTo>
                            <a:pt x="1021" y="107"/>
                          </a:lnTo>
                          <a:lnTo>
                            <a:pt x="1002" y="122"/>
                          </a:lnTo>
                          <a:lnTo>
                            <a:pt x="984" y="137"/>
                          </a:lnTo>
                          <a:lnTo>
                            <a:pt x="965" y="152"/>
                          </a:lnTo>
                          <a:lnTo>
                            <a:pt x="946" y="167"/>
                          </a:lnTo>
                          <a:lnTo>
                            <a:pt x="927" y="182"/>
                          </a:lnTo>
                          <a:lnTo>
                            <a:pt x="908" y="198"/>
                          </a:lnTo>
                          <a:lnTo>
                            <a:pt x="890" y="213"/>
                          </a:lnTo>
                          <a:lnTo>
                            <a:pt x="871" y="228"/>
                          </a:lnTo>
                          <a:lnTo>
                            <a:pt x="852" y="243"/>
                          </a:lnTo>
                          <a:lnTo>
                            <a:pt x="833" y="258"/>
                          </a:lnTo>
                          <a:lnTo>
                            <a:pt x="814" y="273"/>
                          </a:lnTo>
                          <a:lnTo>
                            <a:pt x="795" y="289"/>
                          </a:lnTo>
                          <a:lnTo>
                            <a:pt x="777" y="304"/>
                          </a:lnTo>
                          <a:lnTo>
                            <a:pt x="758" y="319"/>
                          </a:lnTo>
                          <a:lnTo>
                            <a:pt x="747" y="318"/>
                          </a:lnTo>
                          <a:lnTo>
                            <a:pt x="736" y="318"/>
                          </a:lnTo>
                          <a:lnTo>
                            <a:pt x="724" y="317"/>
                          </a:lnTo>
                          <a:lnTo>
                            <a:pt x="713" y="317"/>
                          </a:lnTo>
                          <a:lnTo>
                            <a:pt x="701" y="316"/>
                          </a:lnTo>
                          <a:lnTo>
                            <a:pt x="690" y="315"/>
                          </a:lnTo>
                          <a:lnTo>
                            <a:pt x="679" y="315"/>
                          </a:lnTo>
                          <a:lnTo>
                            <a:pt x="668" y="314"/>
                          </a:lnTo>
                          <a:lnTo>
                            <a:pt x="657" y="313"/>
                          </a:lnTo>
                          <a:lnTo>
                            <a:pt x="645" y="313"/>
                          </a:lnTo>
                          <a:lnTo>
                            <a:pt x="634" y="312"/>
                          </a:lnTo>
                          <a:lnTo>
                            <a:pt x="623" y="311"/>
                          </a:lnTo>
                          <a:lnTo>
                            <a:pt x="611" y="311"/>
                          </a:lnTo>
                          <a:lnTo>
                            <a:pt x="599" y="310"/>
                          </a:lnTo>
                          <a:lnTo>
                            <a:pt x="588" y="310"/>
                          </a:lnTo>
                          <a:lnTo>
                            <a:pt x="577" y="309"/>
                          </a:lnTo>
                          <a:lnTo>
                            <a:pt x="565" y="307"/>
                          </a:lnTo>
                          <a:lnTo>
                            <a:pt x="554" y="305"/>
                          </a:lnTo>
                          <a:lnTo>
                            <a:pt x="542" y="303"/>
                          </a:lnTo>
                          <a:lnTo>
                            <a:pt x="530" y="301"/>
                          </a:lnTo>
                          <a:lnTo>
                            <a:pt x="518" y="299"/>
                          </a:lnTo>
                          <a:lnTo>
                            <a:pt x="506" y="297"/>
                          </a:lnTo>
                          <a:lnTo>
                            <a:pt x="493" y="295"/>
                          </a:lnTo>
                          <a:lnTo>
                            <a:pt x="481" y="293"/>
                          </a:lnTo>
                          <a:lnTo>
                            <a:pt x="470" y="293"/>
                          </a:lnTo>
                          <a:lnTo>
                            <a:pt x="459" y="293"/>
                          </a:lnTo>
                          <a:lnTo>
                            <a:pt x="447" y="292"/>
                          </a:lnTo>
                          <a:lnTo>
                            <a:pt x="436" y="292"/>
                          </a:lnTo>
                          <a:lnTo>
                            <a:pt x="425" y="292"/>
                          </a:lnTo>
                          <a:lnTo>
                            <a:pt x="414" y="292"/>
                          </a:lnTo>
                          <a:lnTo>
                            <a:pt x="402" y="292"/>
                          </a:lnTo>
                          <a:lnTo>
                            <a:pt x="390" y="291"/>
                          </a:lnTo>
                          <a:lnTo>
                            <a:pt x="379" y="291"/>
                          </a:lnTo>
                          <a:lnTo>
                            <a:pt x="368" y="291"/>
                          </a:lnTo>
                          <a:lnTo>
                            <a:pt x="356" y="291"/>
                          </a:lnTo>
                          <a:lnTo>
                            <a:pt x="345" y="290"/>
                          </a:lnTo>
                          <a:lnTo>
                            <a:pt x="334" y="290"/>
                          </a:lnTo>
                          <a:lnTo>
                            <a:pt x="323" y="290"/>
                          </a:lnTo>
                          <a:lnTo>
                            <a:pt x="311" y="289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659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2990520" y="5597640"/>
                      <a:ext cx="22824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8" h="312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3" y="4"/>
                          </a:lnTo>
                          <a:lnTo>
                            <a:pt x="546" y="9"/>
                          </a:lnTo>
                          <a:lnTo>
                            <a:pt x="578" y="13"/>
                          </a:lnTo>
                          <a:lnTo>
                            <a:pt x="611" y="17"/>
                          </a:lnTo>
                          <a:lnTo>
                            <a:pt x="645" y="22"/>
                          </a:lnTo>
                          <a:lnTo>
                            <a:pt x="678" y="26"/>
                          </a:lnTo>
                          <a:lnTo>
                            <a:pt x="710" y="30"/>
                          </a:lnTo>
                          <a:lnTo>
                            <a:pt x="744" y="34"/>
                          </a:lnTo>
                          <a:lnTo>
                            <a:pt x="777" y="39"/>
                          </a:lnTo>
                          <a:lnTo>
                            <a:pt x="809" y="43"/>
                          </a:lnTo>
                          <a:lnTo>
                            <a:pt x="843" y="47"/>
                          </a:lnTo>
                          <a:lnTo>
                            <a:pt x="876" y="52"/>
                          </a:lnTo>
                          <a:lnTo>
                            <a:pt x="909" y="56"/>
                          </a:lnTo>
                          <a:lnTo>
                            <a:pt x="941" y="60"/>
                          </a:lnTo>
                          <a:lnTo>
                            <a:pt x="975" y="65"/>
                          </a:lnTo>
                          <a:lnTo>
                            <a:pt x="1008" y="69"/>
                          </a:lnTo>
                          <a:lnTo>
                            <a:pt x="990" y="84"/>
                          </a:lnTo>
                          <a:lnTo>
                            <a:pt x="972" y="100"/>
                          </a:lnTo>
                          <a:lnTo>
                            <a:pt x="955" y="115"/>
                          </a:lnTo>
                          <a:lnTo>
                            <a:pt x="936" y="130"/>
                          </a:lnTo>
                          <a:lnTo>
                            <a:pt x="918" y="145"/>
                          </a:lnTo>
                          <a:lnTo>
                            <a:pt x="900" y="160"/>
                          </a:lnTo>
                          <a:lnTo>
                            <a:pt x="882" y="175"/>
                          </a:lnTo>
                          <a:lnTo>
                            <a:pt x="865" y="191"/>
                          </a:lnTo>
                          <a:lnTo>
                            <a:pt x="847" y="206"/>
                          </a:lnTo>
                          <a:lnTo>
                            <a:pt x="828" y="221"/>
                          </a:lnTo>
                          <a:lnTo>
                            <a:pt x="810" y="236"/>
                          </a:lnTo>
                          <a:lnTo>
                            <a:pt x="792" y="251"/>
                          </a:lnTo>
                          <a:lnTo>
                            <a:pt x="774" y="266"/>
                          </a:lnTo>
                          <a:lnTo>
                            <a:pt x="757" y="281"/>
                          </a:lnTo>
                          <a:lnTo>
                            <a:pt x="739" y="297"/>
                          </a:lnTo>
                          <a:lnTo>
                            <a:pt x="720" y="312"/>
                          </a:lnTo>
                          <a:lnTo>
                            <a:pt x="710" y="311"/>
                          </a:lnTo>
                          <a:lnTo>
                            <a:pt x="700" y="311"/>
                          </a:lnTo>
                          <a:lnTo>
                            <a:pt x="690" y="310"/>
                          </a:lnTo>
                          <a:lnTo>
                            <a:pt x="679" y="310"/>
                          </a:lnTo>
                          <a:lnTo>
                            <a:pt x="669" y="309"/>
                          </a:lnTo>
                          <a:lnTo>
                            <a:pt x="659" y="309"/>
                          </a:lnTo>
                          <a:lnTo>
                            <a:pt x="649" y="309"/>
                          </a:lnTo>
                          <a:lnTo>
                            <a:pt x="638" y="308"/>
                          </a:lnTo>
                          <a:lnTo>
                            <a:pt x="628" y="308"/>
                          </a:lnTo>
                          <a:lnTo>
                            <a:pt x="618" y="307"/>
                          </a:lnTo>
                          <a:lnTo>
                            <a:pt x="607" y="307"/>
                          </a:lnTo>
                          <a:lnTo>
                            <a:pt x="596" y="307"/>
                          </a:lnTo>
                          <a:lnTo>
                            <a:pt x="586" y="306"/>
                          </a:lnTo>
                          <a:lnTo>
                            <a:pt x="576" y="306"/>
                          </a:lnTo>
                          <a:lnTo>
                            <a:pt x="565" y="305"/>
                          </a:lnTo>
                          <a:lnTo>
                            <a:pt x="555" y="305"/>
                          </a:lnTo>
                          <a:lnTo>
                            <a:pt x="543" y="303"/>
                          </a:lnTo>
                          <a:lnTo>
                            <a:pt x="531" y="300"/>
                          </a:lnTo>
                          <a:lnTo>
                            <a:pt x="519" y="298"/>
                          </a:lnTo>
                          <a:lnTo>
                            <a:pt x="506" y="296"/>
                          </a:lnTo>
                          <a:lnTo>
                            <a:pt x="493" y="294"/>
                          </a:lnTo>
                          <a:lnTo>
                            <a:pt x="481" y="291"/>
                          </a:lnTo>
                          <a:lnTo>
                            <a:pt x="468" y="289"/>
                          </a:lnTo>
                          <a:lnTo>
                            <a:pt x="456" y="285"/>
                          </a:lnTo>
                          <a:lnTo>
                            <a:pt x="437" y="285"/>
                          </a:lnTo>
                          <a:lnTo>
                            <a:pt x="418" y="287"/>
                          </a:lnTo>
                          <a:lnTo>
                            <a:pt x="398" y="287"/>
                          </a:lnTo>
                          <a:lnTo>
                            <a:pt x="378" y="287"/>
                          </a:lnTo>
                          <a:lnTo>
                            <a:pt x="358" y="288"/>
                          </a:lnTo>
                          <a:lnTo>
                            <a:pt x="339" y="288"/>
                          </a:lnTo>
                          <a:lnTo>
                            <a:pt x="319" y="289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65b5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2990520" y="5597640"/>
                      <a:ext cx="2170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8" h="304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0" y="4"/>
                          </a:lnTo>
                          <a:lnTo>
                            <a:pt x="539" y="8"/>
                          </a:lnTo>
                          <a:lnTo>
                            <a:pt x="569" y="12"/>
                          </a:lnTo>
                          <a:lnTo>
                            <a:pt x="599" y="16"/>
                          </a:lnTo>
                          <a:lnTo>
                            <a:pt x="629" y="19"/>
                          </a:lnTo>
                          <a:lnTo>
                            <a:pt x="659" y="23"/>
                          </a:lnTo>
                          <a:lnTo>
                            <a:pt x="688" y="27"/>
                          </a:lnTo>
                          <a:lnTo>
                            <a:pt x="718" y="31"/>
                          </a:lnTo>
                          <a:lnTo>
                            <a:pt x="749" y="35"/>
                          </a:lnTo>
                          <a:lnTo>
                            <a:pt x="778" y="39"/>
                          </a:lnTo>
                          <a:lnTo>
                            <a:pt x="808" y="43"/>
                          </a:lnTo>
                          <a:lnTo>
                            <a:pt x="838" y="46"/>
                          </a:lnTo>
                          <a:lnTo>
                            <a:pt x="868" y="50"/>
                          </a:lnTo>
                          <a:lnTo>
                            <a:pt x="898" y="54"/>
                          </a:lnTo>
                          <a:lnTo>
                            <a:pt x="927" y="58"/>
                          </a:lnTo>
                          <a:lnTo>
                            <a:pt x="958" y="62"/>
                          </a:lnTo>
                          <a:lnTo>
                            <a:pt x="940" y="77"/>
                          </a:lnTo>
                          <a:lnTo>
                            <a:pt x="923" y="92"/>
                          </a:lnTo>
                          <a:lnTo>
                            <a:pt x="906" y="108"/>
                          </a:lnTo>
                          <a:lnTo>
                            <a:pt x="889" y="123"/>
                          </a:lnTo>
                          <a:lnTo>
                            <a:pt x="872" y="138"/>
                          </a:lnTo>
                          <a:lnTo>
                            <a:pt x="855" y="153"/>
                          </a:lnTo>
                          <a:lnTo>
                            <a:pt x="837" y="168"/>
                          </a:lnTo>
                          <a:lnTo>
                            <a:pt x="820" y="183"/>
                          </a:lnTo>
                          <a:lnTo>
                            <a:pt x="803" y="199"/>
                          </a:lnTo>
                          <a:lnTo>
                            <a:pt x="786" y="214"/>
                          </a:lnTo>
                          <a:lnTo>
                            <a:pt x="769" y="229"/>
                          </a:lnTo>
                          <a:lnTo>
                            <a:pt x="752" y="244"/>
                          </a:lnTo>
                          <a:lnTo>
                            <a:pt x="735" y="258"/>
                          </a:lnTo>
                          <a:lnTo>
                            <a:pt x="717" y="273"/>
                          </a:lnTo>
                          <a:lnTo>
                            <a:pt x="700" y="289"/>
                          </a:lnTo>
                          <a:lnTo>
                            <a:pt x="683" y="304"/>
                          </a:lnTo>
                          <a:lnTo>
                            <a:pt x="665" y="304"/>
                          </a:lnTo>
                          <a:lnTo>
                            <a:pt x="646" y="303"/>
                          </a:lnTo>
                          <a:lnTo>
                            <a:pt x="628" y="303"/>
                          </a:lnTo>
                          <a:lnTo>
                            <a:pt x="608" y="303"/>
                          </a:lnTo>
                          <a:lnTo>
                            <a:pt x="589" y="302"/>
                          </a:lnTo>
                          <a:lnTo>
                            <a:pt x="570" y="302"/>
                          </a:lnTo>
                          <a:lnTo>
                            <a:pt x="552" y="302"/>
                          </a:lnTo>
                          <a:lnTo>
                            <a:pt x="533" y="302"/>
                          </a:lnTo>
                          <a:lnTo>
                            <a:pt x="520" y="299"/>
                          </a:lnTo>
                          <a:lnTo>
                            <a:pt x="508" y="296"/>
                          </a:lnTo>
                          <a:lnTo>
                            <a:pt x="494" y="293"/>
                          </a:lnTo>
                          <a:lnTo>
                            <a:pt x="482" y="291"/>
                          </a:lnTo>
                          <a:lnTo>
                            <a:pt x="469" y="288"/>
                          </a:lnTo>
                          <a:lnTo>
                            <a:pt x="456" y="284"/>
                          </a:lnTo>
                          <a:lnTo>
                            <a:pt x="444" y="282"/>
                          </a:lnTo>
                          <a:lnTo>
                            <a:pt x="431" y="279"/>
                          </a:lnTo>
                          <a:lnTo>
                            <a:pt x="415" y="280"/>
                          </a:lnTo>
                          <a:lnTo>
                            <a:pt x="399" y="281"/>
                          </a:lnTo>
                          <a:lnTo>
                            <a:pt x="382" y="282"/>
                          </a:lnTo>
                          <a:lnTo>
                            <a:pt x="365" y="283"/>
                          </a:lnTo>
                          <a:lnTo>
                            <a:pt x="349" y="285"/>
                          </a:lnTo>
                          <a:lnTo>
                            <a:pt x="333" y="287"/>
                          </a:lnTo>
                          <a:lnTo>
                            <a:pt x="316" y="288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96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2990520" y="5597640"/>
                      <a:ext cx="2062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6" h="29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6" y="3"/>
                          </a:lnTo>
                          <a:lnTo>
                            <a:pt x="533" y="7"/>
                          </a:lnTo>
                          <a:lnTo>
                            <a:pt x="559" y="10"/>
                          </a:lnTo>
                          <a:lnTo>
                            <a:pt x="586" y="14"/>
                          </a:lnTo>
                          <a:lnTo>
                            <a:pt x="612" y="17"/>
                          </a:lnTo>
                          <a:lnTo>
                            <a:pt x="640" y="21"/>
                          </a:lnTo>
                          <a:lnTo>
                            <a:pt x="666" y="24"/>
                          </a:lnTo>
                          <a:lnTo>
                            <a:pt x="693" y="28"/>
                          </a:lnTo>
                          <a:lnTo>
                            <a:pt x="719" y="31"/>
                          </a:lnTo>
                          <a:lnTo>
                            <a:pt x="746" y="35"/>
                          </a:lnTo>
                          <a:lnTo>
                            <a:pt x="773" y="38"/>
                          </a:lnTo>
                          <a:lnTo>
                            <a:pt x="799" y="42"/>
                          </a:lnTo>
                          <a:lnTo>
                            <a:pt x="826" y="45"/>
                          </a:lnTo>
                          <a:lnTo>
                            <a:pt x="853" y="49"/>
                          </a:lnTo>
                          <a:lnTo>
                            <a:pt x="880" y="52"/>
                          </a:lnTo>
                          <a:lnTo>
                            <a:pt x="906" y="56"/>
                          </a:lnTo>
                          <a:lnTo>
                            <a:pt x="890" y="71"/>
                          </a:lnTo>
                          <a:lnTo>
                            <a:pt x="874" y="86"/>
                          </a:lnTo>
                          <a:lnTo>
                            <a:pt x="858" y="101"/>
                          </a:lnTo>
                          <a:lnTo>
                            <a:pt x="842" y="116"/>
                          </a:lnTo>
                          <a:lnTo>
                            <a:pt x="824" y="131"/>
                          </a:lnTo>
                          <a:lnTo>
                            <a:pt x="808" y="146"/>
                          </a:lnTo>
                          <a:lnTo>
                            <a:pt x="792" y="161"/>
                          </a:lnTo>
                          <a:lnTo>
                            <a:pt x="776" y="176"/>
                          </a:lnTo>
                          <a:lnTo>
                            <a:pt x="760" y="191"/>
                          </a:lnTo>
                          <a:lnTo>
                            <a:pt x="744" y="206"/>
                          </a:lnTo>
                          <a:lnTo>
                            <a:pt x="728" y="221"/>
                          </a:lnTo>
                          <a:lnTo>
                            <a:pt x="711" y="236"/>
                          </a:lnTo>
                          <a:lnTo>
                            <a:pt x="694" y="251"/>
                          </a:lnTo>
                          <a:lnTo>
                            <a:pt x="678" y="266"/>
                          </a:lnTo>
                          <a:lnTo>
                            <a:pt x="662" y="281"/>
                          </a:lnTo>
                          <a:lnTo>
                            <a:pt x="646" y="297"/>
                          </a:lnTo>
                          <a:lnTo>
                            <a:pt x="629" y="297"/>
                          </a:lnTo>
                          <a:lnTo>
                            <a:pt x="612" y="297"/>
                          </a:lnTo>
                          <a:lnTo>
                            <a:pt x="595" y="297"/>
                          </a:lnTo>
                          <a:lnTo>
                            <a:pt x="578" y="297"/>
                          </a:lnTo>
                          <a:lnTo>
                            <a:pt x="562" y="297"/>
                          </a:lnTo>
                          <a:lnTo>
                            <a:pt x="545" y="297"/>
                          </a:lnTo>
                          <a:lnTo>
                            <a:pt x="528" y="298"/>
                          </a:lnTo>
                          <a:lnTo>
                            <a:pt x="511" y="298"/>
                          </a:lnTo>
                          <a:lnTo>
                            <a:pt x="497" y="295"/>
                          </a:lnTo>
                          <a:lnTo>
                            <a:pt x="484" y="292"/>
                          </a:lnTo>
                          <a:lnTo>
                            <a:pt x="471" y="289"/>
                          </a:lnTo>
                          <a:lnTo>
                            <a:pt x="458" y="285"/>
                          </a:lnTo>
                          <a:lnTo>
                            <a:pt x="445" y="282"/>
                          </a:lnTo>
                          <a:lnTo>
                            <a:pt x="432" y="279"/>
                          </a:lnTo>
                          <a:lnTo>
                            <a:pt x="419" y="275"/>
                          </a:lnTo>
                          <a:lnTo>
                            <a:pt x="406" y="272"/>
                          </a:lnTo>
                          <a:lnTo>
                            <a:pt x="393" y="274"/>
                          </a:lnTo>
                          <a:lnTo>
                            <a:pt x="379" y="276"/>
                          </a:lnTo>
                          <a:lnTo>
                            <a:pt x="366" y="278"/>
                          </a:lnTo>
                          <a:lnTo>
                            <a:pt x="353" y="280"/>
                          </a:lnTo>
                          <a:lnTo>
                            <a:pt x="339" y="282"/>
                          </a:lnTo>
                          <a:lnTo>
                            <a:pt x="326" y="284"/>
                          </a:lnTo>
                          <a:lnTo>
                            <a:pt x="313" y="287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9606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990520" y="5597640"/>
                      <a:ext cx="1933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294">
                          <a:moveTo>
                            <a:pt x="0" y="230"/>
                          </a:moveTo>
                          <a:lnTo>
                            <a:pt x="479" y="0"/>
                          </a:lnTo>
                          <a:lnTo>
                            <a:pt x="856" y="49"/>
                          </a:lnTo>
                          <a:lnTo>
                            <a:pt x="609" y="289"/>
                          </a:lnTo>
                          <a:lnTo>
                            <a:pt x="488" y="294"/>
                          </a:lnTo>
                          <a:lnTo>
                            <a:pt x="380" y="266"/>
                          </a:lnTo>
                          <a:lnTo>
                            <a:pt x="300" y="289"/>
                          </a:lnTo>
                          <a:lnTo>
                            <a:pt x="314" y="271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b667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3150720" y="56102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5" y="14"/>
                          </a:lnTo>
                          <a:lnTo>
                            <a:pt x="9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3168000" y="56134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3183840" y="561528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8"/>
                          </a:moveTo>
                          <a:lnTo>
                            <a:pt x="31" y="0"/>
                          </a:lnTo>
                          <a:lnTo>
                            <a:pt x="43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3133080" y="560880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3115800" y="560700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3099960" y="56041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3139560" y="56134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156840" y="561528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172680" y="561816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0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121920" y="561204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3104640" y="56088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7" y="7"/>
                          </a:lnTo>
                          <a:lnTo>
                            <a:pt x="11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3088800" y="560700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3141000" y="56102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3160080" y="56134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3175920" y="56167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70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125160" y="56088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3106080" y="56070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3092040" y="560412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3148920" y="561816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5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3166560" y="562140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3182400" y="56232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3131640" y="561672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1">
                          <a:moveTo>
                            <a:pt x="0" y="17"/>
                          </a:moveTo>
                          <a:lnTo>
                            <a:pt x="28" y="0"/>
                          </a:lnTo>
                          <a:lnTo>
                            <a:pt x="40" y="14"/>
                          </a:lnTo>
                          <a:lnTo>
                            <a:pt x="7" y="31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3112560" y="561528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3098160" y="561204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1">
                          <a:moveTo>
                            <a:pt x="0" y="15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1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137760" y="562140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155400" y="5623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3" y="13"/>
                          </a:lnTo>
                          <a:lnTo>
                            <a:pt x="7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317124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1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59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3120480" y="561816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101400" y="56167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3087000" y="561348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1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1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3139560" y="56181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158640" y="562140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3172680" y="562320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121920" y="56167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104640" y="561528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090240" y="56120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158640" y="5624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177720" y="56260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193560" y="56293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141000" y="56214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123720" y="56199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107880" y="561816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1474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16656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180600" y="563112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129840" y="562464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3112560" y="5623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3096720" y="56199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3150720" y="56246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3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3168000" y="5626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183840" y="56293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133080" y="56232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115800" y="5621400"/>
                      <a:ext cx="136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099960" y="561816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155400" y="56293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3172680" y="56325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3188880" y="56340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9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3137760" y="562788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3120480" y="562608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3104640" y="56232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9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3144240" y="56325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3161880" y="563400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3177720" y="56372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58" y="22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312696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3109320" y="56278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3093480" y="5626080"/>
                      <a:ext cx="12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3147480" y="56293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3164760" y="56325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8" y="0"/>
                          </a:lnTo>
                          <a:lnTo>
                            <a:pt x="40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3180600" y="5634000"/>
                      <a:ext cx="158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3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70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129840" y="56278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3112560" y="56260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3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3096720" y="562320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3107880" y="5426280"/>
                      <a:ext cx="2995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5" h="880">
                          <a:moveTo>
                            <a:pt x="292" y="0"/>
                          </a:moveTo>
                          <a:lnTo>
                            <a:pt x="543" y="23"/>
                          </a:lnTo>
                          <a:lnTo>
                            <a:pt x="582" y="0"/>
                          </a:lnTo>
                          <a:lnTo>
                            <a:pt x="972" y="32"/>
                          </a:lnTo>
                          <a:lnTo>
                            <a:pt x="1021" y="56"/>
                          </a:lnTo>
                          <a:lnTo>
                            <a:pt x="1306" y="89"/>
                          </a:lnTo>
                          <a:lnTo>
                            <a:pt x="1325" y="119"/>
                          </a:lnTo>
                          <a:lnTo>
                            <a:pt x="1097" y="839"/>
                          </a:lnTo>
                          <a:lnTo>
                            <a:pt x="1057" y="880"/>
                          </a:lnTo>
                          <a:lnTo>
                            <a:pt x="0" y="742"/>
                          </a:lnTo>
                          <a:lnTo>
                            <a:pt x="0" y="705"/>
                          </a:lnTo>
                          <a:lnTo>
                            <a:pt x="20" y="697"/>
                          </a:lnTo>
                          <a:lnTo>
                            <a:pt x="18" y="673"/>
                          </a:lnTo>
                          <a:lnTo>
                            <a:pt x="29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3252240" y="562464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3269520" y="5626080"/>
                      <a:ext cx="108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9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3285720" y="56293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3234600" y="56214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3217320" y="5619960"/>
                      <a:ext cx="7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3201480" y="561816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32410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7" y="7"/>
                          </a:lnTo>
                          <a:lnTo>
                            <a:pt x="11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325872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3274560" y="56311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2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3223800" y="56246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3206160" y="56232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3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3190320" y="56199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3244320" y="56246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8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3261600" y="5626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3277440" y="56293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3226680" y="56232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3207600" y="5621400"/>
                      <a:ext cx="158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3193560" y="561816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8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3250440" y="5631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5" y="13"/>
                          </a:lnTo>
                          <a:lnTo>
                            <a:pt x="9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3269520" y="563256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3283920" y="563580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3233160" y="56278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3215520" y="56260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199680" y="562464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5"/>
                          </a:moveTo>
                          <a:lnTo>
                            <a:pt x="30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239640" y="56325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3258720" y="56358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1">
                          <a:moveTo>
                            <a:pt x="9" y="0"/>
                          </a:moveTo>
                          <a:lnTo>
                            <a:pt x="53" y="4"/>
                          </a:lnTo>
                          <a:lnTo>
                            <a:pt x="56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272760" y="563724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2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60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222000" y="56311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204720" y="5629320"/>
                      <a:ext cx="12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1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888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42520" y="563112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260160" y="56325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3276000" y="56358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225240" y="562932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07600" y="56260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191760" y="56246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3261600" y="563724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279240" y="56390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3">
                          <a:moveTo>
                            <a:pt x="0" y="18"/>
                          </a:moveTo>
                          <a:lnTo>
                            <a:pt x="31" y="0"/>
                          </a:lnTo>
                          <a:lnTo>
                            <a:pt x="45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3295080" y="56419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242520" y="56358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1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3225240" y="563400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9">
                          <a:moveTo>
                            <a:pt x="0" y="15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209400" y="563112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249000" y="56390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6" y="5"/>
                          </a:lnTo>
                          <a:lnTo>
                            <a:pt x="58" y="21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268080" y="564192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1">
                          <a:moveTo>
                            <a:pt x="10" y="0"/>
                          </a:moveTo>
                          <a:lnTo>
                            <a:pt x="53" y="5"/>
                          </a:lnTo>
                          <a:lnTo>
                            <a:pt x="56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282480" y="5645160"/>
                      <a:ext cx="136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3233160" y="56372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20"/>
                          </a:lnTo>
                          <a:lnTo>
                            <a:pt x="0" y="15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3214080" y="56358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3199680" y="5632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3252240" y="56372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3269520" y="5640480"/>
                      <a:ext cx="158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285720" y="56419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234600" y="56358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3217320" y="56340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3201480" y="563112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3256920" y="5641920"/>
                      <a:ext cx="9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9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3274560" y="5645160"/>
                      <a:ext cx="108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3290400" y="564840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239640" y="56404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222000" y="5639040"/>
                      <a:ext cx="75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1">
                          <a:moveTo>
                            <a:pt x="0" y="17"/>
                          </a:moveTo>
                          <a:lnTo>
                            <a:pt x="28" y="0"/>
                          </a:lnTo>
                          <a:lnTo>
                            <a:pt x="40" y="14"/>
                          </a:lnTo>
                          <a:lnTo>
                            <a:pt x="7" y="31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3206160" y="56358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2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3245760" y="564516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2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3263400" y="5648400"/>
                      <a:ext cx="13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3279240" y="5650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3228480" y="56437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3210840" y="564192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3195000" y="56390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3249000" y="56437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3266640" y="56451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3282480" y="56484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3231720" y="564048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3214080" y="5639040"/>
                      <a:ext cx="140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4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3198240" y="563724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3245760" y="564840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3145680" y="56358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3264840" y="56502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3163320" y="56372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3">
                          <a:moveTo>
                            <a:pt x="0" y="18"/>
                          </a:moveTo>
                          <a:lnTo>
                            <a:pt x="30" y="0"/>
                          </a:lnTo>
                          <a:lnTo>
                            <a:pt x="44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3280680" y="56530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3179160" y="56404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5" y="15"/>
                          </a:lnTo>
                          <a:lnTo>
                            <a:pt x="9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3228480" y="56451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6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3128400" y="56325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3210840" y="564372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3109320" y="56311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3195000" y="56419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3094920" y="56293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3234600" y="565020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3134880" y="56372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7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3253680" y="565308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0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3152160" y="56404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3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268080" y="565488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3168000" y="564192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3217320" y="56484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3117240" y="56358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3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3199680" y="564696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3099960" y="563400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3185640" y="564372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3083760" y="562932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3083760" y="563112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3237840" y="56484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136320" y="56358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8" y="0"/>
                          </a:lnTo>
                          <a:lnTo>
                            <a:pt x="40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3255480" y="5650200"/>
                      <a:ext cx="15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3155400" y="56372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2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3271320" y="5653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3169800" y="56404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220560" y="5646960"/>
                      <a:ext cx="13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118680" y="5634000"/>
                      <a:ext cx="158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2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2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3202920" y="5645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3101400" y="563256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2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3187080" y="56419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3087000" y="56278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0" name=""/>
                  <p:cNvSpPr/>
                  <p:nvPr/>
                </p:nvSpPr>
                <p:spPr>
                  <a:xfrm>
                    <a:off x="3110760" y="5426280"/>
                    <a:ext cx="2919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9" h="835">
                        <a:moveTo>
                          <a:pt x="273" y="2"/>
                        </a:moveTo>
                        <a:lnTo>
                          <a:pt x="0" y="685"/>
                        </a:lnTo>
                        <a:lnTo>
                          <a:pt x="1041" y="835"/>
                        </a:lnTo>
                        <a:lnTo>
                          <a:pt x="1289" y="88"/>
                        </a:lnTo>
                        <a:lnTo>
                          <a:pt x="997" y="52"/>
                        </a:lnTo>
                        <a:lnTo>
                          <a:pt x="952" y="32"/>
                        </a:lnTo>
                        <a:lnTo>
                          <a:pt x="562" y="0"/>
                        </a:lnTo>
                        <a:lnTo>
                          <a:pt x="517" y="16"/>
                        </a:lnTo>
                        <a:lnTo>
                          <a:pt x="273" y="2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110760" y="5426280"/>
                    <a:ext cx="2840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823">
                        <a:moveTo>
                          <a:pt x="273" y="1"/>
                        </a:moveTo>
                        <a:lnTo>
                          <a:pt x="256" y="43"/>
                        </a:lnTo>
                        <a:lnTo>
                          <a:pt x="239" y="87"/>
                        </a:lnTo>
                        <a:lnTo>
                          <a:pt x="222" y="129"/>
                        </a:lnTo>
                        <a:lnTo>
                          <a:pt x="205" y="171"/>
                        </a:lnTo>
                        <a:lnTo>
                          <a:pt x="187" y="215"/>
                        </a:lnTo>
                        <a:lnTo>
                          <a:pt x="170" y="257"/>
                        </a:lnTo>
                        <a:lnTo>
                          <a:pt x="153" y="301"/>
                        </a:lnTo>
                        <a:lnTo>
                          <a:pt x="136" y="343"/>
                        </a:lnTo>
                        <a:lnTo>
                          <a:pt x="119" y="386"/>
                        </a:lnTo>
                        <a:lnTo>
                          <a:pt x="102" y="429"/>
                        </a:lnTo>
                        <a:lnTo>
                          <a:pt x="85" y="472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600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31" y="689"/>
                        </a:lnTo>
                        <a:lnTo>
                          <a:pt x="62" y="694"/>
                        </a:lnTo>
                        <a:lnTo>
                          <a:pt x="94" y="698"/>
                        </a:lnTo>
                        <a:lnTo>
                          <a:pt x="125" y="702"/>
                        </a:lnTo>
                        <a:lnTo>
                          <a:pt x="156" y="706"/>
                        </a:lnTo>
                        <a:lnTo>
                          <a:pt x="186" y="711"/>
                        </a:lnTo>
                        <a:lnTo>
                          <a:pt x="218" y="715"/>
                        </a:lnTo>
                        <a:lnTo>
                          <a:pt x="249" y="719"/>
                        </a:lnTo>
                        <a:lnTo>
                          <a:pt x="280" y="724"/>
                        </a:lnTo>
                        <a:lnTo>
                          <a:pt x="312" y="728"/>
                        </a:lnTo>
                        <a:lnTo>
                          <a:pt x="343" y="732"/>
                        </a:lnTo>
                        <a:lnTo>
                          <a:pt x="374" y="736"/>
                        </a:lnTo>
                        <a:lnTo>
                          <a:pt x="404" y="741"/>
                        </a:lnTo>
                        <a:lnTo>
                          <a:pt x="436" y="745"/>
                        </a:lnTo>
                        <a:lnTo>
                          <a:pt x="467" y="749"/>
                        </a:lnTo>
                        <a:lnTo>
                          <a:pt x="498" y="754"/>
                        </a:lnTo>
                        <a:lnTo>
                          <a:pt x="529" y="759"/>
                        </a:lnTo>
                        <a:lnTo>
                          <a:pt x="560" y="763"/>
                        </a:lnTo>
                        <a:lnTo>
                          <a:pt x="591" y="767"/>
                        </a:lnTo>
                        <a:lnTo>
                          <a:pt x="622" y="772"/>
                        </a:lnTo>
                        <a:lnTo>
                          <a:pt x="654" y="776"/>
                        </a:lnTo>
                        <a:lnTo>
                          <a:pt x="684" y="780"/>
                        </a:lnTo>
                        <a:lnTo>
                          <a:pt x="715" y="784"/>
                        </a:lnTo>
                        <a:lnTo>
                          <a:pt x="746" y="789"/>
                        </a:lnTo>
                        <a:lnTo>
                          <a:pt x="778" y="793"/>
                        </a:lnTo>
                        <a:lnTo>
                          <a:pt x="808" y="797"/>
                        </a:lnTo>
                        <a:lnTo>
                          <a:pt x="839" y="802"/>
                        </a:lnTo>
                        <a:lnTo>
                          <a:pt x="871" y="806"/>
                        </a:lnTo>
                        <a:lnTo>
                          <a:pt x="902" y="810"/>
                        </a:lnTo>
                        <a:lnTo>
                          <a:pt x="932" y="814"/>
                        </a:lnTo>
                        <a:lnTo>
                          <a:pt x="963" y="819"/>
                        </a:lnTo>
                        <a:lnTo>
                          <a:pt x="995" y="823"/>
                        </a:lnTo>
                        <a:lnTo>
                          <a:pt x="1011" y="778"/>
                        </a:lnTo>
                        <a:lnTo>
                          <a:pt x="1027" y="731"/>
                        </a:lnTo>
                        <a:lnTo>
                          <a:pt x="1043" y="686"/>
                        </a:lnTo>
                        <a:lnTo>
                          <a:pt x="1059" y="640"/>
                        </a:lnTo>
                        <a:lnTo>
                          <a:pt x="1075" y="594"/>
                        </a:lnTo>
                        <a:lnTo>
                          <a:pt x="1091" y="548"/>
                        </a:lnTo>
                        <a:lnTo>
                          <a:pt x="1108" y="503"/>
                        </a:lnTo>
                        <a:lnTo>
                          <a:pt x="1124" y="456"/>
                        </a:lnTo>
                        <a:lnTo>
                          <a:pt x="1139" y="411"/>
                        </a:lnTo>
                        <a:lnTo>
                          <a:pt x="1155" y="366"/>
                        </a:lnTo>
                        <a:lnTo>
                          <a:pt x="1171" y="320"/>
                        </a:lnTo>
                        <a:lnTo>
                          <a:pt x="1187" y="274"/>
                        </a:lnTo>
                        <a:lnTo>
                          <a:pt x="1203" y="228"/>
                        </a:lnTo>
                        <a:lnTo>
                          <a:pt x="1220" y="183"/>
                        </a:lnTo>
                        <a:lnTo>
                          <a:pt x="1236" y="136"/>
                        </a:lnTo>
                        <a:lnTo>
                          <a:pt x="1252" y="91"/>
                        </a:lnTo>
                        <a:lnTo>
                          <a:pt x="1236" y="89"/>
                        </a:lnTo>
                        <a:lnTo>
                          <a:pt x="1219" y="86"/>
                        </a:lnTo>
                        <a:lnTo>
                          <a:pt x="1202" y="84"/>
                        </a:lnTo>
                        <a:lnTo>
                          <a:pt x="1186" y="82"/>
                        </a:lnTo>
                        <a:lnTo>
                          <a:pt x="1169" y="80"/>
                        </a:lnTo>
                        <a:lnTo>
                          <a:pt x="1153" y="77"/>
                        </a:lnTo>
                        <a:lnTo>
                          <a:pt x="1137" y="74"/>
                        </a:lnTo>
                        <a:lnTo>
                          <a:pt x="1121" y="71"/>
                        </a:lnTo>
                        <a:lnTo>
                          <a:pt x="1104" y="69"/>
                        </a:lnTo>
                        <a:lnTo>
                          <a:pt x="1087" y="67"/>
                        </a:lnTo>
                        <a:lnTo>
                          <a:pt x="1071" y="64"/>
                        </a:lnTo>
                        <a:lnTo>
                          <a:pt x="1054" y="62"/>
                        </a:lnTo>
                        <a:lnTo>
                          <a:pt x="1038" y="60"/>
                        </a:lnTo>
                        <a:lnTo>
                          <a:pt x="1022" y="58"/>
                        </a:lnTo>
                        <a:lnTo>
                          <a:pt x="1005" y="55"/>
                        </a:lnTo>
                        <a:lnTo>
                          <a:pt x="989" y="53"/>
                        </a:lnTo>
                        <a:lnTo>
                          <a:pt x="985" y="50"/>
                        </a:lnTo>
                        <a:lnTo>
                          <a:pt x="979" y="48"/>
                        </a:lnTo>
                        <a:lnTo>
                          <a:pt x="975" y="45"/>
                        </a:lnTo>
                        <a:lnTo>
                          <a:pt x="970" y="42"/>
                        </a:lnTo>
                        <a:lnTo>
                          <a:pt x="966" y="40"/>
                        </a:lnTo>
                        <a:lnTo>
                          <a:pt x="961" y="37"/>
                        </a:lnTo>
                        <a:lnTo>
                          <a:pt x="957" y="35"/>
                        </a:lnTo>
                        <a:lnTo>
                          <a:pt x="952" y="32"/>
                        </a:lnTo>
                        <a:lnTo>
                          <a:pt x="928" y="30"/>
                        </a:lnTo>
                        <a:lnTo>
                          <a:pt x="904" y="28"/>
                        </a:lnTo>
                        <a:lnTo>
                          <a:pt x="880" y="26"/>
                        </a:lnTo>
                        <a:lnTo>
                          <a:pt x="855" y="24"/>
                        </a:lnTo>
                        <a:lnTo>
                          <a:pt x="831" y="22"/>
                        </a:lnTo>
                        <a:lnTo>
                          <a:pt x="806" y="20"/>
                        </a:lnTo>
                        <a:lnTo>
                          <a:pt x="782" y="18"/>
                        </a:lnTo>
                        <a:lnTo>
                          <a:pt x="758" y="16"/>
                        </a:lnTo>
                        <a:lnTo>
                          <a:pt x="733" y="14"/>
                        </a:lnTo>
                        <a:lnTo>
                          <a:pt x="708" y="12"/>
                        </a:lnTo>
                        <a:lnTo>
                          <a:pt x="684" y="10"/>
                        </a:lnTo>
                        <a:lnTo>
                          <a:pt x="660" y="8"/>
                        </a:lnTo>
                        <a:lnTo>
                          <a:pt x="635" y="6"/>
                        </a:lnTo>
                        <a:lnTo>
                          <a:pt x="610" y="4"/>
                        </a:lnTo>
                        <a:lnTo>
                          <a:pt x="586" y="2"/>
                        </a:lnTo>
                        <a:lnTo>
                          <a:pt x="562" y="0"/>
                        </a:lnTo>
                        <a:lnTo>
                          <a:pt x="556" y="2"/>
                        </a:lnTo>
                        <a:lnTo>
                          <a:pt x="551" y="4"/>
                        </a:lnTo>
                        <a:lnTo>
                          <a:pt x="545" y="6"/>
                        </a:lnTo>
                        <a:lnTo>
                          <a:pt x="540" y="8"/>
                        </a:lnTo>
                        <a:lnTo>
                          <a:pt x="534" y="10"/>
                        </a:lnTo>
                        <a:lnTo>
                          <a:pt x="528" y="12"/>
                        </a:lnTo>
                        <a:lnTo>
                          <a:pt x="522" y="14"/>
                        </a:lnTo>
                        <a:lnTo>
                          <a:pt x="517" y="16"/>
                        </a:lnTo>
                        <a:lnTo>
                          <a:pt x="502" y="15"/>
                        </a:lnTo>
                        <a:lnTo>
                          <a:pt x="487" y="14"/>
                        </a:lnTo>
                        <a:lnTo>
                          <a:pt x="472" y="13"/>
                        </a:lnTo>
                        <a:lnTo>
                          <a:pt x="456" y="12"/>
                        </a:lnTo>
                        <a:lnTo>
                          <a:pt x="441" y="11"/>
                        </a:lnTo>
                        <a:lnTo>
                          <a:pt x="426" y="10"/>
                        </a:lnTo>
                        <a:lnTo>
                          <a:pt x="410" y="9"/>
                        </a:lnTo>
                        <a:lnTo>
                          <a:pt x="395" y="8"/>
                        </a:lnTo>
                        <a:lnTo>
                          <a:pt x="380" y="8"/>
                        </a:lnTo>
                        <a:lnTo>
                          <a:pt x="365" y="7"/>
                        </a:lnTo>
                        <a:lnTo>
                          <a:pt x="350" y="6"/>
                        </a:lnTo>
                        <a:lnTo>
                          <a:pt x="335" y="5"/>
                        </a:lnTo>
                        <a:lnTo>
                          <a:pt x="319" y="4"/>
                        </a:lnTo>
                        <a:lnTo>
                          <a:pt x="303" y="3"/>
                        </a:lnTo>
                        <a:lnTo>
                          <a:pt x="288" y="2"/>
                        </a:lnTo>
                        <a:lnTo>
                          <a:pt x="273" y="1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3123720" y="5426280"/>
                    <a:ext cx="2757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6" h="811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7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5"/>
                        </a:lnTo>
                        <a:lnTo>
                          <a:pt x="171" y="257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6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9" y="689"/>
                        </a:lnTo>
                        <a:lnTo>
                          <a:pt x="59" y="693"/>
                        </a:lnTo>
                        <a:lnTo>
                          <a:pt x="89" y="697"/>
                        </a:lnTo>
                        <a:lnTo>
                          <a:pt x="119" y="701"/>
                        </a:lnTo>
                        <a:lnTo>
                          <a:pt x="148" y="705"/>
                        </a:lnTo>
                        <a:lnTo>
                          <a:pt x="178" y="709"/>
                        </a:lnTo>
                        <a:lnTo>
                          <a:pt x="208" y="712"/>
                        </a:lnTo>
                        <a:lnTo>
                          <a:pt x="238" y="716"/>
                        </a:lnTo>
                        <a:lnTo>
                          <a:pt x="267" y="720"/>
                        </a:lnTo>
                        <a:lnTo>
                          <a:pt x="297" y="724"/>
                        </a:lnTo>
                        <a:lnTo>
                          <a:pt x="327" y="728"/>
                        </a:lnTo>
                        <a:lnTo>
                          <a:pt x="356" y="732"/>
                        </a:lnTo>
                        <a:lnTo>
                          <a:pt x="386" y="736"/>
                        </a:lnTo>
                        <a:lnTo>
                          <a:pt x="415" y="740"/>
                        </a:lnTo>
                        <a:lnTo>
                          <a:pt x="446" y="744"/>
                        </a:lnTo>
                        <a:lnTo>
                          <a:pt x="475" y="747"/>
                        </a:lnTo>
                        <a:lnTo>
                          <a:pt x="505" y="751"/>
                        </a:lnTo>
                        <a:lnTo>
                          <a:pt x="535" y="756"/>
                        </a:lnTo>
                        <a:lnTo>
                          <a:pt x="565" y="760"/>
                        </a:lnTo>
                        <a:lnTo>
                          <a:pt x="594" y="764"/>
                        </a:lnTo>
                        <a:lnTo>
                          <a:pt x="623" y="768"/>
                        </a:lnTo>
                        <a:lnTo>
                          <a:pt x="654" y="772"/>
                        </a:lnTo>
                        <a:lnTo>
                          <a:pt x="683" y="776"/>
                        </a:lnTo>
                        <a:lnTo>
                          <a:pt x="713" y="780"/>
                        </a:lnTo>
                        <a:lnTo>
                          <a:pt x="742" y="784"/>
                        </a:lnTo>
                        <a:lnTo>
                          <a:pt x="772" y="787"/>
                        </a:lnTo>
                        <a:lnTo>
                          <a:pt x="802" y="791"/>
                        </a:lnTo>
                        <a:lnTo>
                          <a:pt x="831" y="795"/>
                        </a:lnTo>
                        <a:lnTo>
                          <a:pt x="860" y="799"/>
                        </a:lnTo>
                        <a:lnTo>
                          <a:pt x="890" y="803"/>
                        </a:lnTo>
                        <a:lnTo>
                          <a:pt x="920" y="807"/>
                        </a:lnTo>
                        <a:lnTo>
                          <a:pt x="949" y="811"/>
                        </a:lnTo>
                        <a:lnTo>
                          <a:pt x="966" y="767"/>
                        </a:lnTo>
                        <a:lnTo>
                          <a:pt x="983" y="721"/>
                        </a:lnTo>
                        <a:lnTo>
                          <a:pt x="1000" y="677"/>
                        </a:lnTo>
                        <a:lnTo>
                          <a:pt x="1016" y="631"/>
                        </a:lnTo>
                        <a:lnTo>
                          <a:pt x="1033" y="587"/>
                        </a:lnTo>
                        <a:lnTo>
                          <a:pt x="1049" y="541"/>
                        </a:lnTo>
                        <a:lnTo>
                          <a:pt x="1066" y="497"/>
                        </a:lnTo>
                        <a:lnTo>
                          <a:pt x="1082" y="452"/>
                        </a:lnTo>
                        <a:lnTo>
                          <a:pt x="1100" y="407"/>
                        </a:lnTo>
                        <a:lnTo>
                          <a:pt x="1116" y="362"/>
                        </a:lnTo>
                        <a:lnTo>
                          <a:pt x="1133" y="318"/>
                        </a:lnTo>
                        <a:lnTo>
                          <a:pt x="1149" y="273"/>
                        </a:lnTo>
                        <a:lnTo>
                          <a:pt x="1166" y="228"/>
                        </a:lnTo>
                        <a:lnTo>
                          <a:pt x="1182" y="184"/>
                        </a:lnTo>
                        <a:lnTo>
                          <a:pt x="1199" y="138"/>
                        </a:lnTo>
                        <a:lnTo>
                          <a:pt x="1216" y="94"/>
                        </a:lnTo>
                        <a:lnTo>
                          <a:pt x="1201" y="92"/>
                        </a:lnTo>
                        <a:lnTo>
                          <a:pt x="1186" y="89"/>
                        </a:lnTo>
                        <a:lnTo>
                          <a:pt x="1172" y="87"/>
                        </a:lnTo>
                        <a:lnTo>
                          <a:pt x="1157" y="84"/>
                        </a:lnTo>
                        <a:lnTo>
                          <a:pt x="1143" y="82"/>
                        </a:lnTo>
                        <a:lnTo>
                          <a:pt x="1128" y="79"/>
                        </a:lnTo>
                        <a:lnTo>
                          <a:pt x="1114" y="77"/>
                        </a:lnTo>
                        <a:lnTo>
                          <a:pt x="1099" y="73"/>
                        </a:lnTo>
                        <a:lnTo>
                          <a:pt x="1083" y="71"/>
                        </a:lnTo>
                        <a:lnTo>
                          <a:pt x="1069" y="68"/>
                        </a:lnTo>
                        <a:lnTo>
                          <a:pt x="1054" y="66"/>
                        </a:lnTo>
                        <a:lnTo>
                          <a:pt x="1040" y="63"/>
                        </a:lnTo>
                        <a:lnTo>
                          <a:pt x="1025" y="61"/>
                        </a:lnTo>
                        <a:lnTo>
                          <a:pt x="1011" y="58"/>
                        </a:lnTo>
                        <a:lnTo>
                          <a:pt x="996" y="56"/>
                        </a:lnTo>
                        <a:lnTo>
                          <a:pt x="982" y="53"/>
                        </a:lnTo>
                        <a:lnTo>
                          <a:pt x="974" y="48"/>
                        </a:lnTo>
                        <a:lnTo>
                          <a:pt x="967" y="42"/>
                        </a:lnTo>
                        <a:lnTo>
                          <a:pt x="960" y="37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110760" y="5426280"/>
                    <a:ext cx="2664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8" h="799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6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4"/>
                        </a:lnTo>
                        <a:lnTo>
                          <a:pt x="171" y="256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5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8" y="688"/>
                        </a:lnTo>
                        <a:lnTo>
                          <a:pt x="56" y="692"/>
                        </a:lnTo>
                        <a:lnTo>
                          <a:pt x="84" y="695"/>
                        </a:lnTo>
                        <a:lnTo>
                          <a:pt x="113" y="699"/>
                        </a:lnTo>
                        <a:lnTo>
                          <a:pt x="141" y="702"/>
                        </a:lnTo>
                        <a:lnTo>
                          <a:pt x="169" y="706"/>
                        </a:lnTo>
                        <a:lnTo>
                          <a:pt x="198" y="709"/>
                        </a:lnTo>
                        <a:lnTo>
                          <a:pt x="226" y="713"/>
                        </a:lnTo>
                        <a:lnTo>
                          <a:pt x="254" y="716"/>
                        </a:lnTo>
                        <a:lnTo>
                          <a:pt x="282" y="720"/>
                        </a:lnTo>
                        <a:lnTo>
                          <a:pt x="311" y="723"/>
                        </a:lnTo>
                        <a:lnTo>
                          <a:pt x="339" y="727"/>
                        </a:lnTo>
                        <a:lnTo>
                          <a:pt x="367" y="731"/>
                        </a:lnTo>
                        <a:lnTo>
                          <a:pt x="395" y="734"/>
                        </a:lnTo>
                        <a:lnTo>
                          <a:pt x="424" y="738"/>
                        </a:lnTo>
                        <a:lnTo>
                          <a:pt x="453" y="741"/>
                        </a:lnTo>
                        <a:lnTo>
                          <a:pt x="481" y="745"/>
                        </a:lnTo>
                        <a:lnTo>
                          <a:pt x="509" y="748"/>
                        </a:lnTo>
                        <a:lnTo>
                          <a:pt x="538" y="753"/>
                        </a:lnTo>
                        <a:lnTo>
                          <a:pt x="566" y="756"/>
                        </a:lnTo>
                        <a:lnTo>
                          <a:pt x="594" y="760"/>
                        </a:lnTo>
                        <a:lnTo>
                          <a:pt x="622" y="763"/>
                        </a:lnTo>
                        <a:lnTo>
                          <a:pt x="651" y="767"/>
                        </a:lnTo>
                        <a:lnTo>
                          <a:pt x="679" y="771"/>
                        </a:lnTo>
                        <a:lnTo>
                          <a:pt x="707" y="774"/>
                        </a:lnTo>
                        <a:lnTo>
                          <a:pt x="735" y="778"/>
                        </a:lnTo>
                        <a:lnTo>
                          <a:pt x="764" y="781"/>
                        </a:lnTo>
                        <a:lnTo>
                          <a:pt x="792" y="785"/>
                        </a:lnTo>
                        <a:lnTo>
                          <a:pt x="820" y="788"/>
                        </a:lnTo>
                        <a:lnTo>
                          <a:pt x="848" y="792"/>
                        </a:lnTo>
                        <a:lnTo>
                          <a:pt x="877" y="795"/>
                        </a:lnTo>
                        <a:lnTo>
                          <a:pt x="905" y="799"/>
                        </a:lnTo>
                        <a:lnTo>
                          <a:pt x="922" y="755"/>
                        </a:lnTo>
                        <a:lnTo>
                          <a:pt x="938" y="711"/>
                        </a:lnTo>
                        <a:lnTo>
                          <a:pt x="955" y="667"/>
                        </a:lnTo>
                        <a:lnTo>
                          <a:pt x="972" y="623"/>
                        </a:lnTo>
                        <a:lnTo>
                          <a:pt x="990" y="579"/>
                        </a:lnTo>
                        <a:lnTo>
                          <a:pt x="1007" y="535"/>
                        </a:lnTo>
                        <a:lnTo>
                          <a:pt x="1024" y="491"/>
                        </a:lnTo>
                        <a:lnTo>
                          <a:pt x="1041" y="447"/>
                        </a:lnTo>
                        <a:lnTo>
                          <a:pt x="1058" y="403"/>
                        </a:lnTo>
                        <a:lnTo>
                          <a:pt x="1075" y="359"/>
                        </a:lnTo>
                        <a:lnTo>
                          <a:pt x="1092" y="315"/>
                        </a:lnTo>
                        <a:lnTo>
                          <a:pt x="1110" y="272"/>
                        </a:lnTo>
                        <a:lnTo>
                          <a:pt x="1127" y="227"/>
                        </a:lnTo>
                        <a:lnTo>
                          <a:pt x="1144" y="184"/>
                        </a:lnTo>
                        <a:lnTo>
                          <a:pt x="1161" y="139"/>
                        </a:lnTo>
                        <a:lnTo>
                          <a:pt x="1178" y="96"/>
                        </a:lnTo>
                        <a:lnTo>
                          <a:pt x="1165" y="94"/>
                        </a:lnTo>
                        <a:lnTo>
                          <a:pt x="1153" y="91"/>
                        </a:lnTo>
                        <a:lnTo>
                          <a:pt x="1140" y="89"/>
                        </a:lnTo>
                        <a:lnTo>
                          <a:pt x="1128" y="86"/>
                        </a:lnTo>
                        <a:lnTo>
                          <a:pt x="1115" y="84"/>
                        </a:lnTo>
                        <a:lnTo>
                          <a:pt x="1102" y="81"/>
                        </a:lnTo>
                        <a:lnTo>
                          <a:pt x="1089" y="78"/>
                        </a:lnTo>
                        <a:lnTo>
                          <a:pt x="1076" y="76"/>
                        </a:lnTo>
                        <a:lnTo>
                          <a:pt x="1063" y="72"/>
                        </a:lnTo>
                        <a:lnTo>
                          <a:pt x="1050" y="70"/>
                        </a:lnTo>
                        <a:lnTo>
                          <a:pt x="1038" y="67"/>
                        </a:lnTo>
                        <a:lnTo>
                          <a:pt x="1025" y="64"/>
                        </a:lnTo>
                        <a:lnTo>
                          <a:pt x="1012" y="62"/>
                        </a:lnTo>
                        <a:lnTo>
                          <a:pt x="999" y="59"/>
                        </a:lnTo>
                        <a:lnTo>
                          <a:pt x="987" y="57"/>
                        </a:lnTo>
                        <a:lnTo>
                          <a:pt x="973" y="54"/>
                        </a:lnTo>
                        <a:lnTo>
                          <a:pt x="968" y="49"/>
                        </a:lnTo>
                        <a:lnTo>
                          <a:pt x="963" y="43"/>
                        </a:lnTo>
                        <a:lnTo>
                          <a:pt x="958" y="37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3110760" y="5426280"/>
                    <a:ext cx="258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1" h="787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6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4"/>
                        </a:lnTo>
                        <a:lnTo>
                          <a:pt x="171" y="256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5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7" y="688"/>
                        </a:lnTo>
                        <a:lnTo>
                          <a:pt x="53" y="691"/>
                        </a:lnTo>
                        <a:lnTo>
                          <a:pt x="80" y="694"/>
                        </a:lnTo>
                        <a:lnTo>
                          <a:pt x="107" y="697"/>
                        </a:lnTo>
                        <a:lnTo>
                          <a:pt x="134" y="701"/>
                        </a:lnTo>
                        <a:lnTo>
                          <a:pt x="160" y="704"/>
                        </a:lnTo>
                        <a:lnTo>
                          <a:pt x="187" y="707"/>
                        </a:lnTo>
                        <a:lnTo>
                          <a:pt x="214" y="710"/>
                        </a:lnTo>
                        <a:lnTo>
                          <a:pt x="241" y="713"/>
                        </a:lnTo>
                        <a:lnTo>
                          <a:pt x="268" y="716"/>
                        </a:lnTo>
                        <a:lnTo>
                          <a:pt x="294" y="719"/>
                        </a:lnTo>
                        <a:lnTo>
                          <a:pt x="322" y="722"/>
                        </a:lnTo>
                        <a:lnTo>
                          <a:pt x="348" y="726"/>
                        </a:lnTo>
                        <a:lnTo>
                          <a:pt x="375" y="729"/>
                        </a:lnTo>
                        <a:lnTo>
                          <a:pt x="402" y="732"/>
                        </a:lnTo>
                        <a:lnTo>
                          <a:pt x="429" y="735"/>
                        </a:lnTo>
                        <a:lnTo>
                          <a:pt x="456" y="738"/>
                        </a:lnTo>
                        <a:lnTo>
                          <a:pt x="483" y="741"/>
                        </a:lnTo>
                        <a:lnTo>
                          <a:pt x="509" y="745"/>
                        </a:lnTo>
                        <a:lnTo>
                          <a:pt x="537" y="748"/>
                        </a:lnTo>
                        <a:lnTo>
                          <a:pt x="563" y="751"/>
                        </a:lnTo>
                        <a:lnTo>
                          <a:pt x="590" y="755"/>
                        </a:lnTo>
                        <a:lnTo>
                          <a:pt x="617" y="758"/>
                        </a:lnTo>
                        <a:lnTo>
                          <a:pt x="643" y="762"/>
                        </a:lnTo>
                        <a:lnTo>
                          <a:pt x="671" y="765"/>
                        </a:lnTo>
                        <a:lnTo>
                          <a:pt x="698" y="768"/>
                        </a:lnTo>
                        <a:lnTo>
                          <a:pt x="724" y="771"/>
                        </a:lnTo>
                        <a:lnTo>
                          <a:pt x="751" y="774"/>
                        </a:lnTo>
                        <a:lnTo>
                          <a:pt x="779" y="777"/>
                        </a:lnTo>
                        <a:lnTo>
                          <a:pt x="806" y="781"/>
                        </a:lnTo>
                        <a:lnTo>
                          <a:pt x="832" y="784"/>
                        </a:lnTo>
                        <a:lnTo>
                          <a:pt x="859" y="787"/>
                        </a:lnTo>
                        <a:lnTo>
                          <a:pt x="877" y="743"/>
                        </a:lnTo>
                        <a:lnTo>
                          <a:pt x="894" y="701"/>
                        </a:lnTo>
                        <a:lnTo>
                          <a:pt x="911" y="658"/>
                        </a:lnTo>
                        <a:lnTo>
                          <a:pt x="929" y="615"/>
                        </a:lnTo>
                        <a:lnTo>
                          <a:pt x="946" y="572"/>
                        </a:lnTo>
                        <a:lnTo>
                          <a:pt x="963" y="529"/>
                        </a:lnTo>
                        <a:lnTo>
                          <a:pt x="982" y="486"/>
                        </a:lnTo>
                        <a:lnTo>
                          <a:pt x="999" y="442"/>
                        </a:lnTo>
                        <a:lnTo>
                          <a:pt x="1017" y="400"/>
                        </a:lnTo>
                        <a:lnTo>
                          <a:pt x="1034" y="356"/>
                        </a:lnTo>
                        <a:lnTo>
                          <a:pt x="1052" y="314"/>
                        </a:lnTo>
                        <a:lnTo>
                          <a:pt x="1070" y="271"/>
                        </a:lnTo>
                        <a:lnTo>
                          <a:pt x="1087" y="228"/>
                        </a:lnTo>
                        <a:lnTo>
                          <a:pt x="1106" y="185"/>
                        </a:lnTo>
                        <a:lnTo>
                          <a:pt x="1123" y="142"/>
                        </a:lnTo>
                        <a:lnTo>
                          <a:pt x="1141" y="99"/>
                        </a:lnTo>
                        <a:lnTo>
                          <a:pt x="1130" y="96"/>
                        </a:lnTo>
                        <a:lnTo>
                          <a:pt x="1119" y="94"/>
                        </a:lnTo>
                        <a:lnTo>
                          <a:pt x="1108" y="91"/>
                        </a:lnTo>
                        <a:lnTo>
                          <a:pt x="1098" y="88"/>
                        </a:lnTo>
                        <a:lnTo>
                          <a:pt x="1086" y="86"/>
                        </a:lnTo>
                        <a:lnTo>
                          <a:pt x="1075" y="83"/>
                        </a:lnTo>
                        <a:lnTo>
                          <a:pt x="1064" y="80"/>
                        </a:lnTo>
                        <a:lnTo>
                          <a:pt x="1053" y="77"/>
                        </a:lnTo>
                        <a:lnTo>
                          <a:pt x="1042" y="74"/>
                        </a:lnTo>
                        <a:lnTo>
                          <a:pt x="1031" y="71"/>
                        </a:lnTo>
                        <a:lnTo>
                          <a:pt x="1020" y="68"/>
                        </a:lnTo>
                        <a:lnTo>
                          <a:pt x="1010" y="66"/>
                        </a:lnTo>
                        <a:lnTo>
                          <a:pt x="999" y="63"/>
                        </a:lnTo>
                        <a:lnTo>
                          <a:pt x="988" y="60"/>
                        </a:lnTo>
                        <a:lnTo>
                          <a:pt x="976" y="58"/>
                        </a:lnTo>
                        <a:lnTo>
                          <a:pt x="965" y="55"/>
                        </a:lnTo>
                        <a:lnTo>
                          <a:pt x="962" y="49"/>
                        </a:lnTo>
                        <a:lnTo>
                          <a:pt x="959" y="43"/>
                        </a:lnTo>
                        <a:lnTo>
                          <a:pt x="956" y="38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110760" y="5426280"/>
                    <a:ext cx="2491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4" h="775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300"/>
                        </a:lnTo>
                        <a:lnTo>
                          <a:pt x="138" y="342"/>
                        </a:lnTo>
                        <a:lnTo>
                          <a:pt x="121" y="385"/>
                        </a:lnTo>
                        <a:lnTo>
                          <a:pt x="103" y="428"/>
                        </a:lnTo>
                        <a:lnTo>
                          <a:pt x="85" y="471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5" y="687"/>
                        </a:lnTo>
                        <a:lnTo>
                          <a:pt x="50" y="690"/>
                        </a:lnTo>
                        <a:lnTo>
                          <a:pt x="76" y="692"/>
                        </a:lnTo>
                        <a:lnTo>
                          <a:pt x="102" y="695"/>
                        </a:lnTo>
                        <a:lnTo>
                          <a:pt x="127" y="698"/>
                        </a:lnTo>
                        <a:lnTo>
                          <a:pt x="152" y="701"/>
                        </a:lnTo>
                        <a:lnTo>
                          <a:pt x="177" y="704"/>
                        </a:lnTo>
                        <a:lnTo>
                          <a:pt x="204" y="706"/>
                        </a:lnTo>
                        <a:lnTo>
                          <a:pt x="229" y="709"/>
                        </a:lnTo>
                        <a:lnTo>
                          <a:pt x="254" y="712"/>
                        </a:lnTo>
                        <a:lnTo>
                          <a:pt x="279" y="715"/>
                        </a:lnTo>
                        <a:lnTo>
                          <a:pt x="304" y="718"/>
                        </a:lnTo>
                        <a:lnTo>
                          <a:pt x="330" y="721"/>
                        </a:lnTo>
                        <a:lnTo>
                          <a:pt x="356" y="723"/>
                        </a:lnTo>
                        <a:lnTo>
                          <a:pt x="381" y="726"/>
                        </a:lnTo>
                        <a:lnTo>
                          <a:pt x="406" y="729"/>
                        </a:lnTo>
                        <a:lnTo>
                          <a:pt x="432" y="732"/>
                        </a:lnTo>
                        <a:lnTo>
                          <a:pt x="457" y="735"/>
                        </a:lnTo>
                        <a:lnTo>
                          <a:pt x="483" y="737"/>
                        </a:lnTo>
                        <a:lnTo>
                          <a:pt x="508" y="740"/>
                        </a:lnTo>
                        <a:lnTo>
                          <a:pt x="533" y="743"/>
                        </a:lnTo>
                        <a:lnTo>
                          <a:pt x="559" y="746"/>
                        </a:lnTo>
                        <a:lnTo>
                          <a:pt x="584" y="749"/>
                        </a:lnTo>
                        <a:lnTo>
                          <a:pt x="609" y="751"/>
                        </a:lnTo>
                        <a:lnTo>
                          <a:pt x="635" y="755"/>
                        </a:lnTo>
                        <a:lnTo>
                          <a:pt x="661" y="758"/>
                        </a:lnTo>
                        <a:lnTo>
                          <a:pt x="686" y="761"/>
                        </a:lnTo>
                        <a:lnTo>
                          <a:pt x="711" y="764"/>
                        </a:lnTo>
                        <a:lnTo>
                          <a:pt x="736" y="767"/>
                        </a:lnTo>
                        <a:lnTo>
                          <a:pt x="763" y="769"/>
                        </a:lnTo>
                        <a:lnTo>
                          <a:pt x="788" y="772"/>
                        </a:lnTo>
                        <a:lnTo>
                          <a:pt x="813" y="775"/>
                        </a:lnTo>
                        <a:lnTo>
                          <a:pt x="831" y="732"/>
                        </a:lnTo>
                        <a:lnTo>
                          <a:pt x="849" y="691"/>
                        </a:lnTo>
                        <a:lnTo>
                          <a:pt x="867" y="648"/>
                        </a:lnTo>
                        <a:lnTo>
                          <a:pt x="886" y="606"/>
                        </a:lnTo>
                        <a:lnTo>
                          <a:pt x="904" y="565"/>
                        </a:lnTo>
                        <a:lnTo>
                          <a:pt x="922" y="522"/>
                        </a:lnTo>
                        <a:lnTo>
                          <a:pt x="940" y="481"/>
                        </a:lnTo>
                        <a:lnTo>
                          <a:pt x="958" y="438"/>
                        </a:lnTo>
                        <a:lnTo>
                          <a:pt x="976" y="396"/>
                        </a:lnTo>
                        <a:lnTo>
                          <a:pt x="995" y="354"/>
                        </a:lnTo>
                        <a:lnTo>
                          <a:pt x="1013" y="312"/>
                        </a:lnTo>
                        <a:lnTo>
                          <a:pt x="1031" y="270"/>
                        </a:lnTo>
                        <a:lnTo>
                          <a:pt x="1049" y="228"/>
                        </a:lnTo>
                        <a:lnTo>
                          <a:pt x="1067" y="186"/>
                        </a:lnTo>
                        <a:lnTo>
                          <a:pt x="1085" y="144"/>
                        </a:lnTo>
                        <a:lnTo>
                          <a:pt x="1104" y="102"/>
                        </a:lnTo>
                        <a:lnTo>
                          <a:pt x="1085" y="96"/>
                        </a:lnTo>
                        <a:lnTo>
                          <a:pt x="1067" y="91"/>
                        </a:lnTo>
                        <a:lnTo>
                          <a:pt x="1049" y="85"/>
                        </a:lnTo>
                        <a:lnTo>
                          <a:pt x="1031" y="79"/>
                        </a:lnTo>
                        <a:lnTo>
                          <a:pt x="1013" y="72"/>
                        </a:lnTo>
                        <a:lnTo>
                          <a:pt x="995" y="66"/>
                        </a:lnTo>
                        <a:lnTo>
                          <a:pt x="976" y="61"/>
                        </a:lnTo>
                        <a:lnTo>
                          <a:pt x="958" y="55"/>
                        </a:lnTo>
                        <a:lnTo>
                          <a:pt x="957" y="49"/>
                        </a:lnTo>
                        <a:lnTo>
                          <a:pt x="956" y="43"/>
                        </a:lnTo>
                        <a:lnTo>
                          <a:pt x="955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8" y="12"/>
                        </a:lnTo>
                        <a:lnTo>
                          <a:pt x="443" y="11"/>
                        </a:lnTo>
                        <a:lnTo>
                          <a:pt x="428" y="10"/>
                        </a:lnTo>
                        <a:lnTo>
                          <a:pt x="412" y="9"/>
                        </a:lnTo>
                        <a:lnTo>
                          <a:pt x="397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110760" y="5426280"/>
                    <a:ext cx="2412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6" h="763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299"/>
                        </a:lnTo>
                        <a:lnTo>
                          <a:pt x="138" y="341"/>
                        </a:lnTo>
                        <a:lnTo>
                          <a:pt x="121" y="385"/>
                        </a:lnTo>
                        <a:lnTo>
                          <a:pt x="103" y="427"/>
                        </a:lnTo>
                        <a:lnTo>
                          <a:pt x="85" y="470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4" y="686"/>
                        </a:lnTo>
                        <a:lnTo>
                          <a:pt x="47" y="689"/>
                        </a:lnTo>
                        <a:lnTo>
                          <a:pt x="71" y="691"/>
                        </a:lnTo>
                        <a:lnTo>
                          <a:pt x="96" y="694"/>
                        </a:lnTo>
                        <a:lnTo>
                          <a:pt x="120" y="696"/>
                        </a:lnTo>
                        <a:lnTo>
                          <a:pt x="143" y="699"/>
                        </a:lnTo>
                        <a:lnTo>
                          <a:pt x="167" y="701"/>
                        </a:lnTo>
                        <a:lnTo>
                          <a:pt x="191" y="703"/>
                        </a:lnTo>
                        <a:lnTo>
                          <a:pt x="215" y="706"/>
                        </a:lnTo>
                        <a:lnTo>
                          <a:pt x="239" y="708"/>
                        </a:lnTo>
                        <a:lnTo>
                          <a:pt x="263" y="711"/>
                        </a:lnTo>
                        <a:lnTo>
                          <a:pt x="287" y="713"/>
                        </a:lnTo>
                        <a:lnTo>
                          <a:pt x="311" y="716"/>
                        </a:lnTo>
                        <a:lnTo>
                          <a:pt x="335" y="718"/>
                        </a:lnTo>
                        <a:lnTo>
                          <a:pt x="359" y="721"/>
                        </a:lnTo>
                        <a:lnTo>
                          <a:pt x="383" y="723"/>
                        </a:lnTo>
                        <a:lnTo>
                          <a:pt x="406" y="725"/>
                        </a:lnTo>
                        <a:lnTo>
                          <a:pt x="431" y="728"/>
                        </a:lnTo>
                        <a:lnTo>
                          <a:pt x="455" y="730"/>
                        </a:lnTo>
                        <a:lnTo>
                          <a:pt x="479" y="733"/>
                        </a:lnTo>
                        <a:lnTo>
                          <a:pt x="502" y="735"/>
                        </a:lnTo>
                        <a:lnTo>
                          <a:pt x="526" y="738"/>
                        </a:lnTo>
                        <a:lnTo>
                          <a:pt x="551" y="740"/>
                        </a:lnTo>
                        <a:lnTo>
                          <a:pt x="575" y="742"/>
                        </a:lnTo>
                        <a:lnTo>
                          <a:pt x="598" y="745"/>
                        </a:lnTo>
                        <a:lnTo>
                          <a:pt x="622" y="747"/>
                        </a:lnTo>
                        <a:lnTo>
                          <a:pt x="647" y="750"/>
                        </a:lnTo>
                        <a:lnTo>
                          <a:pt x="671" y="753"/>
                        </a:lnTo>
                        <a:lnTo>
                          <a:pt x="695" y="756"/>
                        </a:lnTo>
                        <a:lnTo>
                          <a:pt x="718" y="758"/>
                        </a:lnTo>
                        <a:lnTo>
                          <a:pt x="742" y="761"/>
                        </a:lnTo>
                        <a:lnTo>
                          <a:pt x="767" y="763"/>
                        </a:lnTo>
                        <a:lnTo>
                          <a:pt x="786" y="721"/>
                        </a:lnTo>
                        <a:lnTo>
                          <a:pt x="804" y="681"/>
                        </a:lnTo>
                        <a:lnTo>
                          <a:pt x="823" y="639"/>
                        </a:lnTo>
                        <a:lnTo>
                          <a:pt x="842" y="598"/>
                        </a:lnTo>
                        <a:lnTo>
                          <a:pt x="860" y="556"/>
                        </a:lnTo>
                        <a:lnTo>
                          <a:pt x="880" y="516"/>
                        </a:lnTo>
                        <a:lnTo>
                          <a:pt x="898" y="475"/>
                        </a:lnTo>
                        <a:lnTo>
                          <a:pt x="917" y="433"/>
                        </a:lnTo>
                        <a:lnTo>
                          <a:pt x="935" y="392"/>
                        </a:lnTo>
                        <a:lnTo>
                          <a:pt x="953" y="350"/>
                        </a:lnTo>
                        <a:lnTo>
                          <a:pt x="972" y="310"/>
                        </a:lnTo>
                        <a:lnTo>
                          <a:pt x="991" y="269"/>
                        </a:lnTo>
                        <a:lnTo>
                          <a:pt x="1010" y="227"/>
                        </a:lnTo>
                        <a:lnTo>
                          <a:pt x="1029" y="186"/>
                        </a:lnTo>
                        <a:lnTo>
                          <a:pt x="1047" y="145"/>
                        </a:lnTo>
                        <a:lnTo>
                          <a:pt x="1066" y="104"/>
                        </a:lnTo>
                        <a:lnTo>
                          <a:pt x="1052" y="98"/>
                        </a:lnTo>
                        <a:lnTo>
                          <a:pt x="1037" y="92"/>
                        </a:lnTo>
                        <a:lnTo>
                          <a:pt x="1023" y="86"/>
                        </a:lnTo>
                        <a:lnTo>
                          <a:pt x="1009" y="80"/>
                        </a:lnTo>
                        <a:lnTo>
                          <a:pt x="995" y="74"/>
                        </a:lnTo>
                        <a:lnTo>
                          <a:pt x="979" y="68"/>
                        </a:lnTo>
                        <a:lnTo>
                          <a:pt x="965" y="62"/>
                        </a:lnTo>
                        <a:lnTo>
                          <a:pt x="950" y="56"/>
                        </a:lnTo>
                        <a:lnTo>
                          <a:pt x="951" y="50"/>
                        </a:lnTo>
                        <a:lnTo>
                          <a:pt x="952" y="44"/>
                        </a:lnTo>
                        <a:lnTo>
                          <a:pt x="953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8" y="12"/>
                        </a:lnTo>
                        <a:lnTo>
                          <a:pt x="443" y="11"/>
                        </a:lnTo>
                        <a:lnTo>
                          <a:pt x="428" y="10"/>
                        </a:lnTo>
                        <a:lnTo>
                          <a:pt x="412" y="9"/>
                        </a:lnTo>
                        <a:lnTo>
                          <a:pt x="397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110760" y="5426280"/>
                    <a:ext cx="2332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9" h="750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299"/>
                        </a:lnTo>
                        <a:lnTo>
                          <a:pt x="138" y="341"/>
                        </a:lnTo>
                        <a:lnTo>
                          <a:pt x="121" y="385"/>
                        </a:lnTo>
                        <a:lnTo>
                          <a:pt x="103" y="427"/>
                        </a:lnTo>
                        <a:lnTo>
                          <a:pt x="85" y="470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2" y="686"/>
                        </a:lnTo>
                        <a:lnTo>
                          <a:pt x="45" y="688"/>
                        </a:lnTo>
                        <a:lnTo>
                          <a:pt x="67" y="690"/>
                        </a:lnTo>
                        <a:lnTo>
                          <a:pt x="90" y="692"/>
                        </a:lnTo>
                        <a:lnTo>
                          <a:pt x="113" y="694"/>
                        </a:lnTo>
                        <a:lnTo>
                          <a:pt x="135" y="696"/>
                        </a:lnTo>
                        <a:lnTo>
                          <a:pt x="157" y="698"/>
                        </a:lnTo>
                        <a:lnTo>
                          <a:pt x="180" y="700"/>
                        </a:lnTo>
                        <a:lnTo>
                          <a:pt x="203" y="703"/>
                        </a:lnTo>
                        <a:lnTo>
                          <a:pt x="225" y="705"/>
                        </a:lnTo>
                        <a:lnTo>
                          <a:pt x="247" y="707"/>
                        </a:lnTo>
                        <a:lnTo>
                          <a:pt x="270" y="709"/>
                        </a:lnTo>
                        <a:lnTo>
                          <a:pt x="292" y="711"/>
                        </a:lnTo>
                        <a:lnTo>
                          <a:pt x="315" y="713"/>
                        </a:lnTo>
                        <a:lnTo>
                          <a:pt x="338" y="715"/>
                        </a:lnTo>
                        <a:lnTo>
                          <a:pt x="360" y="717"/>
                        </a:lnTo>
                        <a:lnTo>
                          <a:pt x="382" y="719"/>
                        </a:lnTo>
                        <a:lnTo>
                          <a:pt x="405" y="721"/>
                        </a:lnTo>
                        <a:lnTo>
                          <a:pt x="428" y="723"/>
                        </a:lnTo>
                        <a:lnTo>
                          <a:pt x="450" y="725"/>
                        </a:lnTo>
                        <a:lnTo>
                          <a:pt x="473" y="727"/>
                        </a:lnTo>
                        <a:lnTo>
                          <a:pt x="495" y="729"/>
                        </a:lnTo>
                        <a:lnTo>
                          <a:pt x="517" y="731"/>
                        </a:lnTo>
                        <a:lnTo>
                          <a:pt x="541" y="733"/>
                        </a:lnTo>
                        <a:lnTo>
                          <a:pt x="563" y="736"/>
                        </a:lnTo>
                        <a:lnTo>
                          <a:pt x="585" y="738"/>
                        </a:lnTo>
                        <a:lnTo>
                          <a:pt x="607" y="740"/>
                        </a:lnTo>
                        <a:lnTo>
                          <a:pt x="630" y="742"/>
                        </a:lnTo>
                        <a:lnTo>
                          <a:pt x="653" y="744"/>
                        </a:lnTo>
                        <a:lnTo>
                          <a:pt x="675" y="746"/>
                        </a:lnTo>
                        <a:lnTo>
                          <a:pt x="698" y="748"/>
                        </a:lnTo>
                        <a:lnTo>
                          <a:pt x="720" y="750"/>
                        </a:lnTo>
                        <a:lnTo>
                          <a:pt x="739" y="710"/>
                        </a:lnTo>
                        <a:lnTo>
                          <a:pt x="759" y="670"/>
                        </a:lnTo>
                        <a:lnTo>
                          <a:pt x="778" y="629"/>
                        </a:lnTo>
                        <a:lnTo>
                          <a:pt x="798" y="589"/>
                        </a:lnTo>
                        <a:lnTo>
                          <a:pt x="817" y="549"/>
                        </a:lnTo>
                        <a:lnTo>
                          <a:pt x="836" y="509"/>
                        </a:lnTo>
                        <a:lnTo>
                          <a:pt x="855" y="469"/>
                        </a:lnTo>
                        <a:lnTo>
                          <a:pt x="875" y="428"/>
                        </a:lnTo>
                        <a:lnTo>
                          <a:pt x="895" y="388"/>
                        </a:lnTo>
                        <a:lnTo>
                          <a:pt x="914" y="348"/>
                        </a:lnTo>
                        <a:lnTo>
                          <a:pt x="933" y="308"/>
                        </a:lnTo>
                        <a:lnTo>
                          <a:pt x="952" y="267"/>
                        </a:lnTo>
                        <a:lnTo>
                          <a:pt x="971" y="227"/>
                        </a:lnTo>
                        <a:lnTo>
                          <a:pt x="991" y="188"/>
                        </a:lnTo>
                        <a:lnTo>
                          <a:pt x="1010" y="147"/>
                        </a:lnTo>
                        <a:lnTo>
                          <a:pt x="1029" y="107"/>
                        </a:lnTo>
                        <a:lnTo>
                          <a:pt x="1018" y="101"/>
                        </a:lnTo>
                        <a:lnTo>
                          <a:pt x="1007" y="94"/>
                        </a:lnTo>
                        <a:lnTo>
                          <a:pt x="997" y="88"/>
                        </a:lnTo>
                        <a:lnTo>
                          <a:pt x="986" y="82"/>
                        </a:lnTo>
                        <a:lnTo>
                          <a:pt x="974" y="76"/>
                        </a:lnTo>
                        <a:lnTo>
                          <a:pt x="964" y="69"/>
                        </a:lnTo>
                        <a:lnTo>
                          <a:pt x="953" y="62"/>
                        </a:lnTo>
                        <a:lnTo>
                          <a:pt x="942" y="56"/>
                        </a:lnTo>
                        <a:lnTo>
                          <a:pt x="945" y="50"/>
                        </a:lnTo>
                        <a:lnTo>
                          <a:pt x="948" y="44"/>
                        </a:lnTo>
                        <a:lnTo>
                          <a:pt x="951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9" y="12"/>
                        </a:lnTo>
                        <a:lnTo>
                          <a:pt x="444" y="11"/>
                        </a:lnTo>
                        <a:lnTo>
                          <a:pt x="429" y="10"/>
                        </a:lnTo>
                        <a:lnTo>
                          <a:pt x="413" y="9"/>
                        </a:lnTo>
                        <a:lnTo>
                          <a:pt x="398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3110760" y="5426280"/>
                    <a:ext cx="22356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3" h="738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5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3"/>
                        </a:lnTo>
                        <a:lnTo>
                          <a:pt x="173" y="255"/>
                        </a:lnTo>
                        <a:lnTo>
                          <a:pt x="156" y="299"/>
                        </a:lnTo>
                        <a:lnTo>
                          <a:pt x="139" y="341"/>
                        </a:lnTo>
                        <a:lnTo>
                          <a:pt x="121" y="384"/>
                        </a:lnTo>
                        <a:lnTo>
                          <a:pt x="104" y="427"/>
                        </a:lnTo>
                        <a:lnTo>
                          <a:pt x="86" y="470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1" y="686"/>
                        </a:lnTo>
                        <a:lnTo>
                          <a:pt x="42" y="687"/>
                        </a:lnTo>
                        <a:lnTo>
                          <a:pt x="63" y="689"/>
                        </a:lnTo>
                        <a:lnTo>
                          <a:pt x="84" y="691"/>
                        </a:lnTo>
                        <a:lnTo>
                          <a:pt x="106" y="692"/>
                        </a:lnTo>
                        <a:lnTo>
                          <a:pt x="126" y="694"/>
                        </a:lnTo>
                        <a:lnTo>
                          <a:pt x="147" y="696"/>
                        </a:lnTo>
                        <a:lnTo>
                          <a:pt x="168" y="697"/>
                        </a:lnTo>
                        <a:lnTo>
                          <a:pt x="189" y="699"/>
                        </a:lnTo>
                        <a:lnTo>
                          <a:pt x="211" y="701"/>
                        </a:lnTo>
                        <a:lnTo>
                          <a:pt x="232" y="703"/>
                        </a:lnTo>
                        <a:lnTo>
                          <a:pt x="253" y="704"/>
                        </a:lnTo>
                        <a:lnTo>
                          <a:pt x="274" y="706"/>
                        </a:lnTo>
                        <a:lnTo>
                          <a:pt x="295" y="708"/>
                        </a:lnTo>
                        <a:lnTo>
                          <a:pt x="317" y="709"/>
                        </a:lnTo>
                        <a:lnTo>
                          <a:pt x="338" y="711"/>
                        </a:lnTo>
                        <a:lnTo>
                          <a:pt x="358" y="713"/>
                        </a:lnTo>
                        <a:lnTo>
                          <a:pt x="379" y="714"/>
                        </a:lnTo>
                        <a:lnTo>
                          <a:pt x="400" y="716"/>
                        </a:lnTo>
                        <a:lnTo>
                          <a:pt x="421" y="718"/>
                        </a:lnTo>
                        <a:lnTo>
                          <a:pt x="443" y="719"/>
                        </a:lnTo>
                        <a:lnTo>
                          <a:pt x="464" y="721"/>
                        </a:lnTo>
                        <a:lnTo>
                          <a:pt x="485" y="723"/>
                        </a:lnTo>
                        <a:lnTo>
                          <a:pt x="506" y="724"/>
                        </a:lnTo>
                        <a:lnTo>
                          <a:pt x="527" y="726"/>
                        </a:lnTo>
                        <a:lnTo>
                          <a:pt x="549" y="728"/>
                        </a:lnTo>
                        <a:lnTo>
                          <a:pt x="569" y="730"/>
                        </a:lnTo>
                        <a:lnTo>
                          <a:pt x="590" y="731"/>
                        </a:lnTo>
                        <a:lnTo>
                          <a:pt x="611" y="733"/>
                        </a:lnTo>
                        <a:lnTo>
                          <a:pt x="632" y="735"/>
                        </a:lnTo>
                        <a:lnTo>
                          <a:pt x="654" y="736"/>
                        </a:lnTo>
                        <a:lnTo>
                          <a:pt x="675" y="738"/>
                        </a:lnTo>
                        <a:lnTo>
                          <a:pt x="695" y="699"/>
                        </a:lnTo>
                        <a:lnTo>
                          <a:pt x="714" y="660"/>
                        </a:lnTo>
                        <a:lnTo>
                          <a:pt x="734" y="620"/>
                        </a:lnTo>
                        <a:lnTo>
                          <a:pt x="754" y="581"/>
                        </a:lnTo>
                        <a:lnTo>
                          <a:pt x="775" y="541"/>
                        </a:lnTo>
                        <a:lnTo>
                          <a:pt x="794" y="502"/>
                        </a:lnTo>
                        <a:lnTo>
                          <a:pt x="814" y="463"/>
                        </a:lnTo>
                        <a:lnTo>
                          <a:pt x="834" y="424"/>
                        </a:lnTo>
                        <a:lnTo>
                          <a:pt x="854" y="385"/>
                        </a:lnTo>
                        <a:lnTo>
                          <a:pt x="874" y="345"/>
                        </a:lnTo>
                        <a:lnTo>
                          <a:pt x="894" y="306"/>
                        </a:lnTo>
                        <a:lnTo>
                          <a:pt x="914" y="266"/>
                        </a:lnTo>
                        <a:lnTo>
                          <a:pt x="933" y="227"/>
                        </a:lnTo>
                        <a:lnTo>
                          <a:pt x="953" y="189"/>
                        </a:lnTo>
                        <a:lnTo>
                          <a:pt x="972" y="149"/>
                        </a:lnTo>
                        <a:lnTo>
                          <a:pt x="993" y="110"/>
                        </a:lnTo>
                        <a:lnTo>
                          <a:pt x="986" y="103"/>
                        </a:lnTo>
                        <a:lnTo>
                          <a:pt x="978" y="97"/>
                        </a:lnTo>
                        <a:lnTo>
                          <a:pt x="971" y="90"/>
                        </a:lnTo>
                        <a:lnTo>
                          <a:pt x="964" y="84"/>
                        </a:lnTo>
                        <a:lnTo>
                          <a:pt x="957" y="77"/>
                        </a:lnTo>
                        <a:lnTo>
                          <a:pt x="950" y="70"/>
                        </a:lnTo>
                        <a:lnTo>
                          <a:pt x="943" y="63"/>
                        </a:lnTo>
                        <a:lnTo>
                          <a:pt x="937" y="57"/>
                        </a:lnTo>
                        <a:lnTo>
                          <a:pt x="942" y="51"/>
                        </a:lnTo>
                        <a:lnTo>
                          <a:pt x="946" y="44"/>
                        </a:lnTo>
                        <a:lnTo>
                          <a:pt x="951" y="38"/>
                        </a:lnTo>
                        <a:lnTo>
                          <a:pt x="955" y="32"/>
                        </a:lnTo>
                        <a:lnTo>
                          <a:pt x="931" y="30"/>
                        </a:lnTo>
                        <a:lnTo>
                          <a:pt x="907" y="28"/>
                        </a:lnTo>
                        <a:lnTo>
                          <a:pt x="883" y="26"/>
                        </a:lnTo>
                        <a:lnTo>
                          <a:pt x="858" y="24"/>
                        </a:lnTo>
                        <a:lnTo>
                          <a:pt x="834" y="22"/>
                        </a:lnTo>
                        <a:lnTo>
                          <a:pt x="809" y="20"/>
                        </a:lnTo>
                        <a:lnTo>
                          <a:pt x="785" y="18"/>
                        </a:lnTo>
                        <a:lnTo>
                          <a:pt x="761" y="16"/>
                        </a:lnTo>
                        <a:lnTo>
                          <a:pt x="736" y="14"/>
                        </a:lnTo>
                        <a:lnTo>
                          <a:pt x="711" y="12"/>
                        </a:lnTo>
                        <a:lnTo>
                          <a:pt x="687" y="10"/>
                        </a:lnTo>
                        <a:lnTo>
                          <a:pt x="663" y="8"/>
                        </a:lnTo>
                        <a:lnTo>
                          <a:pt x="638" y="6"/>
                        </a:lnTo>
                        <a:lnTo>
                          <a:pt x="613" y="4"/>
                        </a:lnTo>
                        <a:lnTo>
                          <a:pt x="589" y="2"/>
                        </a:lnTo>
                        <a:lnTo>
                          <a:pt x="565" y="0"/>
                        </a:lnTo>
                        <a:lnTo>
                          <a:pt x="559" y="2"/>
                        </a:lnTo>
                        <a:lnTo>
                          <a:pt x="554" y="4"/>
                        </a:lnTo>
                        <a:lnTo>
                          <a:pt x="548" y="6"/>
                        </a:lnTo>
                        <a:lnTo>
                          <a:pt x="543" y="8"/>
                        </a:lnTo>
                        <a:lnTo>
                          <a:pt x="537" y="10"/>
                        </a:lnTo>
                        <a:lnTo>
                          <a:pt x="531" y="12"/>
                        </a:lnTo>
                        <a:lnTo>
                          <a:pt x="525" y="14"/>
                        </a:lnTo>
                        <a:lnTo>
                          <a:pt x="520" y="16"/>
                        </a:lnTo>
                        <a:lnTo>
                          <a:pt x="505" y="15"/>
                        </a:lnTo>
                        <a:lnTo>
                          <a:pt x="490" y="14"/>
                        </a:lnTo>
                        <a:lnTo>
                          <a:pt x="475" y="13"/>
                        </a:lnTo>
                        <a:lnTo>
                          <a:pt x="460" y="12"/>
                        </a:lnTo>
                        <a:lnTo>
                          <a:pt x="445" y="11"/>
                        </a:lnTo>
                        <a:lnTo>
                          <a:pt x="430" y="10"/>
                        </a:lnTo>
                        <a:lnTo>
                          <a:pt x="414" y="9"/>
                        </a:lnTo>
                        <a:lnTo>
                          <a:pt x="399" y="8"/>
                        </a:lnTo>
                        <a:lnTo>
                          <a:pt x="383" y="7"/>
                        </a:lnTo>
                        <a:lnTo>
                          <a:pt x="368" y="6"/>
                        </a:lnTo>
                        <a:lnTo>
                          <a:pt x="353" y="5"/>
                        </a:lnTo>
                        <a:lnTo>
                          <a:pt x="338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110760" y="5426280"/>
                    <a:ext cx="2156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27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6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4"/>
                        </a:lnTo>
                        <a:lnTo>
                          <a:pt x="173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1" y="385"/>
                        </a:lnTo>
                        <a:lnTo>
                          <a:pt x="104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9" y="687"/>
                        </a:lnTo>
                        <a:lnTo>
                          <a:pt x="78" y="690"/>
                        </a:lnTo>
                        <a:lnTo>
                          <a:pt x="118" y="692"/>
                        </a:lnTo>
                        <a:lnTo>
                          <a:pt x="157" y="695"/>
                        </a:lnTo>
                        <a:lnTo>
                          <a:pt x="196" y="698"/>
                        </a:lnTo>
                        <a:lnTo>
                          <a:pt x="236" y="701"/>
                        </a:lnTo>
                        <a:lnTo>
                          <a:pt x="275" y="703"/>
                        </a:lnTo>
                        <a:lnTo>
                          <a:pt x="315" y="706"/>
                        </a:lnTo>
                        <a:lnTo>
                          <a:pt x="354" y="709"/>
                        </a:lnTo>
                        <a:lnTo>
                          <a:pt x="393" y="711"/>
                        </a:lnTo>
                        <a:lnTo>
                          <a:pt x="433" y="714"/>
                        </a:lnTo>
                        <a:lnTo>
                          <a:pt x="472" y="716"/>
                        </a:lnTo>
                        <a:lnTo>
                          <a:pt x="511" y="719"/>
                        </a:lnTo>
                        <a:lnTo>
                          <a:pt x="551" y="722"/>
                        </a:lnTo>
                        <a:lnTo>
                          <a:pt x="590" y="724"/>
                        </a:lnTo>
                        <a:lnTo>
                          <a:pt x="629" y="727"/>
                        </a:lnTo>
                        <a:lnTo>
                          <a:pt x="650" y="689"/>
                        </a:lnTo>
                        <a:lnTo>
                          <a:pt x="670" y="650"/>
                        </a:lnTo>
                        <a:lnTo>
                          <a:pt x="690" y="612"/>
                        </a:lnTo>
                        <a:lnTo>
                          <a:pt x="711" y="574"/>
                        </a:lnTo>
                        <a:lnTo>
                          <a:pt x="731" y="535"/>
                        </a:lnTo>
                        <a:lnTo>
                          <a:pt x="751" y="497"/>
                        </a:lnTo>
                        <a:lnTo>
                          <a:pt x="772" y="458"/>
                        </a:lnTo>
                        <a:lnTo>
                          <a:pt x="792" y="420"/>
                        </a:lnTo>
                        <a:lnTo>
                          <a:pt x="813" y="382"/>
                        </a:lnTo>
                        <a:lnTo>
                          <a:pt x="833" y="343"/>
                        </a:lnTo>
                        <a:lnTo>
                          <a:pt x="853" y="305"/>
                        </a:lnTo>
                        <a:lnTo>
                          <a:pt x="874" y="266"/>
                        </a:lnTo>
                        <a:lnTo>
                          <a:pt x="894" y="228"/>
                        </a:lnTo>
                        <a:lnTo>
                          <a:pt x="914" y="190"/>
                        </a:lnTo>
                        <a:lnTo>
                          <a:pt x="934" y="151"/>
                        </a:lnTo>
                        <a:lnTo>
                          <a:pt x="954" y="113"/>
                        </a:lnTo>
                        <a:lnTo>
                          <a:pt x="948" y="99"/>
                        </a:lnTo>
                        <a:lnTo>
                          <a:pt x="942" y="86"/>
                        </a:lnTo>
                        <a:lnTo>
                          <a:pt x="935" y="71"/>
                        </a:lnTo>
                        <a:lnTo>
                          <a:pt x="929" y="58"/>
                        </a:lnTo>
                        <a:lnTo>
                          <a:pt x="936" y="52"/>
                        </a:lnTo>
                        <a:lnTo>
                          <a:pt x="942" y="46"/>
                        </a:lnTo>
                        <a:lnTo>
                          <a:pt x="949" y="40"/>
                        </a:lnTo>
                        <a:lnTo>
                          <a:pt x="955" y="33"/>
                        </a:lnTo>
                        <a:lnTo>
                          <a:pt x="931" y="31"/>
                        </a:lnTo>
                        <a:lnTo>
                          <a:pt x="907" y="29"/>
                        </a:lnTo>
                        <a:lnTo>
                          <a:pt x="883" y="27"/>
                        </a:lnTo>
                        <a:lnTo>
                          <a:pt x="858" y="25"/>
                        </a:lnTo>
                        <a:lnTo>
                          <a:pt x="834" y="23"/>
                        </a:lnTo>
                        <a:lnTo>
                          <a:pt x="809" y="21"/>
                        </a:lnTo>
                        <a:lnTo>
                          <a:pt x="785" y="19"/>
                        </a:lnTo>
                        <a:lnTo>
                          <a:pt x="761" y="17"/>
                        </a:lnTo>
                        <a:lnTo>
                          <a:pt x="736" y="15"/>
                        </a:lnTo>
                        <a:lnTo>
                          <a:pt x="711" y="13"/>
                        </a:lnTo>
                        <a:lnTo>
                          <a:pt x="687" y="11"/>
                        </a:lnTo>
                        <a:lnTo>
                          <a:pt x="663" y="9"/>
                        </a:lnTo>
                        <a:lnTo>
                          <a:pt x="638" y="7"/>
                        </a:lnTo>
                        <a:lnTo>
                          <a:pt x="613" y="5"/>
                        </a:lnTo>
                        <a:lnTo>
                          <a:pt x="589" y="3"/>
                        </a:lnTo>
                        <a:lnTo>
                          <a:pt x="565" y="1"/>
                        </a:lnTo>
                        <a:lnTo>
                          <a:pt x="559" y="3"/>
                        </a:lnTo>
                        <a:lnTo>
                          <a:pt x="554" y="5"/>
                        </a:lnTo>
                        <a:lnTo>
                          <a:pt x="548" y="7"/>
                        </a:lnTo>
                        <a:lnTo>
                          <a:pt x="543" y="9"/>
                        </a:lnTo>
                        <a:lnTo>
                          <a:pt x="537" y="11"/>
                        </a:lnTo>
                        <a:lnTo>
                          <a:pt x="531" y="13"/>
                        </a:lnTo>
                        <a:lnTo>
                          <a:pt x="525" y="15"/>
                        </a:lnTo>
                        <a:lnTo>
                          <a:pt x="520" y="17"/>
                        </a:lnTo>
                        <a:lnTo>
                          <a:pt x="505" y="16"/>
                        </a:lnTo>
                        <a:lnTo>
                          <a:pt x="490" y="15"/>
                        </a:lnTo>
                        <a:lnTo>
                          <a:pt x="475" y="14"/>
                        </a:lnTo>
                        <a:lnTo>
                          <a:pt x="460" y="13"/>
                        </a:lnTo>
                        <a:lnTo>
                          <a:pt x="445" y="12"/>
                        </a:lnTo>
                        <a:lnTo>
                          <a:pt x="430" y="11"/>
                        </a:lnTo>
                        <a:lnTo>
                          <a:pt x="414" y="10"/>
                        </a:lnTo>
                        <a:lnTo>
                          <a:pt x="399" y="9"/>
                        </a:lnTo>
                        <a:lnTo>
                          <a:pt x="383" y="8"/>
                        </a:lnTo>
                        <a:lnTo>
                          <a:pt x="368" y="7"/>
                        </a:lnTo>
                        <a:lnTo>
                          <a:pt x="353" y="6"/>
                        </a:lnTo>
                        <a:lnTo>
                          <a:pt x="338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110760" y="5426280"/>
                    <a:ext cx="2156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15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6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4"/>
                        </a:lnTo>
                        <a:lnTo>
                          <a:pt x="173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1" y="385"/>
                        </a:lnTo>
                        <a:lnTo>
                          <a:pt x="104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6" y="686"/>
                        </a:lnTo>
                        <a:lnTo>
                          <a:pt x="72" y="688"/>
                        </a:lnTo>
                        <a:lnTo>
                          <a:pt x="109" y="690"/>
                        </a:lnTo>
                        <a:lnTo>
                          <a:pt x="145" y="692"/>
                        </a:lnTo>
                        <a:lnTo>
                          <a:pt x="181" y="693"/>
                        </a:lnTo>
                        <a:lnTo>
                          <a:pt x="218" y="695"/>
                        </a:lnTo>
                        <a:lnTo>
                          <a:pt x="254" y="697"/>
                        </a:lnTo>
                        <a:lnTo>
                          <a:pt x="290" y="699"/>
                        </a:lnTo>
                        <a:lnTo>
                          <a:pt x="327" y="701"/>
                        </a:lnTo>
                        <a:lnTo>
                          <a:pt x="363" y="703"/>
                        </a:lnTo>
                        <a:lnTo>
                          <a:pt x="399" y="705"/>
                        </a:lnTo>
                        <a:lnTo>
                          <a:pt x="436" y="707"/>
                        </a:lnTo>
                        <a:lnTo>
                          <a:pt x="473" y="709"/>
                        </a:lnTo>
                        <a:lnTo>
                          <a:pt x="509" y="711"/>
                        </a:lnTo>
                        <a:lnTo>
                          <a:pt x="546" y="713"/>
                        </a:lnTo>
                        <a:lnTo>
                          <a:pt x="582" y="715"/>
                        </a:lnTo>
                        <a:lnTo>
                          <a:pt x="603" y="678"/>
                        </a:lnTo>
                        <a:lnTo>
                          <a:pt x="624" y="640"/>
                        </a:lnTo>
                        <a:lnTo>
                          <a:pt x="645" y="603"/>
                        </a:lnTo>
                        <a:lnTo>
                          <a:pt x="666" y="566"/>
                        </a:lnTo>
                        <a:lnTo>
                          <a:pt x="687" y="527"/>
                        </a:lnTo>
                        <a:lnTo>
                          <a:pt x="708" y="490"/>
                        </a:lnTo>
                        <a:lnTo>
                          <a:pt x="729" y="452"/>
                        </a:lnTo>
                        <a:lnTo>
                          <a:pt x="750" y="415"/>
                        </a:lnTo>
                        <a:lnTo>
                          <a:pt x="772" y="378"/>
                        </a:lnTo>
                        <a:lnTo>
                          <a:pt x="793" y="340"/>
                        </a:lnTo>
                        <a:lnTo>
                          <a:pt x="814" y="303"/>
                        </a:lnTo>
                        <a:lnTo>
                          <a:pt x="835" y="265"/>
                        </a:lnTo>
                        <a:lnTo>
                          <a:pt x="855" y="228"/>
                        </a:lnTo>
                        <a:lnTo>
                          <a:pt x="877" y="191"/>
                        </a:lnTo>
                        <a:lnTo>
                          <a:pt x="898" y="153"/>
                        </a:lnTo>
                        <a:lnTo>
                          <a:pt x="919" y="116"/>
                        </a:lnTo>
                        <a:lnTo>
                          <a:pt x="920" y="102"/>
                        </a:lnTo>
                        <a:lnTo>
                          <a:pt x="921" y="88"/>
                        </a:lnTo>
                        <a:lnTo>
                          <a:pt x="921" y="73"/>
                        </a:lnTo>
                        <a:lnTo>
                          <a:pt x="922" y="59"/>
                        </a:lnTo>
                        <a:lnTo>
                          <a:pt x="926" y="56"/>
                        </a:lnTo>
                        <a:lnTo>
                          <a:pt x="930" y="52"/>
                        </a:lnTo>
                        <a:lnTo>
                          <a:pt x="934" y="49"/>
                        </a:lnTo>
                        <a:lnTo>
                          <a:pt x="938" y="46"/>
                        </a:lnTo>
                        <a:lnTo>
                          <a:pt x="942" y="43"/>
                        </a:lnTo>
                        <a:lnTo>
                          <a:pt x="946" y="40"/>
                        </a:lnTo>
                        <a:lnTo>
                          <a:pt x="951" y="36"/>
                        </a:lnTo>
                        <a:lnTo>
                          <a:pt x="955" y="33"/>
                        </a:lnTo>
                        <a:lnTo>
                          <a:pt x="931" y="31"/>
                        </a:lnTo>
                        <a:lnTo>
                          <a:pt x="907" y="29"/>
                        </a:lnTo>
                        <a:lnTo>
                          <a:pt x="883" y="27"/>
                        </a:lnTo>
                        <a:lnTo>
                          <a:pt x="858" y="25"/>
                        </a:lnTo>
                        <a:lnTo>
                          <a:pt x="834" y="23"/>
                        </a:lnTo>
                        <a:lnTo>
                          <a:pt x="809" y="21"/>
                        </a:lnTo>
                        <a:lnTo>
                          <a:pt x="785" y="19"/>
                        </a:lnTo>
                        <a:lnTo>
                          <a:pt x="761" y="17"/>
                        </a:lnTo>
                        <a:lnTo>
                          <a:pt x="736" y="15"/>
                        </a:lnTo>
                        <a:lnTo>
                          <a:pt x="711" y="13"/>
                        </a:lnTo>
                        <a:lnTo>
                          <a:pt x="687" y="11"/>
                        </a:lnTo>
                        <a:lnTo>
                          <a:pt x="663" y="9"/>
                        </a:lnTo>
                        <a:lnTo>
                          <a:pt x="638" y="7"/>
                        </a:lnTo>
                        <a:lnTo>
                          <a:pt x="613" y="5"/>
                        </a:lnTo>
                        <a:lnTo>
                          <a:pt x="589" y="3"/>
                        </a:lnTo>
                        <a:lnTo>
                          <a:pt x="565" y="1"/>
                        </a:lnTo>
                        <a:lnTo>
                          <a:pt x="559" y="3"/>
                        </a:lnTo>
                        <a:lnTo>
                          <a:pt x="554" y="5"/>
                        </a:lnTo>
                        <a:lnTo>
                          <a:pt x="548" y="7"/>
                        </a:lnTo>
                        <a:lnTo>
                          <a:pt x="543" y="9"/>
                        </a:lnTo>
                        <a:lnTo>
                          <a:pt x="537" y="11"/>
                        </a:lnTo>
                        <a:lnTo>
                          <a:pt x="531" y="13"/>
                        </a:lnTo>
                        <a:lnTo>
                          <a:pt x="525" y="15"/>
                        </a:lnTo>
                        <a:lnTo>
                          <a:pt x="520" y="17"/>
                        </a:lnTo>
                        <a:lnTo>
                          <a:pt x="505" y="16"/>
                        </a:lnTo>
                        <a:lnTo>
                          <a:pt x="490" y="15"/>
                        </a:lnTo>
                        <a:lnTo>
                          <a:pt x="475" y="14"/>
                        </a:lnTo>
                        <a:lnTo>
                          <a:pt x="460" y="13"/>
                        </a:lnTo>
                        <a:lnTo>
                          <a:pt x="445" y="12"/>
                        </a:lnTo>
                        <a:lnTo>
                          <a:pt x="430" y="11"/>
                        </a:lnTo>
                        <a:lnTo>
                          <a:pt x="414" y="10"/>
                        </a:lnTo>
                        <a:lnTo>
                          <a:pt x="399" y="8"/>
                        </a:lnTo>
                        <a:lnTo>
                          <a:pt x="384" y="7"/>
                        </a:lnTo>
                        <a:lnTo>
                          <a:pt x="369" y="6"/>
                        </a:lnTo>
                        <a:lnTo>
                          <a:pt x="354" y="5"/>
                        </a:lnTo>
                        <a:lnTo>
                          <a:pt x="339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109320" y="5426280"/>
                    <a:ext cx="2170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702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299"/>
                        </a:lnTo>
                        <a:lnTo>
                          <a:pt x="139" y="341"/>
                        </a:lnTo>
                        <a:lnTo>
                          <a:pt x="122" y="385"/>
                        </a:lnTo>
                        <a:lnTo>
                          <a:pt x="105" y="427"/>
                        </a:lnTo>
                        <a:lnTo>
                          <a:pt x="86" y="470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5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3" y="685"/>
                        </a:lnTo>
                        <a:lnTo>
                          <a:pt x="66" y="686"/>
                        </a:lnTo>
                        <a:lnTo>
                          <a:pt x="101" y="687"/>
                        </a:lnTo>
                        <a:lnTo>
                          <a:pt x="134" y="688"/>
                        </a:lnTo>
                        <a:lnTo>
                          <a:pt x="167" y="690"/>
                        </a:lnTo>
                        <a:lnTo>
                          <a:pt x="201" y="691"/>
                        </a:lnTo>
                        <a:lnTo>
                          <a:pt x="235" y="692"/>
                        </a:lnTo>
                        <a:lnTo>
                          <a:pt x="268" y="693"/>
                        </a:lnTo>
                        <a:lnTo>
                          <a:pt x="301" y="694"/>
                        </a:lnTo>
                        <a:lnTo>
                          <a:pt x="336" y="695"/>
                        </a:lnTo>
                        <a:lnTo>
                          <a:pt x="369" y="696"/>
                        </a:lnTo>
                        <a:lnTo>
                          <a:pt x="402" y="697"/>
                        </a:lnTo>
                        <a:lnTo>
                          <a:pt x="436" y="699"/>
                        </a:lnTo>
                        <a:lnTo>
                          <a:pt x="470" y="700"/>
                        </a:lnTo>
                        <a:lnTo>
                          <a:pt x="503" y="701"/>
                        </a:lnTo>
                        <a:lnTo>
                          <a:pt x="537" y="702"/>
                        </a:lnTo>
                        <a:lnTo>
                          <a:pt x="558" y="666"/>
                        </a:lnTo>
                        <a:lnTo>
                          <a:pt x="580" y="629"/>
                        </a:lnTo>
                        <a:lnTo>
                          <a:pt x="601" y="593"/>
                        </a:lnTo>
                        <a:lnTo>
                          <a:pt x="623" y="556"/>
                        </a:lnTo>
                        <a:lnTo>
                          <a:pt x="644" y="520"/>
                        </a:lnTo>
                        <a:lnTo>
                          <a:pt x="667" y="484"/>
                        </a:lnTo>
                        <a:lnTo>
                          <a:pt x="688" y="447"/>
                        </a:lnTo>
                        <a:lnTo>
                          <a:pt x="710" y="410"/>
                        </a:lnTo>
                        <a:lnTo>
                          <a:pt x="731" y="374"/>
                        </a:lnTo>
                        <a:lnTo>
                          <a:pt x="753" y="337"/>
                        </a:lnTo>
                        <a:lnTo>
                          <a:pt x="775" y="301"/>
                        </a:lnTo>
                        <a:lnTo>
                          <a:pt x="797" y="264"/>
                        </a:lnTo>
                        <a:lnTo>
                          <a:pt x="818" y="228"/>
                        </a:lnTo>
                        <a:lnTo>
                          <a:pt x="840" y="192"/>
                        </a:lnTo>
                        <a:lnTo>
                          <a:pt x="861" y="155"/>
                        </a:lnTo>
                        <a:lnTo>
                          <a:pt x="884" y="119"/>
                        </a:lnTo>
                        <a:lnTo>
                          <a:pt x="888" y="112"/>
                        </a:lnTo>
                        <a:lnTo>
                          <a:pt x="892" y="104"/>
                        </a:lnTo>
                        <a:lnTo>
                          <a:pt x="895" y="97"/>
                        </a:lnTo>
                        <a:lnTo>
                          <a:pt x="899" y="90"/>
                        </a:lnTo>
                        <a:lnTo>
                          <a:pt x="903" y="82"/>
                        </a:lnTo>
                        <a:lnTo>
                          <a:pt x="907" y="74"/>
                        </a:lnTo>
                        <a:lnTo>
                          <a:pt x="911" y="67"/>
                        </a:lnTo>
                        <a:lnTo>
                          <a:pt x="915" y="60"/>
                        </a:lnTo>
                        <a:lnTo>
                          <a:pt x="920" y="57"/>
                        </a:lnTo>
                        <a:lnTo>
                          <a:pt x="926" y="53"/>
                        </a:lnTo>
                        <a:lnTo>
                          <a:pt x="931" y="50"/>
                        </a:lnTo>
                        <a:lnTo>
                          <a:pt x="936" y="46"/>
                        </a:lnTo>
                        <a:lnTo>
                          <a:pt x="941" y="43"/>
                        </a:lnTo>
                        <a:lnTo>
                          <a:pt x="947" y="40"/>
                        </a:lnTo>
                        <a:lnTo>
                          <a:pt x="951" y="36"/>
                        </a:lnTo>
                        <a:lnTo>
                          <a:pt x="956" y="33"/>
                        </a:lnTo>
                        <a:lnTo>
                          <a:pt x="932" y="31"/>
                        </a:lnTo>
                        <a:lnTo>
                          <a:pt x="908" y="29"/>
                        </a:lnTo>
                        <a:lnTo>
                          <a:pt x="884" y="27"/>
                        </a:lnTo>
                        <a:lnTo>
                          <a:pt x="859" y="25"/>
                        </a:lnTo>
                        <a:lnTo>
                          <a:pt x="835" y="23"/>
                        </a:lnTo>
                        <a:lnTo>
                          <a:pt x="810" y="21"/>
                        </a:lnTo>
                        <a:lnTo>
                          <a:pt x="786" y="19"/>
                        </a:lnTo>
                        <a:lnTo>
                          <a:pt x="762" y="17"/>
                        </a:lnTo>
                        <a:lnTo>
                          <a:pt x="737" y="15"/>
                        </a:lnTo>
                        <a:lnTo>
                          <a:pt x="712" y="13"/>
                        </a:lnTo>
                        <a:lnTo>
                          <a:pt x="688" y="11"/>
                        </a:lnTo>
                        <a:lnTo>
                          <a:pt x="664" y="9"/>
                        </a:lnTo>
                        <a:lnTo>
                          <a:pt x="639" y="7"/>
                        </a:lnTo>
                        <a:lnTo>
                          <a:pt x="614" y="5"/>
                        </a:lnTo>
                        <a:lnTo>
                          <a:pt x="590" y="3"/>
                        </a:lnTo>
                        <a:lnTo>
                          <a:pt x="566" y="1"/>
                        </a:lnTo>
                        <a:lnTo>
                          <a:pt x="560" y="3"/>
                        </a:lnTo>
                        <a:lnTo>
                          <a:pt x="555" y="5"/>
                        </a:lnTo>
                        <a:lnTo>
                          <a:pt x="549" y="7"/>
                        </a:lnTo>
                        <a:lnTo>
                          <a:pt x="544" y="9"/>
                        </a:lnTo>
                        <a:lnTo>
                          <a:pt x="538" y="11"/>
                        </a:lnTo>
                        <a:lnTo>
                          <a:pt x="532" y="13"/>
                        </a:lnTo>
                        <a:lnTo>
                          <a:pt x="526" y="15"/>
                        </a:lnTo>
                        <a:lnTo>
                          <a:pt x="521" y="17"/>
                        </a:lnTo>
                        <a:lnTo>
                          <a:pt x="506" y="16"/>
                        </a:lnTo>
                        <a:lnTo>
                          <a:pt x="491" y="15"/>
                        </a:lnTo>
                        <a:lnTo>
                          <a:pt x="476" y="14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8"/>
                        </a:lnTo>
                        <a:lnTo>
                          <a:pt x="385" y="7"/>
                        </a:lnTo>
                        <a:lnTo>
                          <a:pt x="370" y="6"/>
                        </a:lnTo>
                        <a:lnTo>
                          <a:pt x="355" y="5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109320" y="5426280"/>
                    <a:ext cx="2170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691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2" y="385"/>
                        </a:lnTo>
                        <a:lnTo>
                          <a:pt x="105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6"/>
                        </a:lnTo>
                        <a:lnTo>
                          <a:pt x="35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30" y="685"/>
                        </a:lnTo>
                        <a:lnTo>
                          <a:pt x="61" y="686"/>
                        </a:lnTo>
                        <a:lnTo>
                          <a:pt x="92" y="686"/>
                        </a:lnTo>
                        <a:lnTo>
                          <a:pt x="123" y="686"/>
                        </a:lnTo>
                        <a:lnTo>
                          <a:pt x="153" y="687"/>
                        </a:lnTo>
                        <a:lnTo>
                          <a:pt x="183" y="687"/>
                        </a:lnTo>
                        <a:lnTo>
                          <a:pt x="215" y="688"/>
                        </a:lnTo>
                        <a:lnTo>
                          <a:pt x="245" y="688"/>
                        </a:lnTo>
                        <a:lnTo>
                          <a:pt x="275" y="688"/>
                        </a:lnTo>
                        <a:lnTo>
                          <a:pt x="306" y="689"/>
                        </a:lnTo>
                        <a:lnTo>
                          <a:pt x="337" y="689"/>
                        </a:lnTo>
                        <a:lnTo>
                          <a:pt x="368" y="689"/>
                        </a:lnTo>
                        <a:lnTo>
                          <a:pt x="398" y="690"/>
                        </a:lnTo>
                        <a:lnTo>
                          <a:pt x="429" y="690"/>
                        </a:lnTo>
                        <a:lnTo>
                          <a:pt x="460" y="691"/>
                        </a:lnTo>
                        <a:lnTo>
                          <a:pt x="490" y="691"/>
                        </a:lnTo>
                        <a:lnTo>
                          <a:pt x="512" y="655"/>
                        </a:lnTo>
                        <a:lnTo>
                          <a:pt x="534" y="620"/>
                        </a:lnTo>
                        <a:lnTo>
                          <a:pt x="557" y="585"/>
                        </a:lnTo>
                        <a:lnTo>
                          <a:pt x="579" y="549"/>
                        </a:lnTo>
                        <a:lnTo>
                          <a:pt x="601" y="513"/>
                        </a:lnTo>
                        <a:lnTo>
                          <a:pt x="623" y="478"/>
                        </a:lnTo>
                        <a:lnTo>
                          <a:pt x="645" y="442"/>
                        </a:lnTo>
                        <a:lnTo>
                          <a:pt x="668" y="407"/>
                        </a:lnTo>
                        <a:lnTo>
                          <a:pt x="690" y="372"/>
                        </a:lnTo>
                        <a:lnTo>
                          <a:pt x="712" y="335"/>
                        </a:lnTo>
                        <a:lnTo>
                          <a:pt x="734" y="300"/>
                        </a:lnTo>
                        <a:lnTo>
                          <a:pt x="756" y="264"/>
                        </a:lnTo>
                        <a:lnTo>
                          <a:pt x="779" y="229"/>
                        </a:lnTo>
                        <a:lnTo>
                          <a:pt x="801" y="193"/>
                        </a:lnTo>
                        <a:lnTo>
                          <a:pt x="823" y="157"/>
                        </a:lnTo>
                        <a:lnTo>
                          <a:pt x="845" y="122"/>
                        </a:lnTo>
                        <a:lnTo>
                          <a:pt x="853" y="114"/>
                        </a:lnTo>
                        <a:lnTo>
                          <a:pt x="860" y="107"/>
                        </a:lnTo>
                        <a:lnTo>
                          <a:pt x="868" y="99"/>
                        </a:lnTo>
                        <a:lnTo>
                          <a:pt x="876" y="92"/>
                        </a:lnTo>
                        <a:lnTo>
                          <a:pt x="884" y="84"/>
                        </a:lnTo>
                        <a:lnTo>
                          <a:pt x="891" y="76"/>
                        </a:lnTo>
                        <a:lnTo>
                          <a:pt x="899" y="68"/>
                        </a:lnTo>
                        <a:lnTo>
                          <a:pt x="907" y="61"/>
                        </a:lnTo>
                        <a:lnTo>
                          <a:pt x="913" y="58"/>
                        </a:lnTo>
                        <a:lnTo>
                          <a:pt x="920" y="54"/>
                        </a:lnTo>
                        <a:lnTo>
                          <a:pt x="926" y="51"/>
                        </a:lnTo>
                        <a:lnTo>
                          <a:pt x="932" y="47"/>
                        </a:lnTo>
                        <a:lnTo>
                          <a:pt x="938" y="44"/>
                        </a:lnTo>
                        <a:lnTo>
                          <a:pt x="944" y="41"/>
                        </a:lnTo>
                        <a:lnTo>
                          <a:pt x="950" y="37"/>
                        </a:lnTo>
                        <a:lnTo>
                          <a:pt x="956" y="34"/>
                        </a:lnTo>
                        <a:lnTo>
                          <a:pt x="932" y="32"/>
                        </a:lnTo>
                        <a:lnTo>
                          <a:pt x="908" y="30"/>
                        </a:lnTo>
                        <a:lnTo>
                          <a:pt x="884" y="28"/>
                        </a:lnTo>
                        <a:lnTo>
                          <a:pt x="859" y="26"/>
                        </a:lnTo>
                        <a:lnTo>
                          <a:pt x="835" y="24"/>
                        </a:lnTo>
                        <a:lnTo>
                          <a:pt x="810" y="22"/>
                        </a:lnTo>
                        <a:lnTo>
                          <a:pt x="786" y="20"/>
                        </a:lnTo>
                        <a:lnTo>
                          <a:pt x="762" y="18"/>
                        </a:lnTo>
                        <a:lnTo>
                          <a:pt x="737" y="16"/>
                        </a:lnTo>
                        <a:lnTo>
                          <a:pt x="712" y="14"/>
                        </a:lnTo>
                        <a:lnTo>
                          <a:pt x="688" y="12"/>
                        </a:lnTo>
                        <a:lnTo>
                          <a:pt x="664" y="10"/>
                        </a:lnTo>
                        <a:lnTo>
                          <a:pt x="639" y="8"/>
                        </a:lnTo>
                        <a:lnTo>
                          <a:pt x="614" y="6"/>
                        </a:lnTo>
                        <a:lnTo>
                          <a:pt x="590" y="4"/>
                        </a:lnTo>
                        <a:lnTo>
                          <a:pt x="566" y="2"/>
                        </a:lnTo>
                        <a:lnTo>
                          <a:pt x="560" y="4"/>
                        </a:lnTo>
                        <a:lnTo>
                          <a:pt x="555" y="6"/>
                        </a:lnTo>
                        <a:lnTo>
                          <a:pt x="549" y="8"/>
                        </a:lnTo>
                        <a:lnTo>
                          <a:pt x="544" y="10"/>
                        </a:lnTo>
                        <a:lnTo>
                          <a:pt x="538" y="12"/>
                        </a:lnTo>
                        <a:lnTo>
                          <a:pt x="532" y="14"/>
                        </a:lnTo>
                        <a:lnTo>
                          <a:pt x="526" y="16"/>
                        </a:lnTo>
                        <a:lnTo>
                          <a:pt x="521" y="18"/>
                        </a:lnTo>
                        <a:lnTo>
                          <a:pt x="506" y="17"/>
                        </a:lnTo>
                        <a:lnTo>
                          <a:pt x="491" y="16"/>
                        </a:lnTo>
                        <a:lnTo>
                          <a:pt x="476" y="15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9"/>
                        </a:lnTo>
                        <a:lnTo>
                          <a:pt x="385" y="8"/>
                        </a:lnTo>
                        <a:lnTo>
                          <a:pt x="370" y="7"/>
                        </a:lnTo>
                        <a:lnTo>
                          <a:pt x="355" y="6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109320" y="5426280"/>
                    <a:ext cx="2170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685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2" y="385"/>
                        </a:lnTo>
                        <a:lnTo>
                          <a:pt x="105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6"/>
                        </a:lnTo>
                        <a:lnTo>
                          <a:pt x="35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7" y="685"/>
                        </a:lnTo>
                        <a:lnTo>
                          <a:pt x="55" y="684"/>
                        </a:lnTo>
                        <a:lnTo>
                          <a:pt x="82" y="684"/>
                        </a:lnTo>
                        <a:lnTo>
                          <a:pt x="111" y="683"/>
                        </a:lnTo>
                        <a:lnTo>
                          <a:pt x="138" y="683"/>
                        </a:lnTo>
                        <a:lnTo>
                          <a:pt x="166" y="683"/>
                        </a:lnTo>
                        <a:lnTo>
                          <a:pt x="193" y="682"/>
                        </a:lnTo>
                        <a:lnTo>
                          <a:pt x="222" y="682"/>
                        </a:lnTo>
                        <a:lnTo>
                          <a:pt x="250" y="682"/>
                        </a:lnTo>
                        <a:lnTo>
                          <a:pt x="277" y="681"/>
                        </a:lnTo>
                        <a:lnTo>
                          <a:pt x="305" y="681"/>
                        </a:lnTo>
                        <a:lnTo>
                          <a:pt x="333" y="680"/>
                        </a:lnTo>
                        <a:lnTo>
                          <a:pt x="361" y="680"/>
                        </a:lnTo>
                        <a:lnTo>
                          <a:pt x="388" y="680"/>
                        </a:lnTo>
                        <a:lnTo>
                          <a:pt x="416" y="679"/>
                        </a:lnTo>
                        <a:lnTo>
                          <a:pt x="444" y="679"/>
                        </a:lnTo>
                        <a:lnTo>
                          <a:pt x="467" y="644"/>
                        </a:lnTo>
                        <a:lnTo>
                          <a:pt x="489" y="610"/>
                        </a:lnTo>
                        <a:lnTo>
                          <a:pt x="512" y="576"/>
                        </a:lnTo>
                        <a:lnTo>
                          <a:pt x="534" y="540"/>
                        </a:lnTo>
                        <a:lnTo>
                          <a:pt x="558" y="506"/>
                        </a:lnTo>
                        <a:lnTo>
                          <a:pt x="580" y="472"/>
                        </a:lnTo>
                        <a:lnTo>
                          <a:pt x="603" y="437"/>
                        </a:lnTo>
                        <a:lnTo>
                          <a:pt x="625" y="402"/>
                        </a:lnTo>
                        <a:lnTo>
                          <a:pt x="649" y="368"/>
                        </a:lnTo>
                        <a:lnTo>
                          <a:pt x="671" y="333"/>
                        </a:lnTo>
                        <a:lnTo>
                          <a:pt x="694" y="299"/>
                        </a:lnTo>
                        <a:lnTo>
                          <a:pt x="716" y="263"/>
                        </a:lnTo>
                        <a:lnTo>
                          <a:pt x="739" y="229"/>
                        </a:lnTo>
                        <a:lnTo>
                          <a:pt x="763" y="195"/>
                        </a:lnTo>
                        <a:lnTo>
                          <a:pt x="785" y="159"/>
                        </a:lnTo>
                        <a:lnTo>
                          <a:pt x="808" y="125"/>
                        </a:lnTo>
                        <a:lnTo>
                          <a:pt x="819" y="117"/>
                        </a:lnTo>
                        <a:lnTo>
                          <a:pt x="831" y="109"/>
                        </a:lnTo>
                        <a:lnTo>
                          <a:pt x="842" y="101"/>
                        </a:lnTo>
                        <a:lnTo>
                          <a:pt x="853" y="94"/>
                        </a:lnTo>
                        <a:lnTo>
                          <a:pt x="864" y="86"/>
                        </a:lnTo>
                        <a:lnTo>
                          <a:pt x="877" y="78"/>
                        </a:lnTo>
                        <a:lnTo>
                          <a:pt x="888" y="70"/>
                        </a:lnTo>
                        <a:lnTo>
                          <a:pt x="899" y="62"/>
                        </a:lnTo>
                        <a:lnTo>
                          <a:pt x="906" y="59"/>
                        </a:lnTo>
                        <a:lnTo>
                          <a:pt x="914" y="55"/>
                        </a:lnTo>
                        <a:lnTo>
                          <a:pt x="921" y="52"/>
                        </a:lnTo>
                        <a:lnTo>
                          <a:pt x="928" y="48"/>
                        </a:lnTo>
                        <a:lnTo>
                          <a:pt x="935" y="44"/>
                        </a:lnTo>
                        <a:lnTo>
                          <a:pt x="942" y="41"/>
                        </a:lnTo>
                        <a:lnTo>
                          <a:pt x="949" y="37"/>
                        </a:lnTo>
                        <a:lnTo>
                          <a:pt x="956" y="34"/>
                        </a:lnTo>
                        <a:lnTo>
                          <a:pt x="932" y="32"/>
                        </a:lnTo>
                        <a:lnTo>
                          <a:pt x="908" y="30"/>
                        </a:lnTo>
                        <a:lnTo>
                          <a:pt x="884" y="28"/>
                        </a:lnTo>
                        <a:lnTo>
                          <a:pt x="859" y="26"/>
                        </a:lnTo>
                        <a:lnTo>
                          <a:pt x="835" y="24"/>
                        </a:lnTo>
                        <a:lnTo>
                          <a:pt x="810" y="22"/>
                        </a:lnTo>
                        <a:lnTo>
                          <a:pt x="786" y="20"/>
                        </a:lnTo>
                        <a:lnTo>
                          <a:pt x="762" y="18"/>
                        </a:lnTo>
                        <a:lnTo>
                          <a:pt x="737" y="16"/>
                        </a:lnTo>
                        <a:lnTo>
                          <a:pt x="712" y="14"/>
                        </a:lnTo>
                        <a:lnTo>
                          <a:pt x="688" y="12"/>
                        </a:lnTo>
                        <a:lnTo>
                          <a:pt x="664" y="10"/>
                        </a:lnTo>
                        <a:lnTo>
                          <a:pt x="639" y="8"/>
                        </a:lnTo>
                        <a:lnTo>
                          <a:pt x="614" y="6"/>
                        </a:lnTo>
                        <a:lnTo>
                          <a:pt x="590" y="4"/>
                        </a:lnTo>
                        <a:lnTo>
                          <a:pt x="566" y="2"/>
                        </a:lnTo>
                        <a:lnTo>
                          <a:pt x="560" y="4"/>
                        </a:lnTo>
                        <a:lnTo>
                          <a:pt x="555" y="6"/>
                        </a:lnTo>
                        <a:lnTo>
                          <a:pt x="549" y="8"/>
                        </a:lnTo>
                        <a:lnTo>
                          <a:pt x="544" y="10"/>
                        </a:lnTo>
                        <a:lnTo>
                          <a:pt x="538" y="12"/>
                        </a:lnTo>
                        <a:lnTo>
                          <a:pt x="532" y="14"/>
                        </a:lnTo>
                        <a:lnTo>
                          <a:pt x="526" y="16"/>
                        </a:lnTo>
                        <a:lnTo>
                          <a:pt x="521" y="18"/>
                        </a:lnTo>
                        <a:lnTo>
                          <a:pt x="506" y="17"/>
                        </a:lnTo>
                        <a:lnTo>
                          <a:pt x="491" y="16"/>
                        </a:lnTo>
                        <a:lnTo>
                          <a:pt x="476" y="15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9"/>
                        </a:lnTo>
                        <a:lnTo>
                          <a:pt x="385" y="8"/>
                        </a:lnTo>
                        <a:lnTo>
                          <a:pt x="370" y="7"/>
                        </a:lnTo>
                        <a:lnTo>
                          <a:pt x="355" y="6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109320" y="5426280"/>
                    <a:ext cx="2170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957" h="684">
                        <a:moveTo>
                          <a:pt x="280" y="0"/>
                        </a:moveTo>
                        <a:lnTo>
                          <a:pt x="0" y="684"/>
                        </a:lnTo>
                        <a:lnTo>
                          <a:pt x="398" y="667"/>
                        </a:lnTo>
                        <a:lnTo>
                          <a:pt x="771" y="127"/>
                        </a:lnTo>
                        <a:lnTo>
                          <a:pt x="892" y="62"/>
                        </a:lnTo>
                        <a:lnTo>
                          <a:pt x="957" y="34"/>
                        </a:lnTo>
                        <a:lnTo>
                          <a:pt x="567" y="2"/>
                        </a:lnTo>
                        <a:lnTo>
                          <a:pt x="522" y="18"/>
                        </a:lnTo>
                        <a:lnTo>
                          <a:pt x="280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129840" y="5434200"/>
                    <a:ext cx="2538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721">
                        <a:moveTo>
                          <a:pt x="0" y="606"/>
                        </a:moveTo>
                        <a:lnTo>
                          <a:pt x="243" y="0"/>
                        </a:lnTo>
                        <a:lnTo>
                          <a:pt x="1114" y="78"/>
                        </a:lnTo>
                        <a:lnTo>
                          <a:pt x="901" y="721"/>
                        </a:lnTo>
                        <a:lnTo>
                          <a:pt x="0" y="6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137760" y="5440320"/>
                    <a:ext cx="2440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3" h="685">
                        <a:moveTo>
                          <a:pt x="220" y="0"/>
                        </a:moveTo>
                        <a:lnTo>
                          <a:pt x="0" y="577"/>
                        </a:lnTo>
                        <a:lnTo>
                          <a:pt x="872" y="685"/>
                        </a:lnTo>
                        <a:lnTo>
                          <a:pt x="1073" y="73"/>
                        </a:lnTo>
                        <a:lnTo>
                          <a:pt x="220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137760" y="5440320"/>
                    <a:ext cx="233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78">
                        <a:moveTo>
                          <a:pt x="220" y="0"/>
                        </a:moveTo>
                        <a:lnTo>
                          <a:pt x="206" y="37"/>
                        </a:lnTo>
                        <a:lnTo>
                          <a:pt x="193" y="72"/>
                        </a:lnTo>
                        <a:lnTo>
                          <a:pt x="178" y="108"/>
                        </a:lnTo>
                        <a:lnTo>
                          <a:pt x="165" y="145"/>
                        </a:lnTo>
                        <a:lnTo>
                          <a:pt x="151" y="180"/>
                        </a:lnTo>
                        <a:lnTo>
                          <a:pt x="138" y="217"/>
                        </a:lnTo>
                        <a:lnTo>
                          <a:pt x="124" y="253"/>
                        </a:lnTo>
                        <a:lnTo>
                          <a:pt x="110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8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6" y="580"/>
                        </a:lnTo>
                        <a:lnTo>
                          <a:pt x="51" y="583"/>
                        </a:lnTo>
                        <a:lnTo>
                          <a:pt x="78" y="586"/>
                        </a:lnTo>
                        <a:lnTo>
                          <a:pt x="103" y="589"/>
                        </a:lnTo>
                        <a:lnTo>
                          <a:pt x="129" y="593"/>
                        </a:lnTo>
                        <a:lnTo>
                          <a:pt x="155" y="597"/>
                        </a:lnTo>
                        <a:lnTo>
                          <a:pt x="180" y="600"/>
                        </a:lnTo>
                        <a:lnTo>
                          <a:pt x="207" y="603"/>
                        </a:lnTo>
                        <a:lnTo>
                          <a:pt x="232" y="606"/>
                        </a:lnTo>
                        <a:lnTo>
                          <a:pt x="258" y="609"/>
                        </a:lnTo>
                        <a:lnTo>
                          <a:pt x="283" y="612"/>
                        </a:lnTo>
                        <a:lnTo>
                          <a:pt x="310" y="615"/>
                        </a:lnTo>
                        <a:lnTo>
                          <a:pt x="336" y="619"/>
                        </a:lnTo>
                        <a:lnTo>
                          <a:pt x="361" y="622"/>
                        </a:lnTo>
                        <a:lnTo>
                          <a:pt x="387" y="625"/>
                        </a:lnTo>
                        <a:lnTo>
                          <a:pt x="413" y="628"/>
                        </a:lnTo>
                        <a:lnTo>
                          <a:pt x="439" y="631"/>
                        </a:lnTo>
                        <a:lnTo>
                          <a:pt x="464" y="634"/>
                        </a:lnTo>
                        <a:lnTo>
                          <a:pt x="490" y="637"/>
                        </a:lnTo>
                        <a:lnTo>
                          <a:pt x="515" y="641"/>
                        </a:lnTo>
                        <a:lnTo>
                          <a:pt x="542" y="644"/>
                        </a:lnTo>
                        <a:lnTo>
                          <a:pt x="567" y="647"/>
                        </a:lnTo>
                        <a:lnTo>
                          <a:pt x="593" y="650"/>
                        </a:lnTo>
                        <a:lnTo>
                          <a:pt x="618" y="653"/>
                        </a:lnTo>
                        <a:lnTo>
                          <a:pt x="645" y="656"/>
                        </a:lnTo>
                        <a:lnTo>
                          <a:pt x="670" y="659"/>
                        </a:lnTo>
                        <a:lnTo>
                          <a:pt x="696" y="662"/>
                        </a:lnTo>
                        <a:lnTo>
                          <a:pt x="721" y="666"/>
                        </a:lnTo>
                        <a:lnTo>
                          <a:pt x="748" y="669"/>
                        </a:lnTo>
                        <a:lnTo>
                          <a:pt x="773" y="672"/>
                        </a:lnTo>
                        <a:lnTo>
                          <a:pt x="799" y="675"/>
                        </a:lnTo>
                        <a:lnTo>
                          <a:pt x="824" y="678"/>
                        </a:lnTo>
                        <a:lnTo>
                          <a:pt x="836" y="640"/>
                        </a:lnTo>
                        <a:lnTo>
                          <a:pt x="849" y="603"/>
                        </a:lnTo>
                        <a:lnTo>
                          <a:pt x="862" y="564"/>
                        </a:lnTo>
                        <a:lnTo>
                          <a:pt x="875" y="526"/>
                        </a:lnTo>
                        <a:lnTo>
                          <a:pt x="887" y="488"/>
                        </a:lnTo>
                        <a:lnTo>
                          <a:pt x="900" y="450"/>
                        </a:lnTo>
                        <a:lnTo>
                          <a:pt x="912" y="412"/>
                        </a:lnTo>
                        <a:lnTo>
                          <a:pt x="925" y="373"/>
                        </a:lnTo>
                        <a:lnTo>
                          <a:pt x="937" y="336"/>
                        </a:lnTo>
                        <a:lnTo>
                          <a:pt x="950" y="297"/>
                        </a:lnTo>
                        <a:lnTo>
                          <a:pt x="962" y="259"/>
                        </a:lnTo>
                        <a:lnTo>
                          <a:pt x="976" y="222"/>
                        </a:lnTo>
                        <a:lnTo>
                          <a:pt x="988" y="183"/>
                        </a:lnTo>
                        <a:lnTo>
                          <a:pt x="1001" y="145"/>
                        </a:lnTo>
                        <a:lnTo>
                          <a:pt x="1013" y="107"/>
                        </a:lnTo>
                        <a:lnTo>
                          <a:pt x="1026" y="69"/>
                        </a:lnTo>
                        <a:lnTo>
                          <a:pt x="1001" y="67"/>
                        </a:lnTo>
                        <a:lnTo>
                          <a:pt x="976" y="65"/>
                        </a:lnTo>
                        <a:lnTo>
                          <a:pt x="950" y="63"/>
                        </a:lnTo>
                        <a:lnTo>
                          <a:pt x="926" y="60"/>
                        </a:lnTo>
                        <a:lnTo>
                          <a:pt x="901" y="58"/>
                        </a:lnTo>
                        <a:lnTo>
                          <a:pt x="876" y="56"/>
                        </a:lnTo>
                        <a:lnTo>
                          <a:pt x="850" y="54"/>
                        </a:lnTo>
                        <a:lnTo>
                          <a:pt x="825" y="52"/>
                        </a:lnTo>
                        <a:lnTo>
                          <a:pt x="800" y="50"/>
                        </a:lnTo>
                        <a:lnTo>
                          <a:pt x="775" y="48"/>
                        </a:lnTo>
                        <a:lnTo>
                          <a:pt x="750" y="46"/>
                        </a:lnTo>
                        <a:lnTo>
                          <a:pt x="724" y="43"/>
                        </a:lnTo>
                        <a:lnTo>
                          <a:pt x="699" y="41"/>
                        </a:lnTo>
                        <a:lnTo>
                          <a:pt x="674" y="39"/>
                        </a:lnTo>
                        <a:lnTo>
                          <a:pt x="649" y="37"/>
                        </a:lnTo>
                        <a:lnTo>
                          <a:pt x="623" y="35"/>
                        </a:lnTo>
                        <a:lnTo>
                          <a:pt x="598" y="33"/>
                        </a:lnTo>
                        <a:lnTo>
                          <a:pt x="573" y="31"/>
                        </a:lnTo>
                        <a:lnTo>
                          <a:pt x="548" y="29"/>
                        </a:lnTo>
                        <a:lnTo>
                          <a:pt x="523" y="27"/>
                        </a:lnTo>
                        <a:lnTo>
                          <a:pt x="497" y="24"/>
                        </a:lnTo>
                        <a:lnTo>
                          <a:pt x="472" y="22"/>
                        </a:lnTo>
                        <a:lnTo>
                          <a:pt x="447" y="20"/>
                        </a:lnTo>
                        <a:lnTo>
                          <a:pt x="422" y="18"/>
                        </a:lnTo>
                        <a:lnTo>
                          <a:pt x="396" y="16"/>
                        </a:lnTo>
                        <a:lnTo>
                          <a:pt x="371" y="13"/>
                        </a:lnTo>
                        <a:lnTo>
                          <a:pt x="346" y="11"/>
                        </a:lnTo>
                        <a:lnTo>
                          <a:pt x="321" y="9"/>
                        </a:lnTo>
                        <a:lnTo>
                          <a:pt x="295" y="6"/>
                        </a:lnTo>
                        <a:lnTo>
                          <a:pt x="270" y="4"/>
                        </a:lnTo>
                        <a:lnTo>
                          <a:pt x="245" y="2"/>
                        </a:lnTo>
                        <a:lnTo>
                          <a:pt x="220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137760" y="5440320"/>
                    <a:ext cx="22212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672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4" y="580"/>
                        </a:lnTo>
                        <a:lnTo>
                          <a:pt x="48" y="583"/>
                        </a:lnTo>
                        <a:lnTo>
                          <a:pt x="73" y="586"/>
                        </a:lnTo>
                        <a:lnTo>
                          <a:pt x="98" y="589"/>
                        </a:lnTo>
                        <a:lnTo>
                          <a:pt x="122" y="592"/>
                        </a:lnTo>
                        <a:lnTo>
                          <a:pt x="146" y="594"/>
                        </a:lnTo>
                        <a:lnTo>
                          <a:pt x="170" y="598"/>
                        </a:lnTo>
                        <a:lnTo>
                          <a:pt x="195" y="601"/>
                        </a:lnTo>
                        <a:lnTo>
                          <a:pt x="219" y="604"/>
                        </a:lnTo>
                        <a:lnTo>
                          <a:pt x="244" y="607"/>
                        </a:lnTo>
                        <a:lnTo>
                          <a:pt x="268" y="610"/>
                        </a:lnTo>
                        <a:lnTo>
                          <a:pt x="292" y="613"/>
                        </a:lnTo>
                        <a:lnTo>
                          <a:pt x="317" y="616"/>
                        </a:lnTo>
                        <a:lnTo>
                          <a:pt x="341" y="619"/>
                        </a:lnTo>
                        <a:lnTo>
                          <a:pt x="365" y="622"/>
                        </a:lnTo>
                        <a:lnTo>
                          <a:pt x="389" y="625"/>
                        </a:lnTo>
                        <a:lnTo>
                          <a:pt x="414" y="628"/>
                        </a:lnTo>
                        <a:lnTo>
                          <a:pt x="439" y="630"/>
                        </a:lnTo>
                        <a:lnTo>
                          <a:pt x="463" y="633"/>
                        </a:lnTo>
                        <a:lnTo>
                          <a:pt x="487" y="636"/>
                        </a:lnTo>
                        <a:lnTo>
                          <a:pt x="511" y="639"/>
                        </a:lnTo>
                        <a:lnTo>
                          <a:pt x="536" y="642"/>
                        </a:lnTo>
                        <a:lnTo>
                          <a:pt x="560" y="645"/>
                        </a:lnTo>
                        <a:lnTo>
                          <a:pt x="584" y="648"/>
                        </a:lnTo>
                        <a:lnTo>
                          <a:pt x="608" y="651"/>
                        </a:lnTo>
                        <a:lnTo>
                          <a:pt x="632" y="654"/>
                        </a:lnTo>
                        <a:lnTo>
                          <a:pt x="658" y="657"/>
                        </a:lnTo>
                        <a:lnTo>
                          <a:pt x="682" y="660"/>
                        </a:lnTo>
                        <a:lnTo>
                          <a:pt x="706" y="663"/>
                        </a:lnTo>
                        <a:lnTo>
                          <a:pt x="730" y="666"/>
                        </a:lnTo>
                        <a:lnTo>
                          <a:pt x="755" y="669"/>
                        </a:lnTo>
                        <a:lnTo>
                          <a:pt x="779" y="672"/>
                        </a:lnTo>
                        <a:lnTo>
                          <a:pt x="791" y="634"/>
                        </a:lnTo>
                        <a:lnTo>
                          <a:pt x="803" y="597"/>
                        </a:lnTo>
                        <a:lnTo>
                          <a:pt x="816" y="558"/>
                        </a:lnTo>
                        <a:lnTo>
                          <a:pt x="828" y="520"/>
                        </a:lnTo>
                        <a:lnTo>
                          <a:pt x="840" y="482"/>
                        </a:lnTo>
                        <a:lnTo>
                          <a:pt x="853" y="444"/>
                        </a:lnTo>
                        <a:lnTo>
                          <a:pt x="866" y="407"/>
                        </a:lnTo>
                        <a:lnTo>
                          <a:pt x="879" y="368"/>
                        </a:lnTo>
                        <a:lnTo>
                          <a:pt x="891" y="331"/>
                        </a:lnTo>
                        <a:lnTo>
                          <a:pt x="904" y="292"/>
                        </a:lnTo>
                        <a:lnTo>
                          <a:pt x="916" y="255"/>
                        </a:lnTo>
                        <a:lnTo>
                          <a:pt x="929" y="217"/>
                        </a:lnTo>
                        <a:lnTo>
                          <a:pt x="941" y="179"/>
                        </a:lnTo>
                        <a:lnTo>
                          <a:pt x="954" y="141"/>
                        </a:lnTo>
                        <a:lnTo>
                          <a:pt x="966" y="103"/>
                        </a:lnTo>
                        <a:lnTo>
                          <a:pt x="980" y="65"/>
                        </a:lnTo>
                        <a:lnTo>
                          <a:pt x="956" y="63"/>
                        </a:lnTo>
                        <a:lnTo>
                          <a:pt x="932" y="61"/>
                        </a:lnTo>
                        <a:lnTo>
                          <a:pt x="909" y="59"/>
                        </a:lnTo>
                        <a:lnTo>
                          <a:pt x="885" y="57"/>
                        </a:lnTo>
                        <a:lnTo>
                          <a:pt x="862" y="55"/>
                        </a:lnTo>
                        <a:lnTo>
                          <a:pt x="837" y="53"/>
                        </a:lnTo>
                        <a:lnTo>
                          <a:pt x="814" y="51"/>
                        </a:lnTo>
                        <a:lnTo>
                          <a:pt x="790" y="49"/>
                        </a:lnTo>
                        <a:lnTo>
                          <a:pt x="767" y="47"/>
                        </a:lnTo>
                        <a:lnTo>
                          <a:pt x="742" y="45"/>
                        </a:lnTo>
                        <a:lnTo>
                          <a:pt x="719" y="43"/>
                        </a:lnTo>
                        <a:lnTo>
                          <a:pt x="695" y="41"/>
                        </a:lnTo>
                        <a:lnTo>
                          <a:pt x="672" y="39"/>
                        </a:lnTo>
                        <a:lnTo>
                          <a:pt x="648" y="37"/>
                        </a:lnTo>
                        <a:lnTo>
                          <a:pt x="624" y="35"/>
                        </a:lnTo>
                        <a:lnTo>
                          <a:pt x="600" y="33"/>
                        </a:lnTo>
                        <a:lnTo>
                          <a:pt x="577" y="31"/>
                        </a:lnTo>
                        <a:lnTo>
                          <a:pt x="553" y="29"/>
                        </a:lnTo>
                        <a:lnTo>
                          <a:pt x="530" y="27"/>
                        </a:lnTo>
                        <a:lnTo>
                          <a:pt x="505" y="25"/>
                        </a:lnTo>
                        <a:lnTo>
                          <a:pt x="482" y="23"/>
                        </a:lnTo>
                        <a:lnTo>
                          <a:pt x="458" y="21"/>
                        </a:lnTo>
                        <a:lnTo>
                          <a:pt x="435" y="19"/>
                        </a:lnTo>
                        <a:lnTo>
                          <a:pt x="410" y="17"/>
                        </a:lnTo>
                        <a:lnTo>
                          <a:pt x="387" y="14"/>
                        </a:lnTo>
                        <a:lnTo>
                          <a:pt x="363" y="12"/>
                        </a:lnTo>
                        <a:lnTo>
                          <a:pt x="340" y="10"/>
                        </a:lnTo>
                        <a:lnTo>
                          <a:pt x="316" y="8"/>
                        </a:lnTo>
                        <a:lnTo>
                          <a:pt x="292" y="6"/>
                        </a:lnTo>
                        <a:lnTo>
                          <a:pt x="268" y="4"/>
                        </a:lnTo>
                        <a:lnTo>
                          <a:pt x="245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137760" y="5440320"/>
                    <a:ext cx="2109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665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3" y="580"/>
                        </a:lnTo>
                        <a:lnTo>
                          <a:pt x="45" y="582"/>
                        </a:lnTo>
                        <a:lnTo>
                          <a:pt x="68" y="585"/>
                        </a:lnTo>
                        <a:lnTo>
                          <a:pt x="92" y="588"/>
                        </a:lnTo>
                        <a:lnTo>
                          <a:pt x="114" y="591"/>
                        </a:lnTo>
                        <a:lnTo>
                          <a:pt x="137" y="593"/>
                        </a:lnTo>
                        <a:lnTo>
                          <a:pt x="160" y="597"/>
                        </a:lnTo>
                        <a:lnTo>
                          <a:pt x="182" y="600"/>
                        </a:lnTo>
                        <a:lnTo>
                          <a:pt x="206" y="602"/>
                        </a:lnTo>
                        <a:lnTo>
                          <a:pt x="229" y="605"/>
                        </a:lnTo>
                        <a:lnTo>
                          <a:pt x="252" y="608"/>
                        </a:lnTo>
                        <a:lnTo>
                          <a:pt x="274" y="611"/>
                        </a:lnTo>
                        <a:lnTo>
                          <a:pt x="297" y="613"/>
                        </a:lnTo>
                        <a:lnTo>
                          <a:pt x="321" y="616"/>
                        </a:lnTo>
                        <a:lnTo>
                          <a:pt x="343" y="619"/>
                        </a:lnTo>
                        <a:lnTo>
                          <a:pt x="366" y="621"/>
                        </a:lnTo>
                        <a:lnTo>
                          <a:pt x="389" y="624"/>
                        </a:lnTo>
                        <a:lnTo>
                          <a:pt x="412" y="627"/>
                        </a:lnTo>
                        <a:lnTo>
                          <a:pt x="435" y="630"/>
                        </a:lnTo>
                        <a:lnTo>
                          <a:pt x="458" y="632"/>
                        </a:lnTo>
                        <a:lnTo>
                          <a:pt x="480" y="635"/>
                        </a:lnTo>
                        <a:lnTo>
                          <a:pt x="503" y="638"/>
                        </a:lnTo>
                        <a:lnTo>
                          <a:pt x="526" y="641"/>
                        </a:lnTo>
                        <a:lnTo>
                          <a:pt x="549" y="643"/>
                        </a:lnTo>
                        <a:lnTo>
                          <a:pt x="572" y="646"/>
                        </a:lnTo>
                        <a:lnTo>
                          <a:pt x="594" y="649"/>
                        </a:lnTo>
                        <a:lnTo>
                          <a:pt x="617" y="651"/>
                        </a:lnTo>
                        <a:lnTo>
                          <a:pt x="641" y="654"/>
                        </a:lnTo>
                        <a:lnTo>
                          <a:pt x="663" y="657"/>
                        </a:lnTo>
                        <a:lnTo>
                          <a:pt x="686" y="660"/>
                        </a:lnTo>
                        <a:lnTo>
                          <a:pt x="708" y="662"/>
                        </a:lnTo>
                        <a:lnTo>
                          <a:pt x="731" y="665"/>
                        </a:lnTo>
                        <a:lnTo>
                          <a:pt x="744" y="628"/>
                        </a:lnTo>
                        <a:lnTo>
                          <a:pt x="757" y="589"/>
                        </a:lnTo>
                        <a:lnTo>
                          <a:pt x="770" y="552"/>
                        </a:lnTo>
                        <a:lnTo>
                          <a:pt x="782" y="515"/>
                        </a:lnTo>
                        <a:lnTo>
                          <a:pt x="794" y="476"/>
                        </a:lnTo>
                        <a:lnTo>
                          <a:pt x="807" y="439"/>
                        </a:lnTo>
                        <a:lnTo>
                          <a:pt x="819" y="400"/>
                        </a:lnTo>
                        <a:lnTo>
                          <a:pt x="832" y="363"/>
                        </a:lnTo>
                        <a:lnTo>
                          <a:pt x="844" y="326"/>
                        </a:lnTo>
                        <a:lnTo>
                          <a:pt x="856" y="287"/>
                        </a:lnTo>
                        <a:lnTo>
                          <a:pt x="870" y="250"/>
                        </a:lnTo>
                        <a:lnTo>
                          <a:pt x="882" y="212"/>
                        </a:lnTo>
                        <a:lnTo>
                          <a:pt x="894" y="174"/>
                        </a:lnTo>
                        <a:lnTo>
                          <a:pt x="907" y="137"/>
                        </a:lnTo>
                        <a:lnTo>
                          <a:pt x="919" y="98"/>
                        </a:lnTo>
                        <a:lnTo>
                          <a:pt x="932" y="61"/>
                        </a:lnTo>
                        <a:lnTo>
                          <a:pt x="910" y="59"/>
                        </a:lnTo>
                        <a:lnTo>
                          <a:pt x="888" y="57"/>
                        </a:lnTo>
                        <a:lnTo>
                          <a:pt x="866" y="55"/>
                        </a:lnTo>
                        <a:lnTo>
                          <a:pt x="843" y="53"/>
                        </a:lnTo>
                        <a:lnTo>
                          <a:pt x="821" y="52"/>
                        </a:lnTo>
                        <a:lnTo>
                          <a:pt x="799" y="50"/>
                        </a:lnTo>
                        <a:lnTo>
                          <a:pt x="777" y="48"/>
                        </a:lnTo>
                        <a:lnTo>
                          <a:pt x="755" y="46"/>
                        </a:lnTo>
                        <a:lnTo>
                          <a:pt x="732" y="44"/>
                        </a:lnTo>
                        <a:lnTo>
                          <a:pt x="710" y="42"/>
                        </a:lnTo>
                        <a:lnTo>
                          <a:pt x="688" y="40"/>
                        </a:lnTo>
                        <a:lnTo>
                          <a:pt x="666" y="38"/>
                        </a:lnTo>
                        <a:lnTo>
                          <a:pt x="644" y="37"/>
                        </a:lnTo>
                        <a:lnTo>
                          <a:pt x="621" y="35"/>
                        </a:lnTo>
                        <a:lnTo>
                          <a:pt x="599" y="33"/>
                        </a:lnTo>
                        <a:lnTo>
                          <a:pt x="577" y="31"/>
                        </a:lnTo>
                        <a:lnTo>
                          <a:pt x="555" y="29"/>
                        </a:lnTo>
                        <a:lnTo>
                          <a:pt x="533" y="27"/>
                        </a:lnTo>
                        <a:lnTo>
                          <a:pt x="510" y="25"/>
                        </a:lnTo>
                        <a:lnTo>
                          <a:pt x="488" y="23"/>
                        </a:lnTo>
                        <a:lnTo>
                          <a:pt x="466" y="22"/>
                        </a:lnTo>
                        <a:lnTo>
                          <a:pt x="444" y="20"/>
                        </a:lnTo>
                        <a:lnTo>
                          <a:pt x="422" y="18"/>
                        </a:lnTo>
                        <a:lnTo>
                          <a:pt x="399" y="16"/>
                        </a:lnTo>
                        <a:lnTo>
                          <a:pt x="377" y="13"/>
                        </a:lnTo>
                        <a:lnTo>
                          <a:pt x="355" y="11"/>
                        </a:lnTo>
                        <a:lnTo>
                          <a:pt x="333" y="9"/>
                        </a:lnTo>
                        <a:lnTo>
                          <a:pt x="310" y="7"/>
                        </a:lnTo>
                        <a:lnTo>
                          <a:pt x="287" y="6"/>
                        </a:lnTo>
                        <a:lnTo>
                          <a:pt x="265" y="4"/>
                        </a:lnTo>
                        <a:lnTo>
                          <a:pt x="243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3137760" y="5440320"/>
                    <a:ext cx="2012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4" h="659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1" y="580"/>
                        </a:lnTo>
                        <a:lnTo>
                          <a:pt x="42" y="582"/>
                        </a:lnTo>
                        <a:lnTo>
                          <a:pt x="64" y="585"/>
                        </a:lnTo>
                        <a:lnTo>
                          <a:pt x="86" y="587"/>
                        </a:lnTo>
                        <a:lnTo>
                          <a:pt x="107" y="590"/>
                        </a:lnTo>
                        <a:lnTo>
                          <a:pt x="128" y="592"/>
                        </a:lnTo>
                        <a:lnTo>
                          <a:pt x="149" y="596"/>
                        </a:lnTo>
                        <a:lnTo>
                          <a:pt x="171" y="598"/>
                        </a:lnTo>
                        <a:lnTo>
                          <a:pt x="193" y="601"/>
                        </a:lnTo>
                        <a:lnTo>
                          <a:pt x="214" y="603"/>
                        </a:lnTo>
                        <a:lnTo>
                          <a:pt x="235" y="606"/>
                        </a:lnTo>
                        <a:lnTo>
                          <a:pt x="256" y="608"/>
                        </a:lnTo>
                        <a:lnTo>
                          <a:pt x="277" y="611"/>
                        </a:lnTo>
                        <a:lnTo>
                          <a:pt x="300" y="613"/>
                        </a:lnTo>
                        <a:lnTo>
                          <a:pt x="321" y="616"/>
                        </a:lnTo>
                        <a:lnTo>
                          <a:pt x="342" y="618"/>
                        </a:lnTo>
                        <a:lnTo>
                          <a:pt x="363" y="621"/>
                        </a:lnTo>
                        <a:lnTo>
                          <a:pt x="384" y="624"/>
                        </a:lnTo>
                        <a:lnTo>
                          <a:pt x="406" y="626"/>
                        </a:lnTo>
                        <a:lnTo>
                          <a:pt x="428" y="629"/>
                        </a:lnTo>
                        <a:lnTo>
                          <a:pt x="449" y="631"/>
                        </a:lnTo>
                        <a:lnTo>
                          <a:pt x="470" y="634"/>
                        </a:lnTo>
                        <a:lnTo>
                          <a:pt x="491" y="636"/>
                        </a:lnTo>
                        <a:lnTo>
                          <a:pt x="513" y="639"/>
                        </a:lnTo>
                        <a:lnTo>
                          <a:pt x="535" y="641"/>
                        </a:lnTo>
                        <a:lnTo>
                          <a:pt x="556" y="644"/>
                        </a:lnTo>
                        <a:lnTo>
                          <a:pt x="577" y="646"/>
                        </a:lnTo>
                        <a:lnTo>
                          <a:pt x="598" y="649"/>
                        </a:lnTo>
                        <a:lnTo>
                          <a:pt x="619" y="651"/>
                        </a:lnTo>
                        <a:lnTo>
                          <a:pt x="642" y="654"/>
                        </a:lnTo>
                        <a:lnTo>
                          <a:pt x="663" y="656"/>
                        </a:lnTo>
                        <a:lnTo>
                          <a:pt x="684" y="659"/>
                        </a:lnTo>
                        <a:lnTo>
                          <a:pt x="697" y="622"/>
                        </a:lnTo>
                        <a:lnTo>
                          <a:pt x="709" y="583"/>
                        </a:lnTo>
                        <a:lnTo>
                          <a:pt x="722" y="546"/>
                        </a:lnTo>
                        <a:lnTo>
                          <a:pt x="734" y="509"/>
                        </a:lnTo>
                        <a:lnTo>
                          <a:pt x="748" y="471"/>
                        </a:lnTo>
                        <a:lnTo>
                          <a:pt x="760" y="433"/>
                        </a:lnTo>
                        <a:lnTo>
                          <a:pt x="773" y="395"/>
                        </a:lnTo>
                        <a:lnTo>
                          <a:pt x="785" y="358"/>
                        </a:lnTo>
                        <a:lnTo>
                          <a:pt x="798" y="321"/>
                        </a:lnTo>
                        <a:lnTo>
                          <a:pt x="810" y="283"/>
                        </a:lnTo>
                        <a:lnTo>
                          <a:pt x="822" y="245"/>
                        </a:lnTo>
                        <a:lnTo>
                          <a:pt x="834" y="207"/>
                        </a:lnTo>
                        <a:lnTo>
                          <a:pt x="847" y="170"/>
                        </a:lnTo>
                        <a:lnTo>
                          <a:pt x="860" y="133"/>
                        </a:lnTo>
                        <a:lnTo>
                          <a:pt x="872" y="94"/>
                        </a:lnTo>
                        <a:lnTo>
                          <a:pt x="884" y="57"/>
                        </a:lnTo>
                        <a:lnTo>
                          <a:pt x="864" y="55"/>
                        </a:lnTo>
                        <a:lnTo>
                          <a:pt x="842" y="54"/>
                        </a:lnTo>
                        <a:lnTo>
                          <a:pt x="822" y="52"/>
                        </a:lnTo>
                        <a:lnTo>
                          <a:pt x="802" y="50"/>
                        </a:lnTo>
                        <a:lnTo>
                          <a:pt x="781" y="48"/>
                        </a:lnTo>
                        <a:lnTo>
                          <a:pt x="761" y="47"/>
                        </a:lnTo>
                        <a:lnTo>
                          <a:pt x="739" y="45"/>
                        </a:lnTo>
                        <a:lnTo>
                          <a:pt x="719" y="43"/>
                        </a:lnTo>
                        <a:lnTo>
                          <a:pt x="698" y="42"/>
                        </a:lnTo>
                        <a:lnTo>
                          <a:pt x="678" y="40"/>
                        </a:lnTo>
                        <a:lnTo>
                          <a:pt x="658" y="38"/>
                        </a:lnTo>
                        <a:lnTo>
                          <a:pt x="637" y="36"/>
                        </a:lnTo>
                        <a:lnTo>
                          <a:pt x="616" y="35"/>
                        </a:lnTo>
                        <a:lnTo>
                          <a:pt x="595" y="33"/>
                        </a:lnTo>
                        <a:lnTo>
                          <a:pt x="575" y="31"/>
                        </a:lnTo>
                        <a:lnTo>
                          <a:pt x="554" y="29"/>
                        </a:lnTo>
                        <a:lnTo>
                          <a:pt x="533" y="28"/>
                        </a:lnTo>
                        <a:lnTo>
                          <a:pt x="512" y="26"/>
                        </a:lnTo>
                        <a:lnTo>
                          <a:pt x="491" y="24"/>
                        </a:lnTo>
                        <a:lnTo>
                          <a:pt x="471" y="22"/>
                        </a:lnTo>
                        <a:lnTo>
                          <a:pt x="450" y="21"/>
                        </a:lnTo>
                        <a:lnTo>
                          <a:pt x="430" y="19"/>
                        </a:lnTo>
                        <a:lnTo>
                          <a:pt x="408" y="17"/>
                        </a:lnTo>
                        <a:lnTo>
                          <a:pt x="387" y="14"/>
                        </a:lnTo>
                        <a:lnTo>
                          <a:pt x="367" y="12"/>
                        </a:lnTo>
                        <a:lnTo>
                          <a:pt x="346" y="11"/>
                        </a:lnTo>
                        <a:lnTo>
                          <a:pt x="325" y="9"/>
                        </a:lnTo>
                        <a:lnTo>
                          <a:pt x="305" y="7"/>
                        </a:lnTo>
                        <a:lnTo>
                          <a:pt x="283" y="5"/>
                        </a:lnTo>
                        <a:lnTo>
                          <a:pt x="262" y="4"/>
                        </a:lnTo>
                        <a:lnTo>
                          <a:pt x="242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3137760" y="5440320"/>
                    <a:ext cx="1904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652">
                        <a:moveTo>
                          <a:pt x="222" y="0"/>
                        </a:moveTo>
                        <a:lnTo>
                          <a:pt x="208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40" y="582"/>
                        </a:lnTo>
                        <a:lnTo>
                          <a:pt x="80" y="586"/>
                        </a:lnTo>
                        <a:lnTo>
                          <a:pt x="120" y="591"/>
                        </a:lnTo>
                        <a:lnTo>
                          <a:pt x="160" y="596"/>
                        </a:lnTo>
                        <a:lnTo>
                          <a:pt x="200" y="601"/>
                        </a:lnTo>
                        <a:lnTo>
                          <a:pt x="240" y="605"/>
                        </a:lnTo>
                        <a:lnTo>
                          <a:pt x="279" y="610"/>
                        </a:lnTo>
                        <a:lnTo>
                          <a:pt x="320" y="615"/>
                        </a:lnTo>
                        <a:lnTo>
                          <a:pt x="359" y="619"/>
                        </a:lnTo>
                        <a:lnTo>
                          <a:pt x="399" y="624"/>
                        </a:lnTo>
                        <a:lnTo>
                          <a:pt x="439" y="629"/>
                        </a:lnTo>
                        <a:lnTo>
                          <a:pt x="478" y="633"/>
                        </a:lnTo>
                        <a:lnTo>
                          <a:pt x="518" y="638"/>
                        </a:lnTo>
                        <a:lnTo>
                          <a:pt x="558" y="643"/>
                        </a:lnTo>
                        <a:lnTo>
                          <a:pt x="598" y="647"/>
                        </a:lnTo>
                        <a:lnTo>
                          <a:pt x="638" y="652"/>
                        </a:lnTo>
                        <a:lnTo>
                          <a:pt x="651" y="615"/>
                        </a:lnTo>
                        <a:lnTo>
                          <a:pt x="663" y="577"/>
                        </a:lnTo>
                        <a:lnTo>
                          <a:pt x="676" y="540"/>
                        </a:lnTo>
                        <a:lnTo>
                          <a:pt x="688" y="503"/>
                        </a:lnTo>
                        <a:lnTo>
                          <a:pt x="701" y="465"/>
                        </a:lnTo>
                        <a:lnTo>
                          <a:pt x="713" y="428"/>
                        </a:lnTo>
                        <a:lnTo>
                          <a:pt x="726" y="390"/>
                        </a:lnTo>
                        <a:lnTo>
                          <a:pt x="738" y="353"/>
                        </a:lnTo>
                        <a:lnTo>
                          <a:pt x="752" y="316"/>
                        </a:lnTo>
                        <a:lnTo>
                          <a:pt x="764" y="278"/>
                        </a:lnTo>
                        <a:lnTo>
                          <a:pt x="776" y="241"/>
                        </a:lnTo>
                        <a:lnTo>
                          <a:pt x="788" y="203"/>
                        </a:lnTo>
                        <a:lnTo>
                          <a:pt x="801" y="166"/>
                        </a:lnTo>
                        <a:lnTo>
                          <a:pt x="813" y="129"/>
                        </a:lnTo>
                        <a:lnTo>
                          <a:pt x="825" y="91"/>
                        </a:lnTo>
                        <a:lnTo>
                          <a:pt x="837" y="54"/>
                        </a:lnTo>
                        <a:lnTo>
                          <a:pt x="799" y="51"/>
                        </a:lnTo>
                        <a:lnTo>
                          <a:pt x="761" y="47"/>
                        </a:lnTo>
                        <a:lnTo>
                          <a:pt x="722" y="44"/>
                        </a:lnTo>
                        <a:lnTo>
                          <a:pt x="684" y="41"/>
                        </a:lnTo>
                        <a:lnTo>
                          <a:pt x="646" y="37"/>
                        </a:lnTo>
                        <a:lnTo>
                          <a:pt x="607" y="34"/>
                        </a:lnTo>
                        <a:lnTo>
                          <a:pt x="569" y="31"/>
                        </a:lnTo>
                        <a:lnTo>
                          <a:pt x="531" y="27"/>
                        </a:lnTo>
                        <a:lnTo>
                          <a:pt x="492" y="24"/>
                        </a:lnTo>
                        <a:lnTo>
                          <a:pt x="453" y="21"/>
                        </a:lnTo>
                        <a:lnTo>
                          <a:pt x="415" y="18"/>
                        </a:lnTo>
                        <a:lnTo>
                          <a:pt x="376" y="13"/>
                        </a:lnTo>
                        <a:lnTo>
                          <a:pt x="338" y="10"/>
                        </a:lnTo>
                        <a:lnTo>
                          <a:pt x="298" y="7"/>
                        </a:lnTo>
                        <a:lnTo>
                          <a:pt x="260" y="3"/>
                        </a:lnTo>
                        <a:lnTo>
                          <a:pt x="222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137760" y="5440320"/>
                    <a:ext cx="1792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2" h="645">
                        <a:moveTo>
                          <a:pt x="222" y="0"/>
                        </a:moveTo>
                        <a:lnTo>
                          <a:pt x="208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7" y="581"/>
                        </a:lnTo>
                        <a:lnTo>
                          <a:pt x="73" y="585"/>
                        </a:lnTo>
                        <a:lnTo>
                          <a:pt x="111" y="589"/>
                        </a:lnTo>
                        <a:lnTo>
                          <a:pt x="147" y="594"/>
                        </a:lnTo>
                        <a:lnTo>
                          <a:pt x="184" y="599"/>
                        </a:lnTo>
                        <a:lnTo>
                          <a:pt x="221" y="603"/>
                        </a:lnTo>
                        <a:lnTo>
                          <a:pt x="258" y="607"/>
                        </a:lnTo>
                        <a:lnTo>
                          <a:pt x="295" y="611"/>
                        </a:lnTo>
                        <a:lnTo>
                          <a:pt x="332" y="616"/>
                        </a:lnTo>
                        <a:lnTo>
                          <a:pt x="369" y="620"/>
                        </a:lnTo>
                        <a:lnTo>
                          <a:pt x="406" y="624"/>
                        </a:lnTo>
                        <a:lnTo>
                          <a:pt x="443" y="628"/>
                        </a:lnTo>
                        <a:lnTo>
                          <a:pt x="480" y="633"/>
                        </a:lnTo>
                        <a:lnTo>
                          <a:pt x="517" y="637"/>
                        </a:lnTo>
                        <a:lnTo>
                          <a:pt x="554" y="641"/>
                        </a:lnTo>
                        <a:lnTo>
                          <a:pt x="591" y="645"/>
                        </a:lnTo>
                        <a:lnTo>
                          <a:pt x="603" y="608"/>
                        </a:lnTo>
                        <a:lnTo>
                          <a:pt x="616" y="570"/>
                        </a:lnTo>
                        <a:lnTo>
                          <a:pt x="628" y="534"/>
                        </a:lnTo>
                        <a:lnTo>
                          <a:pt x="642" y="496"/>
                        </a:lnTo>
                        <a:lnTo>
                          <a:pt x="654" y="459"/>
                        </a:lnTo>
                        <a:lnTo>
                          <a:pt x="667" y="422"/>
                        </a:lnTo>
                        <a:lnTo>
                          <a:pt x="679" y="384"/>
                        </a:lnTo>
                        <a:lnTo>
                          <a:pt x="692" y="347"/>
                        </a:lnTo>
                        <a:lnTo>
                          <a:pt x="704" y="311"/>
                        </a:lnTo>
                        <a:lnTo>
                          <a:pt x="716" y="273"/>
                        </a:lnTo>
                        <a:lnTo>
                          <a:pt x="729" y="236"/>
                        </a:lnTo>
                        <a:lnTo>
                          <a:pt x="741" y="198"/>
                        </a:lnTo>
                        <a:lnTo>
                          <a:pt x="755" y="161"/>
                        </a:lnTo>
                        <a:lnTo>
                          <a:pt x="767" y="125"/>
                        </a:lnTo>
                        <a:lnTo>
                          <a:pt x="780" y="87"/>
                        </a:lnTo>
                        <a:lnTo>
                          <a:pt x="792" y="50"/>
                        </a:lnTo>
                        <a:lnTo>
                          <a:pt x="757" y="47"/>
                        </a:lnTo>
                        <a:lnTo>
                          <a:pt x="720" y="44"/>
                        </a:lnTo>
                        <a:lnTo>
                          <a:pt x="685" y="41"/>
                        </a:lnTo>
                        <a:lnTo>
                          <a:pt x="650" y="38"/>
                        </a:lnTo>
                        <a:lnTo>
                          <a:pt x="614" y="35"/>
                        </a:lnTo>
                        <a:lnTo>
                          <a:pt x="578" y="32"/>
                        </a:lnTo>
                        <a:lnTo>
                          <a:pt x="543" y="29"/>
                        </a:lnTo>
                        <a:lnTo>
                          <a:pt x="507" y="25"/>
                        </a:lnTo>
                        <a:lnTo>
                          <a:pt x="472" y="22"/>
                        </a:lnTo>
                        <a:lnTo>
                          <a:pt x="436" y="19"/>
                        </a:lnTo>
                        <a:lnTo>
                          <a:pt x="400" y="16"/>
                        </a:lnTo>
                        <a:lnTo>
                          <a:pt x="365" y="12"/>
                        </a:lnTo>
                        <a:lnTo>
                          <a:pt x="329" y="9"/>
                        </a:lnTo>
                        <a:lnTo>
                          <a:pt x="293" y="6"/>
                        </a:lnTo>
                        <a:lnTo>
                          <a:pt x="257" y="3"/>
                        </a:lnTo>
                        <a:lnTo>
                          <a:pt x="222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3137760" y="5440320"/>
                    <a:ext cx="1681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639">
                        <a:moveTo>
                          <a:pt x="223" y="0"/>
                        </a:moveTo>
                        <a:lnTo>
                          <a:pt x="209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4" y="581"/>
                        </a:lnTo>
                        <a:lnTo>
                          <a:pt x="67" y="585"/>
                        </a:lnTo>
                        <a:lnTo>
                          <a:pt x="102" y="588"/>
                        </a:lnTo>
                        <a:lnTo>
                          <a:pt x="136" y="592"/>
                        </a:lnTo>
                        <a:lnTo>
                          <a:pt x="170" y="597"/>
                        </a:lnTo>
                        <a:lnTo>
                          <a:pt x="204" y="601"/>
                        </a:lnTo>
                        <a:lnTo>
                          <a:pt x="238" y="605"/>
                        </a:lnTo>
                        <a:lnTo>
                          <a:pt x="272" y="608"/>
                        </a:lnTo>
                        <a:lnTo>
                          <a:pt x="306" y="612"/>
                        </a:lnTo>
                        <a:lnTo>
                          <a:pt x="340" y="616"/>
                        </a:lnTo>
                        <a:lnTo>
                          <a:pt x="373" y="620"/>
                        </a:lnTo>
                        <a:lnTo>
                          <a:pt x="407" y="624"/>
                        </a:lnTo>
                        <a:lnTo>
                          <a:pt x="442" y="628"/>
                        </a:lnTo>
                        <a:lnTo>
                          <a:pt x="476" y="631"/>
                        </a:lnTo>
                        <a:lnTo>
                          <a:pt x="509" y="635"/>
                        </a:lnTo>
                        <a:lnTo>
                          <a:pt x="544" y="639"/>
                        </a:lnTo>
                        <a:lnTo>
                          <a:pt x="557" y="602"/>
                        </a:lnTo>
                        <a:lnTo>
                          <a:pt x="569" y="565"/>
                        </a:lnTo>
                        <a:lnTo>
                          <a:pt x="582" y="528"/>
                        </a:lnTo>
                        <a:lnTo>
                          <a:pt x="594" y="490"/>
                        </a:lnTo>
                        <a:lnTo>
                          <a:pt x="607" y="453"/>
                        </a:lnTo>
                        <a:lnTo>
                          <a:pt x="619" y="417"/>
                        </a:lnTo>
                        <a:lnTo>
                          <a:pt x="632" y="379"/>
                        </a:lnTo>
                        <a:lnTo>
                          <a:pt x="645" y="342"/>
                        </a:lnTo>
                        <a:lnTo>
                          <a:pt x="657" y="306"/>
                        </a:lnTo>
                        <a:lnTo>
                          <a:pt x="670" y="268"/>
                        </a:lnTo>
                        <a:lnTo>
                          <a:pt x="682" y="232"/>
                        </a:lnTo>
                        <a:lnTo>
                          <a:pt x="695" y="194"/>
                        </a:lnTo>
                        <a:lnTo>
                          <a:pt x="707" y="157"/>
                        </a:lnTo>
                        <a:lnTo>
                          <a:pt x="720" y="120"/>
                        </a:lnTo>
                        <a:lnTo>
                          <a:pt x="732" y="83"/>
                        </a:lnTo>
                        <a:lnTo>
                          <a:pt x="745" y="46"/>
                        </a:lnTo>
                        <a:lnTo>
                          <a:pt x="713" y="43"/>
                        </a:lnTo>
                        <a:lnTo>
                          <a:pt x="680" y="40"/>
                        </a:lnTo>
                        <a:lnTo>
                          <a:pt x="648" y="38"/>
                        </a:lnTo>
                        <a:lnTo>
                          <a:pt x="615" y="35"/>
                        </a:lnTo>
                        <a:lnTo>
                          <a:pt x="582" y="32"/>
                        </a:lnTo>
                        <a:lnTo>
                          <a:pt x="550" y="29"/>
                        </a:lnTo>
                        <a:lnTo>
                          <a:pt x="517" y="26"/>
                        </a:lnTo>
                        <a:lnTo>
                          <a:pt x="484" y="23"/>
                        </a:lnTo>
                        <a:lnTo>
                          <a:pt x="452" y="21"/>
                        </a:lnTo>
                        <a:lnTo>
                          <a:pt x="420" y="18"/>
                        </a:lnTo>
                        <a:lnTo>
                          <a:pt x="386" y="14"/>
                        </a:lnTo>
                        <a:lnTo>
                          <a:pt x="354" y="11"/>
                        </a:lnTo>
                        <a:lnTo>
                          <a:pt x="321" y="8"/>
                        </a:lnTo>
                        <a:lnTo>
                          <a:pt x="288" y="6"/>
                        </a:lnTo>
                        <a:lnTo>
                          <a:pt x="255" y="3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137760" y="5440320"/>
                    <a:ext cx="1584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632">
                        <a:moveTo>
                          <a:pt x="223" y="0"/>
                        </a:moveTo>
                        <a:lnTo>
                          <a:pt x="209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1" y="580"/>
                        </a:lnTo>
                        <a:lnTo>
                          <a:pt x="62" y="584"/>
                        </a:lnTo>
                        <a:lnTo>
                          <a:pt x="93" y="587"/>
                        </a:lnTo>
                        <a:lnTo>
                          <a:pt x="124" y="590"/>
                        </a:lnTo>
                        <a:lnTo>
                          <a:pt x="155" y="594"/>
                        </a:lnTo>
                        <a:lnTo>
                          <a:pt x="186" y="598"/>
                        </a:lnTo>
                        <a:lnTo>
                          <a:pt x="217" y="602"/>
                        </a:lnTo>
                        <a:lnTo>
                          <a:pt x="248" y="605"/>
                        </a:lnTo>
                        <a:lnTo>
                          <a:pt x="279" y="608"/>
                        </a:lnTo>
                        <a:lnTo>
                          <a:pt x="311" y="612"/>
                        </a:lnTo>
                        <a:lnTo>
                          <a:pt x="341" y="615"/>
                        </a:lnTo>
                        <a:lnTo>
                          <a:pt x="372" y="618"/>
                        </a:lnTo>
                        <a:lnTo>
                          <a:pt x="403" y="622"/>
                        </a:lnTo>
                        <a:lnTo>
                          <a:pt x="435" y="625"/>
                        </a:lnTo>
                        <a:lnTo>
                          <a:pt x="465" y="629"/>
                        </a:lnTo>
                        <a:lnTo>
                          <a:pt x="496" y="632"/>
                        </a:lnTo>
                        <a:lnTo>
                          <a:pt x="509" y="596"/>
                        </a:lnTo>
                        <a:lnTo>
                          <a:pt x="521" y="558"/>
                        </a:lnTo>
                        <a:lnTo>
                          <a:pt x="535" y="522"/>
                        </a:lnTo>
                        <a:lnTo>
                          <a:pt x="547" y="484"/>
                        </a:lnTo>
                        <a:lnTo>
                          <a:pt x="560" y="448"/>
                        </a:lnTo>
                        <a:lnTo>
                          <a:pt x="572" y="411"/>
                        </a:lnTo>
                        <a:lnTo>
                          <a:pt x="585" y="374"/>
                        </a:lnTo>
                        <a:lnTo>
                          <a:pt x="597" y="337"/>
                        </a:lnTo>
                        <a:lnTo>
                          <a:pt x="609" y="300"/>
                        </a:lnTo>
                        <a:lnTo>
                          <a:pt x="622" y="263"/>
                        </a:lnTo>
                        <a:lnTo>
                          <a:pt x="634" y="227"/>
                        </a:lnTo>
                        <a:lnTo>
                          <a:pt x="648" y="189"/>
                        </a:lnTo>
                        <a:lnTo>
                          <a:pt x="660" y="153"/>
                        </a:lnTo>
                        <a:lnTo>
                          <a:pt x="673" y="116"/>
                        </a:lnTo>
                        <a:lnTo>
                          <a:pt x="685" y="79"/>
                        </a:lnTo>
                        <a:lnTo>
                          <a:pt x="698" y="42"/>
                        </a:lnTo>
                        <a:lnTo>
                          <a:pt x="669" y="39"/>
                        </a:lnTo>
                        <a:lnTo>
                          <a:pt x="639" y="37"/>
                        </a:lnTo>
                        <a:lnTo>
                          <a:pt x="609" y="34"/>
                        </a:lnTo>
                        <a:lnTo>
                          <a:pt x="579" y="32"/>
                        </a:lnTo>
                        <a:lnTo>
                          <a:pt x="550" y="29"/>
                        </a:lnTo>
                        <a:lnTo>
                          <a:pt x="520" y="27"/>
                        </a:lnTo>
                        <a:lnTo>
                          <a:pt x="490" y="24"/>
                        </a:lnTo>
                        <a:lnTo>
                          <a:pt x="461" y="21"/>
                        </a:lnTo>
                        <a:lnTo>
                          <a:pt x="431" y="19"/>
                        </a:lnTo>
                        <a:lnTo>
                          <a:pt x="401" y="16"/>
                        </a:lnTo>
                        <a:lnTo>
                          <a:pt x="372" y="13"/>
                        </a:lnTo>
                        <a:lnTo>
                          <a:pt x="342" y="10"/>
                        </a:lnTo>
                        <a:lnTo>
                          <a:pt x="313" y="8"/>
                        </a:lnTo>
                        <a:lnTo>
                          <a:pt x="282" y="5"/>
                        </a:lnTo>
                        <a:lnTo>
                          <a:pt x="253" y="3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137760" y="5440320"/>
                    <a:ext cx="147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626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8" y="580"/>
                        </a:lnTo>
                        <a:lnTo>
                          <a:pt x="56" y="583"/>
                        </a:lnTo>
                        <a:lnTo>
                          <a:pt x="85" y="586"/>
                        </a:lnTo>
                        <a:lnTo>
                          <a:pt x="113" y="589"/>
                        </a:lnTo>
                        <a:lnTo>
                          <a:pt x="141" y="592"/>
                        </a:lnTo>
                        <a:lnTo>
                          <a:pt x="169" y="596"/>
                        </a:lnTo>
                        <a:lnTo>
                          <a:pt x="198" y="599"/>
                        </a:lnTo>
                        <a:lnTo>
                          <a:pt x="226" y="602"/>
                        </a:lnTo>
                        <a:lnTo>
                          <a:pt x="254" y="605"/>
                        </a:lnTo>
                        <a:lnTo>
                          <a:pt x="281" y="608"/>
                        </a:lnTo>
                        <a:lnTo>
                          <a:pt x="310" y="611"/>
                        </a:lnTo>
                        <a:lnTo>
                          <a:pt x="338" y="614"/>
                        </a:lnTo>
                        <a:lnTo>
                          <a:pt x="366" y="617"/>
                        </a:lnTo>
                        <a:lnTo>
                          <a:pt x="393" y="620"/>
                        </a:lnTo>
                        <a:lnTo>
                          <a:pt x="422" y="623"/>
                        </a:lnTo>
                        <a:lnTo>
                          <a:pt x="450" y="626"/>
                        </a:lnTo>
                        <a:lnTo>
                          <a:pt x="463" y="589"/>
                        </a:lnTo>
                        <a:lnTo>
                          <a:pt x="475" y="552"/>
                        </a:lnTo>
                        <a:lnTo>
                          <a:pt x="488" y="516"/>
                        </a:lnTo>
                        <a:lnTo>
                          <a:pt x="500" y="478"/>
                        </a:lnTo>
                        <a:lnTo>
                          <a:pt x="513" y="442"/>
                        </a:lnTo>
                        <a:lnTo>
                          <a:pt x="525" y="406"/>
                        </a:lnTo>
                        <a:lnTo>
                          <a:pt x="539" y="368"/>
                        </a:lnTo>
                        <a:lnTo>
                          <a:pt x="551" y="332"/>
                        </a:lnTo>
                        <a:lnTo>
                          <a:pt x="563" y="295"/>
                        </a:lnTo>
                        <a:lnTo>
                          <a:pt x="576" y="258"/>
                        </a:lnTo>
                        <a:lnTo>
                          <a:pt x="588" y="222"/>
                        </a:lnTo>
                        <a:lnTo>
                          <a:pt x="601" y="184"/>
                        </a:lnTo>
                        <a:lnTo>
                          <a:pt x="613" y="148"/>
                        </a:lnTo>
                        <a:lnTo>
                          <a:pt x="626" y="111"/>
                        </a:lnTo>
                        <a:lnTo>
                          <a:pt x="639" y="74"/>
                        </a:lnTo>
                        <a:lnTo>
                          <a:pt x="652" y="38"/>
                        </a:lnTo>
                        <a:lnTo>
                          <a:pt x="625" y="36"/>
                        </a:lnTo>
                        <a:lnTo>
                          <a:pt x="598" y="33"/>
                        </a:lnTo>
                        <a:lnTo>
                          <a:pt x="572" y="31"/>
                        </a:lnTo>
                        <a:lnTo>
                          <a:pt x="545" y="29"/>
                        </a:lnTo>
                        <a:lnTo>
                          <a:pt x="518" y="27"/>
                        </a:lnTo>
                        <a:lnTo>
                          <a:pt x="491" y="24"/>
                        </a:lnTo>
                        <a:lnTo>
                          <a:pt x="465" y="22"/>
                        </a:lnTo>
                        <a:lnTo>
                          <a:pt x="438" y="20"/>
                        </a:lnTo>
                        <a:lnTo>
                          <a:pt x="410" y="18"/>
                        </a:lnTo>
                        <a:lnTo>
                          <a:pt x="384" y="14"/>
                        </a:lnTo>
                        <a:lnTo>
                          <a:pt x="357" y="12"/>
                        </a:lnTo>
                        <a:lnTo>
                          <a:pt x="331" y="10"/>
                        </a:lnTo>
                        <a:lnTo>
                          <a:pt x="304" y="7"/>
                        </a:lnTo>
                        <a:lnTo>
                          <a:pt x="277" y="5"/>
                        </a:lnTo>
                        <a:lnTo>
                          <a:pt x="250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137760" y="5440320"/>
                    <a:ext cx="1364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619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5" y="580"/>
                        </a:lnTo>
                        <a:lnTo>
                          <a:pt x="50" y="582"/>
                        </a:lnTo>
                        <a:lnTo>
                          <a:pt x="75" y="585"/>
                        </a:lnTo>
                        <a:lnTo>
                          <a:pt x="101" y="587"/>
                        </a:lnTo>
                        <a:lnTo>
                          <a:pt x="126" y="590"/>
                        </a:lnTo>
                        <a:lnTo>
                          <a:pt x="151" y="592"/>
                        </a:lnTo>
                        <a:lnTo>
                          <a:pt x="176" y="596"/>
                        </a:lnTo>
                        <a:lnTo>
                          <a:pt x="202" y="598"/>
                        </a:lnTo>
                        <a:lnTo>
                          <a:pt x="227" y="601"/>
                        </a:lnTo>
                        <a:lnTo>
                          <a:pt x="252" y="604"/>
                        </a:lnTo>
                        <a:lnTo>
                          <a:pt x="277" y="606"/>
                        </a:lnTo>
                        <a:lnTo>
                          <a:pt x="303" y="609"/>
                        </a:lnTo>
                        <a:lnTo>
                          <a:pt x="328" y="611"/>
                        </a:lnTo>
                        <a:lnTo>
                          <a:pt x="353" y="614"/>
                        </a:lnTo>
                        <a:lnTo>
                          <a:pt x="378" y="616"/>
                        </a:lnTo>
                        <a:lnTo>
                          <a:pt x="403" y="619"/>
                        </a:lnTo>
                        <a:lnTo>
                          <a:pt x="416" y="582"/>
                        </a:lnTo>
                        <a:lnTo>
                          <a:pt x="428" y="546"/>
                        </a:lnTo>
                        <a:lnTo>
                          <a:pt x="441" y="509"/>
                        </a:lnTo>
                        <a:lnTo>
                          <a:pt x="453" y="472"/>
                        </a:lnTo>
                        <a:lnTo>
                          <a:pt x="465" y="436"/>
                        </a:lnTo>
                        <a:lnTo>
                          <a:pt x="478" y="399"/>
                        </a:lnTo>
                        <a:lnTo>
                          <a:pt x="490" y="363"/>
                        </a:lnTo>
                        <a:lnTo>
                          <a:pt x="503" y="326"/>
                        </a:lnTo>
                        <a:lnTo>
                          <a:pt x="515" y="289"/>
                        </a:lnTo>
                        <a:lnTo>
                          <a:pt x="529" y="253"/>
                        </a:lnTo>
                        <a:lnTo>
                          <a:pt x="541" y="217"/>
                        </a:lnTo>
                        <a:lnTo>
                          <a:pt x="554" y="180"/>
                        </a:lnTo>
                        <a:lnTo>
                          <a:pt x="566" y="144"/>
                        </a:lnTo>
                        <a:lnTo>
                          <a:pt x="579" y="106"/>
                        </a:lnTo>
                        <a:lnTo>
                          <a:pt x="591" y="70"/>
                        </a:lnTo>
                        <a:lnTo>
                          <a:pt x="604" y="34"/>
                        </a:lnTo>
                        <a:lnTo>
                          <a:pt x="580" y="32"/>
                        </a:lnTo>
                        <a:lnTo>
                          <a:pt x="557" y="30"/>
                        </a:lnTo>
                        <a:lnTo>
                          <a:pt x="533" y="28"/>
                        </a:lnTo>
                        <a:lnTo>
                          <a:pt x="509" y="26"/>
                        </a:lnTo>
                        <a:lnTo>
                          <a:pt x="485" y="24"/>
                        </a:lnTo>
                        <a:lnTo>
                          <a:pt x="462" y="22"/>
                        </a:lnTo>
                        <a:lnTo>
                          <a:pt x="438" y="20"/>
                        </a:lnTo>
                        <a:lnTo>
                          <a:pt x="415" y="17"/>
                        </a:lnTo>
                        <a:lnTo>
                          <a:pt x="390" y="14"/>
                        </a:lnTo>
                        <a:lnTo>
                          <a:pt x="366" y="12"/>
                        </a:lnTo>
                        <a:lnTo>
                          <a:pt x="343" y="10"/>
                        </a:lnTo>
                        <a:lnTo>
                          <a:pt x="319" y="8"/>
                        </a:lnTo>
                        <a:lnTo>
                          <a:pt x="295" y="6"/>
                        </a:lnTo>
                        <a:lnTo>
                          <a:pt x="271" y="4"/>
                        </a:lnTo>
                        <a:lnTo>
                          <a:pt x="248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137760" y="5440320"/>
                    <a:ext cx="1252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613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2" y="579"/>
                        </a:lnTo>
                        <a:lnTo>
                          <a:pt x="44" y="581"/>
                        </a:lnTo>
                        <a:lnTo>
                          <a:pt x="66" y="583"/>
                        </a:lnTo>
                        <a:lnTo>
                          <a:pt x="89" y="585"/>
                        </a:lnTo>
                        <a:lnTo>
                          <a:pt x="111" y="588"/>
                        </a:lnTo>
                        <a:lnTo>
                          <a:pt x="133" y="590"/>
                        </a:lnTo>
                        <a:lnTo>
                          <a:pt x="155" y="592"/>
                        </a:lnTo>
                        <a:lnTo>
                          <a:pt x="177" y="594"/>
                        </a:lnTo>
                        <a:lnTo>
                          <a:pt x="200" y="597"/>
                        </a:lnTo>
                        <a:lnTo>
                          <a:pt x="222" y="600"/>
                        </a:lnTo>
                        <a:lnTo>
                          <a:pt x="244" y="602"/>
                        </a:lnTo>
                        <a:lnTo>
                          <a:pt x="266" y="604"/>
                        </a:lnTo>
                        <a:lnTo>
                          <a:pt x="288" y="606"/>
                        </a:lnTo>
                        <a:lnTo>
                          <a:pt x="311" y="609"/>
                        </a:lnTo>
                        <a:lnTo>
                          <a:pt x="333" y="611"/>
                        </a:lnTo>
                        <a:lnTo>
                          <a:pt x="355" y="613"/>
                        </a:lnTo>
                        <a:lnTo>
                          <a:pt x="367" y="576"/>
                        </a:lnTo>
                        <a:lnTo>
                          <a:pt x="380" y="540"/>
                        </a:lnTo>
                        <a:lnTo>
                          <a:pt x="392" y="504"/>
                        </a:lnTo>
                        <a:lnTo>
                          <a:pt x="405" y="467"/>
                        </a:lnTo>
                        <a:lnTo>
                          <a:pt x="418" y="431"/>
                        </a:lnTo>
                        <a:lnTo>
                          <a:pt x="431" y="394"/>
                        </a:lnTo>
                        <a:lnTo>
                          <a:pt x="443" y="358"/>
                        </a:lnTo>
                        <a:lnTo>
                          <a:pt x="456" y="322"/>
                        </a:lnTo>
                        <a:lnTo>
                          <a:pt x="468" y="285"/>
                        </a:lnTo>
                        <a:lnTo>
                          <a:pt x="481" y="249"/>
                        </a:lnTo>
                        <a:lnTo>
                          <a:pt x="493" y="213"/>
                        </a:lnTo>
                        <a:lnTo>
                          <a:pt x="506" y="176"/>
                        </a:lnTo>
                        <a:lnTo>
                          <a:pt x="518" y="140"/>
                        </a:lnTo>
                        <a:lnTo>
                          <a:pt x="532" y="103"/>
                        </a:lnTo>
                        <a:lnTo>
                          <a:pt x="544" y="67"/>
                        </a:lnTo>
                        <a:lnTo>
                          <a:pt x="557" y="31"/>
                        </a:lnTo>
                        <a:lnTo>
                          <a:pt x="537" y="29"/>
                        </a:lnTo>
                        <a:lnTo>
                          <a:pt x="515" y="27"/>
                        </a:lnTo>
                        <a:lnTo>
                          <a:pt x="494" y="25"/>
                        </a:lnTo>
                        <a:lnTo>
                          <a:pt x="474" y="23"/>
                        </a:lnTo>
                        <a:lnTo>
                          <a:pt x="453" y="22"/>
                        </a:lnTo>
                        <a:lnTo>
                          <a:pt x="433" y="20"/>
                        </a:lnTo>
                        <a:lnTo>
                          <a:pt x="411" y="18"/>
                        </a:lnTo>
                        <a:lnTo>
                          <a:pt x="390" y="16"/>
                        </a:lnTo>
                        <a:lnTo>
                          <a:pt x="370" y="13"/>
                        </a:lnTo>
                        <a:lnTo>
                          <a:pt x="349" y="11"/>
                        </a:lnTo>
                        <a:lnTo>
                          <a:pt x="328" y="9"/>
                        </a:lnTo>
                        <a:lnTo>
                          <a:pt x="308" y="7"/>
                        </a:lnTo>
                        <a:lnTo>
                          <a:pt x="286" y="6"/>
                        </a:lnTo>
                        <a:lnTo>
                          <a:pt x="265" y="4"/>
                        </a:lnTo>
                        <a:lnTo>
                          <a:pt x="245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137760" y="5440320"/>
                    <a:ext cx="1155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606">
                        <a:moveTo>
                          <a:pt x="225" y="0"/>
                        </a:moveTo>
                        <a:lnTo>
                          <a:pt x="211" y="37"/>
                        </a:lnTo>
                        <a:lnTo>
                          <a:pt x="197" y="72"/>
                        </a:lnTo>
                        <a:lnTo>
                          <a:pt x="182" y="108"/>
                        </a:lnTo>
                        <a:lnTo>
                          <a:pt x="168" y="145"/>
                        </a:lnTo>
                        <a:lnTo>
                          <a:pt x="155" y="180"/>
                        </a:lnTo>
                        <a:lnTo>
                          <a:pt x="141" y="217"/>
                        </a:lnTo>
                        <a:lnTo>
                          <a:pt x="127" y="253"/>
                        </a:lnTo>
                        <a:lnTo>
                          <a:pt x="113" y="288"/>
                        </a:lnTo>
                        <a:lnTo>
                          <a:pt x="99" y="325"/>
                        </a:lnTo>
                        <a:lnTo>
                          <a:pt x="85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19" y="579"/>
                        </a:lnTo>
                        <a:lnTo>
                          <a:pt x="38" y="580"/>
                        </a:lnTo>
                        <a:lnTo>
                          <a:pt x="57" y="582"/>
                        </a:lnTo>
                        <a:lnTo>
                          <a:pt x="77" y="584"/>
                        </a:lnTo>
                        <a:lnTo>
                          <a:pt x="97" y="586"/>
                        </a:lnTo>
                        <a:lnTo>
                          <a:pt x="116" y="587"/>
                        </a:lnTo>
                        <a:lnTo>
                          <a:pt x="135" y="589"/>
                        </a:lnTo>
                        <a:lnTo>
                          <a:pt x="154" y="591"/>
                        </a:lnTo>
                        <a:lnTo>
                          <a:pt x="173" y="593"/>
                        </a:lnTo>
                        <a:lnTo>
                          <a:pt x="193" y="596"/>
                        </a:lnTo>
                        <a:lnTo>
                          <a:pt x="212" y="597"/>
                        </a:lnTo>
                        <a:lnTo>
                          <a:pt x="232" y="599"/>
                        </a:lnTo>
                        <a:lnTo>
                          <a:pt x="251" y="601"/>
                        </a:lnTo>
                        <a:lnTo>
                          <a:pt x="270" y="603"/>
                        </a:lnTo>
                        <a:lnTo>
                          <a:pt x="289" y="604"/>
                        </a:lnTo>
                        <a:lnTo>
                          <a:pt x="309" y="606"/>
                        </a:lnTo>
                        <a:lnTo>
                          <a:pt x="321" y="569"/>
                        </a:lnTo>
                        <a:lnTo>
                          <a:pt x="334" y="533"/>
                        </a:lnTo>
                        <a:lnTo>
                          <a:pt x="346" y="497"/>
                        </a:lnTo>
                        <a:lnTo>
                          <a:pt x="359" y="461"/>
                        </a:lnTo>
                        <a:lnTo>
                          <a:pt x="371" y="425"/>
                        </a:lnTo>
                        <a:lnTo>
                          <a:pt x="384" y="388"/>
                        </a:lnTo>
                        <a:lnTo>
                          <a:pt x="396" y="352"/>
                        </a:lnTo>
                        <a:lnTo>
                          <a:pt x="409" y="316"/>
                        </a:lnTo>
                        <a:lnTo>
                          <a:pt x="422" y="280"/>
                        </a:lnTo>
                        <a:lnTo>
                          <a:pt x="435" y="244"/>
                        </a:lnTo>
                        <a:lnTo>
                          <a:pt x="447" y="207"/>
                        </a:lnTo>
                        <a:lnTo>
                          <a:pt x="460" y="171"/>
                        </a:lnTo>
                        <a:lnTo>
                          <a:pt x="472" y="135"/>
                        </a:lnTo>
                        <a:lnTo>
                          <a:pt x="485" y="99"/>
                        </a:lnTo>
                        <a:lnTo>
                          <a:pt x="497" y="63"/>
                        </a:lnTo>
                        <a:lnTo>
                          <a:pt x="510" y="27"/>
                        </a:lnTo>
                        <a:lnTo>
                          <a:pt x="492" y="25"/>
                        </a:lnTo>
                        <a:lnTo>
                          <a:pt x="475" y="24"/>
                        </a:lnTo>
                        <a:lnTo>
                          <a:pt x="457" y="22"/>
                        </a:lnTo>
                        <a:lnTo>
                          <a:pt x="439" y="20"/>
                        </a:lnTo>
                        <a:lnTo>
                          <a:pt x="422" y="19"/>
                        </a:lnTo>
                        <a:lnTo>
                          <a:pt x="403" y="17"/>
                        </a:lnTo>
                        <a:lnTo>
                          <a:pt x="385" y="16"/>
                        </a:lnTo>
                        <a:lnTo>
                          <a:pt x="368" y="13"/>
                        </a:lnTo>
                        <a:lnTo>
                          <a:pt x="350" y="11"/>
                        </a:lnTo>
                        <a:lnTo>
                          <a:pt x="332" y="10"/>
                        </a:lnTo>
                        <a:lnTo>
                          <a:pt x="314" y="8"/>
                        </a:lnTo>
                        <a:lnTo>
                          <a:pt x="296" y="7"/>
                        </a:lnTo>
                        <a:lnTo>
                          <a:pt x="278" y="5"/>
                        </a:lnTo>
                        <a:lnTo>
                          <a:pt x="260" y="3"/>
                        </a:lnTo>
                        <a:lnTo>
                          <a:pt x="243" y="2"/>
                        </a:lnTo>
                        <a:lnTo>
                          <a:pt x="22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3137760" y="5440320"/>
                    <a:ext cx="10440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600">
                        <a:moveTo>
                          <a:pt x="225" y="0"/>
                        </a:moveTo>
                        <a:lnTo>
                          <a:pt x="211" y="37"/>
                        </a:lnTo>
                        <a:lnTo>
                          <a:pt x="197" y="72"/>
                        </a:lnTo>
                        <a:lnTo>
                          <a:pt x="182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3" y="288"/>
                        </a:lnTo>
                        <a:lnTo>
                          <a:pt x="99" y="325"/>
                        </a:lnTo>
                        <a:lnTo>
                          <a:pt x="85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16" y="578"/>
                        </a:lnTo>
                        <a:lnTo>
                          <a:pt x="32" y="580"/>
                        </a:lnTo>
                        <a:lnTo>
                          <a:pt x="48" y="581"/>
                        </a:lnTo>
                        <a:lnTo>
                          <a:pt x="65" y="582"/>
                        </a:lnTo>
                        <a:lnTo>
                          <a:pt x="82" y="584"/>
                        </a:lnTo>
                        <a:lnTo>
                          <a:pt x="98" y="585"/>
                        </a:lnTo>
                        <a:lnTo>
                          <a:pt x="114" y="586"/>
                        </a:lnTo>
                        <a:lnTo>
                          <a:pt x="130" y="588"/>
                        </a:lnTo>
                        <a:lnTo>
                          <a:pt x="146" y="589"/>
                        </a:lnTo>
                        <a:lnTo>
                          <a:pt x="162" y="590"/>
                        </a:lnTo>
                        <a:lnTo>
                          <a:pt x="178" y="592"/>
                        </a:lnTo>
                        <a:lnTo>
                          <a:pt x="196" y="593"/>
                        </a:lnTo>
                        <a:lnTo>
                          <a:pt x="212" y="596"/>
                        </a:lnTo>
                        <a:lnTo>
                          <a:pt x="228" y="597"/>
                        </a:lnTo>
                        <a:lnTo>
                          <a:pt x="244" y="599"/>
                        </a:lnTo>
                        <a:lnTo>
                          <a:pt x="260" y="600"/>
                        </a:lnTo>
                        <a:lnTo>
                          <a:pt x="273" y="563"/>
                        </a:lnTo>
                        <a:lnTo>
                          <a:pt x="285" y="528"/>
                        </a:lnTo>
                        <a:lnTo>
                          <a:pt x="298" y="491"/>
                        </a:lnTo>
                        <a:lnTo>
                          <a:pt x="311" y="455"/>
                        </a:lnTo>
                        <a:lnTo>
                          <a:pt x="324" y="420"/>
                        </a:lnTo>
                        <a:lnTo>
                          <a:pt x="336" y="383"/>
                        </a:lnTo>
                        <a:lnTo>
                          <a:pt x="349" y="347"/>
                        </a:lnTo>
                        <a:lnTo>
                          <a:pt x="362" y="311"/>
                        </a:lnTo>
                        <a:lnTo>
                          <a:pt x="374" y="275"/>
                        </a:lnTo>
                        <a:lnTo>
                          <a:pt x="387" y="239"/>
                        </a:lnTo>
                        <a:lnTo>
                          <a:pt x="399" y="202"/>
                        </a:lnTo>
                        <a:lnTo>
                          <a:pt x="412" y="167"/>
                        </a:lnTo>
                        <a:lnTo>
                          <a:pt x="425" y="131"/>
                        </a:lnTo>
                        <a:lnTo>
                          <a:pt x="438" y="94"/>
                        </a:lnTo>
                        <a:lnTo>
                          <a:pt x="450" y="59"/>
                        </a:lnTo>
                        <a:lnTo>
                          <a:pt x="463" y="23"/>
                        </a:lnTo>
                        <a:lnTo>
                          <a:pt x="448" y="22"/>
                        </a:lnTo>
                        <a:lnTo>
                          <a:pt x="434" y="20"/>
                        </a:lnTo>
                        <a:lnTo>
                          <a:pt x="419" y="19"/>
                        </a:lnTo>
                        <a:lnTo>
                          <a:pt x="403" y="18"/>
                        </a:lnTo>
                        <a:lnTo>
                          <a:pt x="389" y="16"/>
                        </a:lnTo>
                        <a:lnTo>
                          <a:pt x="374" y="14"/>
                        </a:lnTo>
                        <a:lnTo>
                          <a:pt x="359" y="13"/>
                        </a:lnTo>
                        <a:lnTo>
                          <a:pt x="344" y="11"/>
                        </a:lnTo>
                        <a:lnTo>
                          <a:pt x="330" y="10"/>
                        </a:lnTo>
                        <a:lnTo>
                          <a:pt x="315" y="9"/>
                        </a:lnTo>
                        <a:lnTo>
                          <a:pt x="299" y="7"/>
                        </a:lnTo>
                        <a:lnTo>
                          <a:pt x="284" y="6"/>
                        </a:lnTo>
                        <a:lnTo>
                          <a:pt x="269" y="4"/>
                        </a:lnTo>
                        <a:lnTo>
                          <a:pt x="255" y="3"/>
                        </a:lnTo>
                        <a:lnTo>
                          <a:pt x="240" y="1"/>
                        </a:lnTo>
                        <a:lnTo>
                          <a:pt x="22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3137760" y="5440320"/>
                    <a:ext cx="936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592">
                        <a:moveTo>
                          <a:pt x="226" y="0"/>
                        </a:moveTo>
                        <a:lnTo>
                          <a:pt x="0" y="577"/>
                        </a:lnTo>
                        <a:lnTo>
                          <a:pt x="214" y="592"/>
                        </a:lnTo>
                        <a:lnTo>
                          <a:pt x="417" y="19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3006000" y="5677200"/>
                    <a:ext cx="2728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1" h="303">
                        <a:moveTo>
                          <a:pt x="0" y="111"/>
                        </a:moveTo>
                        <a:lnTo>
                          <a:pt x="187" y="0"/>
                        </a:lnTo>
                        <a:lnTo>
                          <a:pt x="237" y="9"/>
                        </a:lnTo>
                        <a:lnTo>
                          <a:pt x="259" y="27"/>
                        </a:lnTo>
                        <a:lnTo>
                          <a:pt x="648" y="86"/>
                        </a:lnTo>
                        <a:lnTo>
                          <a:pt x="698" y="67"/>
                        </a:lnTo>
                        <a:lnTo>
                          <a:pt x="1074" y="125"/>
                        </a:lnTo>
                        <a:lnTo>
                          <a:pt x="1120" y="123"/>
                        </a:lnTo>
                        <a:lnTo>
                          <a:pt x="1195" y="100"/>
                        </a:lnTo>
                        <a:lnTo>
                          <a:pt x="1201" y="194"/>
                        </a:lnTo>
                        <a:lnTo>
                          <a:pt x="1164" y="237"/>
                        </a:lnTo>
                        <a:lnTo>
                          <a:pt x="1160" y="277"/>
                        </a:lnTo>
                        <a:lnTo>
                          <a:pt x="1121" y="303"/>
                        </a:lnTo>
                        <a:lnTo>
                          <a:pt x="720" y="242"/>
                        </a:lnTo>
                        <a:lnTo>
                          <a:pt x="729" y="210"/>
                        </a:lnTo>
                        <a:lnTo>
                          <a:pt x="277" y="136"/>
                        </a:lnTo>
                        <a:lnTo>
                          <a:pt x="215" y="154"/>
                        </a:lnTo>
                        <a:lnTo>
                          <a:pt x="59" y="116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c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3152160" y="5585040"/>
                    <a:ext cx="141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114">
                        <a:moveTo>
                          <a:pt x="19" y="22"/>
                        </a:moveTo>
                        <a:lnTo>
                          <a:pt x="50" y="0"/>
                        </a:lnTo>
                        <a:lnTo>
                          <a:pt x="623" y="68"/>
                        </a:lnTo>
                        <a:lnTo>
                          <a:pt x="601" y="114"/>
                        </a:lnTo>
                        <a:lnTo>
                          <a:pt x="0" y="36"/>
                        </a:lnTo>
                        <a:lnTo>
                          <a:pt x="19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288600" y="5608800"/>
                    <a:ext cx="60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78">
                        <a:moveTo>
                          <a:pt x="10" y="2"/>
                        </a:moveTo>
                        <a:lnTo>
                          <a:pt x="157" y="7"/>
                        </a:lnTo>
                        <a:lnTo>
                          <a:pt x="169" y="0"/>
                        </a:lnTo>
                        <a:lnTo>
                          <a:pt x="265" y="14"/>
                        </a:lnTo>
                        <a:lnTo>
                          <a:pt x="240" y="78"/>
                        </a:lnTo>
                        <a:lnTo>
                          <a:pt x="0" y="52"/>
                        </a:lnTo>
                        <a:lnTo>
                          <a:pt x="0" y="25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106080" y="5580360"/>
                    <a:ext cx="47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94">
                        <a:moveTo>
                          <a:pt x="19" y="0"/>
                        </a:moveTo>
                        <a:lnTo>
                          <a:pt x="98" y="10"/>
                        </a:lnTo>
                        <a:lnTo>
                          <a:pt x="98" y="36"/>
                        </a:lnTo>
                        <a:lnTo>
                          <a:pt x="210" y="52"/>
                        </a:lnTo>
                        <a:lnTo>
                          <a:pt x="197" y="94"/>
                        </a:lnTo>
                        <a:lnTo>
                          <a:pt x="0" y="62"/>
                        </a:lnTo>
                        <a:lnTo>
                          <a:pt x="3" y="3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3288600" y="5610240"/>
                    <a:ext cx="345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58">
                        <a:moveTo>
                          <a:pt x="17" y="0"/>
                        </a:moveTo>
                        <a:lnTo>
                          <a:pt x="149" y="16"/>
                        </a:lnTo>
                        <a:lnTo>
                          <a:pt x="140" y="27"/>
                        </a:lnTo>
                        <a:lnTo>
                          <a:pt x="135" y="42"/>
                        </a:lnTo>
                        <a:lnTo>
                          <a:pt x="132" y="58"/>
                        </a:lnTo>
                        <a:lnTo>
                          <a:pt x="0" y="40"/>
                        </a:lnTo>
                        <a:lnTo>
                          <a:pt x="1" y="24"/>
                        </a:lnTo>
                        <a:lnTo>
                          <a:pt x="4" y="1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3123720" y="5588280"/>
                    <a:ext cx="266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43">
                        <a:moveTo>
                          <a:pt x="115" y="10"/>
                        </a:moveTo>
                        <a:lnTo>
                          <a:pt x="13" y="0"/>
                        </a:lnTo>
                        <a:lnTo>
                          <a:pt x="13" y="10"/>
                        </a:lnTo>
                        <a:lnTo>
                          <a:pt x="8" y="21"/>
                        </a:lnTo>
                        <a:lnTo>
                          <a:pt x="0" y="34"/>
                        </a:lnTo>
                        <a:lnTo>
                          <a:pt x="103" y="43"/>
                        </a:lnTo>
                        <a:lnTo>
                          <a:pt x="112" y="30"/>
                        </a:lnTo>
                        <a:lnTo>
                          <a:pt x="118" y="20"/>
                        </a:lnTo>
                        <a:lnTo>
                          <a:pt x="115" y="1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288600" y="5613480"/>
                    <a:ext cx="33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7">
                        <a:moveTo>
                          <a:pt x="7" y="0"/>
                        </a:moveTo>
                        <a:lnTo>
                          <a:pt x="143" y="11"/>
                        </a:lnTo>
                        <a:lnTo>
                          <a:pt x="138" y="25"/>
                        </a:lnTo>
                        <a:lnTo>
                          <a:pt x="134" y="37"/>
                        </a:lnTo>
                        <a:lnTo>
                          <a:pt x="0" y="21"/>
                        </a:lnTo>
                        <a:lnTo>
                          <a:pt x="2" y="9"/>
                        </a:ln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3125160" y="5589720"/>
                    <a:ext cx="25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2">
                        <a:moveTo>
                          <a:pt x="111" y="15"/>
                        </a:moveTo>
                        <a:lnTo>
                          <a:pt x="9" y="0"/>
                        </a:lnTo>
                        <a:lnTo>
                          <a:pt x="5" y="12"/>
                        </a:lnTo>
                        <a:lnTo>
                          <a:pt x="0" y="21"/>
                        </a:lnTo>
                        <a:lnTo>
                          <a:pt x="102" y="32"/>
                        </a:lnTo>
                        <a:lnTo>
                          <a:pt x="109" y="23"/>
                        </a:lnTo>
                        <a:lnTo>
                          <a:pt x="109" y="22"/>
                        </a:lnTo>
                        <a:lnTo>
                          <a:pt x="110" y="19"/>
                        </a:lnTo>
                        <a:lnTo>
                          <a:pt x="110" y="16"/>
                        </a:lnTo>
                        <a:lnTo>
                          <a:pt x="111" y="15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290400" y="5615280"/>
                    <a:ext cx="29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1">
                        <a:moveTo>
                          <a:pt x="136" y="14"/>
                        </a:moveTo>
                        <a:lnTo>
                          <a:pt x="133" y="21"/>
                        </a:ln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136" y="14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3126960" y="5591160"/>
                    <a:ext cx="21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8">
                        <a:moveTo>
                          <a:pt x="2" y="0"/>
                        </a:moveTo>
                        <a:lnTo>
                          <a:pt x="0" y="5"/>
                        </a:lnTo>
                        <a:lnTo>
                          <a:pt x="100" y="18"/>
                        </a:lnTo>
                        <a:lnTo>
                          <a:pt x="103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3323520" y="5613480"/>
                    <a:ext cx="21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52">
                        <a:moveTo>
                          <a:pt x="15" y="0"/>
                        </a:moveTo>
                        <a:lnTo>
                          <a:pt x="101" y="12"/>
                        </a:lnTo>
                        <a:lnTo>
                          <a:pt x="90" y="24"/>
                        </a:lnTo>
                        <a:lnTo>
                          <a:pt x="81" y="52"/>
                        </a:lnTo>
                        <a:lnTo>
                          <a:pt x="0" y="40"/>
                        </a:lnTo>
                        <a:lnTo>
                          <a:pt x="3" y="29"/>
                        </a:lnTo>
                        <a:lnTo>
                          <a:pt x="5" y="1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3107880" y="5585040"/>
                    <a:ext cx="16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8">
                        <a:moveTo>
                          <a:pt x="76" y="6"/>
                        </a:moveTo>
                        <a:lnTo>
                          <a:pt x="10" y="0"/>
                        </a:lnTo>
                        <a:lnTo>
                          <a:pt x="11" y="11"/>
                        </a:lnTo>
                        <a:lnTo>
                          <a:pt x="0" y="33"/>
                        </a:lnTo>
                        <a:lnTo>
                          <a:pt x="64" y="38"/>
                        </a:lnTo>
                        <a:lnTo>
                          <a:pt x="69" y="29"/>
                        </a:lnTo>
                        <a:lnTo>
                          <a:pt x="75" y="17"/>
                        </a:lnTo>
                        <a:lnTo>
                          <a:pt x="76" y="6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3323520" y="5615280"/>
                    <a:ext cx="20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6">
                        <a:moveTo>
                          <a:pt x="87" y="9"/>
                        </a:moveTo>
                        <a:lnTo>
                          <a:pt x="81" y="22"/>
                        </a:lnTo>
                        <a:lnTo>
                          <a:pt x="78" y="36"/>
                        </a:lnTo>
                        <a:lnTo>
                          <a:pt x="0" y="25"/>
                        </a:lnTo>
                        <a:lnTo>
                          <a:pt x="1" y="10"/>
                        </a:lnTo>
                        <a:lnTo>
                          <a:pt x="9" y="0"/>
                        </a:lnTo>
                        <a:lnTo>
                          <a:pt x="87" y="9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3107880" y="5586480"/>
                    <a:ext cx="15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5">
                        <a:moveTo>
                          <a:pt x="10" y="0"/>
                        </a:moveTo>
                        <a:lnTo>
                          <a:pt x="7" y="10"/>
                        </a:lnTo>
                        <a:lnTo>
                          <a:pt x="0" y="21"/>
                        </a:lnTo>
                        <a:lnTo>
                          <a:pt x="62" y="25"/>
                        </a:lnTo>
                        <a:lnTo>
                          <a:pt x="68" y="15"/>
                        </a:lnTo>
                        <a:lnTo>
                          <a:pt x="69" y="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3323520" y="5616720"/>
                    <a:ext cx="18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8">
                        <a:moveTo>
                          <a:pt x="4" y="0"/>
                        </a:moveTo>
                        <a:lnTo>
                          <a:pt x="81" y="11"/>
                        </a:lnTo>
                        <a:lnTo>
                          <a:pt x="79" y="18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09320" y="55882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3">
                        <a:moveTo>
                          <a:pt x="62" y="5"/>
                        </a:moveTo>
                        <a:lnTo>
                          <a:pt x="3" y="0"/>
                        </a:lnTo>
                        <a:lnTo>
                          <a:pt x="0" y="6"/>
                        </a:lnTo>
                        <a:lnTo>
                          <a:pt x="59" y="13"/>
                        </a:lnTo>
                        <a:lnTo>
                          <a:pt x="62" y="5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236400" y="565308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255480" y="5656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269520" y="56581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3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218760" y="56516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201480" y="5650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185640" y="564696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088800" y="56311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4" y="0"/>
                        </a:lnTo>
                        <a:lnTo>
                          <a:pt x="40" y="13"/>
                        </a:lnTo>
                        <a:lnTo>
                          <a:pt x="12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088800" y="56214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3" y="0"/>
                        </a:lnTo>
                        <a:lnTo>
                          <a:pt x="40" y="12"/>
                        </a:lnTo>
                        <a:lnTo>
                          <a:pt x="12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3072960" y="5629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3" y="0"/>
                        </a:lnTo>
                        <a:lnTo>
                          <a:pt x="41" y="13"/>
                        </a:lnTo>
                        <a:lnTo>
                          <a:pt x="11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72960" y="56181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7"/>
                        </a:moveTo>
                        <a:lnTo>
                          <a:pt x="24" y="0"/>
                        </a:lnTo>
                        <a:lnTo>
                          <a:pt x="41" y="14"/>
                        </a:lnTo>
                        <a:lnTo>
                          <a:pt x="12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312360" y="56358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6"/>
                        </a:moveTo>
                        <a:lnTo>
                          <a:pt x="23" y="0"/>
                        </a:lnTo>
                        <a:lnTo>
                          <a:pt x="40" y="13"/>
                        </a:lnTo>
                        <a:lnTo>
                          <a:pt x="11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301560" y="5632560"/>
                    <a:ext cx="7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2" y="0"/>
                        </a:lnTo>
                        <a:lnTo>
                          <a:pt x="40" y="12"/>
                        </a:lnTo>
                        <a:lnTo>
                          <a:pt x="11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058560" y="56278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4" y="0"/>
                        </a:lnTo>
                        <a:lnTo>
                          <a:pt x="41" y="13"/>
                        </a:lnTo>
                        <a:lnTo>
                          <a:pt x="12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225240" y="5656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244320" y="56581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2">
                        <a:moveTo>
                          <a:pt x="10" y="0"/>
                        </a:moveTo>
                        <a:lnTo>
                          <a:pt x="53" y="4"/>
                        </a:lnTo>
                        <a:lnTo>
                          <a:pt x="56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258720" y="5661000"/>
                    <a:ext cx="13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207600" y="5653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190320" y="56516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174480" y="5650200"/>
                    <a:ext cx="12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3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079080" y="5634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7" y="0"/>
                        </a:moveTo>
                        <a:lnTo>
                          <a:pt x="49" y="3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6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77640" y="56232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7" y="0"/>
                        </a:moveTo>
                        <a:lnTo>
                          <a:pt x="49" y="4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63240" y="56311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6" y="0"/>
                        </a:moveTo>
                        <a:lnTo>
                          <a:pt x="48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63240" y="56214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6" y="0"/>
                        </a:moveTo>
                        <a:lnTo>
                          <a:pt x="48" y="3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301560" y="5639040"/>
                    <a:ext cx="13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6" y="0"/>
                        </a:moveTo>
                        <a:lnTo>
                          <a:pt x="49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1" y="13"/>
                        </a:lnTo>
                        <a:lnTo>
                          <a:pt x="3" y="8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290400" y="56358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6" y="0"/>
                        </a:moveTo>
                        <a:lnTo>
                          <a:pt x="48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047400" y="5629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6" y="0"/>
                        </a:moveTo>
                        <a:lnTo>
                          <a:pt x="49" y="4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228480" y="5653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245760" y="56563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261600" y="5658120"/>
                    <a:ext cx="154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210840" y="56516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193560" y="565020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177720" y="564696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080880" y="563256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3080880" y="562140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065040" y="562932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">
                        <a:moveTo>
                          <a:pt x="0" y="11"/>
                        </a:moveTo>
                        <a:lnTo>
                          <a:pt x="17" y="0"/>
                        </a:lnTo>
                        <a:lnTo>
                          <a:pt x="60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65040" y="561996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304440" y="56372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291840" y="56340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48840" y="56278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96720" y="5637240"/>
                    <a:ext cx="74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61">
                        <a:moveTo>
                          <a:pt x="0" y="14"/>
                        </a:moveTo>
                        <a:lnTo>
                          <a:pt x="15" y="0"/>
                        </a:lnTo>
                        <a:lnTo>
                          <a:pt x="328" y="44"/>
                        </a:lnTo>
                        <a:lnTo>
                          <a:pt x="330" y="61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99960" y="5635800"/>
                    <a:ext cx="74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52">
                        <a:moveTo>
                          <a:pt x="0" y="8"/>
                        </a:moveTo>
                        <a:lnTo>
                          <a:pt x="19" y="0"/>
                        </a:lnTo>
                        <a:lnTo>
                          <a:pt x="331" y="44"/>
                        </a:lnTo>
                        <a:lnTo>
                          <a:pt x="312" y="5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71240" y="564516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3">
                        <a:moveTo>
                          <a:pt x="2" y="33"/>
                        </a:moveTo>
                        <a:lnTo>
                          <a:pt x="36" y="11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2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58640" y="5591160"/>
                    <a:ext cx="1234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108">
                        <a:moveTo>
                          <a:pt x="0" y="36"/>
                        </a:moveTo>
                        <a:lnTo>
                          <a:pt x="29" y="0"/>
                        </a:lnTo>
                        <a:lnTo>
                          <a:pt x="546" y="66"/>
                        </a:lnTo>
                        <a:lnTo>
                          <a:pt x="528" y="108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006000" y="5677200"/>
                    <a:ext cx="1346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180">
                        <a:moveTo>
                          <a:pt x="187" y="0"/>
                        </a:moveTo>
                        <a:lnTo>
                          <a:pt x="246" y="0"/>
                        </a:lnTo>
                        <a:lnTo>
                          <a:pt x="256" y="25"/>
                        </a:lnTo>
                        <a:lnTo>
                          <a:pt x="592" y="80"/>
                        </a:lnTo>
                        <a:lnTo>
                          <a:pt x="592" y="180"/>
                        </a:lnTo>
                        <a:lnTo>
                          <a:pt x="290" y="136"/>
                        </a:lnTo>
                        <a:lnTo>
                          <a:pt x="236" y="155"/>
                        </a:lnTo>
                        <a:lnTo>
                          <a:pt x="0" y="115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0c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006000" y="5677200"/>
                    <a:ext cx="1299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2" h="174">
                        <a:moveTo>
                          <a:pt x="188" y="0"/>
                        </a:moveTo>
                        <a:lnTo>
                          <a:pt x="195" y="0"/>
                        </a:lnTo>
                        <a:lnTo>
                          <a:pt x="202" y="1"/>
                        </a:lnTo>
                        <a:lnTo>
                          <a:pt x="211" y="1"/>
                        </a:lnTo>
                        <a:lnTo>
                          <a:pt x="218" y="1"/>
                        </a:lnTo>
                        <a:lnTo>
                          <a:pt x="225" y="1"/>
                        </a:lnTo>
                        <a:lnTo>
                          <a:pt x="233" y="1"/>
                        </a:lnTo>
                        <a:lnTo>
                          <a:pt x="240" y="1"/>
                        </a:lnTo>
                        <a:lnTo>
                          <a:pt x="247" y="1"/>
                        </a:lnTo>
                        <a:lnTo>
                          <a:pt x="250" y="7"/>
                        </a:lnTo>
                        <a:lnTo>
                          <a:pt x="252" y="13"/>
                        </a:lnTo>
                        <a:lnTo>
                          <a:pt x="255" y="19"/>
                        </a:lnTo>
                        <a:lnTo>
                          <a:pt x="257" y="25"/>
                        </a:lnTo>
                        <a:lnTo>
                          <a:pt x="277" y="28"/>
                        </a:lnTo>
                        <a:lnTo>
                          <a:pt x="296" y="31"/>
                        </a:lnTo>
                        <a:lnTo>
                          <a:pt x="316" y="36"/>
                        </a:lnTo>
                        <a:lnTo>
                          <a:pt x="336" y="39"/>
                        </a:lnTo>
                        <a:lnTo>
                          <a:pt x="356" y="42"/>
                        </a:lnTo>
                        <a:lnTo>
                          <a:pt x="375" y="45"/>
                        </a:lnTo>
                        <a:lnTo>
                          <a:pt x="395" y="49"/>
                        </a:lnTo>
                        <a:lnTo>
                          <a:pt x="414" y="52"/>
                        </a:lnTo>
                        <a:lnTo>
                          <a:pt x="435" y="55"/>
                        </a:lnTo>
                        <a:lnTo>
                          <a:pt x="454" y="59"/>
                        </a:lnTo>
                        <a:lnTo>
                          <a:pt x="474" y="62"/>
                        </a:lnTo>
                        <a:lnTo>
                          <a:pt x="493" y="65"/>
                        </a:lnTo>
                        <a:lnTo>
                          <a:pt x="513" y="68"/>
                        </a:lnTo>
                        <a:lnTo>
                          <a:pt x="532" y="72"/>
                        </a:lnTo>
                        <a:lnTo>
                          <a:pt x="553" y="75"/>
                        </a:lnTo>
                        <a:lnTo>
                          <a:pt x="572" y="78"/>
                        </a:lnTo>
                        <a:lnTo>
                          <a:pt x="572" y="102"/>
                        </a:lnTo>
                        <a:lnTo>
                          <a:pt x="572" y="126"/>
                        </a:lnTo>
                        <a:lnTo>
                          <a:pt x="572" y="151"/>
                        </a:lnTo>
                        <a:lnTo>
                          <a:pt x="572" y="174"/>
                        </a:lnTo>
                        <a:lnTo>
                          <a:pt x="554" y="172"/>
                        </a:lnTo>
                        <a:lnTo>
                          <a:pt x="536" y="169"/>
                        </a:lnTo>
                        <a:lnTo>
                          <a:pt x="518" y="167"/>
                        </a:lnTo>
                        <a:lnTo>
                          <a:pt x="501" y="164"/>
                        </a:lnTo>
                        <a:lnTo>
                          <a:pt x="483" y="162"/>
                        </a:lnTo>
                        <a:lnTo>
                          <a:pt x="465" y="159"/>
                        </a:lnTo>
                        <a:lnTo>
                          <a:pt x="448" y="157"/>
                        </a:lnTo>
                        <a:lnTo>
                          <a:pt x="429" y="154"/>
                        </a:lnTo>
                        <a:lnTo>
                          <a:pt x="412" y="152"/>
                        </a:lnTo>
                        <a:lnTo>
                          <a:pt x="394" y="150"/>
                        </a:lnTo>
                        <a:lnTo>
                          <a:pt x="376" y="147"/>
                        </a:lnTo>
                        <a:lnTo>
                          <a:pt x="359" y="145"/>
                        </a:lnTo>
                        <a:lnTo>
                          <a:pt x="341" y="142"/>
                        </a:lnTo>
                        <a:lnTo>
                          <a:pt x="324" y="140"/>
                        </a:lnTo>
                        <a:lnTo>
                          <a:pt x="305" y="137"/>
                        </a:lnTo>
                        <a:lnTo>
                          <a:pt x="288" y="135"/>
                        </a:lnTo>
                        <a:lnTo>
                          <a:pt x="282" y="137"/>
                        </a:lnTo>
                        <a:lnTo>
                          <a:pt x="275" y="140"/>
                        </a:lnTo>
                        <a:lnTo>
                          <a:pt x="269" y="142"/>
                        </a:lnTo>
                        <a:lnTo>
                          <a:pt x="263" y="144"/>
                        </a:lnTo>
                        <a:lnTo>
                          <a:pt x="256" y="147"/>
                        </a:lnTo>
                        <a:lnTo>
                          <a:pt x="250" y="149"/>
                        </a:lnTo>
                        <a:lnTo>
                          <a:pt x="243" y="152"/>
                        </a:lnTo>
                        <a:lnTo>
                          <a:pt x="237" y="154"/>
                        </a:lnTo>
                        <a:lnTo>
                          <a:pt x="222" y="152"/>
                        </a:lnTo>
                        <a:lnTo>
                          <a:pt x="207" y="149"/>
                        </a:lnTo>
                        <a:lnTo>
                          <a:pt x="192" y="147"/>
                        </a:lnTo>
                        <a:lnTo>
                          <a:pt x="177" y="144"/>
                        </a:lnTo>
                        <a:lnTo>
                          <a:pt x="163" y="142"/>
                        </a:lnTo>
                        <a:lnTo>
                          <a:pt x="148" y="140"/>
                        </a:lnTo>
                        <a:lnTo>
                          <a:pt x="133" y="137"/>
                        </a:lnTo>
                        <a:lnTo>
                          <a:pt x="119" y="135"/>
                        </a:lnTo>
                        <a:lnTo>
                          <a:pt x="104" y="133"/>
                        </a:lnTo>
                        <a:lnTo>
                          <a:pt x="88" y="130"/>
                        </a:lnTo>
                        <a:lnTo>
                          <a:pt x="73" y="127"/>
                        </a:lnTo>
                        <a:lnTo>
                          <a:pt x="59" y="125"/>
                        </a:lnTo>
                        <a:lnTo>
                          <a:pt x="44" y="122"/>
                        </a:lnTo>
                        <a:lnTo>
                          <a:pt x="29" y="120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3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8" y="79"/>
                        </a:lnTo>
                        <a:lnTo>
                          <a:pt x="70" y="72"/>
                        </a:lnTo>
                        <a:lnTo>
                          <a:pt x="81" y="65"/>
                        </a:lnTo>
                        <a:lnTo>
                          <a:pt x="93" y="58"/>
                        </a:lnTo>
                        <a:lnTo>
                          <a:pt x="106" y="51"/>
                        </a:lnTo>
                        <a:lnTo>
                          <a:pt x="117" y="44"/>
                        </a:lnTo>
                        <a:lnTo>
                          <a:pt x="129" y="37"/>
                        </a:lnTo>
                        <a:lnTo>
                          <a:pt x="141" y="28"/>
                        </a:lnTo>
                        <a:lnTo>
                          <a:pt x="153" y="21"/>
                        </a:lnTo>
                        <a:lnTo>
                          <a:pt x="164" y="14"/>
                        </a:lnTo>
                        <a:lnTo>
                          <a:pt x="176" y="7"/>
                        </a:lnTo>
                        <a:lnTo>
                          <a:pt x="188" y="0"/>
                        </a:lnTo>
                        <a:close/>
                      </a:path>
                    </a:pathLst>
                  </a:custGeom>
                  <a:solidFill>
                    <a:srgbClr val="0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006000" y="5677200"/>
                    <a:ext cx="12528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169">
                        <a:moveTo>
                          <a:pt x="189" y="0"/>
                        </a:moveTo>
                        <a:lnTo>
                          <a:pt x="196" y="0"/>
                        </a:lnTo>
                        <a:lnTo>
                          <a:pt x="203" y="1"/>
                        </a:lnTo>
                        <a:lnTo>
                          <a:pt x="212" y="1"/>
                        </a:lnTo>
                        <a:lnTo>
                          <a:pt x="219" y="1"/>
                        </a:lnTo>
                        <a:lnTo>
                          <a:pt x="226" y="1"/>
                        </a:lnTo>
                        <a:lnTo>
                          <a:pt x="234" y="1"/>
                        </a:lnTo>
                        <a:lnTo>
                          <a:pt x="241" y="2"/>
                        </a:lnTo>
                        <a:lnTo>
                          <a:pt x="248" y="2"/>
                        </a:lnTo>
                        <a:lnTo>
                          <a:pt x="251" y="7"/>
                        </a:lnTo>
                        <a:lnTo>
                          <a:pt x="253" y="13"/>
                        </a:lnTo>
                        <a:lnTo>
                          <a:pt x="256" y="19"/>
                        </a:lnTo>
                        <a:lnTo>
                          <a:pt x="258" y="25"/>
                        </a:lnTo>
                        <a:lnTo>
                          <a:pt x="276" y="28"/>
                        </a:lnTo>
                        <a:lnTo>
                          <a:pt x="294" y="31"/>
                        </a:lnTo>
                        <a:lnTo>
                          <a:pt x="313" y="35"/>
                        </a:lnTo>
                        <a:lnTo>
                          <a:pt x="332" y="39"/>
                        </a:lnTo>
                        <a:lnTo>
                          <a:pt x="350" y="42"/>
                        </a:lnTo>
                        <a:lnTo>
                          <a:pt x="368" y="45"/>
                        </a:lnTo>
                        <a:lnTo>
                          <a:pt x="386" y="48"/>
                        </a:lnTo>
                        <a:lnTo>
                          <a:pt x="405" y="51"/>
                        </a:lnTo>
                        <a:lnTo>
                          <a:pt x="423" y="54"/>
                        </a:lnTo>
                        <a:lnTo>
                          <a:pt x="442" y="57"/>
                        </a:lnTo>
                        <a:lnTo>
                          <a:pt x="460" y="60"/>
                        </a:lnTo>
                        <a:lnTo>
                          <a:pt x="478" y="63"/>
                        </a:lnTo>
                        <a:lnTo>
                          <a:pt x="496" y="67"/>
                        </a:lnTo>
                        <a:lnTo>
                          <a:pt x="515" y="70"/>
                        </a:lnTo>
                        <a:lnTo>
                          <a:pt x="533" y="73"/>
                        </a:lnTo>
                        <a:lnTo>
                          <a:pt x="552" y="76"/>
                        </a:lnTo>
                        <a:lnTo>
                          <a:pt x="552" y="99"/>
                        </a:lnTo>
                        <a:lnTo>
                          <a:pt x="552" y="122"/>
                        </a:lnTo>
                        <a:lnTo>
                          <a:pt x="552" y="146"/>
                        </a:lnTo>
                        <a:lnTo>
                          <a:pt x="552" y="169"/>
                        </a:lnTo>
                        <a:lnTo>
                          <a:pt x="535" y="167"/>
                        </a:lnTo>
                        <a:lnTo>
                          <a:pt x="518" y="164"/>
                        </a:lnTo>
                        <a:lnTo>
                          <a:pt x="502" y="162"/>
                        </a:lnTo>
                        <a:lnTo>
                          <a:pt x="485" y="160"/>
                        </a:lnTo>
                        <a:lnTo>
                          <a:pt x="469" y="158"/>
                        </a:lnTo>
                        <a:lnTo>
                          <a:pt x="452" y="155"/>
                        </a:lnTo>
                        <a:lnTo>
                          <a:pt x="436" y="153"/>
                        </a:lnTo>
                        <a:lnTo>
                          <a:pt x="418" y="151"/>
                        </a:lnTo>
                        <a:lnTo>
                          <a:pt x="402" y="149"/>
                        </a:lnTo>
                        <a:lnTo>
                          <a:pt x="385" y="146"/>
                        </a:lnTo>
                        <a:lnTo>
                          <a:pt x="369" y="144"/>
                        </a:lnTo>
                        <a:lnTo>
                          <a:pt x="352" y="142"/>
                        </a:lnTo>
                        <a:lnTo>
                          <a:pt x="336" y="140"/>
                        </a:lnTo>
                        <a:lnTo>
                          <a:pt x="318" y="137"/>
                        </a:lnTo>
                        <a:lnTo>
                          <a:pt x="302" y="135"/>
                        </a:lnTo>
                        <a:lnTo>
                          <a:pt x="285" y="133"/>
                        </a:lnTo>
                        <a:lnTo>
                          <a:pt x="279" y="136"/>
                        </a:lnTo>
                        <a:lnTo>
                          <a:pt x="274" y="138"/>
                        </a:lnTo>
                        <a:lnTo>
                          <a:pt x="268" y="141"/>
                        </a:lnTo>
                        <a:lnTo>
                          <a:pt x="262" y="143"/>
                        </a:lnTo>
                        <a:lnTo>
                          <a:pt x="256" y="146"/>
                        </a:lnTo>
                        <a:lnTo>
                          <a:pt x="250" y="148"/>
                        </a:lnTo>
                        <a:lnTo>
                          <a:pt x="244" y="151"/>
                        </a:lnTo>
                        <a:lnTo>
                          <a:pt x="238" y="153"/>
                        </a:lnTo>
                        <a:lnTo>
                          <a:pt x="223" y="151"/>
                        </a:lnTo>
                        <a:lnTo>
                          <a:pt x="208" y="148"/>
                        </a:lnTo>
                        <a:lnTo>
                          <a:pt x="193" y="146"/>
                        </a:lnTo>
                        <a:lnTo>
                          <a:pt x="178" y="144"/>
                        </a:lnTo>
                        <a:lnTo>
                          <a:pt x="164" y="142"/>
                        </a:lnTo>
                        <a:lnTo>
                          <a:pt x="149" y="139"/>
                        </a:lnTo>
                        <a:lnTo>
                          <a:pt x="134" y="137"/>
                        </a:lnTo>
                        <a:lnTo>
                          <a:pt x="119" y="134"/>
                        </a:lnTo>
                        <a:lnTo>
                          <a:pt x="105" y="132"/>
                        </a:lnTo>
                        <a:lnTo>
                          <a:pt x="89" y="130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4" y="122"/>
                        </a:lnTo>
                        <a:lnTo>
                          <a:pt x="30" y="120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3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8" y="79"/>
                        </a:lnTo>
                        <a:lnTo>
                          <a:pt x="70" y="72"/>
                        </a:lnTo>
                        <a:lnTo>
                          <a:pt x="82" y="65"/>
                        </a:lnTo>
                        <a:lnTo>
                          <a:pt x="94" y="58"/>
                        </a:lnTo>
                        <a:lnTo>
                          <a:pt x="106" y="51"/>
                        </a:lnTo>
                        <a:lnTo>
                          <a:pt x="118" y="44"/>
                        </a:lnTo>
                        <a:lnTo>
                          <a:pt x="130" y="37"/>
                        </a:lnTo>
                        <a:lnTo>
                          <a:pt x="142" y="28"/>
                        </a:lnTo>
                        <a:lnTo>
                          <a:pt x="154" y="21"/>
                        </a:lnTo>
                        <a:lnTo>
                          <a:pt x="165" y="14"/>
                        </a:lnTo>
                        <a:lnTo>
                          <a:pt x="177" y="7"/>
                        </a:lnTo>
                        <a:lnTo>
                          <a:pt x="189" y="0"/>
                        </a:lnTo>
                        <a:close/>
                      </a:path>
                    </a:pathLst>
                  </a:custGeom>
                  <a:solidFill>
                    <a:srgbClr val="111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006000" y="5677200"/>
                    <a:ext cx="120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163">
                        <a:moveTo>
                          <a:pt x="190" y="0"/>
                        </a:moveTo>
                        <a:lnTo>
                          <a:pt x="197" y="0"/>
                        </a:lnTo>
                        <a:lnTo>
                          <a:pt x="204" y="1"/>
                        </a:lnTo>
                        <a:lnTo>
                          <a:pt x="213" y="1"/>
                        </a:lnTo>
                        <a:lnTo>
                          <a:pt x="220" y="1"/>
                        </a:lnTo>
                        <a:lnTo>
                          <a:pt x="227" y="2"/>
                        </a:lnTo>
                        <a:lnTo>
                          <a:pt x="235" y="2"/>
                        </a:lnTo>
                        <a:lnTo>
                          <a:pt x="242" y="2"/>
                        </a:lnTo>
                        <a:lnTo>
                          <a:pt x="249" y="2"/>
                        </a:lnTo>
                        <a:lnTo>
                          <a:pt x="252" y="8"/>
                        </a:lnTo>
                        <a:lnTo>
                          <a:pt x="254" y="13"/>
                        </a:lnTo>
                        <a:lnTo>
                          <a:pt x="257" y="19"/>
                        </a:lnTo>
                        <a:lnTo>
                          <a:pt x="259" y="25"/>
                        </a:lnTo>
                        <a:lnTo>
                          <a:pt x="276" y="28"/>
                        </a:lnTo>
                        <a:lnTo>
                          <a:pt x="293" y="31"/>
                        </a:lnTo>
                        <a:lnTo>
                          <a:pt x="310" y="35"/>
                        </a:lnTo>
                        <a:lnTo>
                          <a:pt x="328" y="38"/>
                        </a:lnTo>
                        <a:lnTo>
                          <a:pt x="344" y="41"/>
                        </a:lnTo>
                        <a:lnTo>
                          <a:pt x="361" y="44"/>
                        </a:lnTo>
                        <a:lnTo>
                          <a:pt x="378" y="47"/>
                        </a:lnTo>
                        <a:lnTo>
                          <a:pt x="395" y="50"/>
                        </a:lnTo>
                        <a:lnTo>
                          <a:pt x="412" y="53"/>
                        </a:lnTo>
                        <a:lnTo>
                          <a:pt x="429" y="56"/>
                        </a:lnTo>
                        <a:lnTo>
                          <a:pt x="447" y="59"/>
                        </a:lnTo>
                        <a:lnTo>
                          <a:pt x="464" y="62"/>
                        </a:lnTo>
                        <a:lnTo>
                          <a:pt x="480" y="65"/>
                        </a:lnTo>
                        <a:lnTo>
                          <a:pt x="497" y="68"/>
                        </a:lnTo>
                        <a:lnTo>
                          <a:pt x="514" y="71"/>
                        </a:lnTo>
                        <a:lnTo>
                          <a:pt x="531" y="74"/>
                        </a:lnTo>
                        <a:lnTo>
                          <a:pt x="531" y="96"/>
                        </a:lnTo>
                        <a:lnTo>
                          <a:pt x="531" y="118"/>
                        </a:lnTo>
                        <a:lnTo>
                          <a:pt x="531" y="141"/>
                        </a:lnTo>
                        <a:lnTo>
                          <a:pt x="531" y="163"/>
                        </a:lnTo>
                        <a:lnTo>
                          <a:pt x="516" y="161"/>
                        </a:lnTo>
                        <a:lnTo>
                          <a:pt x="500" y="159"/>
                        </a:lnTo>
                        <a:lnTo>
                          <a:pt x="485" y="157"/>
                        </a:lnTo>
                        <a:lnTo>
                          <a:pt x="470" y="155"/>
                        </a:lnTo>
                        <a:lnTo>
                          <a:pt x="454" y="154"/>
                        </a:lnTo>
                        <a:lnTo>
                          <a:pt x="439" y="152"/>
                        </a:lnTo>
                        <a:lnTo>
                          <a:pt x="422" y="150"/>
                        </a:lnTo>
                        <a:lnTo>
                          <a:pt x="407" y="148"/>
                        </a:lnTo>
                        <a:lnTo>
                          <a:pt x="392" y="146"/>
                        </a:lnTo>
                        <a:lnTo>
                          <a:pt x="376" y="144"/>
                        </a:lnTo>
                        <a:lnTo>
                          <a:pt x="361" y="142"/>
                        </a:lnTo>
                        <a:lnTo>
                          <a:pt x="346" y="140"/>
                        </a:lnTo>
                        <a:lnTo>
                          <a:pt x="330" y="138"/>
                        </a:lnTo>
                        <a:lnTo>
                          <a:pt x="314" y="136"/>
                        </a:lnTo>
                        <a:lnTo>
                          <a:pt x="298" y="134"/>
                        </a:lnTo>
                        <a:lnTo>
                          <a:pt x="283" y="132"/>
                        </a:lnTo>
                        <a:lnTo>
                          <a:pt x="277" y="135"/>
                        </a:lnTo>
                        <a:lnTo>
                          <a:pt x="272" y="137"/>
                        </a:lnTo>
                        <a:lnTo>
                          <a:pt x="266" y="140"/>
                        </a:lnTo>
                        <a:lnTo>
                          <a:pt x="261" y="142"/>
                        </a:lnTo>
                        <a:lnTo>
                          <a:pt x="256" y="145"/>
                        </a:lnTo>
                        <a:lnTo>
                          <a:pt x="250" y="147"/>
                        </a:lnTo>
                        <a:lnTo>
                          <a:pt x="245" y="150"/>
                        </a:lnTo>
                        <a:lnTo>
                          <a:pt x="239" y="152"/>
                        </a:lnTo>
                        <a:lnTo>
                          <a:pt x="224" y="150"/>
                        </a:lnTo>
                        <a:lnTo>
                          <a:pt x="208" y="147"/>
                        </a:lnTo>
                        <a:lnTo>
                          <a:pt x="194" y="145"/>
                        </a:lnTo>
                        <a:lnTo>
                          <a:pt x="179" y="143"/>
                        </a:lnTo>
                        <a:lnTo>
                          <a:pt x="164" y="141"/>
                        </a:lnTo>
                        <a:lnTo>
                          <a:pt x="149" y="138"/>
                        </a:lnTo>
                        <a:lnTo>
                          <a:pt x="134" y="136"/>
                        </a:lnTo>
                        <a:lnTo>
                          <a:pt x="120" y="134"/>
                        </a:lnTo>
                        <a:lnTo>
                          <a:pt x="105" y="132"/>
                        </a:lnTo>
                        <a:lnTo>
                          <a:pt x="89" y="129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4" y="122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9" y="79"/>
                        </a:lnTo>
                        <a:lnTo>
                          <a:pt x="71" y="72"/>
                        </a:lnTo>
                        <a:lnTo>
                          <a:pt x="83" y="65"/>
                        </a:lnTo>
                        <a:lnTo>
                          <a:pt x="95" y="58"/>
                        </a:lnTo>
                        <a:lnTo>
                          <a:pt x="107" y="51"/>
                        </a:lnTo>
                        <a:lnTo>
                          <a:pt x="119" y="44"/>
                        </a:lnTo>
                        <a:lnTo>
                          <a:pt x="131" y="37"/>
                        </a:lnTo>
                        <a:lnTo>
                          <a:pt x="143" y="28"/>
                        </a:lnTo>
                        <a:lnTo>
                          <a:pt x="155" y="21"/>
                        </a:lnTo>
                        <a:lnTo>
                          <a:pt x="166" y="14"/>
                        </a:lnTo>
                        <a:lnTo>
                          <a:pt x="178" y="7"/>
                        </a:lnTo>
                        <a:lnTo>
                          <a:pt x="190" y="0"/>
                        </a:lnTo>
                        <a:close/>
                      </a:path>
                    </a:pathLst>
                  </a:custGeom>
                  <a:solidFill>
                    <a:srgbClr val="14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006000" y="5677200"/>
                    <a:ext cx="115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57">
                        <a:moveTo>
                          <a:pt x="191" y="0"/>
                        </a:moveTo>
                        <a:lnTo>
                          <a:pt x="198" y="0"/>
                        </a:lnTo>
                        <a:lnTo>
                          <a:pt x="205" y="1"/>
                        </a:lnTo>
                        <a:lnTo>
                          <a:pt x="214" y="1"/>
                        </a:lnTo>
                        <a:lnTo>
                          <a:pt x="221" y="1"/>
                        </a:lnTo>
                        <a:lnTo>
                          <a:pt x="228" y="2"/>
                        </a:lnTo>
                        <a:lnTo>
                          <a:pt x="236" y="2"/>
                        </a:lnTo>
                        <a:lnTo>
                          <a:pt x="243" y="3"/>
                        </a:lnTo>
                        <a:lnTo>
                          <a:pt x="250" y="3"/>
                        </a:lnTo>
                        <a:lnTo>
                          <a:pt x="253" y="8"/>
                        </a:lnTo>
                        <a:lnTo>
                          <a:pt x="255" y="14"/>
                        </a:lnTo>
                        <a:lnTo>
                          <a:pt x="258" y="20"/>
                        </a:lnTo>
                        <a:lnTo>
                          <a:pt x="260" y="25"/>
                        </a:lnTo>
                        <a:lnTo>
                          <a:pt x="276" y="28"/>
                        </a:lnTo>
                        <a:lnTo>
                          <a:pt x="291" y="31"/>
                        </a:lnTo>
                        <a:lnTo>
                          <a:pt x="307" y="35"/>
                        </a:lnTo>
                        <a:lnTo>
                          <a:pt x="322" y="37"/>
                        </a:lnTo>
                        <a:lnTo>
                          <a:pt x="339" y="40"/>
                        </a:lnTo>
                        <a:lnTo>
                          <a:pt x="354" y="43"/>
                        </a:lnTo>
                        <a:lnTo>
                          <a:pt x="370" y="46"/>
                        </a:lnTo>
                        <a:lnTo>
                          <a:pt x="386" y="49"/>
                        </a:lnTo>
                        <a:lnTo>
                          <a:pt x="401" y="52"/>
                        </a:lnTo>
                        <a:lnTo>
                          <a:pt x="417" y="55"/>
                        </a:lnTo>
                        <a:lnTo>
                          <a:pt x="432" y="58"/>
                        </a:lnTo>
                        <a:lnTo>
                          <a:pt x="449" y="61"/>
                        </a:lnTo>
                        <a:lnTo>
                          <a:pt x="464" y="63"/>
                        </a:lnTo>
                        <a:lnTo>
                          <a:pt x="480" y="66"/>
                        </a:lnTo>
                        <a:lnTo>
                          <a:pt x="495" y="69"/>
                        </a:lnTo>
                        <a:lnTo>
                          <a:pt x="511" y="72"/>
                        </a:lnTo>
                        <a:lnTo>
                          <a:pt x="511" y="93"/>
                        </a:lnTo>
                        <a:lnTo>
                          <a:pt x="511" y="114"/>
                        </a:lnTo>
                        <a:lnTo>
                          <a:pt x="511" y="136"/>
                        </a:lnTo>
                        <a:lnTo>
                          <a:pt x="511" y="157"/>
                        </a:lnTo>
                        <a:lnTo>
                          <a:pt x="497" y="155"/>
                        </a:lnTo>
                        <a:lnTo>
                          <a:pt x="482" y="154"/>
                        </a:lnTo>
                        <a:lnTo>
                          <a:pt x="468" y="152"/>
                        </a:lnTo>
                        <a:lnTo>
                          <a:pt x="454" y="151"/>
                        </a:lnTo>
                        <a:lnTo>
                          <a:pt x="440" y="149"/>
                        </a:lnTo>
                        <a:lnTo>
                          <a:pt x="424" y="148"/>
                        </a:lnTo>
                        <a:lnTo>
                          <a:pt x="410" y="146"/>
                        </a:lnTo>
                        <a:lnTo>
                          <a:pt x="396" y="144"/>
                        </a:lnTo>
                        <a:lnTo>
                          <a:pt x="381" y="143"/>
                        </a:lnTo>
                        <a:lnTo>
                          <a:pt x="367" y="141"/>
                        </a:lnTo>
                        <a:lnTo>
                          <a:pt x="352" y="139"/>
                        </a:lnTo>
                        <a:lnTo>
                          <a:pt x="338" y="138"/>
                        </a:lnTo>
                        <a:lnTo>
                          <a:pt x="323" y="136"/>
                        </a:lnTo>
                        <a:lnTo>
                          <a:pt x="309" y="134"/>
                        </a:lnTo>
                        <a:lnTo>
                          <a:pt x="294" y="133"/>
                        </a:lnTo>
                        <a:lnTo>
                          <a:pt x="280" y="131"/>
                        </a:lnTo>
                        <a:lnTo>
                          <a:pt x="275" y="134"/>
                        </a:lnTo>
                        <a:lnTo>
                          <a:pt x="270" y="136"/>
                        </a:lnTo>
                        <a:lnTo>
                          <a:pt x="265" y="139"/>
                        </a:lnTo>
                        <a:lnTo>
                          <a:pt x="260" y="141"/>
                        </a:lnTo>
                        <a:lnTo>
                          <a:pt x="255" y="144"/>
                        </a:lnTo>
                        <a:lnTo>
                          <a:pt x="250" y="146"/>
                        </a:lnTo>
                        <a:lnTo>
                          <a:pt x="245" y="149"/>
                        </a:lnTo>
                        <a:lnTo>
                          <a:pt x="240" y="151"/>
                        </a:lnTo>
                        <a:lnTo>
                          <a:pt x="225" y="149"/>
                        </a:lnTo>
                        <a:lnTo>
                          <a:pt x="209" y="147"/>
                        </a:lnTo>
                        <a:lnTo>
                          <a:pt x="194" y="144"/>
                        </a:lnTo>
                        <a:lnTo>
                          <a:pt x="180" y="142"/>
                        </a:lnTo>
                        <a:lnTo>
                          <a:pt x="165" y="140"/>
                        </a:lnTo>
                        <a:lnTo>
                          <a:pt x="150" y="138"/>
                        </a:lnTo>
                        <a:lnTo>
                          <a:pt x="135" y="136"/>
                        </a:lnTo>
                        <a:lnTo>
                          <a:pt x="120" y="133"/>
                        </a:lnTo>
                        <a:lnTo>
                          <a:pt x="105" y="131"/>
                        </a:lnTo>
                        <a:lnTo>
                          <a:pt x="89" y="129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5" y="122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9" y="79"/>
                        </a:lnTo>
                        <a:lnTo>
                          <a:pt x="71" y="72"/>
                        </a:lnTo>
                        <a:lnTo>
                          <a:pt x="83" y="65"/>
                        </a:lnTo>
                        <a:lnTo>
                          <a:pt x="95" y="58"/>
                        </a:lnTo>
                        <a:lnTo>
                          <a:pt x="107" y="51"/>
                        </a:lnTo>
                        <a:lnTo>
                          <a:pt x="119" y="44"/>
                        </a:lnTo>
                        <a:lnTo>
                          <a:pt x="131" y="37"/>
                        </a:lnTo>
                        <a:lnTo>
                          <a:pt x="143" y="28"/>
                        </a:lnTo>
                        <a:lnTo>
                          <a:pt x="155" y="21"/>
                        </a:lnTo>
                        <a:lnTo>
                          <a:pt x="167" y="14"/>
                        </a:lnTo>
                        <a:lnTo>
                          <a:pt x="179" y="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1c1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004560" y="5677200"/>
                    <a:ext cx="112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52">
                        <a:moveTo>
                          <a:pt x="193" y="0"/>
                        </a:moveTo>
                        <a:lnTo>
                          <a:pt x="200" y="0"/>
                        </a:lnTo>
                        <a:lnTo>
                          <a:pt x="207" y="1"/>
                        </a:lnTo>
                        <a:lnTo>
                          <a:pt x="216" y="1"/>
                        </a:lnTo>
                        <a:lnTo>
                          <a:pt x="223" y="2"/>
                        </a:lnTo>
                        <a:lnTo>
                          <a:pt x="230" y="3"/>
                        </a:lnTo>
                        <a:lnTo>
                          <a:pt x="238" y="3"/>
                        </a:lnTo>
                        <a:lnTo>
                          <a:pt x="245" y="4"/>
                        </a:lnTo>
                        <a:lnTo>
                          <a:pt x="252" y="4"/>
                        </a:lnTo>
                        <a:lnTo>
                          <a:pt x="255" y="9"/>
                        </a:lnTo>
                        <a:lnTo>
                          <a:pt x="257" y="14"/>
                        </a:lnTo>
                        <a:lnTo>
                          <a:pt x="260" y="20"/>
                        </a:lnTo>
                        <a:lnTo>
                          <a:pt x="262" y="25"/>
                        </a:lnTo>
                        <a:lnTo>
                          <a:pt x="276" y="28"/>
                        </a:lnTo>
                        <a:lnTo>
                          <a:pt x="291" y="31"/>
                        </a:lnTo>
                        <a:lnTo>
                          <a:pt x="305" y="34"/>
                        </a:lnTo>
                        <a:lnTo>
                          <a:pt x="319" y="37"/>
                        </a:lnTo>
                        <a:lnTo>
                          <a:pt x="334" y="40"/>
                        </a:lnTo>
                        <a:lnTo>
                          <a:pt x="349" y="43"/>
                        </a:lnTo>
                        <a:lnTo>
                          <a:pt x="363" y="45"/>
                        </a:lnTo>
                        <a:lnTo>
                          <a:pt x="377" y="48"/>
                        </a:lnTo>
                        <a:lnTo>
                          <a:pt x="391" y="51"/>
                        </a:lnTo>
                        <a:lnTo>
                          <a:pt x="406" y="53"/>
                        </a:lnTo>
                        <a:lnTo>
                          <a:pt x="420" y="56"/>
                        </a:lnTo>
                        <a:lnTo>
                          <a:pt x="434" y="59"/>
                        </a:lnTo>
                        <a:lnTo>
                          <a:pt x="449" y="62"/>
                        </a:lnTo>
                        <a:lnTo>
                          <a:pt x="464" y="64"/>
                        </a:lnTo>
                        <a:lnTo>
                          <a:pt x="478" y="67"/>
                        </a:lnTo>
                        <a:lnTo>
                          <a:pt x="492" y="70"/>
                        </a:lnTo>
                        <a:lnTo>
                          <a:pt x="492" y="90"/>
                        </a:lnTo>
                        <a:lnTo>
                          <a:pt x="492" y="110"/>
                        </a:lnTo>
                        <a:lnTo>
                          <a:pt x="492" y="132"/>
                        </a:lnTo>
                        <a:lnTo>
                          <a:pt x="492" y="152"/>
                        </a:lnTo>
                        <a:lnTo>
                          <a:pt x="479" y="151"/>
                        </a:lnTo>
                        <a:lnTo>
                          <a:pt x="466" y="149"/>
                        </a:lnTo>
                        <a:lnTo>
                          <a:pt x="453" y="148"/>
                        </a:lnTo>
                        <a:lnTo>
                          <a:pt x="438" y="147"/>
                        </a:lnTo>
                        <a:lnTo>
                          <a:pt x="425" y="145"/>
                        </a:lnTo>
                        <a:lnTo>
                          <a:pt x="412" y="144"/>
                        </a:lnTo>
                        <a:lnTo>
                          <a:pt x="399" y="142"/>
                        </a:lnTo>
                        <a:lnTo>
                          <a:pt x="386" y="141"/>
                        </a:lnTo>
                        <a:lnTo>
                          <a:pt x="372" y="140"/>
                        </a:lnTo>
                        <a:lnTo>
                          <a:pt x="359" y="138"/>
                        </a:lnTo>
                        <a:lnTo>
                          <a:pt x="346" y="137"/>
                        </a:lnTo>
                        <a:lnTo>
                          <a:pt x="333" y="135"/>
                        </a:lnTo>
                        <a:lnTo>
                          <a:pt x="318" y="134"/>
                        </a:lnTo>
                        <a:lnTo>
                          <a:pt x="305" y="133"/>
                        </a:lnTo>
                        <a:lnTo>
                          <a:pt x="292" y="131"/>
                        </a:lnTo>
                        <a:lnTo>
                          <a:pt x="279" y="130"/>
                        </a:lnTo>
                        <a:lnTo>
                          <a:pt x="274" y="133"/>
                        </a:lnTo>
                        <a:lnTo>
                          <a:pt x="270" y="135"/>
                        </a:lnTo>
                        <a:lnTo>
                          <a:pt x="265" y="138"/>
                        </a:lnTo>
                        <a:lnTo>
                          <a:pt x="261" y="140"/>
                        </a:lnTo>
                        <a:lnTo>
                          <a:pt x="256" y="142"/>
                        </a:lnTo>
                        <a:lnTo>
                          <a:pt x="252" y="145"/>
                        </a:lnTo>
                        <a:lnTo>
                          <a:pt x="247" y="147"/>
                        </a:lnTo>
                        <a:lnTo>
                          <a:pt x="242" y="150"/>
                        </a:lnTo>
                        <a:lnTo>
                          <a:pt x="227" y="148"/>
                        </a:lnTo>
                        <a:lnTo>
                          <a:pt x="211" y="146"/>
                        </a:lnTo>
                        <a:lnTo>
                          <a:pt x="196" y="144"/>
                        </a:lnTo>
                        <a:lnTo>
                          <a:pt x="181" y="142"/>
                        </a:lnTo>
                        <a:lnTo>
                          <a:pt x="166" y="139"/>
                        </a:lnTo>
                        <a:lnTo>
                          <a:pt x="151" y="137"/>
                        </a:lnTo>
                        <a:lnTo>
                          <a:pt x="136" y="135"/>
                        </a:lnTo>
                        <a:lnTo>
                          <a:pt x="121" y="133"/>
                        </a:lnTo>
                        <a:lnTo>
                          <a:pt x="106" y="131"/>
                        </a:lnTo>
                        <a:lnTo>
                          <a:pt x="90" y="129"/>
                        </a:lnTo>
                        <a:lnTo>
                          <a:pt x="75" y="126"/>
                        </a:lnTo>
                        <a:lnTo>
                          <a:pt x="60" y="123"/>
                        </a:lnTo>
                        <a:lnTo>
                          <a:pt x="45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8" y="86"/>
                        </a:lnTo>
                        <a:lnTo>
                          <a:pt x="60" y="79"/>
                        </a:lnTo>
                        <a:lnTo>
                          <a:pt x="72" y="72"/>
                        </a:lnTo>
                        <a:lnTo>
                          <a:pt x="84" y="65"/>
                        </a:lnTo>
                        <a:lnTo>
                          <a:pt x="96" y="58"/>
                        </a:lnTo>
                        <a:lnTo>
                          <a:pt x="109" y="51"/>
                        </a:lnTo>
                        <a:lnTo>
                          <a:pt x="121" y="44"/>
                        </a:lnTo>
                        <a:lnTo>
                          <a:pt x="133" y="37"/>
                        </a:lnTo>
                        <a:lnTo>
                          <a:pt x="145" y="28"/>
                        </a:lnTo>
                        <a:lnTo>
                          <a:pt x="157" y="21"/>
                        </a:lnTo>
                        <a:lnTo>
                          <a:pt x="169" y="14"/>
                        </a:lnTo>
                        <a:lnTo>
                          <a:pt x="181" y="7"/>
                        </a:lnTo>
                        <a:lnTo>
                          <a:pt x="193" y="0"/>
                        </a:lnTo>
                        <a:close/>
                      </a:path>
                    </a:pathLst>
                  </a:custGeom>
                  <a:solidFill>
                    <a:srgbClr val="1e2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004560" y="5677200"/>
                    <a:ext cx="107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49">
                        <a:moveTo>
                          <a:pt x="194" y="0"/>
                        </a:moveTo>
                        <a:lnTo>
                          <a:pt x="201" y="1"/>
                        </a:lnTo>
                        <a:lnTo>
                          <a:pt x="208" y="1"/>
                        </a:lnTo>
                        <a:lnTo>
                          <a:pt x="217" y="2"/>
                        </a:lnTo>
                        <a:lnTo>
                          <a:pt x="224" y="2"/>
                        </a:lnTo>
                        <a:lnTo>
                          <a:pt x="231" y="3"/>
                        </a:lnTo>
                        <a:lnTo>
                          <a:pt x="239" y="4"/>
                        </a:lnTo>
                        <a:lnTo>
                          <a:pt x="246" y="4"/>
                        </a:lnTo>
                        <a:lnTo>
                          <a:pt x="253" y="5"/>
                        </a:lnTo>
                        <a:lnTo>
                          <a:pt x="256" y="10"/>
                        </a:lnTo>
                        <a:lnTo>
                          <a:pt x="258" y="15"/>
                        </a:lnTo>
                        <a:lnTo>
                          <a:pt x="261" y="20"/>
                        </a:lnTo>
                        <a:lnTo>
                          <a:pt x="263" y="25"/>
                        </a:lnTo>
                        <a:lnTo>
                          <a:pt x="276" y="28"/>
                        </a:lnTo>
                        <a:lnTo>
                          <a:pt x="289" y="30"/>
                        </a:lnTo>
                        <a:lnTo>
                          <a:pt x="302" y="34"/>
                        </a:lnTo>
                        <a:lnTo>
                          <a:pt x="315" y="36"/>
                        </a:lnTo>
                        <a:lnTo>
                          <a:pt x="329" y="39"/>
                        </a:lnTo>
                        <a:lnTo>
                          <a:pt x="342" y="42"/>
                        </a:lnTo>
                        <a:lnTo>
                          <a:pt x="355" y="44"/>
                        </a:lnTo>
                        <a:lnTo>
                          <a:pt x="368" y="47"/>
                        </a:lnTo>
                        <a:lnTo>
                          <a:pt x="380" y="50"/>
                        </a:lnTo>
                        <a:lnTo>
                          <a:pt x="393" y="52"/>
                        </a:lnTo>
                        <a:lnTo>
                          <a:pt x="406" y="55"/>
                        </a:lnTo>
                        <a:lnTo>
                          <a:pt x="419" y="57"/>
                        </a:lnTo>
                        <a:lnTo>
                          <a:pt x="432" y="60"/>
                        </a:lnTo>
                        <a:lnTo>
                          <a:pt x="446" y="63"/>
                        </a:lnTo>
                        <a:lnTo>
                          <a:pt x="459" y="65"/>
                        </a:lnTo>
                        <a:lnTo>
                          <a:pt x="472" y="68"/>
                        </a:lnTo>
                        <a:lnTo>
                          <a:pt x="472" y="87"/>
                        </a:lnTo>
                        <a:lnTo>
                          <a:pt x="472" y="106"/>
                        </a:lnTo>
                        <a:lnTo>
                          <a:pt x="472" y="126"/>
                        </a:lnTo>
                        <a:lnTo>
                          <a:pt x="472" y="146"/>
                        </a:lnTo>
                        <a:lnTo>
                          <a:pt x="460" y="145"/>
                        </a:lnTo>
                        <a:lnTo>
                          <a:pt x="448" y="144"/>
                        </a:lnTo>
                        <a:lnTo>
                          <a:pt x="435" y="143"/>
                        </a:lnTo>
                        <a:lnTo>
                          <a:pt x="422" y="142"/>
                        </a:lnTo>
                        <a:lnTo>
                          <a:pt x="410" y="141"/>
                        </a:lnTo>
                        <a:lnTo>
                          <a:pt x="398" y="140"/>
                        </a:lnTo>
                        <a:lnTo>
                          <a:pt x="386" y="139"/>
                        </a:lnTo>
                        <a:lnTo>
                          <a:pt x="374" y="138"/>
                        </a:lnTo>
                        <a:lnTo>
                          <a:pt x="362" y="137"/>
                        </a:lnTo>
                        <a:lnTo>
                          <a:pt x="350" y="136"/>
                        </a:lnTo>
                        <a:lnTo>
                          <a:pt x="338" y="135"/>
                        </a:lnTo>
                        <a:lnTo>
                          <a:pt x="325" y="133"/>
                        </a:lnTo>
                        <a:lnTo>
                          <a:pt x="312" y="132"/>
                        </a:lnTo>
                        <a:lnTo>
                          <a:pt x="300" y="131"/>
                        </a:lnTo>
                        <a:lnTo>
                          <a:pt x="288" y="130"/>
                        </a:lnTo>
                        <a:lnTo>
                          <a:pt x="276" y="129"/>
                        </a:lnTo>
                        <a:lnTo>
                          <a:pt x="272" y="132"/>
                        </a:lnTo>
                        <a:lnTo>
                          <a:pt x="268" y="134"/>
                        </a:lnTo>
                        <a:lnTo>
                          <a:pt x="264" y="137"/>
                        </a:lnTo>
                        <a:lnTo>
                          <a:pt x="260" y="139"/>
                        </a:lnTo>
                        <a:lnTo>
                          <a:pt x="255" y="141"/>
                        </a:lnTo>
                        <a:lnTo>
                          <a:pt x="251" y="144"/>
                        </a:lnTo>
                        <a:lnTo>
                          <a:pt x="247" y="146"/>
                        </a:lnTo>
                        <a:lnTo>
                          <a:pt x="243" y="149"/>
                        </a:lnTo>
                        <a:lnTo>
                          <a:pt x="228" y="147"/>
                        </a:lnTo>
                        <a:lnTo>
                          <a:pt x="212" y="145"/>
                        </a:lnTo>
                        <a:lnTo>
                          <a:pt x="197" y="143"/>
                        </a:lnTo>
                        <a:lnTo>
                          <a:pt x="182" y="141"/>
                        </a:lnTo>
                        <a:lnTo>
                          <a:pt x="167" y="139"/>
                        </a:lnTo>
                        <a:lnTo>
                          <a:pt x="152" y="137"/>
                        </a:lnTo>
                        <a:lnTo>
                          <a:pt x="137" y="135"/>
                        </a:lnTo>
                        <a:lnTo>
                          <a:pt x="122" y="132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5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8" y="86"/>
                        </a:lnTo>
                        <a:lnTo>
                          <a:pt x="60" y="79"/>
                        </a:lnTo>
                        <a:lnTo>
                          <a:pt x="72" y="72"/>
                        </a:lnTo>
                        <a:lnTo>
                          <a:pt x="84" y="65"/>
                        </a:lnTo>
                        <a:lnTo>
                          <a:pt x="97" y="58"/>
                        </a:lnTo>
                        <a:lnTo>
                          <a:pt x="110" y="51"/>
                        </a:lnTo>
                        <a:lnTo>
                          <a:pt x="122" y="44"/>
                        </a:lnTo>
                        <a:lnTo>
                          <a:pt x="134" y="37"/>
                        </a:lnTo>
                        <a:lnTo>
                          <a:pt x="146" y="28"/>
                        </a:lnTo>
                        <a:lnTo>
                          <a:pt x="158" y="21"/>
                        </a:lnTo>
                        <a:lnTo>
                          <a:pt x="170" y="14"/>
                        </a:lnTo>
                        <a:lnTo>
                          <a:pt x="182" y="7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212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004560" y="5677200"/>
                    <a:ext cx="102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148">
                        <a:moveTo>
                          <a:pt x="195" y="0"/>
                        </a:moveTo>
                        <a:lnTo>
                          <a:pt x="202" y="1"/>
                        </a:lnTo>
                        <a:lnTo>
                          <a:pt x="209" y="1"/>
                        </a:lnTo>
                        <a:lnTo>
                          <a:pt x="218" y="2"/>
                        </a:lnTo>
                        <a:lnTo>
                          <a:pt x="225" y="3"/>
                        </a:lnTo>
                        <a:lnTo>
                          <a:pt x="232" y="4"/>
                        </a:lnTo>
                        <a:lnTo>
                          <a:pt x="240" y="4"/>
                        </a:lnTo>
                        <a:lnTo>
                          <a:pt x="247" y="5"/>
                        </a:lnTo>
                        <a:lnTo>
                          <a:pt x="254" y="5"/>
                        </a:lnTo>
                        <a:lnTo>
                          <a:pt x="257" y="10"/>
                        </a:lnTo>
                        <a:lnTo>
                          <a:pt x="259" y="15"/>
                        </a:lnTo>
                        <a:lnTo>
                          <a:pt x="262" y="20"/>
                        </a:lnTo>
                        <a:lnTo>
                          <a:pt x="264" y="25"/>
                        </a:lnTo>
                        <a:lnTo>
                          <a:pt x="276" y="27"/>
                        </a:lnTo>
                        <a:lnTo>
                          <a:pt x="287" y="30"/>
                        </a:lnTo>
                        <a:lnTo>
                          <a:pt x="299" y="33"/>
                        </a:lnTo>
                        <a:lnTo>
                          <a:pt x="311" y="36"/>
                        </a:lnTo>
                        <a:lnTo>
                          <a:pt x="322" y="38"/>
                        </a:lnTo>
                        <a:lnTo>
                          <a:pt x="335" y="41"/>
                        </a:lnTo>
                        <a:lnTo>
                          <a:pt x="346" y="43"/>
                        </a:lnTo>
                        <a:lnTo>
                          <a:pt x="358" y="45"/>
                        </a:lnTo>
                        <a:lnTo>
                          <a:pt x="370" y="48"/>
                        </a:lnTo>
                        <a:lnTo>
                          <a:pt x="381" y="50"/>
                        </a:lnTo>
                        <a:lnTo>
                          <a:pt x="393" y="53"/>
                        </a:lnTo>
                        <a:lnTo>
                          <a:pt x="405" y="55"/>
                        </a:lnTo>
                        <a:lnTo>
                          <a:pt x="416" y="58"/>
                        </a:lnTo>
                        <a:lnTo>
                          <a:pt x="428" y="60"/>
                        </a:lnTo>
                        <a:lnTo>
                          <a:pt x="439" y="63"/>
                        </a:lnTo>
                        <a:lnTo>
                          <a:pt x="452" y="65"/>
                        </a:lnTo>
                        <a:lnTo>
                          <a:pt x="452" y="84"/>
                        </a:lnTo>
                        <a:lnTo>
                          <a:pt x="452" y="102"/>
                        </a:lnTo>
                        <a:lnTo>
                          <a:pt x="452" y="121"/>
                        </a:lnTo>
                        <a:lnTo>
                          <a:pt x="452" y="141"/>
                        </a:lnTo>
                        <a:lnTo>
                          <a:pt x="440" y="140"/>
                        </a:lnTo>
                        <a:lnTo>
                          <a:pt x="429" y="139"/>
                        </a:lnTo>
                        <a:lnTo>
                          <a:pt x="418" y="138"/>
                        </a:lnTo>
                        <a:lnTo>
                          <a:pt x="407" y="137"/>
                        </a:lnTo>
                        <a:lnTo>
                          <a:pt x="396" y="137"/>
                        </a:lnTo>
                        <a:lnTo>
                          <a:pt x="385" y="136"/>
                        </a:lnTo>
                        <a:lnTo>
                          <a:pt x="374" y="135"/>
                        </a:lnTo>
                        <a:lnTo>
                          <a:pt x="363" y="134"/>
                        </a:lnTo>
                        <a:lnTo>
                          <a:pt x="352" y="133"/>
                        </a:lnTo>
                        <a:lnTo>
                          <a:pt x="341" y="133"/>
                        </a:lnTo>
                        <a:lnTo>
                          <a:pt x="330" y="132"/>
                        </a:lnTo>
                        <a:lnTo>
                          <a:pt x="318" y="131"/>
                        </a:lnTo>
                        <a:lnTo>
                          <a:pt x="307" y="130"/>
                        </a:lnTo>
                        <a:lnTo>
                          <a:pt x="296" y="130"/>
                        </a:lnTo>
                        <a:lnTo>
                          <a:pt x="285" y="129"/>
                        </a:lnTo>
                        <a:lnTo>
                          <a:pt x="274" y="127"/>
                        </a:lnTo>
                        <a:lnTo>
                          <a:pt x="270" y="131"/>
                        </a:lnTo>
                        <a:lnTo>
                          <a:pt x="267" y="133"/>
                        </a:lnTo>
                        <a:lnTo>
                          <a:pt x="263" y="136"/>
                        </a:lnTo>
                        <a:lnTo>
                          <a:pt x="259" y="138"/>
                        </a:lnTo>
                        <a:lnTo>
                          <a:pt x="255" y="140"/>
                        </a:lnTo>
                        <a:lnTo>
                          <a:pt x="252" y="143"/>
                        </a:lnTo>
                        <a:lnTo>
                          <a:pt x="248" y="145"/>
                        </a:lnTo>
                        <a:lnTo>
                          <a:pt x="244" y="148"/>
                        </a:lnTo>
                        <a:lnTo>
                          <a:pt x="229" y="146"/>
                        </a:lnTo>
                        <a:lnTo>
                          <a:pt x="213" y="144"/>
                        </a:lnTo>
                        <a:lnTo>
                          <a:pt x="198" y="142"/>
                        </a:lnTo>
                        <a:lnTo>
                          <a:pt x="183" y="140"/>
                        </a:lnTo>
                        <a:lnTo>
                          <a:pt x="168" y="138"/>
                        </a:lnTo>
                        <a:lnTo>
                          <a:pt x="153" y="136"/>
                        </a:lnTo>
                        <a:lnTo>
                          <a:pt x="138" y="134"/>
                        </a:lnTo>
                        <a:lnTo>
                          <a:pt x="122" y="132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6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7" y="58"/>
                        </a:lnTo>
                        <a:lnTo>
                          <a:pt x="110" y="51"/>
                        </a:lnTo>
                        <a:lnTo>
                          <a:pt x="122" y="44"/>
                        </a:lnTo>
                        <a:lnTo>
                          <a:pt x="134" y="37"/>
                        </a:lnTo>
                        <a:lnTo>
                          <a:pt x="146" y="28"/>
                        </a:lnTo>
                        <a:lnTo>
                          <a:pt x="159" y="21"/>
                        </a:lnTo>
                        <a:lnTo>
                          <a:pt x="171" y="14"/>
                        </a:lnTo>
                        <a:lnTo>
                          <a:pt x="183" y="7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232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004560" y="5677200"/>
                    <a:ext cx="96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1" h="147">
                        <a:moveTo>
                          <a:pt x="196" y="0"/>
                        </a:moveTo>
                        <a:lnTo>
                          <a:pt x="203" y="1"/>
                        </a:lnTo>
                        <a:lnTo>
                          <a:pt x="210" y="1"/>
                        </a:lnTo>
                        <a:lnTo>
                          <a:pt x="219" y="2"/>
                        </a:lnTo>
                        <a:lnTo>
                          <a:pt x="226" y="3"/>
                        </a:lnTo>
                        <a:lnTo>
                          <a:pt x="233" y="4"/>
                        </a:lnTo>
                        <a:lnTo>
                          <a:pt x="241" y="4"/>
                        </a:lnTo>
                        <a:lnTo>
                          <a:pt x="248" y="5"/>
                        </a:lnTo>
                        <a:lnTo>
                          <a:pt x="255" y="6"/>
                        </a:lnTo>
                        <a:lnTo>
                          <a:pt x="258" y="11"/>
                        </a:lnTo>
                        <a:lnTo>
                          <a:pt x="260" y="15"/>
                        </a:lnTo>
                        <a:lnTo>
                          <a:pt x="263" y="20"/>
                        </a:lnTo>
                        <a:lnTo>
                          <a:pt x="265" y="25"/>
                        </a:lnTo>
                        <a:lnTo>
                          <a:pt x="275" y="27"/>
                        </a:lnTo>
                        <a:lnTo>
                          <a:pt x="286" y="30"/>
                        </a:lnTo>
                        <a:lnTo>
                          <a:pt x="296" y="33"/>
                        </a:lnTo>
                        <a:lnTo>
                          <a:pt x="306" y="35"/>
                        </a:lnTo>
                        <a:lnTo>
                          <a:pt x="317" y="37"/>
                        </a:lnTo>
                        <a:lnTo>
                          <a:pt x="327" y="40"/>
                        </a:lnTo>
                        <a:lnTo>
                          <a:pt x="338" y="42"/>
                        </a:lnTo>
                        <a:lnTo>
                          <a:pt x="349" y="44"/>
                        </a:lnTo>
                        <a:lnTo>
                          <a:pt x="359" y="47"/>
                        </a:lnTo>
                        <a:lnTo>
                          <a:pt x="369" y="49"/>
                        </a:lnTo>
                        <a:lnTo>
                          <a:pt x="379" y="52"/>
                        </a:lnTo>
                        <a:lnTo>
                          <a:pt x="390" y="54"/>
                        </a:lnTo>
                        <a:lnTo>
                          <a:pt x="400" y="56"/>
                        </a:lnTo>
                        <a:lnTo>
                          <a:pt x="410" y="58"/>
                        </a:lnTo>
                        <a:lnTo>
                          <a:pt x="421" y="61"/>
                        </a:lnTo>
                        <a:lnTo>
                          <a:pt x="431" y="63"/>
                        </a:lnTo>
                        <a:lnTo>
                          <a:pt x="431" y="81"/>
                        </a:lnTo>
                        <a:lnTo>
                          <a:pt x="431" y="98"/>
                        </a:lnTo>
                        <a:lnTo>
                          <a:pt x="431" y="116"/>
                        </a:lnTo>
                        <a:lnTo>
                          <a:pt x="431" y="135"/>
                        </a:lnTo>
                        <a:lnTo>
                          <a:pt x="411" y="134"/>
                        </a:lnTo>
                        <a:lnTo>
                          <a:pt x="391" y="133"/>
                        </a:lnTo>
                        <a:lnTo>
                          <a:pt x="371" y="132"/>
                        </a:lnTo>
                        <a:lnTo>
                          <a:pt x="352" y="131"/>
                        </a:lnTo>
                        <a:lnTo>
                          <a:pt x="332" y="130"/>
                        </a:lnTo>
                        <a:lnTo>
                          <a:pt x="311" y="129"/>
                        </a:lnTo>
                        <a:lnTo>
                          <a:pt x="291" y="127"/>
                        </a:lnTo>
                        <a:lnTo>
                          <a:pt x="271" y="126"/>
                        </a:lnTo>
                        <a:lnTo>
                          <a:pt x="265" y="132"/>
                        </a:lnTo>
                        <a:lnTo>
                          <a:pt x="258" y="137"/>
                        </a:lnTo>
                        <a:lnTo>
                          <a:pt x="252" y="142"/>
                        </a:lnTo>
                        <a:lnTo>
                          <a:pt x="245" y="147"/>
                        </a:lnTo>
                        <a:lnTo>
                          <a:pt x="230" y="145"/>
                        </a:lnTo>
                        <a:lnTo>
                          <a:pt x="214" y="143"/>
                        </a:lnTo>
                        <a:lnTo>
                          <a:pt x="198" y="141"/>
                        </a:lnTo>
                        <a:lnTo>
                          <a:pt x="183" y="139"/>
                        </a:lnTo>
                        <a:lnTo>
                          <a:pt x="168" y="137"/>
                        </a:lnTo>
                        <a:lnTo>
                          <a:pt x="153" y="135"/>
                        </a:lnTo>
                        <a:lnTo>
                          <a:pt x="138" y="133"/>
                        </a:lnTo>
                        <a:lnTo>
                          <a:pt x="123" y="131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6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8" y="58"/>
                        </a:lnTo>
                        <a:lnTo>
                          <a:pt x="111" y="51"/>
                        </a:lnTo>
                        <a:lnTo>
                          <a:pt x="123" y="44"/>
                        </a:lnTo>
                        <a:lnTo>
                          <a:pt x="135" y="37"/>
                        </a:lnTo>
                        <a:lnTo>
                          <a:pt x="147" y="28"/>
                        </a:lnTo>
                        <a:lnTo>
                          <a:pt x="159" y="21"/>
                        </a:lnTo>
                        <a:lnTo>
                          <a:pt x="172" y="14"/>
                        </a:lnTo>
                        <a:lnTo>
                          <a:pt x="184" y="7"/>
                        </a:lnTo>
                        <a:lnTo>
                          <a:pt x="196" y="0"/>
                        </a:lnTo>
                        <a:close/>
                      </a:path>
                    </a:pathLst>
                  </a:custGeom>
                  <a:solidFill>
                    <a:srgbClr val="26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004560" y="5677200"/>
                    <a:ext cx="918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46">
                        <a:moveTo>
                          <a:pt x="197" y="0"/>
                        </a:moveTo>
                        <a:lnTo>
                          <a:pt x="204" y="1"/>
                        </a:lnTo>
                        <a:lnTo>
                          <a:pt x="211" y="2"/>
                        </a:lnTo>
                        <a:lnTo>
                          <a:pt x="220" y="3"/>
                        </a:lnTo>
                        <a:lnTo>
                          <a:pt x="227" y="3"/>
                        </a:lnTo>
                        <a:lnTo>
                          <a:pt x="234" y="4"/>
                        </a:lnTo>
                        <a:lnTo>
                          <a:pt x="242" y="5"/>
                        </a:lnTo>
                        <a:lnTo>
                          <a:pt x="249" y="6"/>
                        </a:lnTo>
                        <a:lnTo>
                          <a:pt x="256" y="7"/>
                        </a:lnTo>
                        <a:lnTo>
                          <a:pt x="259" y="11"/>
                        </a:lnTo>
                        <a:lnTo>
                          <a:pt x="261" y="16"/>
                        </a:lnTo>
                        <a:lnTo>
                          <a:pt x="264" y="20"/>
                        </a:lnTo>
                        <a:lnTo>
                          <a:pt x="266" y="25"/>
                        </a:lnTo>
                        <a:lnTo>
                          <a:pt x="284" y="29"/>
                        </a:lnTo>
                        <a:lnTo>
                          <a:pt x="302" y="35"/>
                        </a:lnTo>
                        <a:lnTo>
                          <a:pt x="320" y="39"/>
                        </a:lnTo>
                        <a:lnTo>
                          <a:pt x="339" y="43"/>
                        </a:lnTo>
                        <a:lnTo>
                          <a:pt x="357" y="48"/>
                        </a:lnTo>
                        <a:lnTo>
                          <a:pt x="375" y="52"/>
                        </a:lnTo>
                        <a:lnTo>
                          <a:pt x="393" y="57"/>
                        </a:lnTo>
                        <a:lnTo>
                          <a:pt x="411" y="61"/>
                        </a:lnTo>
                        <a:lnTo>
                          <a:pt x="411" y="78"/>
                        </a:lnTo>
                        <a:lnTo>
                          <a:pt x="411" y="95"/>
                        </a:lnTo>
                        <a:lnTo>
                          <a:pt x="411" y="111"/>
                        </a:lnTo>
                        <a:lnTo>
                          <a:pt x="411" y="129"/>
                        </a:lnTo>
                        <a:lnTo>
                          <a:pt x="393" y="129"/>
                        </a:lnTo>
                        <a:lnTo>
                          <a:pt x="376" y="127"/>
                        </a:lnTo>
                        <a:lnTo>
                          <a:pt x="358" y="127"/>
                        </a:lnTo>
                        <a:lnTo>
                          <a:pt x="341" y="126"/>
                        </a:lnTo>
                        <a:lnTo>
                          <a:pt x="322" y="126"/>
                        </a:lnTo>
                        <a:lnTo>
                          <a:pt x="304" y="126"/>
                        </a:lnTo>
                        <a:lnTo>
                          <a:pt x="287" y="125"/>
                        </a:lnTo>
                        <a:lnTo>
                          <a:pt x="269" y="125"/>
                        </a:lnTo>
                        <a:lnTo>
                          <a:pt x="263" y="131"/>
                        </a:lnTo>
                        <a:lnTo>
                          <a:pt x="258" y="136"/>
                        </a:lnTo>
                        <a:lnTo>
                          <a:pt x="252" y="141"/>
                        </a:lnTo>
                        <a:lnTo>
                          <a:pt x="246" y="146"/>
                        </a:lnTo>
                        <a:lnTo>
                          <a:pt x="231" y="144"/>
                        </a:lnTo>
                        <a:lnTo>
                          <a:pt x="215" y="142"/>
                        </a:lnTo>
                        <a:lnTo>
                          <a:pt x="199" y="140"/>
                        </a:lnTo>
                        <a:lnTo>
                          <a:pt x="184" y="138"/>
                        </a:lnTo>
                        <a:lnTo>
                          <a:pt x="169" y="137"/>
                        </a:lnTo>
                        <a:lnTo>
                          <a:pt x="154" y="135"/>
                        </a:lnTo>
                        <a:lnTo>
                          <a:pt x="139" y="133"/>
                        </a:lnTo>
                        <a:lnTo>
                          <a:pt x="123" y="131"/>
                        </a:lnTo>
                        <a:lnTo>
                          <a:pt x="108" y="129"/>
                        </a:lnTo>
                        <a:lnTo>
                          <a:pt x="92" y="126"/>
                        </a:lnTo>
                        <a:lnTo>
                          <a:pt x="77" y="124"/>
                        </a:lnTo>
                        <a:lnTo>
                          <a:pt x="61" y="122"/>
                        </a:lnTo>
                        <a:lnTo>
                          <a:pt x="46" y="121"/>
                        </a:lnTo>
                        <a:lnTo>
                          <a:pt x="31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8" y="58"/>
                        </a:lnTo>
                        <a:lnTo>
                          <a:pt x="111" y="51"/>
                        </a:lnTo>
                        <a:lnTo>
                          <a:pt x="123" y="44"/>
                        </a:lnTo>
                        <a:lnTo>
                          <a:pt x="135" y="37"/>
                        </a:lnTo>
                        <a:lnTo>
                          <a:pt x="148" y="28"/>
                        </a:lnTo>
                        <a:lnTo>
                          <a:pt x="160" y="21"/>
                        </a:lnTo>
                        <a:lnTo>
                          <a:pt x="172" y="14"/>
                        </a:lnTo>
                        <a:lnTo>
                          <a:pt x="185" y="7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2830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004560" y="5677200"/>
                    <a:ext cx="871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145">
                        <a:moveTo>
                          <a:pt x="198" y="0"/>
                        </a:moveTo>
                        <a:lnTo>
                          <a:pt x="205" y="1"/>
                        </a:lnTo>
                        <a:lnTo>
                          <a:pt x="212" y="2"/>
                        </a:lnTo>
                        <a:lnTo>
                          <a:pt x="221" y="3"/>
                        </a:lnTo>
                        <a:lnTo>
                          <a:pt x="228" y="4"/>
                        </a:lnTo>
                        <a:lnTo>
                          <a:pt x="235" y="5"/>
                        </a:lnTo>
                        <a:lnTo>
                          <a:pt x="243" y="5"/>
                        </a:lnTo>
                        <a:lnTo>
                          <a:pt x="250" y="6"/>
                        </a:lnTo>
                        <a:lnTo>
                          <a:pt x="257" y="7"/>
                        </a:lnTo>
                        <a:lnTo>
                          <a:pt x="260" y="11"/>
                        </a:lnTo>
                        <a:lnTo>
                          <a:pt x="262" y="16"/>
                        </a:lnTo>
                        <a:lnTo>
                          <a:pt x="265" y="20"/>
                        </a:lnTo>
                        <a:lnTo>
                          <a:pt x="267" y="25"/>
                        </a:lnTo>
                        <a:lnTo>
                          <a:pt x="282" y="29"/>
                        </a:lnTo>
                        <a:lnTo>
                          <a:pt x="298" y="34"/>
                        </a:lnTo>
                        <a:lnTo>
                          <a:pt x="313" y="38"/>
                        </a:lnTo>
                        <a:lnTo>
                          <a:pt x="329" y="42"/>
                        </a:lnTo>
                        <a:lnTo>
                          <a:pt x="345" y="47"/>
                        </a:lnTo>
                        <a:lnTo>
                          <a:pt x="360" y="51"/>
                        </a:lnTo>
                        <a:lnTo>
                          <a:pt x="376" y="55"/>
                        </a:lnTo>
                        <a:lnTo>
                          <a:pt x="391" y="59"/>
                        </a:lnTo>
                        <a:lnTo>
                          <a:pt x="391" y="75"/>
                        </a:lnTo>
                        <a:lnTo>
                          <a:pt x="391" y="91"/>
                        </a:lnTo>
                        <a:lnTo>
                          <a:pt x="391" y="107"/>
                        </a:lnTo>
                        <a:lnTo>
                          <a:pt x="391" y="123"/>
                        </a:lnTo>
                        <a:lnTo>
                          <a:pt x="376" y="123"/>
                        </a:lnTo>
                        <a:lnTo>
                          <a:pt x="360" y="123"/>
                        </a:lnTo>
                        <a:lnTo>
                          <a:pt x="345" y="123"/>
                        </a:lnTo>
                        <a:lnTo>
                          <a:pt x="328" y="123"/>
                        </a:lnTo>
                        <a:lnTo>
                          <a:pt x="313" y="124"/>
                        </a:lnTo>
                        <a:lnTo>
                          <a:pt x="297" y="124"/>
                        </a:lnTo>
                        <a:lnTo>
                          <a:pt x="282" y="124"/>
                        </a:lnTo>
                        <a:lnTo>
                          <a:pt x="266" y="124"/>
                        </a:lnTo>
                        <a:lnTo>
                          <a:pt x="261" y="130"/>
                        </a:lnTo>
                        <a:lnTo>
                          <a:pt x="257" y="135"/>
                        </a:lnTo>
                        <a:lnTo>
                          <a:pt x="252" y="140"/>
                        </a:lnTo>
                        <a:lnTo>
                          <a:pt x="247" y="145"/>
                        </a:lnTo>
                        <a:lnTo>
                          <a:pt x="232" y="143"/>
                        </a:lnTo>
                        <a:lnTo>
                          <a:pt x="216" y="141"/>
                        </a:lnTo>
                        <a:lnTo>
                          <a:pt x="200" y="139"/>
                        </a:lnTo>
                        <a:lnTo>
                          <a:pt x="185" y="138"/>
                        </a:lnTo>
                        <a:lnTo>
                          <a:pt x="170" y="136"/>
                        </a:lnTo>
                        <a:lnTo>
                          <a:pt x="155" y="134"/>
                        </a:lnTo>
                        <a:lnTo>
                          <a:pt x="139" y="132"/>
                        </a:lnTo>
                        <a:lnTo>
                          <a:pt x="124" y="130"/>
                        </a:lnTo>
                        <a:lnTo>
                          <a:pt x="109" y="127"/>
                        </a:lnTo>
                        <a:lnTo>
                          <a:pt x="92" y="125"/>
                        </a:lnTo>
                        <a:lnTo>
                          <a:pt x="77" y="124"/>
                        </a:lnTo>
                        <a:lnTo>
                          <a:pt x="61" y="122"/>
                        </a:lnTo>
                        <a:lnTo>
                          <a:pt x="46" y="120"/>
                        </a:lnTo>
                        <a:lnTo>
                          <a:pt x="31" y="118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6" y="65"/>
                        </a:lnTo>
                        <a:lnTo>
                          <a:pt x="99" y="58"/>
                        </a:lnTo>
                        <a:lnTo>
                          <a:pt x="112" y="51"/>
                        </a:lnTo>
                        <a:lnTo>
                          <a:pt x="124" y="44"/>
                        </a:lnTo>
                        <a:lnTo>
                          <a:pt x="136" y="37"/>
                        </a:lnTo>
                        <a:lnTo>
                          <a:pt x="149" y="28"/>
                        </a:lnTo>
                        <a:lnTo>
                          <a:pt x="161" y="21"/>
                        </a:lnTo>
                        <a:lnTo>
                          <a:pt x="173" y="14"/>
                        </a:lnTo>
                        <a:lnTo>
                          <a:pt x="186" y="7"/>
                        </a:lnTo>
                        <a:lnTo>
                          <a:pt x="198" y="0"/>
                        </a:lnTo>
                        <a:close/>
                      </a:path>
                    </a:pathLst>
                  </a:custGeom>
                  <a:solidFill>
                    <a:srgbClr val="2b33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003120" y="5677200"/>
                    <a:ext cx="83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1" h="144">
                        <a:moveTo>
                          <a:pt x="199" y="0"/>
                        </a:moveTo>
                        <a:lnTo>
                          <a:pt x="206" y="1"/>
                        </a:lnTo>
                        <a:lnTo>
                          <a:pt x="213" y="2"/>
                        </a:lnTo>
                        <a:lnTo>
                          <a:pt x="222" y="3"/>
                        </a:lnTo>
                        <a:lnTo>
                          <a:pt x="229" y="4"/>
                        </a:lnTo>
                        <a:lnTo>
                          <a:pt x="236" y="5"/>
                        </a:lnTo>
                        <a:lnTo>
                          <a:pt x="244" y="6"/>
                        </a:lnTo>
                        <a:lnTo>
                          <a:pt x="251" y="7"/>
                        </a:lnTo>
                        <a:lnTo>
                          <a:pt x="258" y="8"/>
                        </a:lnTo>
                        <a:lnTo>
                          <a:pt x="261" y="12"/>
                        </a:lnTo>
                        <a:lnTo>
                          <a:pt x="263" y="16"/>
                        </a:lnTo>
                        <a:lnTo>
                          <a:pt x="266" y="21"/>
                        </a:lnTo>
                        <a:lnTo>
                          <a:pt x="268" y="25"/>
                        </a:lnTo>
                        <a:lnTo>
                          <a:pt x="281" y="29"/>
                        </a:lnTo>
                        <a:lnTo>
                          <a:pt x="294" y="34"/>
                        </a:lnTo>
                        <a:lnTo>
                          <a:pt x="306" y="38"/>
                        </a:lnTo>
                        <a:lnTo>
                          <a:pt x="319" y="41"/>
                        </a:lnTo>
                        <a:lnTo>
                          <a:pt x="332" y="45"/>
                        </a:lnTo>
                        <a:lnTo>
                          <a:pt x="346" y="49"/>
                        </a:lnTo>
                        <a:lnTo>
                          <a:pt x="358" y="53"/>
                        </a:lnTo>
                        <a:lnTo>
                          <a:pt x="371" y="57"/>
                        </a:lnTo>
                        <a:lnTo>
                          <a:pt x="371" y="72"/>
                        </a:lnTo>
                        <a:lnTo>
                          <a:pt x="371" y="87"/>
                        </a:lnTo>
                        <a:lnTo>
                          <a:pt x="371" y="102"/>
                        </a:lnTo>
                        <a:lnTo>
                          <a:pt x="371" y="117"/>
                        </a:lnTo>
                        <a:lnTo>
                          <a:pt x="358" y="118"/>
                        </a:lnTo>
                        <a:lnTo>
                          <a:pt x="345" y="118"/>
                        </a:lnTo>
                        <a:lnTo>
                          <a:pt x="330" y="119"/>
                        </a:lnTo>
                        <a:lnTo>
                          <a:pt x="317" y="120"/>
                        </a:lnTo>
                        <a:lnTo>
                          <a:pt x="304" y="121"/>
                        </a:lnTo>
                        <a:lnTo>
                          <a:pt x="290" y="121"/>
                        </a:lnTo>
                        <a:lnTo>
                          <a:pt x="277" y="122"/>
                        </a:lnTo>
                        <a:lnTo>
                          <a:pt x="264" y="123"/>
                        </a:lnTo>
                        <a:lnTo>
                          <a:pt x="260" y="129"/>
                        </a:lnTo>
                        <a:lnTo>
                          <a:pt x="256" y="134"/>
                        </a:lnTo>
                        <a:lnTo>
                          <a:pt x="252" y="139"/>
                        </a:lnTo>
                        <a:lnTo>
                          <a:pt x="248" y="144"/>
                        </a:lnTo>
                        <a:lnTo>
                          <a:pt x="233" y="142"/>
                        </a:lnTo>
                        <a:lnTo>
                          <a:pt x="216" y="140"/>
                        </a:lnTo>
                        <a:lnTo>
                          <a:pt x="201" y="138"/>
                        </a:lnTo>
                        <a:lnTo>
                          <a:pt x="186" y="137"/>
                        </a:lnTo>
                        <a:lnTo>
                          <a:pt x="170" y="135"/>
                        </a:lnTo>
                        <a:lnTo>
                          <a:pt x="155" y="133"/>
                        </a:lnTo>
                        <a:lnTo>
                          <a:pt x="139" y="131"/>
                        </a:lnTo>
                        <a:lnTo>
                          <a:pt x="124" y="130"/>
                        </a:lnTo>
                        <a:lnTo>
                          <a:pt x="108" y="127"/>
                        </a:lnTo>
                        <a:lnTo>
                          <a:pt x="92" y="125"/>
                        </a:lnTo>
                        <a:lnTo>
                          <a:pt x="77" y="123"/>
                        </a:lnTo>
                        <a:lnTo>
                          <a:pt x="62" y="122"/>
                        </a:lnTo>
                        <a:lnTo>
                          <a:pt x="46" y="120"/>
                        </a:lnTo>
                        <a:lnTo>
                          <a:pt x="31" y="118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50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2" y="51"/>
                        </a:lnTo>
                        <a:lnTo>
                          <a:pt x="125" y="44"/>
                        </a:lnTo>
                        <a:lnTo>
                          <a:pt x="137" y="37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4" y="14"/>
                        </a:lnTo>
                        <a:lnTo>
                          <a:pt x="187" y="7"/>
                        </a:lnTo>
                        <a:lnTo>
                          <a:pt x="199" y="0"/>
                        </a:lnTo>
                        <a:close/>
                      </a:path>
                    </a:pathLst>
                  </a:custGeom>
                  <a:solidFill>
                    <a:srgbClr val="333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003120" y="5677200"/>
                    <a:ext cx="78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143">
                        <a:moveTo>
                          <a:pt x="200" y="0"/>
                        </a:moveTo>
                        <a:lnTo>
                          <a:pt x="207" y="1"/>
                        </a:lnTo>
                        <a:lnTo>
                          <a:pt x="214" y="2"/>
                        </a:lnTo>
                        <a:lnTo>
                          <a:pt x="223" y="3"/>
                        </a:lnTo>
                        <a:lnTo>
                          <a:pt x="230" y="4"/>
                        </a:lnTo>
                        <a:lnTo>
                          <a:pt x="237" y="6"/>
                        </a:lnTo>
                        <a:lnTo>
                          <a:pt x="245" y="7"/>
                        </a:lnTo>
                        <a:lnTo>
                          <a:pt x="252" y="8"/>
                        </a:lnTo>
                        <a:lnTo>
                          <a:pt x="259" y="9"/>
                        </a:lnTo>
                        <a:lnTo>
                          <a:pt x="262" y="13"/>
                        </a:lnTo>
                        <a:lnTo>
                          <a:pt x="264" y="17"/>
                        </a:lnTo>
                        <a:lnTo>
                          <a:pt x="267" y="21"/>
                        </a:lnTo>
                        <a:lnTo>
                          <a:pt x="269" y="25"/>
                        </a:lnTo>
                        <a:lnTo>
                          <a:pt x="279" y="29"/>
                        </a:lnTo>
                        <a:lnTo>
                          <a:pt x="289" y="33"/>
                        </a:lnTo>
                        <a:lnTo>
                          <a:pt x="299" y="37"/>
                        </a:lnTo>
                        <a:lnTo>
                          <a:pt x="310" y="40"/>
                        </a:lnTo>
                        <a:lnTo>
                          <a:pt x="320" y="44"/>
                        </a:lnTo>
                        <a:lnTo>
                          <a:pt x="330" y="48"/>
                        </a:lnTo>
                        <a:lnTo>
                          <a:pt x="341" y="51"/>
                        </a:lnTo>
                        <a:lnTo>
                          <a:pt x="351" y="55"/>
                        </a:lnTo>
                        <a:lnTo>
                          <a:pt x="351" y="69"/>
                        </a:lnTo>
                        <a:lnTo>
                          <a:pt x="351" y="83"/>
                        </a:lnTo>
                        <a:lnTo>
                          <a:pt x="351" y="97"/>
                        </a:lnTo>
                        <a:lnTo>
                          <a:pt x="351" y="111"/>
                        </a:lnTo>
                        <a:lnTo>
                          <a:pt x="340" y="112"/>
                        </a:lnTo>
                        <a:lnTo>
                          <a:pt x="328" y="114"/>
                        </a:lnTo>
                        <a:lnTo>
                          <a:pt x="317" y="115"/>
                        </a:lnTo>
                        <a:lnTo>
                          <a:pt x="306" y="116"/>
                        </a:lnTo>
                        <a:lnTo>
                          <a:pt x="295" y="118"/>
                        </a:lnTo>
                        <a:lnTo>
                          <a:pt x="283" y="119"/>
                        </a:lnTo>
                        <a:lnTo>
                          <a:pt x="272" y="121"/>
                        </a:lnTo>
                        <a:lnTo>
                          <a:pt x="261" y="122"/>
                        </a:lnTo>
                        <a:lnTo>
                          <a:pt x="258" y="127"/>
                        </a:lnTo>
                        <a:lnTo>
                          <a:pt x="255" y="133"/>
                        </a:lnTo>
                        <a:lnTo>
                          <a:pt x="252" y="138"/>
                        </a:lnTo>
                        <a:lnTo>
                          <a:pt x="249" y="143"/>
                        </a:lnTo>
                        <a:lnTo>
                          <a:pt x="234" y="141"/>
                        </a:lnTo>
                        <a:lnTo>
                          <a:pt x="217" y="140"/>
                        </a:lnTo>
                        <a:lnTo>
                          <a:pt x="202" y="138"/>
                        </a:lnTo>
                        <a:lnTo>
                          <a:pt x="186" y="136"/>
                        </a:lnTo>
                        <a:lnTo>
                          <a:pt x="171" y="135"/>
                        </a:lnTo>
                        <a:lnTo>
                          <a:pt x="156" y="133"/>
                        </a:lnTo>
                        <a:lnTo>
                          <a:pt x="140" y="131"/>
                        </a:lnTo>
                        <a:lnTo>
                          <a:pt x="125" y="129"/>
                        </a:lnTo>
                        <a:lnTo>
                          <a:pt x="108" y="127"/>
                        </a:lnTo>
                        <a:lnTo>
                          <a:pt x="93" y="125"/>
                        </a:lnTo>
                        <a:lnTo>
                          <a:pt x="78" y="123"/>
                        </a:lnTo>
                        <a:lnTo>
                          <a:pt x="62" y="122"/>
                        </a:lnTo>
                        <a:lnTo>
                          <a:pt x="47" y="120"/>
                        </a:lnTo>
                        <a:lnTo>
                          <a:pt x="31" y="118"/>
                        </a:lnTo>
                        <a:lnTo>
                          <a:pt x="16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50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3" y="51"/>
                        </a:lnTo>
                        <a:lnTo>
                          <a:pt x="125" y="44"/>
                        </a:lnTo>
                        <a:lnTo>
                          <a:pt x="137" y="37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5" y="14"/>
                        </a:lnTo>
                        <a:lnTo>
                          <a:pt x="187" y="7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353d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003120" y="5677200"/>
                    <a:ext cx="74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2">
                        <a:moveTo>
                          <a:pt x="201" y="0"/>
                        </a:moveTo>
                        <a:lnTo>
                          <a:pt x="208" y="1"/>
                        </a:lnTo>
                        <a:lnTo>
                          <a:pt x="215" y="2"/>
                        </a:lnTo>
                        <a:lnTo>
                          <a:pt x="224" y="3"/>
                        </a:lnTo>
                        <a:lnTo>
                          <a:pt x="231" y="4"/>
                        </a:lnTo>
                        <a:lnTo>
                          <a:pt x="238" y="6"/>
                        </a:lnTo>
                        <a:lnTo>
                          <a:pt x="246" y="7"/>
                        </a:lnTo>
                        <a:lnTo>
                          <a:pt x="253" y="8"/>
                        </a:lnTo>
                        <a:lnTo>
                          <a:pt x="260" y="9"/>
                        </a:lnTo>
                        <a:lnTo>
                          <a:pt x="263" y="13"/>
                        </a:lnTo>
                        <a:lnTo>
                          <a:pt x="265" y="17"/>
                        </a:lnTo>
                        <a:lnTo>
                          <a:pt x="268" y="21"/>
                        </a:lnTo>
                        <a:lnTo>
                          <a:pt x="270" y="25"/>
                        </a:lnTo>
                        <a:lnTo>
                          <a:pt x="278" y="28"/>
                        </a:lnTo>
                        <a:lnTo>
                          <a:pt x="285" y="33"/>
                        </a:lnTo>
                        <a:lnTo>
                          <a:pt x="293" y="36"/>
                        </a:lnTo>
                        <a:lnTo>
                          <a:pt x="300" y="39"/>
                        </a:lnTo>
                        <a:lnTo>
                          <a:pt x="308" y="43"/>
                        </a:lnTo>
                        <a:lnTo>
                          <a:pt x="315" y="46"/>
                        </a:lnTo>
                        <a:lnTo>
                          <a:pt x="323" y="50"/>
                        </a:lnTo>
                        <a:lnTo>
                          <a:pt x="330" y="53"/>
                        </a:lnTo>
                        <a:lnTo>
                          <a:pt x="330" y="66"/>
                        </a:lnTo>
                        <a:lnTo>
                          <a:pt x="330" y="79"/>
                        </a:lnTo>
                        <a:lnTo>
                          <a:pt x="330" y="93"/>
                        </a:lnTo>
                        <a:lnTo>
                          <a:pt x="330" y="106"/>
                        </a:lnTo>
                        <a:lnTo>
                          <a:pt x="321" y="108"/>
                        </a:lnTo>
                        <a:lnTo>
                          <a:pt x="312" y="110"/>
                        </a:lnTo>
                        <a:lnTo>
                          <a:pt x="303" y="112"/>
                        </a:lnTo>
                        <a:lnTo>
                          <a:pt x="295" y="113"/>
                        </a:lnTo>
                        <a:lnTo>
                          <a:pt x="286" y="115"/>
                        </a:lnTo>
                        <a:lnTo>
                          <a:pt x="277" y="117"/>
                        </a:lnTo>
                        <a:lnTo>
                          <a:pt x="268" y="119"/>
                        </a:lnTo>
                        <a:lnTo>
                          <a:pt x="259" y="121"/>
                        </a:lnTo>
                        <a:lnTo>
                          <a:pt x="257" y="126"/>
                        </a:lnTo>
                        <a:lnTo>
                          <a:pt x="255" y="132"/>
                        </a:lnTo>
                        <a:lnTo>
                          <a:pt x="252" y="137"/>
                        </a:lnTo>
                        <a:lnTo>
                          <a:pt x="250" y="142"/>
                        </a:lnTo>
                        <a:lnTo>
                          <a:pt x="235" y="140"/>
                        </a:lnTo>
                        <a:lnTo>
                          <a:pt x="218" y="139"/>
                        </a:lnTo>
                        <a:lnTo>
                          <a:pt x="203" y="137"/>
                        </a:lnTo>
                        <a:lnTo>
                          <a:pt x="187" y="135"/>
                        </a:lnTo>
                        <a:lnTo>
                          <a:pt x="172" y="134"/>
                        </a:lnTo>
                        <a:lnTo>
                          <a:pt x="156" y="132"/>
                        </a:lnTo>
                        <a:lnTo>
                          <a:pt x="141" y="130"/>
                        </a:lnTo>
                        <a:lnTo>
                          <a:pt x="125" y="129"/>
                        </a:lnTo>
                        <a:lnTo>
                          <a:pt x="109" y="126"/>
                        </a:lnTo>
                        <a:lnTo>
                          <a:pt x="93" y="124"/>
                        </a:lnTo>
                        <a:lnTo>
                          <a:pt x="78" y="123"/>
                        </a:lnTo>
                        <a:lnTo>
                          <a:pt x="62" y="121"/>
                        </a:lnTo>
                        <a:lnTo>
                          <a:pt x="47" y="120"/>
                        </a:lnTo>
                        <a:lnTo>
                          <a:pt x="31" y="118"/>
                        </a:lnTo>
                        <a:lnTo>
                          <a:pt x="16" y="117"/>
                        </a:lnTo>
                        <a:lnTo>
                          <a:pt x="0" y="115"/>
                        </a:lnTo>
                        <a:lnTo>
                          <a:pt x="13" y="108"/>
                        </a:lnTo>
                        <a:lnTo>
                          <a:pt x="25" y="101"/>
                        </a:lnTo>
                        <a:lnTo>
                          <a:pt x="38" y="94"/>
                        </a:lnTo>
                        <a:lnTo>
                          <a:pt x="50" y="86"/>
                        </a:lnTo>
                        <a:lnTo>
                          <a:pt x="63" y="79"/>
                        </a:lnTo>
                        <a:lnTo>
                          <a:pt x="75" y="72"/>
                        </a:lnTo>
                        <a:lnTo>
                          <a:pt x="88" y="65"/>
                        </a:lnTo>
                        <a:lnTo>
                          <a:pt x="100" y="58"/>
                        </a:lnTo>
                        <a:lnTo>
                          <a:pt x="113" y="51"/>
                        </a:lnTo>
                        <a:lnTo>
                          <a:pt x="126" y="44"/>
                        </a:lnTo>
                        <a:lnTo>
                          <a:pt x="138" y="37"/>
                        </a:lnTo>
                        <a:lnTo>
                          <a:pt x="151" y="28"/>
                        </a:lnTo>
                        <a:lnTo>
                          <a:pt x="163" y="21"/>
                        </a:lnTo>
                        <a:lnTo>
                          <a:pt x="176" y="14"/>
                        </a:lnTo>
                        <a:lnTo>
                          <a:pt x="188" y="7"/>
                        </a:lnTo>
                        <a:lnTo>
                          <a:pt x="201" y="0"/>
                        </a:lnTo>
                        <a:close/>
                      </a:path>
                    </a:pathLst>
                  </a:custGeom>
                  <a:solidFill>
                    <a:srgbClr val="3842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003120" y="5677200"/>
                    <a:ext cx="69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41">
                        <a:moveTo>
                          <a:pt x="203" y="0"/>
                        </a:moveTo>
                        <a:lnTo>
                          <a:pt x="262" y="10"/>
                        </a:lnTo>
                        <a:lnTo>
                          <a:pt x="272" y="25"/>
                        </a:lnTo>
                        <a:lnTo>
                          <a:pt x="311" y="51"/>
                        </a:lnTo>
                        <a:lnTo>
                          <a:pt x="311" y="100"/>
                        </a:lnTo>
                        <a:lnTo>
                          <a:pt x="257" y="120"/>
                        </a:lnTo>
                        <a:lnTo>
                          <a:pt x="252" y="141"/>
                        </a:lnTo>
                        <a:lnTo>
                          <a:pt x="0" y="115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090240" y="5651640"/>
                    <a:ext cx="72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48">
                        <a:moveTo>
                          <a:pt x="31" y="0"/>
                        </a:moveTo>
                        <a:lnTo>
                          <a:pt x="322" y="32"/>
                        </a:lnTo>
                        <a:lnTo>
                          <a:pt x="296" y="48"/>
                        </a:lnTo>
                        <a:lnTo>
                          <a:pt x="0" y="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067920" y="5651640"/>
                    <a:ext cx="31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1">
                        <a:moveTo>
                          <a:pt x="0" y="61"/>
                        </a:moveTo>
                        <a:lnTo>
                          <a:pt x="33" y="61"/>
                        </a:lnTo>
                        <a:lnTo>
                          <a:pt x="138" y="14"/>
                        </a:lnTo>
                        <a:lnTo>
                          <a:pt x="130" y="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092040" y="5710320"/>
                    <a:ext cx="190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4" h="149">
                        <a:moveTo>
                          <a:pt x="758" y="149"/>
                        </a:moveTo>
                        <a:lnTo>
                          <a:pt x="844" y="96"/>
                        </a:lnTo>
                        <a:lnTo>
                          <a:pt x="696" y="86"/>
                        </a:lnTo>
                        <a:lnTo>
                          <a:pt x="448" y="57"/>
                        </a:lnTo>
                        <a:lnTo>
                          <a:pt x="289" y="28"/>
                        </a:lnTo>
                        <a:lnTo>
                          <a:pt x="0" y="0"/>
                        </a:lnTo>
                        <a:lnTo>
                          <a:pt x="366" y="52"/>
                        </a:lnTo>
                        <a:lnTo>
                          <a:pt x="366" y="84"/>
                        </a:lnTo>
                        <a:lnTo>
                          <a:pt x="758" y="149"/>
                        </a:lnTo>
                        <a:close/>
                      </a:path>
                    </a:pathLst>
                  </a:custGeom>
                  <a:solidFill>
                    <a:srgbClr val="4235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303000" y="5685120"/>
                    <a:ext cx="56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137">
                        <a:moveTo>
                          <a:pt x="164" y="0"/>
                        </a:moveTo>
                        <a:lnTo>
                          <a:pt x="250" y="12"/>
                        </a:lnTo>
                        <a:lnTo>
                          <a:pt x="38" y="137"/>
                        </a:lnTo>
                        <a:lnTo>
                          <a:pt x="0" y="127"/>
                        </a:lnTo>
                        <a:lnTo>
                          <a:pt x="0" y="99"/>
                        </a:lnTo>
                        <a:lnTo>
                          <a:pt x="48" y="39"/>
                        </a:lnTo>
                        <a:lnTo>
                          <a:pt x="100" y="39"/>
                        </a:lnTo>
                        <a:lnTo>
                          <a:pt x="148" y="35"/>
                        </a:lnTo>
                        <a:lnTo>
                          <a:pt x="164" y="0"/>
                        </a:lnTo>
                        <a:close/>
                      </a:path>
                    </a:pathLst>
                  </a:custGeom>
                  <a:solidFill>
                    <a:srgbClr val="4235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249000" y="5629320"/>
                    <a:ext cx="997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331">
                        <a:moveTo>
                          <a:pt x="0" y="249"/>
                        </a:moveTo>
                        <a:lnTo>
                          <a:pt x="434" y="0"/>
                        </a:lnTo>
                        <a:lnTo>
                          <a:pt x="437" y="67"/>
                        </a:lnTo>
                        <a:lnTo>
                          <a:pt x="1" y="331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000f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255480" y="5629320"/>
                    <a:ext cx="932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315">
                        <a:moveTo>
                          <a:pt x="0" y="233"/>
                        </a:moveTo>
                        <a:lnTo>
                          <a:pt x="26" y="219"/>
                        </a:lnTo>
                        <a:lnTo>
                          <a:pt x="52" y="204"/>
                        </a:lnTo>
                        <a:lnTo>
                          <a:pt x="77" y="190"/>
                        </a:lnTo>
                        <a:lnTo>
                          <a:pt x="102" y="175"/>
                        </a:lnTo>
                        <a:lnTo>
                          <a:pt x="129" y="161"/>
                        </a:lnTo>
                        <a:lnTo>
                          <a:pt x="154" y="146"/>
                        </a:lnTo>
                        <a:lnTo>
                          <a:pt x="179" y="131"/>
                        </a:lnTo>
                        <a:lnTo>
                          <a:pt x="204" y="116"/>
                        </a:lnTo>
                        <a:lnTo>
                          <a:pt x="230" y="102"/>
                        </a:lnTo>
                        <a:lnTo>
                          <a:pt x="256" y="88"/>
                        </a:lnTo>
                        <a:lnTo>
                          <a:pt x="281" y="73"/>
                        </a:lnTo>
                        <a:lnTo>
                          <a:pt x="306" y="59"/>
                        </a:lnTo>
                        <a:lnTo>
                          <a:pt x="332" y="43"/>
                        </a:lnTo>
                        <a:lnTo>
                          <a:pt x="358" y="29"/>
                        </a:lnTo>
                        <a:lnTo>
                          <a:pt x="383" y="14"/>
                        </a:lnTo>
                        <a:lnTo>
                          <a:pt x="408" y="0"/>
                        </a:lnTo>
                        <a:lnTo>
                          <a:pt x="409" y="16"/>
                        </a:lnTo>
                        <a:lnTo>
                          <a:pt x="409" y="33"/>
                        </a:lnTo>
                        <a:lnTo>
                          <a:pt x="410" y="50"/>
                        </a:lnTo>
                        <a:lnTo>
                          <a:pt x="410" y="67"/>
                        </a:lnTo>
                        <a:lnTo>
                          <a:pt x="385" y="82"/>
                        </a:lnTo>
                        <a:lnTo>
                          <a:pt x="360" y="98"/>
                        </a:lnTo>
                        <a:lnTo>
                          <a:pt x="334" y="113"/>
                        </a:lnTo>
                        <a:lnTo>
                          <a:pt x="309" y="128"/>
                        </a:lnTo>
                        <a:lnTo>
                          <a:pt x="284" y="145"/>
                        </a:lnTo>
                        <a:lnTo>
                          <a:pt x="258" y="160"/>
                        </a:lnTo>
                        <a:lnTo>
                          <a:pt x="233" y="176"/>
                        </a:lnTo>
                        <a:lnTo>
                          <a:pt x="207" y="191"/>
                        </a:lnTo>
                        <a:lnTo>
                          <a:pt x="181" y="206"/>
                        </a:lnTo>
                        <a:lnTo>
                          <a:pt x="156" y="222"/>
                        </a:lnTo>
                        <a:lnTo>
                          <a:pt x="130" y="237"/>
                        </a:lnTo>
                        <a:lnTo>
                          <a:pt x="104" y="253"/>
                        </a:lnTo>
                        <a:lnTo>
                          <a:pt x="78" y="269"/>
                        </a:lnTo>
                        <a:lnTo>
                          <a:pt x="53" y="284"/>
                        </a:lnTo>
                        <a:lnTo>
                          <a:pt x="27" y="300"/>
                        </a:lnTo>
                        <a:lnTo>
                          <a:pt x="1" y="315"/>
                        </a:lnTo>
                        <a:lnTo>
                          <a:pt x="0" y="295"/>
                        </a:lnTo>
                        <a:lnTo>
                          <a:pt x="0" y="274"/>
                        </a:lnTo>
                        <a:lnTo>
                          <a:pt x="0" y="254"/>
                        </a:lnTo>
                        <a:lnTo>
                          <a:pt x="0" y="233"/>
                        </a:lnTo>
                        <a:close/>
                      </a:path>
                    </a:pathLst>
                  </a:custGeom>
                  <a:solidFill>
                    <a:srgbClr val="001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261600" y="5629320"/>
                    <a:ext cx="871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99">
                        <a:moveTo>
                          <a:pt x="0" y="218"/>
                        </a:moveTo>
                        <a:lnTo>
                          <a:pt x="24" y="204"/>
                        </a:lnTo>
                        <a:lnTo>
                          <a:pt x="48" y="191"/>
                        </a:lnTo>
                        <a:lnTo>
                          <a:pt x="71" y="177"/>
                        </a:lnTo>
                        <a:lnTo>
                          <a:pt x="96" y="164"/>
                        </a:lnTo>
                        <a:lnTo>
                          <a:pt x="120" y="150"/>
                        </a:lnTo>
                        <a:lnTo>
                          <a:pt x="143" y="136"/>
                        </a:lnTo>
                        <a:lnTo>
                          <a:pt x="167" y="122"/>
                        </a:lnTo>
                        <a:lnTo>
                          <a:pt x="191" y="109"/>
                        </a:lnTo>
                        <a:lnTo>
                          <a:pt x="215" y="95"/>
                        </a:lnTo>
                        <a:lnTo>
                          <a:pt x="239" y="82"/>
                        </a:lnTo>
                        <a:lnTo>
                          <a:pt x="263" y="68"/>
                        </a:lnTo>
                        <a:lnTo>
                          <a:pt x="286" y="55"/>
                        </a:lnTo>
                        <a:lnTo>
                          <a:pt x="310" y="40"/>
                        </a:lnTo>
                        <a:lnTo>
                          <a:pt x="334" y="27"/>
                        </a:lnTo>
                        <a:lnTo>
                          <a:pt x="358" y="13"/>
                        </a:lnTo>
                        <a:lnTo>
                          <a:pt x="381" y="0"/>
                        </a:lnTo>
                        <a:lnTo>
                          <a:pt x="382" y="16"/>
                        </a:lnTo>
                        <a:lnTo>
                          <a:pt x="383" y="33"/>
                        </a:lnTo>
                        <a:lnTo>
                          <a:pt x="383" y="50"/>
                        </a:lnTo>
                        <a:lnTo>
                          <a:pt x="384" y="67"/>
                        </a:lnTo>
                        <a:lnTo>
                          <a:pt x="361" y="81"/>
                        </a:lnTo>
                        <a:lnTo>
                          <a:pt x="337" y="96"/>
                        </a:lnTo>
                        <a:lnTo>
                          <a:pt x="312" y="110"/>
                        </a:lnTo>
                        <a:lnTo>
                          <a:pt x="289" y="125"/>
                        </a:lnTo>
                        <a:lnTo>
                          <a:pt x="265" y="139"/>
                        </a:lnTo>
                        <a:lnTo>
                          <a:pt x="241" y="155"/>
                        </a:lnTo>
                        <a:lnTo>
                          <a:pt x="218" y="169"/>
                        </a:lnTo>
                        <a:lnTo>
                          <a:pt x="193" y="183"/>
                        </a:lnTo>
                        <a:lnTo>
                          <a:pt x="169" y="198"/>
                        </a:lnTo>
                        <a:lnTo>
                          <a:pt x="145" y="212"/>
                        </a:lnTo>
                        <a:lnTo>
                          <a:pt x="121" y="226"/>
                        </a:lnTo>
                        <a:lnTo>
                          <a:pt x="97" y="242"/>
                        </a:lnTo>
                        <a:lnTo>
                          <a:pt x="73" y="256"/>
                        </a:lnTo>
                        <a:lnTo>
                          <a:pt x="49" y="270"/>
                        </a:lnTo>
                        <a:lnTo>
                          <a:pt x="25" y="285"/>
                        </a:lnTo>
                        <a:lnTo>
                          <a:pt x="1" y="299"/>
                        </a:lnTo>
                        <a:lnTo>
                          <a:pt x="1" y="279"/>
                        </a:lnTo>
                        <a:lnTo>
                          <a:pt x="1" y="259"/>
                        </a:lnTo>
                        <a:lnTo>
                          <a:pt x="0" y="238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1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268080" y="5629320"/>
                    <a:ext cx="80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284">
                        <a:moveTo>
                          <a:pt x="0" y="202"/>
                        </a:moveTo>
                        <a:lnTo>
                          <a:pt x="22" y="190"/>
                        </a:lnTo>
                        <a:lnTo>
                          <a:pt x="44" y="177"/>
                        </a:lnTo>
                        <a:lnTo>
                          <a:pt x="67" y="165"/>
                        </a:lnTo>
                        <a:lnTo>
                          <a:pt x="89" y="152"/>
                        </a:lnTo>
                        <a:lnTo>
                          <a:pt x="111" y="139"/>
                        </a:lnTo>
                        <a:lnTo>
                          <a:pt x="133" y="126"/>
                        </a:lnTo>
                        <a:lnTo>
                          <a:pt x="155" y="114"/>
                        </a:lnTo>
                        <a:lnTo>
                          <a:pt x="178" y="101"/>
                        </a:lnTo>
                        <a:lnTo>
                          <a:pt x="200" y="89"/>
                        </a:lnTo>
                        <a:lnTo>
                          <a:pt x="222" y="76"/>
                        </a:lnTo>
                        <a:lnTo>
                          <a:pt x="244" y="64"/>
                        </a:lnTo>
                        <a:lnTo>
                          <a:pt x="266" y="51"/>
                        </a:lnTo>
                        <a:lnTo>
                          <a:pt x="288" y="38"/>
                        </a:lnTo>
                        <a:lnTo>
                          <a:pt x="311" y="25"/>
                        </a:lnTo>
                        <a:lnTo>
                          <a:pt x="333" y="13"/>
                        </a:lnTo>
                        <a:lnTo>
                          <a:pt x="355" y="0"/>
                        </a:lnTo>
                        <a:lnTo>
                          <a:pt x="355" y="16"/>
                        </a:lnTo>
                        <a:lnTo>
                          <a:pt x="356" y="33"/>
                        </a:lnTo>
                        <a:lnTo>
                          <a:pt x="356" y="50"/>
                        </a:lnTo>
                        <a:lnTo>
                          <a:pt x="357" y="67"/>
                        </a:lnTo>
                        <a:lnTo>
                          <a:pt x="335" y="80"/>
                        </a:lnTo>
                        <a:lnTo>
                          <a:pt x="313" y="94"/>
                        </a:lnTo>
                        <a:lnTo>
                          <a:pt x="291" y="107"/>
                        </a:lnTo>
                        <a:lnTo>
                          <a:pt x="268" y="121"/>
                        </a:lnTo>
                        <a:lnTo>
                          <a:pt x="246" y="134"/>
                        </a:lnTo>
                        <a:lnTo>
                          <a:pt x="224" y="149"/>
                        </a:lnTo>
                        <a:lnTo>
                          <a:pt x="202" y="162"/>
                        </a:lnTo>
                        <a:lnTo>
                          <a:pt x="180" y="175"/>
                        </a:lnTo>
                        <a:lnTo>
                          <a:pt x="157" y="189"/>
                        </a:lnTo>
                        <a:lnTo>
                          <a:pt x="135" y="202"/>
                        </a:lnTo>
                        <a:lnTo>
                          <a:pt x="112" y="216"/>
                        </a:lnTo>
                        <a:lnTo>
                          <a:pt x="90" y="229"/>
                        </a:lnTo>
                        <a:lnTo>
                          <a:pt x="68" y="244"/>
                        </a:lnTo>
                        <a:lnTo>
                          <a:pt x="45" y="257"/>
                        </a:lnTo>
                        <a:lnTo>
                          <a:pt x="22" y="271"/>
                        </a:lnTo>
                        <a:lnTo>
                          <a:pt x="0" y="284"/>
                        </a:lnTo>
                        <a:lnTo>
                          <a:pt x="0" y="264"/>
                        </a:lnTo>
                        <a:lnTo>
                          <a:pt x="0" y="243"/>
                        </a:lnTo>
                        <a:lnTo>
                          <a:pt x="0" y="222"/>
                        </a:lnTo>
                        <a:lnTo>
                          <a:pt x="0" y="202"/>
                        </a:lnTo>
                        <a:close/>
                      </a:path>
                    </a:pathLst>
                  </a:custGeom>
                  <a:solidFill>
                    <a:srgbClr val="0014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272760" y="5629320"/>
                    <a:ext cx="759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268">
                        <a:moveTo>
                          <a:pt x="0" y="187"/>
                        </a:moveTo>
                        <a:lnTo>
                          <a:pt x="21" y="175"/>
                        </a:lnTo>
                        <a:lnTo>
                          <a:pt x="42" y="164"/>
                        </a:lnTo>
                        <a:lnTo>
                          <a:pt x="63" y="152"/>
                        </a:lnTo>
                        <a:lnTo>
                          <a:pt x="83" y="140"/>
                        </a:lnTo>
                        <a:lnTo>
                          <a:pt x="104" y="128"/>
                        </a:lnTo>
                        <a:lnTo>
                          <a:pt x="125" y="117"/>
                        </a:lnTo>
                        <a:lnTo>
                          <a:pt x="145" y="105"/>
                        </a:lnTo>
                        <a:lnTo>
                          <a:pt x="167" y="93"/>
                        </a:lnTo>
                        <a:lnTo>
                          <a:pt x="187" y="82"/>
                        </a:lnTo>
                        <a:lnTo>
                          <a:pt x="208" y="70"/>
                        </a:lnTo>
                        <a:lnTo>
                          <a:pt x="228" y="59"/>
                        </a:lnTo>
                        <a:lnTo>
                          <a:pt x="248" y="46"/>
                        </a:lnTo>
                        <a:lnTo>
                          <a:pt x="270" y="35"/>
                        </a:lnTo>
                        <a:lnTo>
                          <a:pt x="290" y="23"/>
                        </a:lnTo>
                        <a:lnTo>
                          <a:pt x="310" y="12"/>
                        </a:lnTo>
                        <a:lnTo>
                          <a:pt x="330" y="0"/>
                        </a:lnTo>
                        <a:lnTo>
                          <a:pt x="331" y="17"/>
                        </a:lnTo>
                        <a:lnTo>
                          <a:pt x="332" y="33"/>
                        </a:lnTo>
                        <a:lnTo>
                          <a:pt x="332" y="51"/>
                        </a:lnTo>
                        <a:lnTo>
                          <a:pt x="333" y="68"/>
                        </a:lnTo>
                        <a:lnTo>
                          <a:pt x="313" y="80"/>
                        </a:lnTo>
                        <a:lnTo>
                          <a:pt x="292" y="93"/>
                        </a:lnTo>
                        <a:lnTo>
                          <a:pt x="272" y="105"/>
                        </a:lnTo>
                        <a:lnTo>
                          <a:pt x="251" y="117"/>
                        </a:lnTo>
                        <a:lnTo>
                          <a:pt x="230" y="130"/>
                        </a:lnTo>
                        <a:lnTo>
                          <a:pt x="210" y="142"/>
                        </a:lnTo>
                        <a:lnTo>
                          <a:pt x="189" y="156"/>
                        </a:lnTo>
                        <a:lnTo>
                          <a:pt x="169" y="168"/>
                        </a:lnTo>
                        <a:lnTo>
                          <a:pt x="147" y="180"/>
                        </a:lnTo>
                        <a:lnTo>
                          <a:pt x="127" y="193"/>
                        </a:lnTo>
                        <a:lnTo>
                          <a:pt x="106" y="205"/>
                        </a:lnTo>
                        <a:lnTo>
                          <a:pt x="85" y="217"/>
                        </a:lnTo>
                        <a:lnTo>
                          <a:pt x="65" y="230"/>
                        </a:lnTo>
                        <a:lnTo>
                          <a:pt x="44" y="243"/>
                        </a:lnTo>
                        <a:lnTo>
                          <a:pt x="23" y="256"/>
                        </a:lnTo>
                        <a:lnTo>
                          <a:pt x="2" y="268"/>
                        </a:lnTo>
                        <a:lnTo>
                          <a:pt x="1" y="248"/>
                        </a:lnTo>
                        <a:lnTo>
                          <a:pt x="1" y="227"/>
                        </a:lnTo>
                        <a:lnTo>
                          <a:pt x="1" y="207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0016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279240" y="5629320"/>
                    <a:ext cx="69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53">
                        <a:moveTo>
                          <a:pt x="0" y="173"/>
                        </a:moveTo>
                        <a:lnTo>
                          <a:pt x="20" y="162"/>
                        </a:lnTo>
                        <a:lnTo>
                          <a:pt x="39" y="152"/>
                        </a:lnTo>
                        <a:lnTo>
                          <a:pt x="58" y="140"/>
                        </a:lnTo>
                        <a:lnTo>
                          <a:pt x="76" y="129"/>
                        </a:lnTo>
                        <a:lnTo>
                          <a:pt x="95" y="119"/>
                        </a:lnTo>
                        <a:lnTo>
                          <a:pt x="114" y="108"/>
                        </a:lnTo>
                        <a:lnTo>
                          <a:pt x="134" y="97"/>
                        </a:lnTo>
                        <a:lnTo>
                          <a:pt x="153" y="86"/>
                        </a:lnTo>
                        <a:lnTo>
                          <a:pt x="171" y="76"/>
                        </a:lnTo>
                        <a:lnTo>
                          <a:pt x="190" y="65"/>
                        </a:lnTo>
                        <a:lnTo>
                          <a:pt x="209" y="54"/>
                        </a:lnTo>
                        <a:lnTo>
                          <a:pt x="228" y="43"/>
                        </a:lnTo>
                        <a:lnTo>
                          <a:pt x="247" y="32"/>
                        </a:lnTo>
                        <a:lnTo>
                          <a:pt x="266" y="21"/>
                        </a:lnTo>
                        <a:lnTo>
                          <a:pt x="285" y="11"/>
                        </a:lnTo>
                        <a:lnTo>
                          <a:pt x="304" y="0"/>
                        </a:lnTo>
                        <a:lnTo>
                          <a:pt x="304" y="17"/>
                        </a:lnTo>
                        <a:lnTo>
                          <a:pt x="305" y="34"/>
                        </a:lnTo>
                        <a:lnTo>
                          <a:pt x="305" y="52"/>
                        </a:lnTo>
                        <a:lnTo>
                          <a:pt x="306" y="69"/>
                        </a:lnTo>
                        <a:lnTo>
                          <a:pt x="287" y="80"/>
                        </a:lnTo>
                        <a:lnTo>
                          <a:pt x="268" y="92"/>
                        </a:lnTo>
                        <a:lnTo>
                          <a:pt x="249" y="103"/>
                        </a:lnTo>
                        <a:lnTo>
                          <a:pt x="229" y="114"/>
                        </a:lnTo>
                        <a:lnTo>
                          <a:pt x="211" y="126"/>
                        </a:lnTo>
                        <a:lnTo>
                          <a:pt x="192" y="137"/>
                        </a:lnTo>
                        <a:lnTo>
                          <a:pt x="173" y="149"/>
                        </a:lnTo>
                        <a:lnTo>
                          <a:pt x="154" y="161"/>
                        </a:lnTo>
                        <a:lnTo>
                          <a:pt x="135" y="172"/>
                        </a:lnTo>
                        <a:lnTo>
                          <a:pt x="115" y="183"/>
                        </a:lnTo>
                        <a:lnTo>
                          <a:pt x="96" y="195"/>
                        </a:lnTo>
                        <a:lnTo>
                          <a:pt x="78" y="206"/>
                        </a:lnTo>
                        <a:lnTo>
                          <a:pt x="59" y="218"/>
                        </a:lnTo>
                        <a:lnTo>
                          <a:pt x="40" y="229"/>
                        </a:lnTo>
                        <a:lnTo>
                          <a:pt x="21" y="241"/>
                        </a:lnTo>
                        <a:lnTo>
                          <a:pt x="1" y="253"/>
                        </a:lnTo>
                        <a:lnTo>
                          <a:pt x="1" y="232"/>
                        </a:lnTo>
                        <a:lnTo>
                          <a:pt x="1" y="213"/>
                        </a:lnTo>
                        <a:lnTo>
                          <a:pt x="0" y="193"/>
                        </a:lnTo>
                        <a:lnTo>
                          <a:pt x="0" y="173"/>
                        </a:lnTo>
                        <a:close/>
                      </a:path>
                    </a:pathLst>
                  </a:custGeom>
                  <a:solidFill>
                    <a:srgbClr val="0019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285720" y="5629320"/>
                    <a:ext cx="63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236">
                        <a:moveTo>
                          <a:pt x="0" y="158"/>
                        </a:moveTo>
                        <a:lnTo>
                          <a:pt x="17" y="148"/>
                        </a:lnTo>
                        <a:lnTo>
                          <a:pt x="34" y="137"/>
                        </a:lnTo>
                        <a:lnTo>
                          <a:pt x="52" y="128"/>
                        </a:lnTo>
                        <a:lnTo>
                          <a:pt x="69" y="118"/>
                        </a:lnTo>
                        <a:lnTo>
                          <a:pt x="86" y="108"/>
                        </a:lnTo>
                        <a:lnTo>
                          <a:pt x="104" y="98"/>
                        </a:lnTo>
                        <a:lnTo>
                          <a:pt x="121" y="89"/>
                        </a:lnTo>
                        <a:lnTo>
                          <a:pt x="139" y="79"/>
                        </a:lnTo>
                        <a:lnTo>
                          <a:pt x="156" y="69"/>
                        </a:lnTo>
                        <a:lnTo>
                          <a:pt x="173" y="59"/>
                        </a:lnTo>
                        <a:lnTo>
                          <a:pt x="190" y="50"/>
                        </a:lnTo>
                        <a:lnTo>
                          <a:pt x="207" y="39"/>
                        </a:lnTo>
                        <a:lnTo>
                          <a:pt x="225" y="29"/>
                        </a:lnTo>
                        <a:lnTo>
                          <a:pt x="243" y="19"/>
                        </a:lnTo>
                        <a:lnTo>
                          <a:pt x="260" y="10"/>
                        </a:lnTo>
                        <a:lnTo>
                          <a:pt x="277" y="0"/>
                        </a:lnTo>
                        <a:lnTo>
                          <a:pt x="278" y="17"/>
                        </a:lnTo>
                        <a:lnTo>
                          <a:pt x="278" y="34"/>
                        </a:lnTo>
                        <a:lnTo>
                          <a:pt x="279" y="52"/>
                        </a:lnTo>
                        <a:lnTo>
                          <a:pt x="279" y="69"/>
                        </a:lnTo>
                        <a:lnTo>
                          <a:pt x="262" y="79"/>
                        </a:lnTo>
                        <a:lnTo>
                          <a:pt x="245" y="90"/>
                        </a:lnTo>
                        <a:lnTo>
                          <a:pt x="227" y="100"/>
                        </a:lnTo>
                        <a:lnTo>
                          <a:pt x="209" y="110"/>
                        </a:lnTo>
                        <a:lnTo>
                          <a:pt x="192" y="121"/>
                        </a:lnTo>
                        <a:lnTo>
                          <a:pt x="175" y="131"/>
                        </a:lnTo>
                        <a:lnTo>
                          <a:pt x="158" y="141"/>
                        </a:lnTo>
                        <a:lnTo>
                          <a:pt x="140" y="153"/>
                        </a:lnTo>
                        <a:lnTo>
                          <a:pt x="123" y="163"/>
                        </a:lnTo>
                        <a:lnTo>
                          <a:pt x="106" y="173"/>
                        </a:lnTo>
                        <a:lnTo>
                          <a:pt x="88" y="184"/>
                        </a:lnTo>
                        <a:lnTo>
                          <a:pt x="70" y="194"/>
                        </a:lnTo>
                        <a:lnTo>
                          <a:pt x="53" y="205"/>
                        </a:lnTo>
                        <a:lnTo>
                          <a:pt x="36" y="215"/>
                        </a:lnTo>
                        <a:lnTo>
                          <a:pt x="18" y="226"/>
                        </a:lnTo>
                        <a:lnTo>
                          <a:pt x="1" y="236"/>
                        </a:lnTo>
                        <a:lnTo>
                          <a:pt x="1" y="216"/>
                        </a:lnTo>
                        <a:lnTo>
                          <a:pt x="1" y="197"/>
                        </a:lnTo>
                        <a:lnTo>
                          <a:pt x="0" y="177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001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291840" y="5629320"/>
                    <a:ext cx="568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20">
                        <a:moveTo>
                          <a:pt x="0" y="142"/>
                        </a:moveTo>
                        <a:lnTo>
                          <a:pt x="16" y="133"/>
                        </a:lnTo>
                        <a:lnTo>
                          <a:pt x="31" y="124"/>
                        </a:lnTo>
                        <a:lnTo>
                          <a:pt x="47" y="116"/>
                        </a:lnTo>
                        <a:lnTo>
                          <a:pt x="63" y="107"/>
                        </a:lnTo>
                        <a:lnTo>
                          <a:pt x="79" y="98"/>
                        </a:lnTo>
                        <a:lnTo>
                          <a:pt x="95" y="89"/>
                        </a:lnTo>
                        <a:lnTo>
                          <a:pt x="110" y="80"/>
                        </a:lnTo>
                        <a:lnTo>
                          <a:pt x="126" y="71"/>
                        </a:lnTo>
                        <a:lnTo>
                          <a:pt x="141" y="63"/>
                        </a:lnTo>
                        <a:lnTo>
                          <a:pt x="157" y="54"/>
                        </a:lnTo>
                        <a:lnTo>
                          <a:pt x="172" y="44"/>
                        </a:lnTo>
                        <a:lnTo>
                          <a:pt x="189" y="35"/>
                        </a:lnTo>
                        <a:lnTo>
                          <a:pt x="204" y="26"/>
                        </a:lnTo>
                        <a:lnTo>
                          <a:pt x="220" y="18"/>
                        </a:lnTo>
                        <a:lnTo>
                          <a:pt x="235" y="9"/>
                        </a:lnTo>
                        <a:lnTo>
                          <a:pt x="251" y="0"/>
                        </a:lnTo>
                        <a:lnTo>
                          <a:pt x="252" y="17"/>
                        </a:lnTo>
                        <a:lnTo>
                          <a:pt x="253" y="34"/>
                        </a:lnTo>
                        <a:lnTo>
                          <a:pt x="253" y="52"/>
                        </a:lnTo>
                        <a:lnTo>
                          <a:pt x="254" y="69"/>
                        </a:lnTo>
                        <a:lnTo>
                          <a:pt x="238" y="78"/>
                        </a:lnTo>
                        <a:lnTo>
                          <a:pt x="223" y="88"/>
                        </a:lnTo>
                        <a:lnTo>
                          <a:pt x="207" y="97"/>
                        </a:lnTo>
                        <a:lnTo>
                          <a:pt x="191" y="106"/>
                        </a:lnTo>
                        <a:lnTo>
                          <a:pt x="175" y="116"/>
                        </a:lnTo>
                        <a:lnTo>
                          <a:pt x="159" y="125"/>
                        </a:lnTo>
                        <a:lnTo>
                          <a:pt x="144" y="135"/>
                        </a:lnTo>
                        <a:lnTo>
                          <a:pt x="128" y="144"/>
                        </a:lnTo>
                        <a:lnTo>
                          <a:pt x="112" y="154"/>
                        </a:lnTo>
                        <a:lnTo>
                          <a:pt x="97" y="164"/>
                        </a:lnTo>
                        <a:lnTo>
                          <a:pt x="81" y="173"/>
                        </a:lnTo>
                        <a:lnTo>
                          <a:pt x="65" y="182"/>
                        </a:lnTo>
                        <a:lnTo>
                          <a:pt x="49" y="192"/>
                        </a:lnTo>
                        <a:lnTo>
                          <a:pt x="33" y="201"/>
                        </a:lnTo>
                        <a:lnTo>
                          <a:pt x="18" y="211"/>
                        </a:lnTo>
                        <a:lnTo>
                          <a:pt x="2" y="220"/>
                        </a:lnTo>
                        <a:lnTo>
                          <a:pt x="1" y="201"/>
                        </a:lnTo>
                        <a:lnTo>
                          <a:pt x="1" y="181"/>
                        </a:lnTo>
                        <a:lnTo>
                          <a:pt x="1" y="162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1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296520" y="5629320"/>
                    <a:ext cx="522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04">
                        <a:moveTo>
                          <a:pt x="0" y="127"/>
                        </a:moveTo>
                        <a:lnTo>
                          <a:pt x="14" y="119"/>
                        </a:lnTo>
                        <a:lnTo>
                          <a:pt x="29" y="111"/>
                        </a:lnTo>
                        <a:lnTo>
                          <a:pt x="43" y="103"/>
                        </a:lnTo>
                        <a:lnTo>
                          <a:pt x="58" y="95"/>
                        </a:lnTo>
                        <a:lnTo>
                          <a:pt x="72" y="88"/>
                        </a:lnTo>
                        <a:lnTo>
                          <a:pt x="86" y="80"/>
                        </a:lnTo>
                        <a:lnTo>
                          <a:pt x="100" y="72"/>
                        </a:lnTo>
                        <a:lnTo>
                          <a:pt x="114" y="64"/>
                        </a:lnTo>
                        <a:lnTo>
                          <a:pt x="128" y="56"/>
                        </a:lnTo>
                        <a:lnTo>
                          <a:pt x="141" y="47"/>
                        </a:lnTo>
                        <a:lnTo>
                          <a:pt x="155" y="39"/>
                        </a:lnTo>
                        <a:lnTo>
                          <a:pt x="170" y="31"/>
                        </a:lnTo>
                        <a:lnTo>
                          <a:pt x="184" y="24"/>
                        </a:lnTo>
                        <a:lnTo>
                          <a:pt x="198" y="16"/>
                        </a:lnTo>
                        <a:lnTo>
                          <a:pt x="212" y="8"/>
                        </a:lnTo>
                        <a:lnTo>
                          <a:pt x="226" y="0"/>
                        </a:lnTo>
                        <a:lnTo>
                          <a:pt x="227" y="17"/>
                        </a:lnTo>
                        <a:lnTo>
                          <a:pt x="227" y="34"/>
                        </a:lnTo>
                        <a:lnTo>
                          <a:pt x="227" y="52"/>
                        </a:lnTo>
                        <a:lnTo>
                          <a:pt x="228" y="69"/>
                        </a:lnTo>
                        <a:lnTo>
                          <a:pt x="214" y="77"/>
                        </a:lnTo>
                        <a:lnTo>
                          <a:pt x="200" y="86"/>
                        </a:lnTo>
                        <a:lnTo>
                          <a:pt x="186" y="94"/>
                        </a:lnTo>
                        <a:lnTo>
                          <a:pt x="172" y="103"/>
                        </a:lnTo>
                        <a:lnTo>
                          <a:pt x="157" y="111"/>
                        </a:lnTo>
                        <a:lnTo>
                          <a:pt x="143" y="119"/>
                        </a:lnTo>
                        <a:lnTo>
                          <a:pt x="129" y="128"/>
                        </a:lnTo>
                        <a:lnTo>
                          <a:pt x="115" y="136"/>
                        </a:lnTo>
                        <a:lnTo>
                          <a:pt x="101" y="144"/>
                        </a:lnTo>
                        <a:lnTo>
                          <a:pt x="87" y="154"/>
                        </a:lnTo>
                        <a:lnTo>
                          <a:pt x="73" y="162"/>
                        </a:lnTo>
                        <a:lnTo>
                          <a:pt x="59" y="170"/>
                        </a:lnTo>
                        <a:lnTo>
                          <a:pt x="44" y="179"/>
                        </a:lnTo>
                        <a:lnTo>
                          <a:pt x="30" y="187"/>
                        </a:lnTo>
                        <a:lnTo>
                          <a:pt x="16" y="196"/>
                        </a:lnTo>
                        <a:lnTo>
                          <a:pt x="2" y="204"/>
                        </a:lnTo>
                        <a:lnTo>
                          <a:pt x="2" y="185"/>
                        </a:lnTo>
                        <a:lnTo>
                          <a:pt x="1" y="166"/>
                        </a:lnTo>
                        <a:lnTo>
                          <a:pt x="1" y="14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2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303000" y="5629320"/>
                    <a:ext cx="457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88">
                        <a:moveTo>
                          <a:pt x="0" y="112"/>
                        </a:moveTo>
                        <a:lnTo>
                          <a:pt x="12" y="105"/>
                        </a:lnTo>
                        <a:lnTo>
                          <a:pt x="26" y="98"/>
                        </a:lnTo>
                        <a:lnTo>
                          <a:pt x="38" y="91"/>
                        </a:lnTo>
                        <a:lnTo>
                          <a:pt x="50" y="84"/>
                        </a:lnTo>
                        <a:lnTo>
                          <a:pt x="63" y="77"/>
                        </a:lnTo>
                        <a:lnTo>
                          <a:pt x="75" y="70"/>
                        </a:lnTo>
                        <a:lnTo>
                          <a:pt x="87" y="63"/>
                        </a:lnTo>
                        <a:lnTo>
                          <a:pt x="100" y="56"/>
                        </a:lnTo>
                        <a:lnTo>
                          <a:pt x="112" y="50"/>
                        </a:lnTo>
                        <a:lnTo>
                          <a:pt x="124" y="42"/>
                        </a:lnTo>
                        <a:lnTo>
                          <a:pt x="137" y="35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4" y="14"/>
                        </a:lnTo>
                        <a:lnTo>
                          <a:pt x="187" y="7"/>
                        </a:lnTo>
                        <a:lnTo>
                          <a:pt x="199" y="0"/>
                        </a:lnTo>
                        <a:lnTo>
                          <a:pt x="200" y="17"/>
                        </a:lnTo>
                        <a:lnTo>
                          <a:pt x="200" y="34"/>
                        </a:lnTo>
                        <a:lnTo>
                          <a:pt x="201" y="52"/>
                        </a:lnTo>
                        <a:lnTo>
                          <a:pt x="201" y="69"/>
                        </a:lnTo>
                        <a:lnTo>
                          <a:pt x="189" y="76"/>
                        </a:lnTo>
                        <a:lnTo>
                          <a:pt x="176" y="84"/>
                        </a:lnTo>
                        <a:lnTo>
                          <a:pt x="164" y="91"/>
                        </a:lnTo>
                        <a:lnTo>
                          <a:pt x="152" y="98"/>
                        </a:lnTo>
                        <a:lnTo>
                          <a:pt x="139" y="106"/>
                        </a:lnTo>
                        <a:lnTo>
                          <a:pt x="126" y="113"/>
                        </a:lnTo>
                        <a:lnTo>
                          <a:pt x="114" y="121"/>
                        </a:lnTo>
                        <a:lnTo>
                          <a:pt x="102" y="128"/>
                        </a:lnTo>
                        <a:lnTo>
                          <a:pt x="89" y="135"/>
                        </a:lnTo>
                        <a:lnTo>
                          <a:pt x="77" y="143"/>
                        </a:lnTo>
                        <a:lnTo>
                          <a:pt x="65" y="151"/>
                        </a:lnTo>
                        <a:lnTo>
                          <a:pt x="52" y="159"/>
                        </a:lnTo>
                        <a:lnTo>
                          <a:pt x="40" y="166"/>
                        </a:lnTo>
                        <a:lnTo>
                          <a:pt x="28" y="173"/>
                        </a:lnTo>
                        <a:lnTo>
                          <a:pt x="14" y="181"/>
                        </a:lnTo>
                        <a:lnTo>
                          <a:pt x="2" y="188"/>
                        </a:lnTo>
                        <a:lnTo>
                          <a:pt x="1" y="169"/>
                        </a:lnTo>
                        <a:lnTo>
                          <a:pt x="1" y="150"/>
                        </a:lnTo>
                        <a:lnTo>
                          <a:pt x="0" y="131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0021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309480" y="5629320"/>
                    <a:ext cx="392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73">
                        <a:moveTo>
                          <a:pt x="0" y="98"/>
                        </a:moveTo>
                        <a:lnTo>
                          <a:pt x="11" y="92"/>
                        </a:lnTo>
                        <a:lnTo>
                          <a:pt x="22" y="86"/>
                        </a:lnTo>
                        <a:lnTo>
                          <a:pt x="32" y="80"/>
                        </a:lnTo>
                        <a:lnTo>
                          <a:pt x="43" y="74"/>
                        </a:lnTo>
                        <a:lnTo>
                          <a:pt x="54" y="68"/>
                        </a:lnTo>
                        <a:lnTo>
                          <a:pt x="65" y="62"/>
                        </a:lnTo>
                        <a:lnTo>
                          <a:pt x="75" y="56"/>
                        </a:lnTo>
                        <a:lnTo>
                          <a:pt x="86" y="50"/>
                        </a:lnTo>
                        <a:lnTo>
                          <a:pt x="97" y="43"/>
                        </a:lnTo>
                        <a:lnTo>
                          <a:pt x="108" y="37"/>
                        </a:lnTo>
                        <a:lnTo>
                          <a:pt x="119" y="31"/>
                        </a:lnTo>
                        <a:lnTo>
                          <a:pt x="130" y="25"/>
                        </a:lnTo>
                        <a:lnTo>
                          <a:pt x="141" y="18"/>
                        </a:lnTo>
                        <a:lnTo>
                          <a:pt x="151" y="12"/>
                        </a:lnTo>
                        <a:lnTo>
                          <a:pt x="162" y="6"/>
                        </a:lnTo>
                        <a:lnTo>
                          <a:pt x="173" y="0"/>
                        </a:lnTo>
                        <a:lnTo>
                          <a:pt x="173" y="17"/>
                        </a:lnTo>
                        <a:lnTo>
                          <a:pt x="174" y="34"/>
                        </a:lnTo>
                        <a:lnTo>
                          <a:pt x="174" y="53"/>
                        </a:lnTo>
                        <a:lnTo>
                          <a:pt x="175" y="70"/>
                        </a:lnTo>
                        <a:lnTo>
                          <a:pt x="164" y="76"/>
                        </a:lnTo>
                        <a:lnTo>
                          <a:pt x="153" y="83"/>
                        </a:lnTo>
                        <a:lnTo>
                          <a:pt x="143" y="89"/>
                        </a:lnTo>
                        <a:lnTo>
                          <a:pt x="132" y="95"/>
                        </a:lnTo>
                        <a:lnTo>
                          <a:pt x="121" y="102"/>
                        </a:lnTo>
                        <a:lnTo>
                          <a:pt x="110" y="108"/>
                        </a:lnTo>
                        <a:lnTo>
                          <a:pt x="99" y="115"/>
                        </a:lnTo>
                        <a:lnTo>
                          <a:pt x="88" y="121"/>
                        </a:lnTo>
                        <a:lnTo>
                          <a:pt x="77" y="127"/>
                        </a:lnTo>
                        <a:lnTo>
                          <a:pt x="67" y="134"/>
                        </a:lnTo>
                        <a:lnTo>
                          <a:pt x="56" y="140"/>
                        </a:lnTo>
                        <a:lnTo>
                          <a:pt x="46" y="147"/>
                        </a:lnTo>
                        <a:lnTo>
                          <a:pt x="35" y="154"/>
                        </a:lnTo>
                        <a:lnTo>
                          <a:pt x="24" y="160"/>
                        </a:lnTo>
                        <a:lnTo>
                          <a:pt x="14" y="167"/>
                        </a:lnTo>
                        <a:lnTo>
                          <a:pt x="3" y="173"/>
                        </a:lnTo>
                        <a:lnTo>
                          <a:pt x="2" y="155"/>
                        </a:lnTo>
                        <a:lnTo>
                          <a:pt x="1" y="135"/>
                        </a:lnTo>
                        <a:lnTo>
                          <a:pt x="1" y="117"/>
                        </a:lnTo>
                        <a:lnTo>
                          <a:pt x="0" y="98"/>
                        </a:lnTo>
                        <a:close/>
                      </a:path>
                    </a:pathLst>
                  </a:custGeom>
                  <a:solidFill>
                    <a:srgbClr val="0023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315600" y="562932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57">
                        <a:moveTo>
                          <a:pt x="0" y="83"/>
                        </a:moveTo>
                        <a:lnTo>
                          <a:pt x="18" y="73"/>
                        </a:lnTo>
                        <a:lnTo>
                          <a:pt x="36" y="63"/>
                        </a:lnTo>
                        <a:lnTo>
                          <a:pt x="54" y="53"/>
                        </a:lnTo>
                        <a:lnTo>
                          <a:pt x="73" y="41"/>
                        </a:lnTo>
                        <a:lnTo>
                          <a:pt x="92" y="31"/>
                        </a:lnTo>
                        <a:lnTo>
                          <a:pt x="110" y="21"/>
                        </a:lnTo>
                        <a:lnTo>
                          <a:pt x="129" y="10"/>
                        </a:lnTo>
                        <a:lnTo>
                          <a:pt x="147" y="0"/>
                        </a:lnTo>
                        <a:lnTo>
                          <a:pt x="148" y="17"/>
                        </a:lnTo>
                        <a:lnTo>
                          <a:pt x="148" y="34"/>
                        </a:lnTo>
                        <a:lnTo>
                          <a:pt x="148" y="53"/>
                        </a:lnTo>
                        <a:lnTo>
                          <a:pt x="149" y="70"/>
                        </a:lnTo>
                        <a:lnTo>
                          <a:pt x="131" y="81"/>
                        </a:lnTo>
                        <a:lnTo>
                          <a:pt x="112" y="92"/>
                        </a:lnTo>
                        <a:lnTo>
                          <a:pt x="94" y="103"/>
                        </a:lnTo>
                        <a:lnTo>
                          <a:pt x="74" y="113"/>
                        </a:lnTo>
                        <a:lnTo>
                          <a:pt x="56" y="124"/>
                        </a:lnTo>
                        <a:lnTo>
                          <a:pt x="38" y="135"/>
                        </a:lnTo>
                        <a:lnTo>
                          <a:pt x="20" y="145"/>
                        </a:lnTo>
                        <a:lnTo>
                          <a:pt x="2" y="157"/>
                        </a:lnTo>
                        <a:lnTo>
                          <a:pt x="2" y="138"/>
                        </a:lnTo>
                        <a:lnTo>
                          <a:pt x="1" y="120"/>
                        </a:lnTo>
                        <a:lnTo>
                          <a:pt x="1" y="102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26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322080" y="562932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40">
                        <a:moveTo>
                          <a:pt x="0" y="68"/>
                        </a:moveTo>
                        <a:lnTo>
                          <a:pt x="15" y="60"/>
                        </a:lnTo>
                        <a:lnTo>
                          <a:pt x="30" y="51"/>
                        </a:lnTo>
                        <a:lnTo>
                          <a:pt x="45" y="42"/>
                        </a:lnTo>
                        <a:lnTo>
                          <a:pt x="61" y="34"/>
                        </a:lnTo>
                        <a:lnTo>
                          <a:pt x="76" y="26"/>
                        </a:lnTo>
                        <a:lnTo>
                          <a:pt x="91" y="17"/>
                        </a:lnTo>
                        <a:lnTo>
                          <a:pt x="107" y="9"/>
                        </a:lnTo>
                        <a:lnTo>
                          <a:pt x="122" y="0"/>
                        </a:lnTo>
                        <a:lnTo>
                          <a:pt x="122" y="17"/>
                        </a:lnTo>
                        <a:lnTo>
                          <a:pt x="123" y="35"/>
                        </a:lnTo>
                        <a:lnTo>
                          <a:pt x="123" y="53"/>
                        </a:lnTo>
                        <a:lnTo>
                          <a:pt x="123" y="71"/>
                        </a:lnTo>
                        <a:lnTo>
                          <a:pt x="108" y="80"/>
                        </a:lnTo>
                        <a:lnTo>
                          <a:pt x="93" y="88"/>
                        </a:lnTo>
                        <a:lnTo>
                          <a:pt x="78" y="97"/>
                        </a:lnTo>
                        <a:lnTo>
                          <a:pt x="63" y="105"/>
                        </a:lnTo>
                        <a:lnTo>
                          <a:pt x="47" y="114"/>
                        </a:lnTo>
                        <a:lnTo>
                          <a:pt x="32" y="123"/>
                        </a:lnTo>
                        <a:lnTo>
                          <a:pt x="17" y="131"/>
                        </a:lnTo>
                        <a:lnTo>
                          <a:pt x="3" y="140"/>
                        </a:lnTo>
                        <a:lnTo>
                          <a:pt x="2" y="122"/>
                        </a:lnTo>
                        <a:lnTo>
                          <a:pt x="2" y="104"/>
                        </a:lnTo>
                        <a:lnTo>
                          <a:pt x="1" y="8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28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3326760" y="5629320"/>
                    <a:ext cx="219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25">
                        <a:moveTo>
                          <a:pt x="0" y="53"/>
                        </a:moveTo>
                        <a:lnTo>
                          <a:pt x="12" y="46"/>
                        </a:lnTo>
                        <a:lnTo>
                          <a:pt x="24" y="39"/>
                        </a:lnTo>
                        <a:lnTo>
                          <a:pt x="37" y="33"/>
                        </a:lnTo>
                        <a:lnTo>
                          <a:pt x="49" y="26"/>
                        </a:lnTo>
                        <a:lnTo>
                          <a:pt x="61" y="19"/>
                        </a:lnTo>
                        <a:lnTo>
                          <a:pt x="73" y="13"/>
                        </a:lnTo>
                        <a:lnTo>
                          <a:pt x="85" y="6"/>
                        </a:lnTo>
                        <a:lnTo>
                          <a:pt x="97" y="0"/>
                        </a:lnTo>
                        <a:lnTo>
                          <a:pt x="98" y="17"/>
                        </a:lnTo>
                        <a:lnTo>
                          <a:pt x="98" y="35"/>
                        </a:lnTo>
                        <a:lnTo>
                          <a:pt x="98" y="53"/>
                        </a:lnTo>
                        <a:lnTo>
                          <a:pt x="99" y="71"/>
                        </a:lnTo>
                        <a:lnTo>
                          <a:pt x="87" y="78"/>
                        </a:lnTo>
                        <a:lnTo>
                          <a:pt x="75" y="84"/>
                        </a:lnTo>
                        <a:lnTo>
                          <a:pt x="63" y="91"/>
                        </a:lnTo>
                        <a:lnTo>
                          <a:pt x="51" y="98"/>
                        </a:lnTo>
                        <a:lnTo>
                          <a:pt x="39" y="105"/>
                        </a:lnTo>
                        <a:lnTo>
                          <a:pt x="26" y="111"/>
                        </a:lnTo>
                        <a:lnTo>
                          <a:pt x="14" y="118"/>
                        </a:lnTo>
                        <a:lnTo>
                          <a:pt x="2" y="125"/>
                        </a:lnTo>
                        <a:lnTo>
                          <a:pt x="1" y="107"/>
                        </a:lnTo>
                        <a:lnTo>
                          <a:pt x="1" y="89"/>
                        </a:lnTo>
                        <a:lnTo>
                          <a:pt x="0" y="71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0028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333240" y="5629320"/>
                    <a:ext cx="15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9">
                        <a:moveTo>
                          <a:pt x="0" y="37"/>
                        </a:moveTo>
                        <a:lnTo>
                          <a:pt x="72" y="0"/>
                        </a:lnTo>
                        <a:lnTo>
                          <a:pt x="73" y="71"/>
                        </a:lnTo>
                        <a:lnTo>
                          <a:pt x="3" y="109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2b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310920" y="5688000"/>
                    <a:ext cx="48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0">
                        <a:moveTo>
                          <a:pt x="2" y="124"/>
                        </a:moveTo>
                        <a:lnTo>
                          <a:pt x="212" y="0"/>
                        </a:lnTo>
                        <a:lnTo>
                          <a:pt x="218" y="45"/>
                        </a:lnTo>
                        <a:lnTo>
                          <a:pt x="0" y="200"/>
                        </a:lnTo>
                        <a:lnTo>
                          <a:pt x="2" y="124"/>
                        </a:lnTo>
                        <a:close/>
                      </a:path>
                    </a:pathLst>
                  </a:custGeom>
                  <a:solidFill>
                    <a:srgbClr val="000f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3314160" y="5688000"/>
                    <a:ext cx="457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91">
                        <a:moveTo>
                          <a:pt x="1" y="117"/>
                        </a:moveTo>
                        <a:lnTo>
                          <a:pt x="13" y="110"/>
                        </a:lnTo>
                        <a:lnTo>
                          <a:pt x="25" y="102"/>
                        </a:lnTo>
                        <a:lnTo>
                          <a:pt x="37" y="95"/>
                        </a:lnTo>
                        <a:lnTo>
                          <a:pt x="49" y="88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2" y="50"/>
                        </a:lnTo>
                        <a:lnTo>
                          <a:pt x="124" y="43"/>
                        </a:lnTo>
                        <a:lnTo>
                          <a:pt x="136" y="36"/>
                        </a:lnTo>
                        <a:lnTo>
                          <a:pt x="149" y="29"/>
                        </a:lnTo>
                        <a:lnTo>
                          <a:pt x="161" y="21"/>
                        </a:lnTo>
                        <a:lnTo>
                          <a:pt x="173" y="14"/>
                        </a:lnTo>
                        <a:lnTo>
                          <a:pt x="186" y="7"/>
                        </a:lnTo>
                        <a:lnTo>
                          <a:pt x="199" y="0"/>
                        </a:lnTo>
                        <a:lnTo>
                          <a:pt x="201" y="11"/>
                        </a:lnTo>
                        <a:lnTo>
                          <a:pt x="202" y="23"/>
                        </a:lnTo>
                        <a:lnTo>
                          <a:pt x="204" y="34"/>
                        </a:lnTo>
                        <a:lnTo>
                          <a:pt x="205" y="46"/>
                        </a:lnTo>
                        <a:lnTo>
                          <a:pt x="191" y="55"/>
                        </a:lnTo>
                        <a:lnTo>
                          <a:pt x="178" y="64"/>
                        </a:lnTo>
                        <a:lnTo>
                          <a:pt x="165" y="73"/>
                        </a:lnTo>
                        <a:lnTo>
                          <a:pt x="152" y="83"/>
                        </a:lnTo>
                        <a:lnTo>
                          <a:pt x="140" y="92"/>
                        </a:lnTo>
                        <a:lnTo>
                          <a:pt x="127" y="101"/>
                        </a:lnTo>
                        <a:lnTo>
                          <a:pt x="114" y="110"/>
                        </a:lnTo>
                        <a:lnTo>
                          <a:pt x="101" y="118"/>
                        </a:lnTo>
                        <a:lnTo>
                          <a:pt x="89" y="127"/>
                        </a:lnTo>
                        <a:lnTo>
                          <a:pt x="75" y="136"/>
                        </a:lnTo>
                        <a:lnTo>
                          <a:pt x="62" y="145"/>
                        </a:lnTo>
                        <a:lnTo>
                          <a:pt x="50" y="154"/>
                        </a:lnTo>
                        <a:lnTo>
                          <a:pt x="37" y="163"/>
                        </a:lnTo>
                        <a:lnTo>
                          <a:pt x="25" y="172"/>
                        </a:lnTo>
                        <a:lnTo>
                          <a:pt x="12" y="182"/>
                        </a:lnTo>
                        <a:lnTo>
                          <a:pt x="0" y="191"/>
                        </a:lnTo>
                        <a:lnTo>
                          <a:pt x="0" y="172"/>
                        </a:lnTo>
                        <a:lnTo>
                          <a:pt x="1" y="153"/>
                        </a:lnTo>
                        <a:lnTo>
                          <a:pt x="1" y="135"/>
                        </a:lnTo>
                        <a:lnTo>
                          <a:pt x="1" y="117"/>
                        </a:lnTo>
                        <a:close/>
                      </a:path>
                    </a:pathLst>
                  </a:custGeom>
                  <a:solidFill>
                    <a:srgbClr val="001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3317400" y="5688000"/>
                    <a:ext cx="424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82">
                        <a:moveTo>
                          <a:pt x="0" y="110"/>
                        </a:moveTo>
                        <a:lnTo>
                          <a:pt x="11" y="103"/>
                        </a:lnTo>
                        <a:lnTo>
                          <a:pt x="23" y="96"/>
                        </a:lnTo>
                        <a:lnTo>
                          <a:pt x="34" y="90"/>
                        </a:lnTo>
                        <a:lnTo>
                          <a:pt x="45" y="83"/>
                        </a:lnTo>
                        <a:lnTo>
                          <a:pt x="57" y="75"/>
                        </a:lnTo>
                        <a:lnTo>
                          <a:pt x="68" y="68"/>
                        </a:lnTo>
                        <a:lnTo>
                          <a:pt x="81" y="61"/>
                        </a:lnTo>
                        <a:lnTo>
                          <a:pt x="92" y="54"/>
                        </a:lnTo>
                        <a:lnTo>
                          <a:pt x="104" y="48"/>
                        </a:lnTo>
                        <a:lnTo>
                          <a:pt x="115" y="41"/>
                        </a:lnTo>
                        <a:lnTo>
                          <a:pt x="127" y="34"/>
                        </a:lnTo>
                        <a:lnTo>
                          <a:pt x="139" y="27"/>
                        </a:lnTo>
                        <a:lnTo>
                          <a:pt x="150" y="20"/>
                        </a:lnTo>
                        <a:lnTo>
                          <a:pt x="162" y="14"/>
                        </a:lnTo>
                        <a:lnTo>
                          <a:pt x="173" y="7"/>
                        </a:lnTo>
                        <a:lnTo>
                          <a:pt x="186" y="0"/>
                        </a:lnTo>
                        <a:lnTo>
                          <a:pt x="188" y="11"/>
                        </a:lnTo>
                        <a:lnTo>
                          <a:pt x="189" y="23"/>
                        </a:lnTo>
                        <a:lnTo>
                          <a:pt x="191" y="35"/>
                        </a:lnTo>
                        <a:lnTo>
                          <a:pt x="192" y="47"/>
                        </a:lnTo>
                        <a:lnTo>
                          <a:pt x="179" y="55"/>
                        </a:lnTo>
                        <a:lnTo>
                          <a:pt x="167" y="64"/>
                        </a:lnTo>
                        <a:lnTo>
                          <a:pt x="155" y="72"/>
                        </a:lnTo>
                        <a:lnTo>
                          <a:pt x="143" y="80"/>
                        </a:lnTo>
                        <a:lnTo>
                          <a:pt x="131" y="89"/>
                        </a:lnTo>
                        <a:lnTo>
                          <a:pt x="119" y="98"/>
                        </a:lnTo>
                        <a:lnTo>
                          <a:pt x="107" y="106"/>
                        </a:lnTo>
                        <a:lnTo>
                          <a:pt x="95" y="114"/>
                        </a:lnTo>
                        <a:lnTo>
                          <a:pt x="83" y="123"/>
                        </a:lnTo>
                        <a:lnTo>
                          <a:pt x="71" y="131"/>
                        </a:lnTo>
                        <a:lnTo>
                          <a:pt x="59" y="140"/>
                        </a:lnTo>
                        <a:lnTo>
                          <a:pt x="47" y="148"/>
                        </a:lnTo>
                        <a:lnTo>
                          <a:pt x="35" y="156"/>
                        </a:lnTo>
                        <a:lnTo>
                          <a:pt x="23" y="164"/>
                        </a:lnTo>
                        <a:lnTo>
                          <a:pt x="12" y="173"/>
                        </a:lnTo>
                        <a:lnTo>
                          <a:pt x="0" y="182"/>
                        </a:lnTo>
                        <a:lnTo>
                          <a:pt x="0" y="164"/>
                        </a:lnTo>
                        <a:lnTo>
                          <a:pt x="0" y="146"/>
                        </a:lnTo>
                        <a:lnTo>
                          <a:pt x="0" y="128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1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320640" y="5688000"/>
                    <a:ext cx="392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74">
                        <a:moveTo>
                          <a:pt x="0" y="104"/>
                        </a:moveTo>
                        <a:lnTo>
                          <a:pt x="11" y="98"/>
                        </a:lnTo>
                        <a:lnTo>
                          <a:pt x="21" y="91"/>
                        </a:lnTo>
                        <a:lnTo>
                          <a:pt x="32" y="85"/>
                        </a:lnTo>
                        <a:lnTo>
                          <a:pt x="42" y="77"/>
                        </a:lnTo>
                        <a:lnTo>
                          <a:pt x="53" y="71"/>
                        </a:lnTo>
                        <a:lnTo>
                          <a:pt x="65" y="65"/>
                        </a:lnTo>
                        <a:lnTo>
                          <a:pt x="76" y="58"/>
                        </a:lnTo>
                        <a:lnTo>
                          <a:pt x="86" y="52"/>
                        </a:lnTo>
                        <a:lnTo>
                          <a:pt x="97" y="45"/>
                        </a:lnTo>
                        <a:lnTo>
                          <a:pt x="108" y="39"/>
                        </a:lnTo>
                        <a:lnTo>
                          <a:pt x="119" y="33"/>
                        </a:lnTo>
                        <a:lnTo>
                          <a:pt x="130" y="26"/>
                        </a:lnTo>
                        <a:lnTo>
                          <a:pt x="141" y="20"/>
                        </a:lnTo>
                        <a:lnTo>
                          <a:pt x="152" y="13"/>
                        </a:lnTo>
                        <a:lnTo>
                          <a:pt x="163" y="7"/>
                        </a:lnTo>
                        <a:lnTo>
                          <a:pt x="175" y="0"/>
                        </a:lnTo>
                        <a:lnTo>
                          <a:pt x="176" y="12"/>
                        </a:lnTo>
                        <a:lnTo>
                          <a:pt x="177" y="24"/>
                        </a:lnTo>
                        <a:lnTo>
                          <a:pt x="178" y="36"/>
                        </a:lnTo>
                        <a:lnTo>
                          <a:pt x="179" y="48"/>
                        </a:lnTo>
                        <a:lnTo>
                          <a:pt x="167" y="56"/>
                        </a:lnTo>
                        <a:lnTo>
                          <a:pt x="156" y="64"/>
                        </a:lnTo>
                        <a:lnTo>
                          <a:pt x="145" y="72"/>
                        </a:lnTo>
                        <a:lnTo>
                          <a:pt x="134" y="79"/>
                        </a:lnTo>
                        <a:lnTo>
                          <a:pt x="122" y="88"/>
                        </a:lnTo>
                        <a:lnTo>
                          <a:pt x="111" y="96"/>
                        </a:lnTo>
                        <a:lnTo>
                          <a:pt x="100" y="104"/>
                        </a:lnTo>
                        <a:lnTo>
                          <a:pt x="89" y="111"/>
                        </a:lnTo>
                        <a:lnTo>
                          <a:pt x="78" y="119"/>
                        </a:lnTo>
                        <a:lnTo>
                          <a:pt x="67" y="127"/>
                        </a:lnTo>
                        <a:lnTo>
                          <a:pt x="55" y="135"/>
                        </a:lnTo>
                        <a:lnTo>
                          <a:pt x="44" y="143"/>
                        </a:lnTo>
                        <a:lnTo>
                          <a:pt x="33" y="150"/>
                        </a:lnTo>
                        <a:lnTo>
                          <a:pt x="22" y="158"/>
                        </a:lnTo>
                        <a:lnTo>
                          <a:pt x="11" y="166"/>
                        </a:lnTo>
                        <a:lnTo>
                          <a:pt x="0" y="174"/>
                        </a:lnTo>
                        <a:lnTo>
                          <a:pt x="0" y="156"/>
                        </a:lnTo>
                        <a:lnTo>
                          <a:pt x="0" y="139"/>
                        </a:lnTo>
                        <a:lnTo>
                          <a:pt x="0" y="121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0014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322080" y="5688000"/>
                    <a:ext cx="37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5">
                        <a:moveTo>
                          <a:pt x="0" y="97"/>
                        </a:moveTo>
                        <a:lnTo>
                          <a:pt x="10" y="91"/>
                        </a:lnTo>
                        <a:lnTo>
                          <a:pt x="20" y="85"/>
                        </a:lnTo>
                        <a:lnTo>
                          <a:pt x="30" y="78"/>
                        </a:lnTo>
                        <a:lnTo>
                          <a:pt x="40" y="72"/>
                        </a:lnTo>
                        <a:lnTo>
                          <a:pt x="51" y="66"/>
                        </a:lnTo>
                        <a:lnTo>
                          <a:pt x="61" y="60"/>
                        </a:lnTo>
                        <a:lnTo>
                          <a:pt x="71" y="54"/>
                        </a:lnTo>
                        <a:lnTo>
                          <a:pt x="81" y="48"/>
                        </a:lnTo>
                        <a:lnTo>
                          <a:pt x="91" y="42"/>
                        </a:lnTo>
                        <a:lnTo>
                          <a:pt x="101" y="36"/>
                        </a:lnTo>
                        <a:lnTo>
                          <a:pt x="111" y="30"/>
                        </a:lnTo>
                        <a:lnTo>
                          <a:pt x="121" y="24"/>
                        </a:lnTo>
                        <a:lnTo>
                          <a:pt x="132" y="18"/>
                        </a:lnTo>
                        <a:lnTo>
                          <a:pt x="142" y="12"/>
                        </a:lnTo>
                        <a:lnTo>
                          <a:pt x="152" y="6"/>
                        </a:lnTo>
                        <a:lnTo>
                          <a:pt x="163" y="0"/>
                        </a:lnTo>
                        <a:lnTo>
                          <a:pt x="164" y="13"/>
                        </a:lnTo>
                        <a:lnTo>
                          <a:pt x="165" y="25"/>
                        </a:lnTo>
                        <a:lnTo>
                          <a:pt x="166" y="37"/>
                        </a:lnTo>
                        <a:lnTo>
                          <a:pt x="167" y="49"/>
                        </a:lnTo>
                        <a:lnTo>
                          <a:pt x="156" y="56"/>
                        </a:lnTo>
                        <a:lnTo>
                          <a:pt x="145" y="63"/>
                        </a:lnTo>
                        <a:lnTo>
                          <a:pt x="135" y="70"/>
                        </a:lnTo>
                        <a:lnTo>
                          <a:pt x="125" y="78"/>
                        </a:lnTo>
                        <a:lnTo>
                          <a:pt x="114" y="86"/>
                        </a:lnTo>
                        <a:lnTo>
                          <a:pt x="104" y="93"/>
                        </a:lnTo>
                        <a:lnTo>
                          <a:pt x="94" y="100"/>
                        </a:lnTo>
                        <a:lnTo>
                          <a:pt x="83" y="107"/>
                        </a:lnTo>
                        <a:lnTo>
                          <a:pt x="73" y="115"/>
                        </a:lnTo>
                        <a:lnTo>
                          <a:pt x="63" y="122"/>
                        </a:lnTo>
                        <a:lnTo>
                          <a:pt x="52" y="129"/>
                        </a:lnTo>
                        <a:lnTo>
                          <a:pt x="41" y="136"/>
                        </a:lnTo>
                        <a:lnTo>
                          <a:pt x="31" y="144"/>
                        </a:lnTo>
                        <a:lnTo>
                          <a:pt x="21" y="151"/>
                        </a:lnTo>
                        <a:lnTo>
                          <a:pt x="11" y="158"/>
                        </a:lnTo>
                        <a:lnTo>
                          <a:pt x="1" y="165"/>
                        </a:lnTo>
                        <a:lnTo>
                          <a:pt x="1" y="148"/>
                        </a:lnTo>
                        <a:lnTo>
                          <a:pt x="1" y="131"/>
                        </a:lnTo>
                        <a:lnTo>
                          <a:pt x="0" y="114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16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325320" y="5688000"/>
                    <a:ext cx="34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56">
                        <a:moveTo>
                          <a:pt x="0" y="90"/>
                        </a:moveTo>
                        <a:lnTo>
                          <a:pt x="19" y="78"/>
                        </a:lnTo>
                        <a:lnTo>
                          <a:pt x="39" y="67"/>
                        </a:lnTo>
                        <a:lnTo>
                          <a:pt x="58" y="56"/>
                        </a:lnTo>
                        <a:lnTo>
                          <a:pt x="77" y="44"/>
                        </a:lnTo>
                        <a:lnTo>
                          <a:pt x="96" y="33"/>
                        </a:lnTo>
                        <a:lnTo>
                          <a:pt x="114" y="22"/>
                        </a:lnTo>
                        <a:lnTo>
                          <a:pt x="133" y="11"/>
                        </a:lnTo>
                        <a:lnTo>
                          <a:pt x="153" y="0"/>
                        </a:lnTo>
                        <a:lnTo>
                          <a:pt x="154" y="13"/>
                        </a:lnTo>
                        <a:lnTo>
                          <a:pt x="155" y="25"/>
                        </a:lnTo>
                        <a:lnTo>
                          <a:pt x="156" y="37"/>
                        </a:lnTo>
                        <a:lnTo>
                          <a:pt x="157" y="50"/>
                        </a:lnTo>
                        <a:lnTo>
                          <a:pt x="137" y="63"/>
                        </a:lnTo>
                        <a:lnTo>
                          <a:pt x="118" y="76"/>
                        </a:lnTo>
                        <a:lnTo>
                          <a:pt x="99" y="90"/>
                        </a:lnTo>
                        <a:lnTo>
                          <a:pt x="80" y="103"/>
                        </a:lnTo>
                        <a:lnTo>
                          <a:pt x="60" y="117"/>
                        </a:lnTo>
                        <a:lnTo>
                          <a:pt x="41" y="130"/>
                        </a:lnTo>
                        <a:lnTo>
                          <a:pt x="21" y="143"/>
                        </a:lnTo>
                        <a:lnTo>
                          <a:pt x="2" y="156"/>
                        </a:lnTo>
                        <a:lnTo>
                          <a:pt x="1" y="139"/>
                        </a:lnTo>
                        <a:lnTo>
                          <a:pt x="1" y="123"/>
                        </a:lnTo>
                        <a:lnTo>
                          <a:pt x="1" y="106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19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3328560" y="5688000"/>
                    <a:ext cx="31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48">
                        <a:moveTo>
                          <a:pt x="0" y="83"/>
                        </a:moveTo>
                        <a:lnTo>
                          <a:pt x="18" y="72"/>
                        </a:lnTo>
                        <a:lnTo>
                          <a:pt x="37" y="61"/>
                        </a:lnTo>
                        <a:lnTo>
                          <a:pt x="54" y="51"/>
                        </a:lnTo>
                        <a:lnTo>
                          <a:pt x="71" y="41"/>
                        </a:lnTo>
                        <a:lnTo>
                          <a:pt x="89" y="30"/>
                        </a:lnTo>
                        <a:lnTo>
                          <a:pt x="106" y="20"/>
                        </a:lnTo>
                        <a:lnTo>
                          <a:pt x="123" y="10"/>
                        </a:lnTo>
                        <a:lnTo>
                          <a:pt x="142" y="0"/>
                        </a:lnTo>
                        <a:lnTo>
                          <a:pt x="143" y="13"/>
                        </a:lnTo>
                        <a:lnTo>
                          <a:pt x="144" y="25"/>
                        </a:lnTo>
                        <a:lnTo>
                          <a:pt x="144" y="38"/>
                        </a:lnTo>
                        <a:lnTo>
                          <a:pt x="145" y="51"/>
                        </a:lnTo>
                        <a:lnTo>
                          <a:pt x="126" y="63"/>
                        </a:lnTo>
                        <a:lnTo>
                          <a:pt x="109" y="75"/>
                        </a:lnTo>
                        <a:lnTo>
                          <a:pt x="91" y="88"/>
                        </a:lnTo>
                        <a:lnTo>
                          <a:pt x="74" y="100"/>
                        </a:lnTo>
                        <a:lnTo>
                          <a:pt x="56" y="112"/>
                        </a:lnTo>
                        <a:lnTo>
                          <a:pt x="38" y="124"/>
                        </a:lnTo>
                        <a:lnTo>
                          <a:pt x="20" y="136"/>
                        </a:lnTo>
                        <a:lnTo>
                          <a:pt x="2" y="148"/>
                        </a:lnTo>
                        <a:lnTo>
                          <a:pt x="2" y="132"/>
                        </a:lnTo>
                        <a:lnTo>
                          <a:pt x="1" y="115"/>
                        </a:lnTo>
                        <a:lnTo>
                          <a:pt x="1" y="99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1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330000" y="568800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39">
                        <a:moveTo>
                          <a:pt x="0" y="75"/>
                        </a:moveTo>
                        <a:lnTo>
                          <a:pt x="17" y="66"/>
                        </a:lnTo>
                        <a:lnTo>
                          <a:pt x="33" y="56"/>
                        </a:lnTo>
                        <a:lnTo>
                          <a:pt x="49" y="47"/>
                        </a:lnTo>
                        <a:lnTo>
                          <a:pt x="65" y="37"/>
                        </a:lnTo>
                        <a:lnTo>
                          <a:pt x="81" y="28"/>
                        </a:lnTo>
                        <a:lnTo>
                          <a:pt x="97" y="19"/>
                        </a:lnTo>
                        <a:lnTo>
                          <a:pt x="113" y="9"/>
                        </a:lnTo>
                        <a:lnTo>
                          <a:pt x="130" y="0"/>
                        </a:lnTo>
                        <a:lnTo>
                          <a:pt x="131" y="13"/>
                        </a:lnTo>
                        <a:lnTo>
                          <a:pt x="131" y="25"/>
                        </a:lnTo>
                        <a:lnTo>
                          <a:pt x="132" y="38"/>
                        </a:lnTo>
                        <a:lnTo>
                          <a:pt x="132" y="51"/>
                        </a:lnTo>
                        <a:lnTo>
                          <a:pt x="115" y="62"/>
                        </a:lnTo>
                        <a:lnTo>
                          <a:pt x="99" y="73"/>
                        </a:lnTo>
                        <a:lnTo>
                          <a:pt x="83" y="85"/>
                        </a:lnTo>
                        <a:lnTo>
                          <a:pt x="68" y="95"/>
                        </a:lnTo>
                        <a:lnTo>
                          <a:pt x="52" y="106"/>
                        </a:lnTo>
                        <a:lnTo>
                          <a:pt x="36" y="117"/>
                        </a:lnTo>
                        <a:lnTo>
                          <a:pt x="20" y="128"/>
                        </a:lnTo>
                        <a:lnTo>
                          <a:pt x="3" y="139"/>
                        </a:lnTo>
                        <a:lnTo>
                          <a:pt x="2" y="123"/>
                        </a:lnTo>
                        <a:lnTo>
                          <a:pt x="2" y="107"/>
                        </a:lnTo>
                        <a:lnTo>
                          <a:pt x="1" y="92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1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333240" y="5688000"/>
                    <a:ext cx="266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30">
                        <a:moveTo>
                          <a:pt x="0" y="67"/>
                        </a:moveTo>
                        <a:lnTo>
                          <a:pt x="15" y="59"/>
                        </a:lnTo>
                        <a:lnTo>
                          <a:pt x="29" y="50"/>
                        </a:lnTo>
                        <a:lnTo>
                          <a:pt x="44" y="42"/>
                        </a:lnTo>
                        <a:lnTo>
                          <a:pt x="58" y="33"/>
                        </a:lnTo>
                        <a:lnTo>
                          <a:pt x="72" y="25"/>
                        </a:lnTo>
                        <a:lnTo>
                          <a:pt x="87" y="17"/>
                        </a:lnTo>
                        <a:lnTo>
                          <a:pt x="101" y="8"/>
                        </a:lnTo>
                        <a:lnTo>
                          <a:pt x="117" y="0"/>
                        </a:lnTo>
                        <a:lnTo>
                          <a:pt x="118" y="13"/>
                        </a:lnTo>
                        <a:lnTo>
                          <a:pt x="118" y="26"/>
                        </a:lnTo>
                        <a:lnTo>
                          <a:pt x="118" y="39"/>
                        </a:lnTo>
                        <a:lnTo>
                          <a:pt x="119" y="52"/>
                        </a:lnTo>
                        <a:lnTo>
                          <a:pt x="104" y="62"/>
                        </a:lnTo>
                        <a:lnTo>
                          <a:pt x="90" y="71"/>
                        </a:lnTo>
                        <a:lnTo>
                          <a:pt x="75" y="81"/>
                        </a:lnTo>
                        <a:lnTo>
                          <a:pt x="61" y="91"/>
                        </a:lnTo>
                        <a:lnTo>
                          <a:pt x="47" y="101"/>
                        </a:lnTo>
                        <a:lnTo>
                          <a:pt x="33" y="111"/>
                        </a:lnTo>
                        <a:lnTo>
                          <a:pt x="18" y="120"/>
                        </a:lnTo>
                        <a:lnTo>
                          <a:pt x="4" y="130"/>
                        </a:lnTo>
                        <a:lnTo>
                          <a:pt x="3" y="115"/>
                        </a:lnTo>
                        <a:lnTo>
                          <a:pt x="2" y="99"/>
                        </a:lnTo>
                        <a:lnTo>
                          <a:pt x="1" y="84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2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336480" y="568800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1">
                        <a:moveTo>
                          <a:pt x="0" y="60"/>
                        </a:moveTo>
                        <a:lnTo>
                          <a:pt x="13" y="52"/>
                        </a:lnTo>
                        <a:lnTo>
                          <a:pt x="26" y="45"/>
                        </a:lnTo>
                        <a:lnTo>
                          <a:pt x="39" y="37"/>
                        </a:lnTo>
                        <a:lnTo>
                          <a:pt x="52" y="30"/>
                        </a:lnTo>
                        <a:lnTo>
                          <a:pt x="65" y="22"/>
                        </a:lnTo>
                        <a:lnTo>
                          <a:pt x="78" y="15"/>
                        </a:lnTo>
                        <a:lnTo>
                          <a:pt x="91" y="7"/>
                        </a:lnTo>
                        <a:lnTo>
                          <a:pt x="105" y="0"/>
                        </a:lnTo>
                        <a:lnTo>
                          <a:pt x="106" y="13"/>
                        </a:lnTo>
                        <a:lnTo>
                          <a:pt x="106" y="26"/>
                        </a:lnTo>
                        <a:lnTo>
                          <a:pt x="106" y="40"/>
                        </a:lnTo>
                        <a:lnTo>
                          <a:pt x="107" y="53"/>
                        </a:lnTo>
                        <a:lnTo>
                          <a:pt x="94" y="61"/>
                        </a:lnTo>
                        <a:lnTo>
                          <a:pt x="81" y="70"/>
                        </a:lnTo>
                        <a:lnTo>
                          <a:pt x="68" y="78"/>
                        </a:lnTo>
                        <a:lnTo>
                          <a:pt x="55" y="87"/>
                        </a:lnTo>
                        <a:lnTo>
                          <a:pt x="43" y="96"/>
                        </a:lnTo>
                        <a:lnTo>
                          <a:pt x="30" y="104"/>
                        </a:lnTo>
                        <a:lnTo>
                          <a:pt x="17" y="113"/>
                        </a:lnTo>
                        <a:lnTo>
                          <a:pt x="4" y="121"/>
                        </a:lnTo>
                        <a:lnTo>
                          <a:pt x="3" y="106"/>
                        </a:lnTo>
                        <a:lnTo>
                          <a:pt x="2" y="91"/>
                        </a:lnTo>
                        <a:lnTo>
                          <a:pt x="1" y="75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0021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339360" y="568800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13">
                        <a:moveTo>
                          <a:pt x="0" y="53"/>
                        </a:moveTo>
                        <a:lnTo>
                          <a:pt x="12" y="46"/>
                        </a:lnTo>
                        <a:lnTo>
                          <a:pt x="23" y="40"/>
                        </a:lnTo>
                        <a:lnTo>
                          <a:pt x="35" y="33"/>
                        </a:lnTo>
                        <a:lnTo>
                          <a:pt x="47" y="26"/>
                        </a:lnTo>
                        <a:lnTo>
                          <a:pt x="58" y="19"/>
                        </a:lnTo>
                        <a:lnTo>
                          <a:pt x="70" y="13"/>
                        </a:lnTo>
                        <a:lnTo>
                          <a:pt x="81" y="6"/>
                        </a:lnTo>
                        <a:lnTo>
                          <a:pt x="94" y="0"/>
                        </a:lnTo>
                        <a:lnTo>
                          <a:pt x="94" y="13"/>
                        </a:lnTo>
                        <a:lnTo>
                          <a:pt x="94" y="27"/>
                        </a:lnTo>
                        <a:lnTo>
                          <a:pt x="94" y="40"/>
                        </a:lnTo>
                        <a:lnTo>
                          <a:pt x="95" y="54"/>
                        </a:lnTo>
                        <a:lnTo>
                          <a:pt x="83" y="61"/>
                        </a:lnTo>
                        <a:lnTo>
                          <a:pt x="72" y="68"/>
                        </a:lnTo>
                        <a:lnTo>
                          <a:pt x="61" y="75"/>
                        </a:lnTo>
                        <a:lnTo>
                          <a:pt x="50" y="84"/>
                        </a:lnTo>
                        <a:lnTo>
                          <a:pt x="38" y="91"/>
                        </a:lnTo>
                        <a:lnTo>
                          <a:pt x="27" y="98"/>
                        </a:lnTo>
                        <a:lnTo>
                          <a:pt x="16" y="106"/>
                        </a:lnTo>
                        <a:lnTo>
                          <a:pt x="5" y="113"/>
                        </a:lnTo>
                        <a:lnTo>
                          <a:pt x="4" y="98"/>
                        </a:lnTo>
                        <a:lnTo>
                          <a:pt x="3" y="83"/>
                        </a:lnTo>
                        <a:lnTo>
                          <a:pt x="1" y="68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0023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3341160" y="5688000"/>
                    <a:ext cx="187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05">
                        <a:moveTo>
                          <a:pt x="0" y="47"/>
                        </a:moveTo>
                        <a:lnTo>
                          <a:pt x="10" y="41"/>
                        </a:lnTo>
                        <a:lnTo>
                          <a:pt x="20" y="36"/>
                        </a:lnTo>
                        <a:lnTo>
                          <a:pt x="30" y="30"/>
                        </a:lnTo>
                        <a:lnTo>
                          <a:pt x="41" y="24"/>
                        </a:lnTo>
                        <a:lnTo>
                          <a:pt x="51" y="18"/>
                        </a:lnTo>
                        <a:lnTo>
                          <a:pt x="61" y="12"/>
                        </a:lnTo>
                        <a:lnTo>
                          <a:pt x="71" y="6"/>
                        </a:lnTo>
                        <a:lnTo>
                          <a:pt x="82" y="0"/>
                        </a:lnTo>
                        <a:lnTo>
                          <a:pt x="82" y="14"/>
                        </a:lnTo>
                        <a:lnTo>
                          <a:pt x="82" y="28"/>
                        </a:lnTo>
                        <a:lnTo>
                          <a:pt x="82" y="41"/>
                        </a:lnTo>
                        <a:lnTo>
                          <a:pt x="82" y="55"/>
                        </a:lnTo>
                        <a:lnTo>
                          <a:pt x="72" y="61"/>
                        </a:lnTo>
                        <a:lnTo>
                          <a:pt x="62" y="68"/>
                        </a:lnTo>
                        <a:lnTo>
                          <a:pt x="53" y="74"/>
                        </a:lnTo>
                        <a:lnTo>
                          <a:pt x="44" y="80"/>
                        </a:lnTo>
                        <a:lnTo>
                          <a:pt x="34" y="87"/>
                        </a:lnTo>
                        <a:lnTo>
                          <a:pt x="25" y="93"/>
                        </a:lnTo>
                        <a:lnTo>
                          <a:pt x="15" y="99"/>
                        </a:lnTo>
                        <a:lnTo>
                          <a:pt x="6" y="105"/>
                        </a:lnTo>
                        <a:lnTo>
                          <a:pt x="5" y="91"/>
                        </a:lnTo>
                        <a:lnTo>
                          <a:pt x="3" y="75"/>
                        </a:lnTo>
                        <a:lnTo>
                          <a:pt x="2" y="6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0026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3344400" y="5688000"/>
                    <a:ext cx="15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96">
                        <a:moveTo>
                          <a:pt x="0" y="40"/>
                        </a:moveTo>
                        <a:lnTo>
                          <a:pt x="9" y="35"/>
                        </a:lnTo>
                        <a:lnTo>
                          <a:pt x="17" y="30"/>
                        </a:lnTo>
                        <a:lnTo>
                          <a:pt x="26" y="25"/>
                        </a:lnTo>
                        <a:lnTo>
                          <a:pt x="35" y="20"/>
                        </a:lnTo>
                        <a:lnTo>
                          <a:pt x="43" y="15"/>
                        </a:lnTo>
                        <a:lnTo>
                          <a:pt x="52" y="10"/>
                        </a:lnTo>
                        <a:lnTo>
                          <a:pt x="60" y="5"/>
                        </a:lnTo>
                        <a:lnTo>
                          <a:pt x="70" y="0"/>
                        </a:lnTo>
                        <a:lnTo>
                          <a:pt x="70" y="14"/>
                        </a:lnTo>
                        <a:lnTo>
                          <a:pt x="70" y="28"/>
                        </a:lnTo>
                        <a:lnTo>
                          <a:pt x="70" y="42"/>
                        </a:lnTo>
                        <a:lnTo>
                          <a:pt x="70" y="56"/>
                        </a:lnTo>
                        <a:lnTo>
                          <a:pt x="61" y="61"/>
                        </a:lnTo>
                        <a:lnTo>
                          <a:pt x="53" y="66"/>
                        </a:lnTo>
                        <a:lnTo>
                          <a:pt x="45" y="71"/>
                        </a:lnTo>
                        <a:lnTo>
                          <a:pt x="38" y="75"/>
                        </a:lnTo>
                        <a:lnTo>
                          <a:pt x="30" y="80"/>
                        </a:lnTo>
                        <a:lnTo>
                          <a:pt x="22" y="86"/>
                        </a:lnTo>
                        <a:lnTo>
                          <a:pt x="15" y="91"/>
                        </a:lnTo>
                        <a:lnTo>
                          <a:pt x="7" y="96"/>
                        </a:lnTo>
                        <a:lnTo>
                          <a:pt x="5" y="81"/>
                        </a:lnTo>
                        <a:lnTo>
                          <a:pt x="3" y="68"/>
                        </a:lnTo>
                        <a:lnTo>
                          <a:pt x="2" y="54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28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3347280" y="5688000"/>
                    <a:ext cx="126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87">
                        <a:moveTo>
                          <a:pt x="0" y="33"/>
                        </a:moveTo>
                        <a:lnTo>
                          <a:pt x="7" y="29"/>
                        </a:lnTo>
                        <a:lnTo>
                          <a:pt x="14" y="25"/>
                        </a:lnTo>
                        <a:lnTo>
                          <a:pt x="21" y="21"/>
                        </a:lnTo>
                        <a:lnTo>
                          <a:pt x="29" y="16"/>
                        </a:lnTo>
                        <a:lnTo>
                          <a:pt x="36" y="12"/>
                        </a:lnTo>
                        <a:lnTo>
                          <a:pt x="43" y="8"/>
                        </a:lnTo>
                        <a:lnTo>
                          <a:pt x="52" y="4"/>
                        </a:lnTo>
                        <a:lnTo>
                          <a:pt x="59" y="0"/>
                        </a:lnTo>
                        <a:lnTo>
                          <a:pt x="58" y="14"/>
                        </a:lnTo>
                        <a:lnTo>
                          <a:pt x="58" y="28"/>
                        </a:lnTo>
                        <a:lnTo>
                          <a:pt x="58" y="43"/>
                        </a:lnTo>
                        <a:lnTo>
                          <a:pt x="58" y="57"/>
                        </a:lnTo>
                        <a:lnTo>
                          <a:pt x="52" y="61"/>
                        </a:lnTo>
                        <a:lnTo>
                          <a:pt x="45" y="64"/>
                        </a:lnTo>
                        <a:lnTo>
                          <a:pt x="38" y="68"/>
                        </a:lnTo>
                        <a:lnTo>
                          <a:pt x="32" y="72"/>
                        </a:lnTo>
                        <a:lnTo>
                          <a:pt x="26" y="76"/>
                        </a:lnTo>
                        <a:lnTo>
                          <a:pt x="20" y="79"/>
                        </a:lnTo>
                        <a:lnTo>
                          <a:pt x="14" y="84"/>
                        </a:lnTo>
                        <a:lnTo>
                          <a:pt x="7" y="87"/>
                        </a:lnTo>
                        <a:lnTo>
                          <a:pt x="5" y="73"/>
                        </a:lnTo>
                        <a:lnTo>
                          <a:pt x="4" y="60"/>
                        </a:lnTo>
                        <a:lnTo>
                          <a:pt x="2" y="46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28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3349080" y="5688000"/>
                    <a:ext cx="10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8">
                        <a:moveTo>
                          <a:pt x="0" y="26"/>
                        </a:moveTo>
                        <a:lnTo>
                          <a:pt x="47" y="0"/>
                        </a:lnTo>
                        <a:lnTo>
                          <a:pt x="46" y="58"/>
                        </a:lnTo>
                        <a:lnTo>
                          <a:pt x="8" y="78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002b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3264840" y="5732640"/>
                    <a:ext cx="18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21">
                        <a:moveTo>
                          <a:pt x="76" y="0"/>
                        </a:moveTo>
                        <a:lnTo>
                          <a:pt x="79" y="69"/>
                        </a:lnTo>
                        <a:lnTo>
                          <a:pt x="0" y="121"/>
                        </a:lnTo>
                        <a:lnTo>
                          <a:pt x="6" y="35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23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0" name=""/>
            <p:cNvGrpSpPr/>
            <p:nvPr/>
          </p:nvGrpSpPr>
          <p:grpSpPr>
            <a:xfrm>
              <a:off x="3886200" y="5257800"/>
              <a:ext cx="762120" cy="609480"/>
              <a:chOff x="3886200" y="5257800"/>
              <a:chExt cx="762120" cy="609480"/>
            </a:xfrm>
          </p:grpSpPr>
          <p:sp>
            <p:nvSpPr>
              <p:cNvPr id="1251" name=""/>
              <p:cNvSpPr/>
              <p:nvPr/>
            </p:nvSpPr>
            <p:spPr>
              <a:xfrm>
                <a:off x="3886200" y="559584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2" name=""/>
              <p:cNvGrpSpPr/>
              <p:nvPr/>
            </p:nvGrpSpPr>
            <p:grpSpPr>
              <a:xfrm>
                <a:off x="4133520" y="5257800"/>
                <a:ext cx="456480" cy="350640"/>
                <a:chOff x="4133520" y="5257800"/>
                <a:chExt cx="456480" cy="350640"/>
              </a:xfrm>
            </p:grpSpPr>
            <p:grpSp>
              <p:nvGrpSpPr>
                <p:cNvPr id="1253" name=""/>
                <p:cNvGrpSpPr/>
                <p:nvPr/>
              </p:nvGrpSpPr>
              <p:grpSpPr>
                <a:xfrm>
                  <a:off x="4133520" y="5257800"/>
                  <a:ext cx="456480" cy="350640"/>
                  <a:chOff x="4133520" y="5257800"/>
                  <a:chExt cx="456480" cy="35064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173120" y="5418000"/>
                    <a:ext cx="3679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290480" y="5257800"/>
                    <a:ext cx="2995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133520" y="5432400"/>
                    <a:ext cx="367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133520" y="5445000"/>
                    <a:ext cx="3553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133520" y="5445000"/>
                    <a:ext cx="3441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133520" y="5445000"/>
                    <a:ext cx="333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4133520" y="5445000"/>
                    <a:ext cx="3204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4133520" y="5445000"/>
                    <a:ext cx="3092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4133520" y="5445000"/>
                    <a:ext cx="2980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4133520" y="5445000"/>
                    <a:ext cx="2869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4133520" y="5445000"/>
                    <a:ext cx="2743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4133520" y="5445000"/>
                    <a:ext cx="263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4133520" y="5445000"/>
                    <a:ext cx="252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4133520" y="5445000"/>
                    <a:ext cx="2394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4133520" y="5445000"/>
                    <a:ext cx="228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4133520" y="5445000"/>
                    <a:ext cx="217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4133520" y="5445000"/>
                    <a:ext cx="2062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4133520" y="5445000"/>
                    <a:ext cx="193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293720" y="54576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4311000" y="54608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326840" y="54626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276080" y="5456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258800" y="545436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4242960" y="54514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4282560" y="54608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299840" y="54626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4315680" y="5465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4264920" y="545940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4247640" y="5456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4231800" y="545436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284000" y="54576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4303080" y="54608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4318920" y="5464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4268160" y="5456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4249080" y="54543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4235040" y="545148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91920" y="54655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309560" y="546876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325400" y="54705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4274640" y="546408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4255560" y="546264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4241160" y="54594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280760" y="54687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298400" y="5470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31424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263480" y="546552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4244400" y="54640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4230000" y="5460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4282560" y="54655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4301640" y="546876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4315680" y="547056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4264920" y="5464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4247640" y="546264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4233240" y="54594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4301640" y="547200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4320720" y="54734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4336560" y="547668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4284000" y="54687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4266720" y="54673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250880" y="54655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42904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430956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323600" y="547848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272840" y="54720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255560" y="5470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4239720" y="5467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4293720" y="54720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4311000" y="5473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326840" y="54766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276080" y="54705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258800" y="546876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242960" y="546552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298400" y="54766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315680" y="54799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4331880" y="54813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280760" y="547524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263480" y="547344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247640" y="547056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287240" y="54799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04880" y="548136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20720" y="54846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26996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4252320" y="54752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236480" y="547344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290480" y="54766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307760" y="54799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323600" y="54813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4272840" y="54752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4255560" y="54734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4239720" y="547056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4250880" y="5273640"/>
                    <a:ext cx="2995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395240" y="54720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4412520" y="547344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4428720" y="547668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4377600" y="54687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4360320" y="5467320"/>
                    <a:ext cx="7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4344480" y="54655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43840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440172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4417560" y="54784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4366800" y="54720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4349160" y="54705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4333320" y="5467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4387320" y="54720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4404600" y="5473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420440" y="54766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369680" y="54705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4350600" y="546876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4336560" y="546552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4393440" y="547848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4412520" y="54799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426920" y="548316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376160" y="54752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4358520" y="54734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4342680" y="5472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4382640" y="54799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4401720" y="54831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4415760" y="548460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4365000" y="54784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347720" y="547668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43318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385520" y="547848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4403160" y="54799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4419000" y="54831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4368240" y="547668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4350600" y="54734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4334760" y="54720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4404600" y="54846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4422240" y="54864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4438080" y="5489280"/>
                    <a:ext cx="90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385520" y="54831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368240" y="548136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4352400" y="54784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4392000" y="54864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411080" y="5489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425480" y="5492520"/>
                    <a:ext cx="13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376160" y="54846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357080" y="54831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342680" y="54799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4395240" y="54846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4412520" y="5487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4428720" y="54892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4377600" y="5483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360320" y="54813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344480" y="547848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399920" y="548928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417560" y="54925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433400" y="54957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4382640" y="54878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4365000" y="5486400"/>
                    <a:ext cx="7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4349160" y="54831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4388760" y="5492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4406400" y="5495760"/>
                    <a:ext cx="13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422240" y="5497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371480" y="54910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4353840" y="54892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4338000" y="54864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4392000" y="54910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4409640" y="54925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4425480" y="54957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4374720" y="548784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4357080" y="548640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4341240" y="54846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388760" y="54957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288680" y="54831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407840" y="5497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306320" y="54846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4423680" y="55004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4322160" y="54878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371480" y="54925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4271400" y="54799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353840" y="54910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4252320" y="54784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4338000" y="54892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423792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4377600" y="549756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4277880" y="54846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4396680" y="5500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295160" y="54878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4411080" y="550224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4311000" y="5489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4360320" y="54957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260240" y="5483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342680" y="5494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242960" y="5481360"/>
                    <a:ext cx="10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328640" y="54910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2267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22676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380840" y="54957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79320" y="54831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4398480" y="5497560"/>
                    <a:ext cx="154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298400" y="54846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414320" y="5500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312800" y="54878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363560" y="549432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261680" y="548136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345920" y="549252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244400" y="54799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330080" y="54892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230000" y="54752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4253760" y="5273640"/>
                  <a:ext cx="29196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4253760" y="5273640"/>
                  <a:ext cx="28404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266720" y="5273640"/>
                  <a:ext cx="27576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253760" y="5273640"/>
                  <a:ext cx="26640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253760" y="5273640"/>
                  <a:ext cx="25848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253760" y="5273640"/>
                  <a:ext cx="24912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253760" y="5273640"/>
                  <a:ext cx="24120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253760" y="5273640"/>
                  <a:ext cx="23328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253760" y="5273640"/>
                  <a:ext cx="22356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253760" y="5273640"/>
                  <a:ext cx="21564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253760" y="5273640"/>
                  <a:ext cx="21564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252320" y="5273640"/>
                  <a:ext cx="21708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252320" y="5273640"/>
                  <a:ext cx="21708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252320" y="5273640"/>
                  <a:ext cx="21708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252320" y="5273640"/>
                  <a:ext cx="21708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272840" y="5281560"/>
                  <a:ext cx="25380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280760" y="5287680"/>
                  <a:ext cx="24408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280760" y="5287680"/>
                  <a:ext cx="23328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280760" y="5287680"/>
                  <a:ext cx="22212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280760" y="5287680"/>
                  <a:ext cx="21096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4280760" y="5287680"/>
                  <a:ext cx="20124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280760" y="5287680"/>
                  <a:ext cx="19044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4280760" y="5287680"/>
                  <a:ext cx="17928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280760" y="5287680"/>
                  <a:ext cx="16812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280760" y="5287680"/>
                  <a:ext cx="15840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280760" y="5287680"/>
                  <a:ext cx="14760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4280760" y="5287680"/>
                  <a:ext cx="13644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4280760" y="5287680"/>
                  <a:ext cx="12528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280760" y="5287680"/>
                  <a:ext cx="11556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280760" y="5287680"/>
                  <a:ext cx="10440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280760" y="5287680"/>
                  <a:ext cx="9360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4149000" y="5524560"/>
                  <a:ext cx="27288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295160" y="5432400"/>
                  <a:ext cx="14112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31600" y="5456160"/>
                  <a:ext cx="6012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4249080" y="5427720"/>
                  <a:ext cx="4716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431600" y="5457600"/>
                  <a:ext cx="3456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266720" y="5435640"/>
                  <a:ext cx="2664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4431600" y="5460840"/>
                  <a:ext cx="3312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4268160" y="5437080"/>
                  <a:ext cx="2520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4433400" y="5462640"/>
                  <a:ext cx="2988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4269960" y="5438520"/>
                  <a:ext cx="2160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4466520" y="54608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4250880" y="5432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466520" y="546264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250880" y="543384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66520" y="546408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4252320" y="543564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4379400" y="55004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398480" y="550368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412520" y="550548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361760" y="549900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4344480" y="549756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328640" y="549432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231800" y="547848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231800" y="546876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4215960" y="547668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215960" y="546552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4455360" y="548316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4444560" y="54799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4201560" y="547524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4368240" y="55036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4387320" y="55054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401720" y="550836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350600" y="550044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4333320" y="54990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317480" y="549756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4222080" y="54813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4220640" y="547056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206240" y="54784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206240" y="546876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444560" y="548640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433400" y="548316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190400" y="54766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371480" y="550044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388760" y="550368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04600" y="5505480"/>
                  <a:ext cx="1548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353840" y="5499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336560" y="549756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320720" y="5494320"/>
                  <a:ext cx="1368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223880" y="547992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223880" y="5468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208040" y="547668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208040" y="546732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47440" y="54846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34840" y="548136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191840" y="5475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239720" y="5484600"/>
                  <a:ext cx="7416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242960" y="5483160"/>
                  <a:ext cx="7416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314240" y="549252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301640" y="5438520"/>
                  <a:ext cx="12348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149000" y="5524560"/>
                  <a:ext cx="13464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149000" y="5524560"/>
                  <a:ext cx="12996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149000" y="5524560"/>
                  <a:ext cx="12528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149000" y="5524560"/>
                  <a:ext cx="12060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149000" y="5524560"/>
                  <a:ext cx="11556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147560" y="5524560"/>
                  <a:ext cx="11232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147560" y="5524560"/>
                  <a:ext cx="10764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147560" y="5524560"/>
                  <a:ext cx="10296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147560" y="5524560"/>
                  <a:ext cx="9648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147560" y="5524560"/>
                  <a:ext cx="9180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4147560" y="5524560"/>
                  <a:ext cx="8712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4146120" y="5524560"/>
                  <a:ext cx="8352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146120" y="5524560"/>
                  <a:ext cx="7884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4146120" y="55245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4146120" y="5524560"/>
                  <a:ext cx="6948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4233240" y="5499000"/>
                  <a:ext cx="7272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210920" y="54990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235040" y="5557680"/>
                  <a:ext cx="19008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446000" y="5532480"/>
                  <a:ext cx="5688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4392000" y="5476680"/>
                  <a:ext cx="9972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398480" y="5476680"/>
                  <a:ext cx="9324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404600" y="5476680"/>
                  <a:ext cx="8712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411080" y="5476680"/>
                  <a:ext cx="8064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415760" y="5476680"/>
                  <a:ext cx="7596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422240" y="5476680"/>
                  <a:ext cx="6948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428720" y="5476680"/>
                  <a:ext cx="6300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434840" y="547668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439520" y="547668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446000" y="5476680"/>
                  <a:ext cx="4572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452480" y="5476680"/>
                  <a:ext cx="3924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458600" y="5476680"/>
                  <a:ext cx="3312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4465080" y="547668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469760" y="547668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4476240" y="547668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4453920" y="5535360"/>
                  <a:ext cx="4896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4457160" y="5535360"/>
                  <a:ext cx="4572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4460400" y="5535360"/>
                  <a:ext cx="4248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463640" y="5535360"/>
                  <a:ext cx="3924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465080" y="5535360"/>
                  <a:ext cx="3780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468320" y="553536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4471560" y="5535360"/>
                  <a:ext cx="3132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4473000" y="553536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4476240" y="5535360"/>
                  <a:ext cx="2664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4479480" y="55353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4482360" y="553536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4484160" y="5535360"/>
                  <a:ext cx="1872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4487400" y="5535360"/>
                  <a:ext cx="1548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490280" y="5535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4492080" y="553536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4407840" y="5580000"/>
                  <a:ext cx="1872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4" name=""/>
            <p:cNvGrpSpPr/>
            <p:nvPr/>
          </p:nvGrpSpPr>
          <p:grpSpPr>
            <a:xfrm>
              <a:off x="4952880" y="5257800"/>
              <a:ext cx="762120" cy="609480"/>
              <a:chOff x="4952880" y="5257800"/>
              <a:chExt cx="762120" cy="609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952880" y="559584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6" name=""/>
              <p:cNvGrpSpPr/>
              <p:nvPr/>
            </p:nvGrpSpPr>
            <p:grpSpPr>
              <a:xfrm>
                <a:off x="5200560" y="5257800"/>
                <a:ext cx="457200" cy="350640"/>
                <a:chOff x="5200560" y="5257800"/>
                <a:chExt cx="457200" cy="35064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5200560" y="5257800"/>
                  <a:ext cx="457200" cy="350640"/>
                  <a:chOff x="5200560" y="5257800"/>
                  <a:chExt cx="457200" cy="35064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5240520" y="5418000"/>
                    <a:ext cx="368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5357880" y="525780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5200560" y="5432400"/>
                    <a:ext cx="3682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5200560" y="5445000"/>
                    <a:ext cx="355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5200560" y="5445000"/>
                    <a:ext cx="3445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5200560" y="5445000"/>
                    <a:ext cx="333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5200560" y="5445000"/>
                    <a:ext cx="32076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5200560" y="5445000"/>
                    <a:ext cx="309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5200560" y="5445000"/>
                    <a:ext cx="298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5200560" y="5445000"/>
                    <a:ext cx="2872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5200560" y="5445000"/>
                    <a:ext cx="274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5200560" y="5445000"/>
                    <a:ext cx="263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5200560" y="5445000"/>
                    <a:ext cx="252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5200560" y="5445000"/>
                    <a:ext cx="239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5200560" y="5445000"/>
                    <a:ext cx="228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5200560" y="5445000"/>
                    <a:ext cx="2174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5200560" y="5445000"/>
                    <a:ext cx="2066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5200560" y="5445000"/>
                    <a:ext cx="19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5361120" y="54576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5378400" y="54608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5394240" y="546264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5343480" y="545616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5326200" y="54543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5310360" y="5451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5349960" y="5460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5367240" y="54626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5383080" y="546552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5332320" y="545940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5315040" y="5456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5299200" y="5454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5351400" y="54576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5370480" y="5460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5386320" y="5464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5335560" y="54561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5316480" y="54543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5302440" y="54514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5359320" y="54655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5376960" y="54687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5392800" y="5470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5342040" y="5464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5322960" y="546264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5308560" y="54594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5348160" y="546876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365800" y="5470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38164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5330880" y="5465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311800" y="54640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5297400" y="54608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349960" y="54655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5369040" y="54687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383080" y="547056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332320" y="5464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5315040" y="546264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300640" y="54594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5369040" y="54720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5388120" y="54734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540396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5351400" y="54687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5334120" y="54673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5318280" y="5465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53578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53769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5391000" y="547848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5340240" y="54720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5322960" y="5470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5307120" y="5467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5361120" y="54720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5378400" y="5473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5394240" y="54766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5343480" y="5470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5326200" y="5468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5310360" y="546552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5365800" y="54766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5383080" y="54799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5399280" y="54813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5348160" y="54752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5330880" y="54734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315040" y="54705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5354640" y="5479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5372280" y="5481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5388120" y="54846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53373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5319720" y="5475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303880" y="54734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357880" y="54766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5375160" y="5479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391000" y="548136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5340240" y="5475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5322960" y="54734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5307120" y="547056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5318280" y="527364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5462640" y="5472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5479920" y="5473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549612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5445000" y="54687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5427720" y="54673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5411880" y="5465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54514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546912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548496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5434200" y="54720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5416560" y="5470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5400720" y="5467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5454720" y="5472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5472000" y="5473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5487840" y="54766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437080" y="5470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5418000" y="546876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5403960" y="546552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5460840" y="547848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5479920" y="54799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5494320" y="548316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5443560" y="5475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5425920" y="54734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5410080" y="54720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5450040" y="5479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5469120" y="54831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5483160" y="54846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543240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5415120" y="54766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53992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5452920" y="547848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5470560" y="5479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5486400" y="5483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5435640" y="54766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5418000" y="54734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5402160" y="5472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5472000" y="54846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5489640" y="54864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5505480" y="548928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5452920" y="548316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5435640" y="54813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5419800" y="547848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5459400" y="5486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478480" y="54892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492880" y="549252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5443560" y="54846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5424480" y="54831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410080" y="54799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5462640" y="54846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5479920" y="548784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5496120" y="54892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5445000" y="54831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5427720" y="54813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5411880" y="54784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5467320" y="5489280"/>
                    <a:ext cx="97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5484960" y="549252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500800" y="5495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450040" y="54878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5432400" y="54864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5416560" y="5483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456160" y="549252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5473800" y="549576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5489640" y="5497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5438880" y="54910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421240" y="548928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5405400" y="5486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5459400" y="5491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477040" y="54925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492880" y="54957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442120" y="54878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424480" y="5486400"/>
                    <a:ext cx="14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408640" y="54846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456160" y="5495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356080" y="548316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5475240" y="54975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5373720" y="54846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491080" y="55004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5389560" y="54878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5438880" y="54925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5338800" y="54799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5421240" y="549108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5319720" y="5478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5405400" y="54892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5305320" y="54766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5445000" y="549756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5345280" y="54846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5464080" y="550044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5362560" y="5487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5478480" y="55022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5378400" y="54892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5427720" y="54957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5327640" y="5483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5410080" y="54943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5310360" y="548136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5396040" y="54910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5294160" y="54766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5294160" y="54784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5448240" y="54957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5346720" y="5483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5465880" y="549756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5365800" y="54846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5481720" y="5500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5380200" y="5487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5430960" y="54943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5329080" y="548136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5413320" y="549252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5311800" y="547992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5397480" y="54892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5297400" y="5475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5321160" y="5273640"/>
                  <a:ext cx="29232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321160" y="5273640"/>
                  <a:ext cx="28440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334120" y="5273640"/>
                  <a:ext cx="27612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321160" y="5273640"/>
                  <a:ext cx="26676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321160" y="5273640"/>
                  <a:ext cx="25884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321160" y="5273640"/>
                  <a:ext cx="24948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321160" y="5273640"/>
                  <a:ext cx="24156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321160" y="5273640"/>
                  <a:ext cx="23364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321160" y="5273640"/>
                  <a:ext cx="22392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321160" y="5273640"/>
                  <a:ext cx="21600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321160" y="5273640"/>
                  <a:ext cx="21600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319720" y="5273640"/>
                  <a:ext cx="21744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319720" y="527364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319720" y="527364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319720" y="5273640"/>
                  <a:ext cx="21744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340240" y="5281560"/>
                  <a:ext cx="25416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348160" y="5287680"/>
                  <a:ext cx="24444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348160" y="5287680"/>
                  <a:ext cx="23364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348160" y="5287680"/>
                  <a:ext cx="22248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348160" y="5287680"/>
                  <a:ext cx="21132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348160" y="5287680"/>
                  <a:ext cx="20160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348160" y="5287680"/>
                  <a:ext cx="19080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348160" y="5287680"/>
                  <a:ext cx="17964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348160" y="5287680"/>
                  <a:ext cx="16848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5348160" y="5287680"/>
                  <a:ext cx="15876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348160" y="5287680"/>
                  <a:ext cx="14796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348160" y="5287680"/>
                  <a:ext cx="13680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348160" y="5287680"/>
                  <a:ext cx="12564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348160" y="5287680"/>
                  <a:ext cx="11592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5348160" y="5287680"/>
                  <a:ext cx="10476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5348160" y="5287680"/>
                  <a:ext cx="9396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5216400" y="5524560"/>
                  <a:ext cx="27324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362560" y="5432400"/>
                  <a:ext cx="14148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499000" y="545616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5316480" y="5427720"/>
                  <a:ext cx="4752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499000" y="5457600"/>
                  <a:ext cx="3492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334120" y="5435640"/>
                  <a:ext cx="2700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499000" y="54608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335560" y="5437080"/>
                  <a:ext cx="2556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500800" y="546264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337360" y="5438520"/>
                  <a:ext cx="2196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33920" y="54608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318280" y="54324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533920" y="5462640"/>
                  <a:ext cx="2088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5318280" y="543384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533920" y="546408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319720" y="543564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5446800" y="550044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465880" y="550368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479920" y="55054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429160" y="5499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411880" y="549756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396040" y="549432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299200" y="547848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299200" y="54687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283360" y="547668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283360" y="54655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522760" y="54831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511960" y="54799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268960" y="547524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435640" y="55036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454720" y="5505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469120" y="550836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418000" y="550044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400720" y="54990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384880" y="549756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289480" y="548136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288040" y="547056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273640" y="5478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273640" y="54687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511960" y="548640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5500800" y="548316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257800" y="54766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438880" y="550044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456160" y="550368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472000" y="550548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421240" y="549900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403960" y="549756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388120" y="5494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291280" y="5479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291280" y="546876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275440" y="5476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275440" y="54673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514840" y="5484600"/>
                  <a:ext cx="1296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502240" y="548136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259240" y="547524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307120" y="548460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310360" y="5483160"/>
                  <a:ext cx="7452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381640" y="549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369040" y="5438520"/>
                  <a:ext cx="12384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216400" y="5524560"/>
                  <a:ext cx="13500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5216400" y="5524560"/>
                  <a:ext cx="13032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216400" y="5524560"/>
                  <a:ext cx="12564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216400" y="5524560"/>
                  <a:ext cx="12096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216400" y="5524560"/>
                  <a:ext cx="11592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214960" y="5524560"/>
                  <a:ext cx="11268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214960" y="5524560"/>
                  <a:ext cx="10800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214960" y="5524560"/>
                  <a:ext cx="10332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214960" y="5524560"/>
                  <a:ext cx="9684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214960" y="5524560"/>
                  <a:ext cx="9216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214960" y="5524560"/>
                  <a:ext cx="87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213520" y="5524560"/>
                  <a:ext cx="8388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213520" y="5524560"/>
                  <a:ext cx="7920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213520" y="5524560"/>
                  <a:ext cx="7452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213520" y="552456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300640" y="5499000"/>
                  <a:ext cx="7308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278320" y="54990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302440" y="5557680"/>
                  <a:ext cx="19044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513400" y="553248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459400" y="547668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465880" y="5476680"/>
                  <a:ext cx="9360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472000" y="5476680"/>
                  <a:ext cx="8748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478480" y="5476680"/>
                  <a:ext cx="8100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483160" y="547668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489640" y="5476680"/>
                  <a:ext cx="6984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496120" y="5476680"/>
                  <a:ext cx="6336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502240" y="547668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506920" y="547668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513400" y="547668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519880" y="547668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526000" y="547668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532480" y="547668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537160" y="5476680"/>
                  <a:ext cx="2232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543640" y="5476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521320" y="553536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524560" y="553536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527800" y="5535360"/>
                  <a:ext cx="4284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531040" y="553536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532480" y="553536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535720" y="553536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538960" y="5535360"/>
                  <a:ext cx="3168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540400" y="5535360"/>
                  <a:ext cx="3024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543640" y="55353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546880" y="5535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549760" y="5535360"/>
                  <a:ext cx="2088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551560" y="5535360"/>
                  <a:ext cx="1908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554800" y="553536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557680" y="55353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559480" y="553536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475240" y="5580000"/>
                  <a:ext cx="1908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8" name=""/>
            <p:cNvSpPr/>
            <p:nvPr/>
          </p:nvSpPr>
          <p:spPr>
            <a:xfrm flipV="1">
              <a:off x="3581280" y="5257440"/>
              <a:ext cx="18288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2D82-DF14-48B9-A316-3C9BBFE1365A}" type="slidenum">
              <a:t>4</a:t>
            </a:fld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533520" y="685800"/>
            <a:ext cx="822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Scenarios - Home - Phas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914400" y="1752480"/>
            <a:ext cx="7838640" cy="4233960"/>
            <a:chOff x="914400" y="1752480"/>
            <a:chExt cx="7838640" cy="4233960"/>
          </a:xfrm>
        </p:grpSpPr>
        <p:sp>
          <p:nvSpPr>
            <p:cNvPr id="1942" name=""/>
            <p:cNvSpPr/>
            <p:nvPr/>
          </p:nvSpPr>
          <p:spPr>
            <a:xfrm>
              <a:off x="5029200" y="1752480"/>
              <a:ext cx="3657600" cy="41911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7041600" y="3733920"/>
              <a:ext cx="95868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7695000" y="4281480"/>
              <a:ext cx="1011960" cy="760320"/>
              <a:chOff x="7695000" y="4281480"/>
              <a:chExt cx="1011960" cy="760320"/>
            </a:xfrm>
          </p:grpSpPr>
          <p:sp>
            <p:nvSpPr>
              <p:cNvPr id="1945" name=""/>
              <p:cNvSpPr/>
              <p:nvPr/>
            </p:nvSpPr>
            <p:spPr>
              <a:xfrm>
                <a:off x="7695000" y="47703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2560" y="4281480"/>
                <a:ext cx="63792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7" name=""/>
            <p:cNvSpPr/>
            <p:nvPr/>
          </p:nvSpPr>
          <p:spPr>
            <a:xfrm>
              <a:off x="480060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805440" y="32004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805440" y="2895120"/>
              <a:ext cx="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449040" y="2438280"/>
              <a:ext cx="711360" cy="457200"/>
              <a:chOff x="6449040" y="2438280"/>
              <a:chExt cx="711360" cy="457200"/>
            </a:xfrm>
          </p:grpSpPr>
          <p:sp>
            <p:nvSpPr>
              <p:cNvPr id="1951" name=""/>
              <p:cNvSpPr/>
              <p:nvPr/>
            </p:nvSpPr>
            <p:spPr>
              <a:xfrm>
                <a:off x="6835680" y="2530080"/>
                <a:ext cx="301680" cy="319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6794640" y="2438280"/>
                <a:ext cx="264600" cy="374400"/>
                <a:chOff x="6794640" y="2438280"/>
                <a:chExt cx="264600" cy="374400"/>
              </a:xfrm>
            </p:grpSpPr>
            <p:grpSp>
              <p:nvGrpSpPr>
                <p:cNvPr id="1953" name=""/>
                <p:cNvGrpSpPr/>
                <p:nvPr/>
              </p:nvGrpSpPr>
              <p:grpSpPr>
                <a:xfrm>
                  <a:off x="6894720" y="2438280"/>
                  <a:ext cx="164520" cy="302040"/>
                  <a:chOff x="6894720" y="2438280"/>
                  <a:chExt cx="164520" cy="302040"/>
                </a:xfrm>
              </p:grpSpPr>
              <p:grpSp>
                <p:nvGrpSpPr>
                  <p:cNvPr id="1954" name=""/>
                  <p:cNvGrpSpPr/>
                  <p:nvPr/>
                </p:nvGrpSpPr>
                <p:grpSpPr>
                  <a:xfrm>
                    <a:off x="6938640" y="2476800"/>
                    <a:ext cx="120600" cy="224640"/>
                    <a:chOff x="6938640" y="2476800"/>
                    <a:chExt cx="120600" cy="224640"/>
                  </a:xfrm>
                </p:grpSpPr>
                <p:grpSp>
                  <p:nvGrpSpPr>
                    <p:cNvPr id="1955" name=""/>
                    <p:cNvGrpSpPr/>
                    <p:nvPr/>
                  </p:nvGrpSpPr>
                  <p:grpSpPr>
                    <a:xfrm>
                      <a:off x="6938640" y="2476800"/>
                      <a:ext cx="120600" cy="224640"/>
                      <a:chOff x="6938640" y="2476800"/>
                      <a:chExt cx="120600" cy="224640"/>
                    </a:xfrm>
                  </p:grpSpPr>
                  <p:grpSp>
                    <p:nvGrpSpPr>
                      <p:cNvPr id="1956" name=""/>
                      <p:cNvGrpSpPr/>
                      <p:nvPr/>
                    </p:nvGrpSpPr>
                    <p:grpSpPr>
                      <a:xfrm>
                        <a:off x="6966360" y="2490480"/>
                        <a:ext cx="92880" cy="181440"/>
                        <a:chOff x="6966360" y="2490480"/>
                        <a:chExt cx="92880" cy="181440"/>
                      </a:xfrm>
                    </p:grpSpPr>
                    <p:grpSp>
                      <p:nvGrpSpPr>
                        <p:cNvPr id="1957" name=""/>
                        <p:cNvGrpSpPr/>
                        <p:nvPr/>
                      </p:nvGrpSpPr>
                      <p:grpSpPr>
                        <a:xfrm>
                          <a:off x="6978600" y="2490480"/>
                          <a:ext cx="80640" cy="181440"/>
                          <a:chOff x="6978600" y="2490480"/>
                          <a:chExt cx="80640" cy="181440"/>
                        </a:xfrm>
                      </p:grpSpPr>
                      <p:sp>
                        <p:nvSpPr>
                          <p:cNvPr id="1958" name=""/>
                          <p:cNvSpPr/>
                          <p:nvPr/>
                        </p:nvSpPr>
                        <p:spPr>
                          <a:xfrm>
                            <a:off x="7018560" y="2597400"/>
                            <a:ext cx="4068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59" name=""/>
                          <p:cNvSpPr/>
                          <p:nvPr/>
                        </p:nvSpPr>
                        <p:spPr>
                          <a:xfrm>
                            <a:off x="6986160" y="2607120"/>
                            <a:ext cx="529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0" name=""/>
                          <p:cNvSpPr/>
                          <p:nvPr/>
                        </p:nvSpPr>
                        <p:spPr>
                          <a:xfrm>
                            <a:off x="7011000" y="2529360"/>
                            <a:ext cx="36000" cy="507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1" name=""/>
                          <p:cNvSpPr/>
                          <p:nvPr/>
                        </p:nvSpPr>
                        <p:spPr>
                          <a:xfrm>
                            <a:off x="6978600" y="2490480"/>
                            <a:ext cx="4824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2" name=""/>
                          <p:cNvSpPr/>
                          <p:nvPr/>
                        </p:nvSpPr>
                        <p:spPr>
                          <a:xfrm>
                            <a:off x="7009200" y="2527920"/>
                            <a:ext cx="3636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>
                          <a:off x="6966360" y="2543760"/>
                          <a:ext cx="7272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>
                          <a:off x="6966360" y="2597400"/>
                          <a:ext cx="52920" cy="648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>
                          <a:off x="6980400" y="2517840"/>
                          <a:ext cx="36720" cy="11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6" name=""/>
                      <p:cNvSpPr/>
                      <p:nvPr/>
                    </p:nvSpPr>
                    <p:spPr>
                      <a:xfrm>
                        <a:off x="6966360" y="2651400"/>
                        <a:ext cx="40320" cy="50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7" name=""/>
                      <p:cNvSpPr/>
                      <p:nvPr/>
                    </p:nvSpPr>
                    <p:spPr>
                      <a:xfrm>
                        <a:off x="6938640" y="2476800"/>
                        <a:ext cx="4932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" bIns="-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8" name=""/>
                      <p:cNvSpPr/>
                      <p:nvPr/>
                    </p:nvSpPr>
                    <p:spPr>
                      <a:xfrm>
                        <a:off x="6977160" y="2635200"/>
                        <a:ext cx="2844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69" name=""/>
                    <p:cNvSpPr/>
                    <p:nvPr/>
                  </p:nvSpPr>
                  <p:spPr>
                    <a:xfrm>
                      <a:off x="6972840" y="2504520"/>
                      <a:ext cx="16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0" name=""/>
                  <p:cNvGrpSpPr/>
                  <p:nvPr/>
                </p:nvGrpSpPr>
                <p:grpSpPr>
                  <a:xfrm>
                    <a:off x="6894720" y="2438280"/>
                    <a:ext cx="112680" cy="272160"/>
                    <a:chOff x="6894720" y="2438280"/>
                    <a:chExt cx="112680" cy="272160"/>
                  </a:xfrm>
                </p:grpSpPr>
                <p:sp>
                  <p:nvSpPr>
                    <p:cNvPr id="1971" name=""/>
                    <p:cNvSpPr/>
                    <p:nvPr/>
                  </p:nvSpPr>
                  <p:spPr>
                    <a:xfrm>
                      <a:off x="6906960" y="2597760"/>
                      <a:ext cx="92880" cy="112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"/>
                    <p:cNvSpPr/>
                    <p:nvPr/>
                  </p:nvSpPr>
                  <p:spPr>
                    <a:xfrm>
                      <a:off x="6914520" y="2520360"/>
                      <a:ext cx="92880" cy="113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3" name=""/>
                    <p:cNvSpPr/>
                    <p:nvPr/>
                  </p:nvSpPr>
                  <p:spPr>
                    <a:xfrm>
                      <a:off x="6894720" y="2438280"/>
                      <a:ext cx="73080" cy="88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6938280" y="2491560"/>
                      <a:ext cx="36720" cy="50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5" name=""/>
                    <p:cNvSpPr/>
                    <p:nvPr/>
                  </p:nvSpPr>
                  <p:spPr>
                    <a:xfrm>
                      <a:off x="6913080" y="2480400"/>
                      <a:ext cx="6480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6945480" y="2615400"/>
                      <a:ext cx="399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7" name=""/>
                  <p:cNvSpPr/>
                  <p:nvPr/>
                </p:nvSpPr>
                <p:spPr>
                  <a:xfrm>
                    <a:off x="6894720" y="2676240"/>
                    <a:ext cx="4932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6925320" y="2669400"/>
                    <a:ext cx="280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9" name=""/>
                <p:cNvSpPr/>
                <p:nvPr/>
              </p:nvSpPr>
              <p:spPr>
                <a:xfrm>
                  <a:off x="6794640" y="2733120"/>
                  <a:ext cx="6156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842160" y="2733120"/>
                  <a:ext cx="53280" cy="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869880" y="2714400"/>
                  <a:ext cx="540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828840" y="2702880"/>
                  <a:ext cx="100440" cy="8820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6451560" y="2574720"/>
                <a:ext cx="160200" cy="259920"/>
                <a:chOff x="6451560" y="2574720"/>
                <a:chExt cx="160200" cy="259920"/>
              </a:xfrm>
            </p:grpSpPr>
            <p:grpSp>
              <p:nvGrpSpPr>
                <p:cNvPr id="1984" name=""/>
                <p:cNvGrpSpPr/>
                <p:nvPr/>
              </p:nvGrpSpPr>
              <p:grpSpPr>
                <a:xfrm>
                  <a:off x="6451560" y="2608920"/>
                  <a:ext cx="88920" cy="157680"/>
                  <a:chOff x="6451560" y="2608920"/>
                  <a:chExt cx="88920" cy="15768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>
                    <a:off x="6451560" y="2662560"/>
                    <a:ext cx="4140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459120" y="2701440"/>
                    <a:ext cx="48960" cy="6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467400" y="260892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6462000" y="2666160"/>
                    <a:ext cx="284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"/>
                <p:cNvGrpSpPr/>
                <p:nvPr/>
              </p:nvGrpSpPr>
              <p:grpSpPr>
                <a:xfrm>
                  <a:off x="6478920" y="2574720"/>
                  <a:ext cx="132840" cy="259920"/>
                  <a:chOff x="6478920" y="2574720"/>
                  <a:chExt cx="132840" cy="25992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6522840" y="2584080"/>
                    <a:ext cx="8892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6478920" y="2662920"/>
                    <a:ext cx="4896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491160" y="2701080"/>
                    <a:ext cx="6912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6510960" y="273996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6515280" y="2637720"/>
                    <a:ext cx="64080" cy="7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6566760" y="2574720"/>
                    <a:ext cx="4068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6533640" y="2621520"/>
                    <a:ext cx="486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6492960" y="2689560"/>
                    <a:ext cx="529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8" name=""/>
                <p:cNvSpPr/>
                <p:nvPr/>
              </p:nvSpPr>
              <p:spPr>
                <a:xfrm>
                  <a:off x="6561360" y="2596680"/>
                  <a:ext cx="32760" cy="450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9" name=""/>
              <p:cNvSpPr/>
              <p:nvPr/>
            </p:nvSpPr>
            <p:spPr>
              <a:xfrm>
                <a:off x="6635880" y="2476440"/>
                <a:ext cx="117360" cy="1425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732720" y="246204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815160" y="2582640"/>
                <a:ext cx="144360" cy="1825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545160" y="2660400"/>
                <a:ext cx="163440" cy="211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751440" y="2574720"/>
                <a:ext cx="385920" cy="320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505560" y="2698560"/>
                <a:ext cx="87120" cy="1191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492960" y="260820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532560" y="2501640"/>
                <a:ext cx="144360" cy="185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659640" y="2714400"/>
                <a:ext cx="144360" cy="181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804000" y="2462040"/>
                <a:ext cx="104760" cy="127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526080" y="2493720"/>
                <a:ext cx="408240" cy="345960"/>
              </a:xfrm>
              <a:custGeom>
                <a:avLst/>
                <a:gdLst/>
                <a:ahLst/>
                <a:rect l="l" t="t" r="r" b="b"/>
                <a:pathLst>
                  <a:path w="796" h="515">
                    <a:moveTo>
                      <a:pt x="249" y="51"/>
                    </a:moveTo>
                    <a:lnTo>
                      <a:pt x="281" y="14"/>
                    </a:lnTo>
                    <a:lnTo>
                      <a:pt x="428" y="14"/>
                    </a:lnTo>
                    <a:lnTo>
                      <a:pt x="529" y="0"/>
                    </a:lnTo>
                    <a:lnTo>
                      <a:pt x="663" y="65"/>
                    </a:lnTo>
                    <a:lnTo>
                      <a:pt x="732" y="44"/>
                    </a:lnTo>
                    <a:lnTo>
                      <a:pt x="764" y="51"/>
                    </a:lnTo>
                    <a:lnTo>
                      <a:pt x="771" y="202"/>
                    </a:lnTo>
                    <a:lnTo>
                      <a:pt x="795" y="232"/>
                    </a:lnTo>
                    <a:lnTo>
                      <a:pt x="732" y="347"/>
                    </a:lnTo>
                    <a:lnTo>
                      <a:pt x="663" y="260"/>
                    </a:lnTo>
                    <a:lnTo>
                      <a:pt x="646" y="304"/>
                    </a:lnTo>
                    <a:lnTo>
                      <a:pt x="553" y="470"/>
                    </a:lnTo>
                    <a:lnTo>
                      <a:pt x="242" y="514"/>
                    </a:lnTo>
                    <a:lnTo>
                      <a:pt x="78" y="478"/>
                    </a:lnTo>
                    <a:lnTo>
                      <a:pt x="31" y="376"/>
                    </a:lnTo>
                    <a:lnTo>
                      <a:pt x="31" y="275"/>
                    </a:lnTo>
                    <a:lnTo>
                      <a:pt x="0" y="195"/>
                    </a:lnTo>
                    <a:lnTo>
                      <a:pt x="249" y="51"/>
                    </a:lnTo>
                  </a:path>
                </a:pathLst>
              </a:cu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449040" y="2566800"/>
                <a:ext cx="7113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7520" bIns="4752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1" name="" descr=""/>
            <p:cNvPicPr/>
            <p:nvPr/>
          </p:nvPicPr>
          <p:blipFill>
            <a:blip r:embed="rId2"/>
            <a:stretch/>
          </p:blipFill>
          <p:spPr>
            <a:xfrm>
              <a:off x="6580080" y="3276720"/>
              <a:ext cx="4208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5842080" y="3124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958080" y="335268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085520" y="5672160"/>
              <a:ext cx="101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a 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6906600" y="380988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120280" y="1833480"/>
              <a:ext cx="363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ffice Environment deployed with 802.11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14400" y="1752480"/>
              <a:ext cx="3657600" cy="41911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52480" y="3733920"/>
              <a:ext cx="685800" cy="9144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9" name="" descr=""/>
            <p:cNvPicPr/>
            <p:nvPr/>
          </p:nvPicPr>
          <p:blipFill>
            <a:blip r:embed="rId3"/>
            <a:stretch/>
          </p:blipFill>
          <p:spPr>
            <a:xfrm>
              <a:off x="2286000" y="3276720"/>
              <a:ext cx="628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0" name=""/>
            <p:cNvSpPr/>
            <p:nvPr/>
          </p:nvSpPr>
          <p:spPr>
            <a:xfrm>
              <a:off x="1573200" y="3124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99000" y="3352680"/>
              <a:ext cx="1847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 Gateway - HL2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2717640" y="3733920"/>
              <a:ext cx="177840" cy="83808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10880" y="1833480"/>
              <a:ext cx="301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me Network based on HiperLA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"/>
            <p:cNvGrpSpPr/>
            <p:nvPr/>
          </p:nvGrpSpPr>
          <p:grpSpPr>
            <a:xfrm>
              <a:off x="5999760" y="3809880"/>
              <a:ext cx="1011960" cy="2133720"/>
              <a:chOff x="5999760" y="3809880"/>
              <a:chExt cx="1011960" cy="2133720"/>
            </a:xfrm>
          </p:grpSpPr>
          <p:sp>
            <p:nvSpPr>
              <p:cNvPr id="2025" name=""/>
              <p:cNvSpPr/>
              <p:nvPr/>
            </p:nvSpPr>
            <p:spPr>
              <a:xfrm>
                <a:off x="5999760" y="56721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76960" y="5226120"/>
                <a:ext cx="58104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7" name=""/>
              <p:cNvSpPr/>
              <p:nvPr/>
            </p:nvSpPr>
            <p:spPr>
              <a:xfrm>
                <a:off x="6248520" y="3809880"/>
                <a:ext cx="484200" cy="1524240"/>
              </a:xfrm>
              <a:custGeom>
                <a:avLst/>
                <a:gdLst/>
                <a:ahLst/>
                <a:rect l="l" t="t" r="r" b="b"/>
                <a:pathLst>
                  <a:path w="443" h="511">
                    <a:moveTo>
                      <a:pt x="0" y="510"/>
                    </a:moveTo>
                    <a:lnTo>
                      <a:pt x="227" y="209"/>
                    </a:lnTo>
                    <a:lnTo>
                      <a:pt x="214" y="276"/>
                    </a:lnTo>
                    <a:lnTo>
                      <a:pt x="442" y="0"/>
                    </a:lnTo>
                    <a:lnTo>
                      <a:pt x="180" y="357"/>
                    </a:lnTo>
                    <a:lnTo>
                      <a:pt x="184" y="292"/>
                    </a:lnTo>
                    <a:lnTo>
                      <a:pt x="0" y="5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 flipH="1">
              <a:off x="3021120" y="3733920"/>
              <a:ext cx="712800" cy="6858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9" name="" descr=""/>
            <p:cNvPicPr/>
            <p:nvPr/>
          </p:nvPicPr>
          <p:blipFill>
            <a:blip r:embed="rId5"/>
            <a:stretch/>
          </p:blipFill>
          <p:spPr>
            <a:xfrm>
              <a:off x="2530440" y="4940280"/>
              <a:ext cx="8254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6"/>
            <a:stretch/>
          </p:blipFill>
          <p:spPr>
            <a:xfrm>
              <a:off x="1146240" y="5029200"/>
              <a:ext cx="915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1" name=""/>
            <p:cNvSpPr/>
            <p:nvPr/>
          </p:nvSpPr>
          <p:spPr>
            <a:xfrm>
              <a:off x="1298520" y="5715000"/>
              <a:ext cx="251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603440" y="54259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943360" y="543888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4" name="" descr=""/>
            <p:cNvPicPr/>
            <p:nvPr/>
          </p:nvPicPr>
          <p:blipFill>
            <a:blip r:embed="rId7"/>
            <a:stretch/>
          </p:blipFill>
          <p:spPr>
            <a:xfrm>
              <a:off x="7391520" y="5222880"/>
              <a:ext cx="685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5" name=""/>
            <p:cNvSpPr/>
            <p:nvPr/>
          </p:nvSpPr>
          <p:spPr>
            <a:xfrm>
              <a:off x="957240" y="4800600"/>
              <a:ext cx="121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VD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4399560" y="5029200"/>
              <a:ext cx="1011960" cy="760320"/>
              <a:chOff x="4399560" y="5029200"/>
              <a:chExt cx="1011960" cy="760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4399560" y="55180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76760" y="5029200"/>
                <a:ext cx="63756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9" name=""/>
            <p:cNvSpPr/>
            <p:nvPr/>
          </p:nvSpPr>
          <p:spPr>
            <a:xfrm>
              <a:off x="2328840" y="4681440"/>
              <a:ext cx="1100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V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830960" y="5715000"/>
              <a:ext cx="82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394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1" name="" descr=""/>
            <p:cNvPicPr/>
            <p:nvPr/>
          </p:nvPicPr>
          <p:blipFill>
            <a:blip r:embed="rId9"/>
            <a:stretch/>
          </p:blipFill>
          <p:spPr>
            <a:xfrm>
              <a:off x="990720" y="3521160"/>
              <a:ext cx="83808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 flipH="1" flipV="1">
              <a:off x="1752480" y="3580560"/>
              <a:ext cx="635040" cy="2286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97800" y="2438280"/>
              <a:ext cx="253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pe-Line ( Multimedia + Etherne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5400000">
              <a:off x="2410920" y="2760480"/>
              <a:ext cx="304560" cy="304920"/>
            </a:xfrm>
            <a:prstGeom prst="leftRightArrow">
              <a:avLst>
                <a:gd name="adj1" fmla="val 50000"/>
                <a:gd name="adj2" fmla="val 199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14400" y="3352680"/>
              <a:ext cx="1104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.S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3485160" y="4267080"/>
              <a:ext cx="1011960" cy="760320"/>
              <a:chOff x="3485160" y="4267080"/>
              <a:chExt cx="1011960" cy="760320"/>
            </a:xfrm>
          </p:grpSpPr>
          <p:sp>
            <p:nvSpPr>
              <p:cNvPr id="2047" name=""/>
              <p:cNvSpPr/>
              <p:nvPr/>
            </p:nvSpPr>
            <p:spPr>
              <a:xfrm>
                <a:off x="3485160" y="47559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62360" y="4267080"/>
                <a:ext cx="63756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9" name=""/>
            <p:cNvSpPr/>
            <p:nvPr/>
          </p:nvSpPr>
          <p:spPr>
            <a:xfrm flipH="1" flipV="1">
              <a:off x="3886200" y="4495680"/>
              <a:ext cx="2209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B9F4-9ED5-431F-A838-E22F8EB87241}" type="slidenum">
              <a:t>5</a:t>
            </a:fld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11200" y="685800"/>
            <a:ext cx="7773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sible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504360" y="1371240"/>
            <a:ext cx="8029800" cy="49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ossible solutions to enable any wireless terminal to talk to any access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and wireless terminals based on on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case scenario, not achievable in a shor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-Mode terminal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will implement only on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 cost as a critical factor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rminals will implement only one standar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will have a Dual-MAC implementation. It should be able to arbitrate two different kinds of wireless terminals in order to be able to exchange data with both kinds of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 consider as the best com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CF76-01E3-4C4F-84A8-591D97447410}" type="slidenum">
              <a:t>6</a:t>
            </a:fld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sumptions Summar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working of  802.11a and HIPERLAN2/HiSWAN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 equipment supports bo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ied AP (U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erminals (WTs) would support either HIPERLAN2/HiSWAN or 802.11a but need not suppor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 a Superframe format that allow both standards to share one channel withou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C5DE-5104-4230-BAB9-DDA376B2D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457200" y="762120"/>
            <a:ext cx="822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3808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atenating Super Frame(C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374760" y="1752120"/>
            <a:ext cx="8769240" cy="2514960"/>
            <a:chOff x="374760" y="1752120"/>
            <a:chExt cx="8769240" cy="2514960"/>
          </a:xfrm>
        </p:grpSpPr>
        <p:sp>
          <p:nvSpPr>
            <p:cNvPr id="2058" name=""/>
            <p:cNvSpPr/>
            <p:nvPr/>
          </p:nvSpPr>
          <p:spPr>
            <a:xfrm>
              <a:off x="803160" y="38098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41440" y="38098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4760" y="3054240"/>
              <a:ext cx="876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120840" y="2666880"/>
              <a:ext cx="1477800" cy="392040"/>
            </a:xfrm>
            <a:prstGeom prst="rect">
              <a:avLst/>
            </a:prstGeom>
            <a:gradFill rotWithShape="0">
              <a:gsLst>
                <a:gs pos="0">
                  <a:srgbClr val="fe8432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2 MAC-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54560" y="2666880"/>
              <a:ext cx="1477440" cy="387360"/>
            </a:xfrm>
            <a:prstGeom prst="rect">
              <a:avLst/>
            </a:prstGeom>
            <a:gradFill rotWithShape="0">
              <a:gsLst>
                <a:gs pos="0">
                  <a:srgbClr val="fe8432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2 MAC-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09360" y="3733560"/>
              <a:ext cx="578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79480" y="2666880"/>
              <a:ext cx="245520" cy="39204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44880" y="2859120"/>
              <a:ext cx="271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32360" y="2666880"/>
              <a:ext cx="245880" cy="38736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093680" y="2666880"/>
              <a:ext cx="1722240" cy="392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02.1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243520" y="3881160"/>
              <a:ext cx="33976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er frame of length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09360" y="2133360"/>
              <a:ext cx="220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681920" y="1752120"/>
              <a:ext cx="10267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267000" y="3184560"/>
              <a:ext cx="139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520440" y="3188880"/>
              <a:ext cx="6426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65080" y="2082600"/>
              <a:ext cx="0" cy="18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732360" y="2082600"/>
              <a:ext cx="0" cy="177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195360" y="2133360"/>
              <a:ext cx="3498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41600" y="1752120"/>
              <a:ext cx="1082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20840" y="2209680"/>
              <a:ext cx="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78440" y="3276360"/>
              <a:ext cx="13330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6885000" y="302724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960960" y="2666880"/>
              <a:ext cx="2057040" cy="392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02.1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16280" y="2666880"/>
              <a:ext cx="304200" cy="38736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968560" y="304776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63440" y="3200040"/>
              <a:ext cx="2018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oofing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304920" y="4191120"/>
            <a:ext cx="8496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, 802.11a phase and HiperLAN2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tandard Beacon frame with parameters adjusted to account for the existence of the two separate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mong other parameters, the Beacon conveys the beacon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this solution the super frame is equal to the beacon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tion of the Beacon plus 802.11a phas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1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perLAN2 phase consist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iperLAN2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per frame repetition interval is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imes the HiperLAN2 MAC frame duration (2ms), where k is an integer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B05C-334B-4C99-B594-9C994AC297F6}" type="slidenum">
              <a:t>8</a:t>
            </a:fld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/>
          <p:nvPr/>
        </p:nvSpPr>
        <p:spPr>
          <a:xfrm>
            <a:off x="6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6216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ther Features of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ransmission of the beacon from the AP, may obey the normal transmission rules, or alternatively the beacon may be transmitted at the Targeted Beacon Transmit Times (TB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cess Point allocates 802.11a &amp; HiperLAN2 phases dynamically, no need for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AP transmits spoofing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or other frame type with duration field set a val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prevent 802.11 transmissions during the HIPERLAN2 Phase is transmitted at the end of the 802.11a 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F Inter-Frame Spacing (PIFS) for priority access should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difications to 802.11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uld be done as part of 802.11e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uld not require any modification to Legacy WTs (802.11a and HiperLA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8E6C-78F5-46A3-879C-7BAF92B95207}" type="slidenum">
              <a:t>9</a:t>
            </a:fld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8:08:05Z</dcterms:created>
  <dc:creator>Jamshid Khun-Jush</dc:creator>
  <dc:description/>
  <dc:language>en-US</dc:language>
  <cp:lastModifiedBy>Harry Worstell</cp:lastModifiedBy>
  <cp:lastPrinted>1998-02-10T13:28:06Z</cp:lastPrinted>
  <dcterms:modified xsi:type="dcterms:W3CDTF">2001-03-15T20:15:22Z</dcterms:modified>
  <cp:revision>24</cp:revision>
  <dc:subject/>
  <dc:title>Interworking Solution</dc:title>
</cp:coreProperties>
</file>