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EA0-7CBB-4EEA-88E4-94672876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D31-1EF1-4ED0-93B8-E6E1026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A2E-7D91-4BC4-95BC-E4601B15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203-88CA-4583-9740-003B57A2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4C0-BDDE-4A7A-8956-ECC30BC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A2E-91B9-4588-8C49-43A934EA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9CF-020F-43B8-8FB4-0E00932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84B-D99A-4AD1-AC78-5BCD899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39D-F60A-491F-B30C-F1E7F1E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DE7-0BD6-4257-8EDF-F331027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15C-33B9-49DA-B40D-A56758E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973-0E4A-4154-8E12-67B61B9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56D7FB-7161-42AB-9BA6-7C796E858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6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Dynamic Frequency Selection (DFS) and Transmit Power Control (TPC) Joint Proposal for 802.11h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Cho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Gra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M. Kassli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Mangol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. Soomr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s Researc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Nokia Research Cente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ComNets Aachen Universit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8EE-B308-41AD-95B2-C25B3AE09F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easurement should minimize the service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uring a CFP or after R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 Busy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SRI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28C-79DF-410F-A1CB-4F8D23AFFF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from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43120" y="3306600"/>
          <a:ext cx="7729560" cy="19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3306600"/>
                    <a:ext cx="77295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7EB-B886-49A0-B698-85B0F81D4B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92280" y="2755800"/>
          <a:ext cx="6435720" cy="34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2755800"/>
                    <a:ext cx="643572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Elemen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ort results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479-4D18-4809-B3CF-A1EAB20E24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Summary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ctet in Received Signal Strength Range Indicator (RSSRI) Statistics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2717640"/>
          <a:ext cx="858492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7640"/>
                    <a:ext cx="858492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28720" y="5165640"/>
          <a:ext cx="5932440" cy="1768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8720" y="5165640"/>
                    <a:ext cx="59324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515-E38F-4572-8E3E-4DE919AC7E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ime limit as specified in the report request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FC8-A135-4AAA-91BE-034C70A455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measurement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if decided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, i.e., in which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692-7A0E-47B6-B106-311230D250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announced via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d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switch announcement el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30520" y="4757760"/>
          <a:ext cx="6041880" cy="17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4757760"/>
                    <a:ext cx="6041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FC3-4BB8-48FD-A680-39387FF8A1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cheduled moment, i.e., TBTT, all STAs including AP change thei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by changing PHY MIB using PLM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t11CurrentFrequency in .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F1B-F0A5-4FD5-BCF8-4E3731E84F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nsmit Power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77D-B1F5-44BB-837A-9932DB5AFB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otivation for TPC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e need it for E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extend battery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increase network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improve SNR (on a short term ba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6BE-D6C0-4607-9A1D-BD517A09FD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Frequency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B38-154C-42FA-A435-BD65206BDC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view of TPC Methodolog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for all is sent in the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wer setting is “fair” for STAs using CSMA/CA (i.e., CCA mechanism is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, EPCF and H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may be different for all STAs where transmit power information is contained in the po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ing power on a per STA basi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batter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network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power on a per STA basis for a short time can improve frame error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237-D813-4C9D-9658-9689D91FB7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eacon orders are added to accommodate T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 is incapable of decoding new elements, then TPC commands are ignored (obvious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038-DC68-4F63-9DBE-A606FF713B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895480"/>
          <a:ext cx="7429680" cy="23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95480"/>
                    <a:ext cx="74296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7640" y="2057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eacon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154-8AEC-4EE0-9AE8-84A5EC722A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3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2054160"/>
          <a:ext cx="6694560" cy="22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4160"/>
                    <a:ext cx="669456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41911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hannel Number: first channel where power setting is val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hannels: self explana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Transmit Power Level: EIRP in dB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has the discretion to determine how much information to send (minimum requirement is one set of First Channel Number, Number of Channels, and Maximum Transmit Power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00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Informa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DA6-A463-4213-B602-5CF9EF3C76E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4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2209680"/>
          <a:ext cx="2768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2768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657600" y="2133720"/>
          <a:ext cx="4444920" cy="298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133720"/>
                    <a:ext cx="44449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907560" y="5029200"/>
            <a:ext cx="31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Transmit Power Level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4360" y="525780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hannel Number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2D0-E3C2-4540-8841-441C7CEB3E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5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514600"/>
          <a:ext cx="6820200" cy="35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820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19810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Level Adjustment Informa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3048120"/>
          <a:ext cx="6819840" cy="265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048120"/>
                    <a:ext cx="681984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35280" y="5791320"/>
            <a:ext cx="34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Setting Relative to Maximum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C5C-AD77-4C79-A778-E94E2C6013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changed on a per STA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power used by the STA is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(TxPoll, Maximum Transmit Power Lev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oll = MaxTxP+ PwrSetRelMax +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Tx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aximum Transmit Power Level from the Domain Informatio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wrSetRel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ower Setting Relative to Maximum from the Power Level Adjustment Information El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delta change in power per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CA6-0F49-47BD-9211-68F3821CE1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posed MAC frame format by TGe (shown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F: TCID is gone and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conveyed in the Duration/ ID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PCF: many bits are currently available in TCID field for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C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ittle bit of a problem because only 2 bits are currently available in TCID for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4419720"/>
          <a:ext cx="8521560" cy="111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419720"/>
                    <a:ext cx="85215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11F-4EC0-41DA-B69F-F5CB8C3656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(3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2362320"/>
          <a:ext cx="4470480" cy="26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447048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593800" y="518148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xP: Delta Power Change Set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751-473E-405B-9C82-CD06FC56AB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FS 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F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ew management fram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{generic} action fra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new information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witching annou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hannel measurem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easurem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094-FE9E-4955-BDE6-09F31385F0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Frequency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5A9-D802-4F2E-8660-CAD260827B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the minimum requirements of the ERC for transmit 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solution allowing AP to inform BSS of power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PCF and H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networ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battery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9F5-1EC3-49B7-8FF2-2F88A1CB9D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otivation for DF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e need it for E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S can enhance QoS when there exist overlapping BS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S can enhance QoS when there exists alien systems in the prox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546-0A21-475D-950C-504E0F737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FS Procedure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2A-0A31-4A18-A564-24D9EC804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w/ no associated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bad channel condition persist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by the AP’s measurement and STAs’ voluntary measurem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931-10C1-497D-BA7E-B3D9665538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should buffer the downlink traffic for the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Measurement Request management 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generic action request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, how, and which channel(s)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hannel measurement method inform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939-8ACF-487E-99DB-6A062E97E2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from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ques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43120" y="3306600"/>
          <a:ext cx="7729560" cy="19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3306600"/>
                    <a:ext cx="77295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E44-2F06-4E0C-A898-6EF0825103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 Channel Measurement Method Information Elemen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395440"/>
          <a:ext cx="6553080" cy="19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95440"/>
                    <a:ext cx="65530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85800" y="4653000"/>
          <a:ext cx="8001000" cy="204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53000"/>
                    <a:ext cx="80010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57200" y="40384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D8C-C56D-4D6B-9C09-9914D07F3C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cp:keywords>September 2000</cp:keywords>
  <dc:language>en-US</dc:language>
  <cp:lastModifiedBy>Sunghyun Choi</cp:lastModifiedBy>
  <cp:lastPrinted>1998-02-10T13:28:06Z</cp:lastPrinted>
  <dcterms:modified xsi:type="dcterms:W3CDTF">2001-03-14T12:50:57Z</dcterms:modified>
  <cp:revision>190</cp:revision>
  <dc:subject>Submissions</dc:subject>
  <dc:title>Dynamic Channel Selection (DCS) Scheme for 802.11</dc:title>
</cp:coreProperties>
</file>