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573-7EA3-440A-864D-173BE9C0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FDA-9CC5-424F-A5A0-11B07E24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478-1A55-48A0-A6A0-80E249E3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D82-7AD5-412A-9001-0D1BF42E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BB3-6831-409E-9010-390F6B5D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71E-1F94-4E58-9C07-71248A94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3DE-D00D-4547-93CC-DD4B13B0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F2D-2D9C-4466-A5A1-2811A7C7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D97-F9E2-4478-A455-E92221BB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27B-0A63-43E6-AEC1-D407A61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CDC-A8BC-47F7-A335-81D4D96A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E7D-F957-4FD3-9E80-1211CCFF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9144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F9DE74-4A03-4956-81BA-5B0E09555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145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DCF with Backoff Adaptation to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7280" y="5830920"/>
            <a:ext cx="732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levant submiss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IEEE 802.11-00/375 (.ppt and .doc); -00/456; -00/457; -01/002;  -01/00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01/019; -01/117r1; -01/135r1; -01/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E9F-52B1-4DC2-A1D6-195111218C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Scal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06840" y="250200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up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ust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375912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n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89440" y="500364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down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ust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7920" y="3683160"/>
            <a:ext cx="1447920" cy="939600"/>
          </a:xfrm>
          <a:prstGeom prst="flowChartDecision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gt; 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00880" y="3683160"/>
            <a:ext cx="1447560" cy="939600"/>
          </a:xfrm>
          <a:prstGeom prst="flowChartDecision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 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3225240" y="4146480"/>
            <a:ext cx="3852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12" idx="3"/>
            <a:endCxn id="114" idx="1"/>
          </p:cNvCxnSpPr>
          <p:nvPr/>
        </p:nvCxnSpPr>
        <p:spPr>
          <a:xfrm>
            <a:off x="2857680" y="4146480"/>
            <a:ext cx="66060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8" name=""/>
          <p:cNvCxnSpPr>
            <a:stCxn id="114" idx="3"/>
            <a:endCxn id="115" idx="1"/>
          </p:cNvCxnSpPr>
          <p:nvPr/>
        </p:nvCxnSpPr>
        <p:spPr>
          <a:xfrm>
            <a:off x="4965840" y="4152600"/>
            <a:ext cx="635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9" name=""/>
          <p:cNvCxnSpPr>
            <a:stCxn id="111" idx="3"/>
            <a:endCxn id="120" idx="0"/>
          </p:cNvCxnSpPr>
          <p:nvPr/>
        </p:nvCxnSpPr>
        <p:spPr>
          <a:xfrm>
            <a:off x="4876920" y="2889000"/>
            <a:ext cx="2913840" cy="11437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1" name=""/>
          <p:cNvCxnSpPr>
            <a:stCxn id="113" idx="3"/>
            <a:endCxn id="120" idx="4"/>
          </p:cNvCxnSpPr>
          <p:nvPr/>
        </p:nvCxnSpPr>
        <p:spPr>
          <a:xfrm flipV="1">
            <a:off x="6959160" y="4279680"/>
            <a:ext cx="831240" cy="1111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0" name=""/>
          <p:cNvSpPr/>
          <p:nvPr/>
        </p:nvSpPr>
        <p:spPr>
          <a:xfrm>
            <a:off x="7678800" y="4032360"/>
            <a:ext cx="220680" cy="24768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5" idx="3"/>
            <a:endCxn id="120" idx="2"/>
          </p:cNvCxnSpPr>
          <p:nvPr/>
        </p:nvCxnSpPr>
        <p:spPr>
          <a:xfrm>
            <a:off x="7048080" y="4152600"/>
            <a:ext cx="63108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3" name=""/>
          <p:cNvCxnSpPr>
            <a:stCxn id="114" idx="0"/>
            <a:endCxn id="111" idx="2"/>
          </p:cNvCxnSpPr>
          <p:nvPr/>
        </p:nvCxnSpPr>
        <p:spPr>
          <a:xfrm flipV="1">
            <a:off x="4241520" y="3276000"/>
            <a:ext cx="1080" cy="407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4" name=""/>
          <p:cNvCxnSpPr>
            <a:stCxn id="115" idx="2"/>
            <a:endCxn id="113" idx="0"/>
          </p:cNvCxnSpPr>
          <p:nvPr/>
        </p:nvCxnSpPr>
        <p:spPr>
          <a:xfrm>
            <a:off x="6324120" y="46227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5" name=""/>
          <p:cNvSpPr/>
          <p:nvPr/>
        </p:nvSpPr>
        <p:spPr>
          <a:xfrm>
            <a:off x="825480" y="4019400"/>
            <a:ext cx="220680" cy="24768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6"/>
            <a:endCxn id="112" idx="1"/>
          </p:cNvCxnSpPr>
          <p:nvPr/>
        </p:nvCxnSpPr>
        <p:spPr>
          <a:xfrm>
            <a:off x="1046160" y="4142880"/>
            <a:ext cx="54216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4265280" y="34020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9360" y="462276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21480" y="3567240"/>
            <a:ext cx="71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7520" y="3567240"/>
            <a:ext cx="71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2E8-3F2E-49B3-94A3-CDF51FD789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stimatin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 estimate of the CBT arrival rat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is maintained for time periods outside PC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N /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 N is 4, and 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 time for the last N successful C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dle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sing the length of the idle period 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, compute the number t of idle slot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pply the following t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;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 q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slot time and q = 1 -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BT - ‘Succes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 good CRC is received, or an ACK or CTS follows, update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fol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 q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BT - ‘Failur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Otherwise, update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fol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2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103-FFC1-4386-9CE3-EA279AA305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QoS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T is compatible with T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ll classes are scaled by the sam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istributed vs Centralized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stations perform channel monitoring and determine the scaling factors, instead of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he 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eliminates the need to transmit a ‘management’ frame for periods as short as necessary for residual backoff adaptation (~5 milli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way, capacity is not lost to  ‘management’ overhead, which is incurred at inconvenient  times; as at the start of a traffic bu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can benefit from knowledge of local conditions in the BSS through distributed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istributed monitoring provides BAT in I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EC2-BEFC-4345-B5F1-D612D9862C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arison of BAT to p-Persistent C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T can be compared to p-persistent CSMA  (the ‘permission probability’ approa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imilarit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both control the probability of transmi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both use the expected number of backlogged 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 both use pseudo-Bayesian sta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ifferenc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pon adjustment of the permission probability, p-persistent CSMA treats all packets the same, independent of 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Delay jitter is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pon scaling, Backoff Adaptation to Traffic preserves the ordering of the backoff values, thus older packets are more likely to transmit fi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No added delay j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964-27BE-4C09-B2E7-D3AC247648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to Traffic, BAT, increases channel utilisation efficiency and reduces delays without causing delay j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is performed by the stations, thus reducing the channel capacity overhead for that pur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utilises information on local conditions in the 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provides adaptation to traffic to an I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is compatible with T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480-D9E1-4AFC-BB5C-62295204FF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Adaptation to Traffic (BAT) -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involves changes in the values in response to traffic con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uses feedback on traffic fluctuations to avoid collisions and reduce idl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indow Adap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hanges the contention window for random backoff values for new packet arrivals or retrans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T helps determine the number of active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sidual Adap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esidual backoff value of a backlogged station is chan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acklogged’ stations are stations with packets pending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T helps avoid collisions and reduces delay during traffic bur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D2B-65F0-4316-9661-413FEB5283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ole of the 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on joining a BSS or IBSS, or whenever they detect any change in the advertised values of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set their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o the value in the EDCF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engage in FAT and adjust their 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nd residual backoff values 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send one of their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o the AP in any new frame type under consideration; the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of any class conveys the same scaling 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ole of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ing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the EDCF element, the AP may adjust the contention window in response to traffic cond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ew window is used when a new packet arrives or upon retrial of a failed transmi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AP may adjust the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response to information received from the ESTAs in the BSS on their backoff adju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8F6-2450-4C83-947E-66B919D6ED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caling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‘scaling factor’ 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he coefficient of expansion 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 &gt; 1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scaling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 &lt; 1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scaling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or efficiency scaling occurs at discrete adjustment  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1 + R = 1.5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hen scaling up with the step R = 1/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1/(1+D) = 0.75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hen scaling down with the step D = 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D3F-59D9-4966-A45F-4C84455285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indow Adap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new contention window size be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CurrentCWSiz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runc[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x aCurrentCWSize + 0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down with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new contention window size be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CurrentCWSiz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ax { trunc[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x (aCurrentCWSize + D)] , 2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esidual 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djusting residual backoff values by fractional adjustment ste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w backoff values must be inte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ordering of the backoff values must be p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w backoff values must be distributed uniform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A8D-269E-4C32-9BFE-EC2738D503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aling 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6128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 + f = m x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1/2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0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-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2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243840" y="1816200"/>
            <a:ext cx="1489680" cy="3337560"/>
            <a:chOff x="6243840" y="1816200"/>
            <a:chExt cx="1489680" cy="3337560"/>
          </a:xfrm>
        </p:grpSpPr>
        <p:sp>
          <p:nvSpPr>
            <p:cNvPr id="59" name=""/>
            <p:cNvSpPr/>
            <p:nvPr/>
          </p:nvSpPr>
          <p:spPr>
            <a:xfrm>
              <a:off x="6243840" y="1816200"/>
              <a:ext cx="17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19320" y="181620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8200" y="27781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98200" y="34974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98200" y="42181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7565040" y="2538360"/>
              <a:ext cx="142560" cy="2148840"/>
              <a:chOff x="7565040" y="2538360"/>
              <a:chExt cx="142560" cy="2148840"/>
            </a:xfrm>
          </p:grpSpPr>
          <p:sp>
            <p:nvSpPr>
              <p:cNvPr id="65" name=""/>
              <p:cNvSpPr/>
              <p:nvPr/>
            </p:nvSpPr>
            <p:spPr>
              <a:xfrm>
                <a:off x="7604640" y="2538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92040" y="31035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579080" y="35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565040" y="4005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92040" y="44737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038360" y="49402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=1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78280" y="2698920"/>
              <a:ext cx="762120" cy="409320"/>
              <a:chOff x="6578280" y="2698920"/>
              <a:chExt cx="762120" cy="40932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578280" y="2698920"/>
                <a:ext cx="76212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78280" y="2887560"/>
                <a:ext cx="76212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flipV="1">
              <a:off x="6565680" y="3315960"/>
              <a:ext cx="76212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65680" y="3606840"/>
              <a:ext cx="774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6629400" y="4108320"/>
              <a:ext cx="761760" cy="409320"/>
              <a:chOff x="6629400" y="4108320"/>
              <a:chExt cx="761760" cy="409320"/>
            </a:xfrm>
          </p:grpSpPr>
          <p:sp>
            <p:nvSpPr>
              <p:cNvPr id="77" name=""/>
              <p:cNvSpPr/>
              <p:nvPr/>
            </p:nvSpPr>
            <p:spPr>
              <a:xfrm flipV="1">
                <a:off x="6629400" y="4108320"/>
                <a:ext cx="76176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29400" y="4296960"/>
                <a:ext cx="76176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6629400" y="361152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1F5-EBC9-4A35-878D-F4DB63B9A7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aling D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16128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3/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 + f = m x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3/4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1/2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1/4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0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104880" y="1849320"/>
            <a:ext cx="1715400" cy="3367800"/>
            <a:chOff x="6104880" y="1849320"/>
            <a:chExt cx="1715400" cy="3367800"/>
          </a:xfrm>
        </p:grpSpPr>
        <p:sp>
          <p:nvSpPr>
            <p:cNvPr id="83" name=""/>
            <p:cNvSpPr/>
            <p:nvPr/>
          </p:nvSpPr>
          <p:spPr>
            <a:xfrm>
              <a:off x="6145920" y="1849320"/>
              <a:ext cx="162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78000" y="1849320"/>
              <a:ext cx="19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m’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35240" y="28209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4080" y="35100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5240" y="4064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66840" y="5003640"/>
              <a:ext cx="5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=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663960" y="2731680"/>
              <a:ext cx="7621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663960" y="2968560"/>
              <a:ext cx="76212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6663960" y="3260520"/>
              <a:ext cx="7621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663960" y="3606840"/>
              <a:ext cx="7621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663960" y="3800160"/>
              <a:ext cx="76212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663960" y="4211640"/>
              <a:ext cx="76212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651720" y="4218120"/>
              <a:ext cx="7747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676920" y="4537080"/>
              <a:ext cx="74916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104880" y="2602080"/>
              <a:ext cx="142560" cy="2148480"/>
              <a:chOff x="6104880" y="2602080"/>
              <a:chExt cx="142560" cy="2148480"/>
            </a:xfrm>
          </p:grpSpPr>
          <p:sp>
            <p:nvSpPr>
              <p:cNvPr id="98" name=""/>
              <p:cNvSpPr/>
              <p:nvPr/>
            </p:nvSpPr>
            <p:spPr>
              <a:xfrm>
                <a:off x="6144480" y="26020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131880" y="31669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18920" y="36226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04880" y="40687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31880" y="45370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545240" y="4444920"/>
              <a:ext cx="2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A7D-3CBA-4FF3-81AF-0D5D408172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hen to s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ing occurs when deviation from ‘ideal’ conditions exceeds tolerance level indicated by adjustment ste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 estimate of the expected number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of backlogged stations with backoff value =1 is maint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Ideally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we w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= 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 is the expected number of backlogged 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probability of having a backoff value 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an estimate o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e up i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oo lar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&gt;= C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e down i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oo small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&lt;=  C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n &gt;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fter scaling, the probability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adj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ecreases for scaling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creases for scaling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564-6E44-401A-9421-F7D4E6F436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stimatin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5945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expected number n of backlogged stations is estimated by monit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dle slots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uccessful or failed Contention-Based Transmissions (CB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[A CBT is a transmission </a:t>
            </a:r>
            <a:r>
              <a:rPr b="0" i="1" lang="en-GB" sz="1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protected by a NAV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new estimate is obtained for each period between two instances of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A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end of deferred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end of idle and start of deferred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55600" y="3772080"/>
          <a:ext cx="6807240" cy="27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3772080"/>
                    <a:ext cx="680724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F4E-0080-4A92-BB96-EDCDA397E4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24:53Z</dcterms:created>
  <dc:creator>Mathilde Benveniste</dc:creator>
  <dc:description/>
  <dc:language>en-US</dc:language>
  <cp:lastModifiedBy>Harry Worstell</cp:lastModifiedBy>
  <cp:lastPrinted>2000-12-12T22:28:27Z</cp:lastPrinted>
  <dcterms:modified xsi:type="dcterms:W3CDTF">2001-03-12T21:14:59Z</dcterms:modified>
  <cp:revision>148</cp:revision>
  <dc:subject/>
  <dc:title>No Slide Title</dc:title>
</cp:coreProperties>
</file>