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469-5710-4CE1-A029-5EC1AA14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90C-D1E4-455E-8AEF-877A4E9A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40B-686B-4DE5-8808-1EFDD735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B1A-02FA-4F43-AD80-7CB1C489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E2A-7C38-4E22-8455-655A0F3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C75-32EE-49B4-97D5-FC3A4FC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8E6-8C31-4F70-A26D-F666FE0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EAF-D210-4D04-99CD-CAA4CF2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948-2811-4092-AB42-DB9C914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585-F51E-4867-90BF-CA691BE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0CE-AD2B-4548-8E07-2C185F2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EDD-60B5-4D8E-80BB-B1AA083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3B6BC3-B617-490A-8F87-D2722396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DCF with Backoff Adaptation to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7280" y="5830920"/>
            <a:ext cx="732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evant submiss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IEEE 802.11-00/375 (.ppt and .doc); -00/456; -00/457; -01/002;  -01/00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01/019; -01/117r1; -01/135r1; -01/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D57-9F98-4D26-AA4C-AAE77DB59B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Sca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250200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up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375912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n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9440" y="500364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down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7920" y="3683160"/>
            <a:ext cx="144792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g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3683160"/>
            <a:ext cx="144756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3225240" y="4146480"/>
            <a:ext cx="3852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2" idx="3"/>
            <a:endCxn id="114" idx="1"/>
          </p:cNvCxnSpPr>
          <p:nvPr/>
        </p:nvCxnSpPr>
        <p:spPr>
          <a:xfrm>
            <a:off x="2857680" y="4146480"/>
            <a:ext cx="66060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4965840" y="4152600"/>
            <a:ext cx="635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111" idx="3"/>
            <a:endCxn id="120" idx="0"/>
          </p:cNvCxnSpPr>
          <p:nvPr/>
        </p:nvCxnSpPr>
        <p:spPr>
          <a:xfrm>
            <a:off x="4876920" y="2889000"/>
            <a:ext cx="2913840" cy="1143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"/>
          <p:cNvCxnSpPr>
            <a:stCxn id="113" idx="3"/>
            <a:endCxn id="120" idx="4"/>
          </p:cNvCxnSpPr>
          <p:nvPr/>
        </p:nvCxnSpPr>
        <p:spPr>
          <a:xfrm flipV="1">
            <a:off x="6959160" y="4279680"/>
            <a:ext cx="831240" cy="1111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7678800" y="403236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5" idx="3"/>
            <a:endCxn id="120" idx="2"/>
          </p:cNvCxnSpPr>
          <p:nvPr/>
        </p:nvCxnSpPr>
        <p:spPr>
          <a:xfrm>
            <a:off x="7048080" y="4152600"/>
            <a:ext cx="63108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4" idx="0"/>
            <a:endCxn id="111" idx="2"/>
          </p:cNvCxnSpPr>
          <p:nvPr/>
        </p:nvCxnSpPr>
        <p:spPr>
          <a:xfrm flipV="1">
            <a:off x="4241520" y="3276000"/>
            <a:ext cx="1080" cy="40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15" idx="2"/>
            <a:endCxn id="113" idx="0"/>
          </p:cNvCxnSpPr>
          <p:nvPr/>
        </p:nvCxnSpPr>
        <p:spPr>
          <a:xfrm>
            <a:off x="6324120" y="46227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825480" y="401940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6"/>
            <a:endCxn id="112" idx="1"/>
          </p:cNvCxnSpPr>
          <p:nvPr/>
        </p:nvCxnSpPr>
        <p:spPr>
          <a:xfrm>
            <a:off x="1046160" y="4142880"/>
            <a:ext cx="5421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4265280" y="34020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9360" y="4622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148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5F8-3DB0-468D-8CF7-26FC79DCCF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CBT arrival rat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is maintained for time periods outside PC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N /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N is 4, an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 time for the last N successful C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dl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sing the length of the idle perio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, compute the number t of idle slo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pply the following t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;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slot time and q = 1 -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Succes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good CRC is received, or an ACK or CTS follows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Failu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therwise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2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516-E41C-4813-976F-BBD350A92D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Qo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ll classes are scaled by the sam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istributed vs Centralized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tations perform channel monitoring and determine the scaling factors, instead of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e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eliminates the need to transmit a ‘management’ frame for periods as short as necessary for FAT (~5 milli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way, capacity is not lost to  ‘management’ overhead, which is incurred at inconvenient  times; as at the start of a traffic bu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537-B541-4CB7-8D69-C1FE0BE319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of Backoff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, SAT and FAT together, can be compared to p-persistent CSMA  (the ‘permission probability’ approa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imilar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control the probability of transmi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ich is  based on the expected number of backlogged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rough pseudo-Bayesian sta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efficiency of channel utilisation in the two methods will be compa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adjustment of the permission probability, p-persistent CSMA treats all packets the same, independent of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Delay jitter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scaling, backoff adaptation preserves the ordering of the backoff values, thus older packets are more likely to transmit 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No added delay j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B9E-55AD-4353-A018-525707A3C2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, SAT and FAT together, increases channel utilization efficiency without causing delay j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performed by the stations, thus reducing the channel capacity overhead for that 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4FE-7C44-4802-AA16-B4EE61D4E5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Adaptation -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nvolves changes in the values in response to traffic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ses feedback on traffic fluctuations to avoid collisions and reduce id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low’ Adaptation to Traffic (S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anges the contention window for random backoff values for new packet arrivals or retrans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T helps determine the number of active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st’’ Adaptation to Traffic (FAT)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esidual backoff value of a backlogged station is ch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cklogged’ stations are stations with packets pending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AT helps avoid collisions during traffic bur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60F-342D-4E59-97ED-B210BC53FA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on joining a BSS or IBSS, or whenever they detect any change in the advertised values of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t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value in the EDCF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engage in FAT and adjust their 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nd residual backoff values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nd one of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AP in any new frame type under consideration;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of any class conveys the same scaling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the EDCF element, the AP may adjust the contention window in response to traffic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ew window is used when a new packet arrives or upon retrial of a failed trans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AP may adjust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response to information received from the ESTAs in the BSS on their backoff 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239-46AA-47E8-A9E7-84D634AF7F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aling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‘scaling factor’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he coefficient of expansion 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g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l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or efficiency scaling occurs at discrete adjustment  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 + R = 1.5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up with the step R = 1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/(1+D) = 0.75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down with the step D = 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267-0D91-4639-B0E9-1A2451DD4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ast Adap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aCurrentCWSize + 0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down with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ax {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(aCurrentCWSize + D)] ,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low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djusting residual backoff values by fractional adjustment ste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inte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ordering of the backoff values must be p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distributed uniform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0ED-5B3A-4ACC-8519-CBB14214FE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2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-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243840" y="1816200"/>
            <a:ext cx="1489680" cy="3337560"/>
            <a:chOff x="6243840" y="1816200"/>
            <a:chExt cx="1489680" cy="3337560"/>
          </a:xfrm>
        </p:grpSpPr>
        <p:sp>
          <p:nvSpPr>
            <p:cNvPr id="59" name=""/>
            <p:cNvSpPr/>
            <p:nvPr/>
          </p:nvSpPr>
          <p:spPr>
            <a:xfrm>
              <a:off x="6243840" y="1816200"/>
              <a:ext cx="17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19320" y="18162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8200" y="277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8200" y="34974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98200" y="421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565040" y="2538360"/>
              <a:ext cx="142560" cy="2148840"/>
              <a:chOff x="7565040" y="2538360"/>
              <a:chExt cx="142560" cy="2148840"/>
            </a:xfrm>
          </p:grpSpPr>
          <p:sp>
            <p:nvSpPr>
              <p:cNvPr id="65" name=""/>
              <p:cNvSpPr/>
              <p:nvPr/>
            </p:nvSpPr>
            <p:spPr>
              <a:xfrm>
                <a:off x="7604640" y="2538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92040" y="31035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79080" y="35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65040" y="4005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92040" y="4473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038360" y="4940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=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78280" y="2698920"/>
              <a:ext cx="762120" cy="409320"/>
              <a:chOff x="6578280" y="2698920"/>
              <a:chExt cx="762120" cy="4093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578280" y="2698920"/>
                <a:ext cx="76212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78280" y="2887560"/>
                <a:ext cx="76212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6565680" y="3315960"/>
              <a:ext cx="76212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5680" y="3606840"/>
              <a:ext cx="774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629400" y="4108320"/>
              <a:ext cx="761760" cy="409320"/>
              <a:chOff x="6629400" y="4108320"/>
              <a:chExt cx="761760" cy="40932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6629400" y="4108320"/>
                <a:ext cx="76176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4296960"/>
                <a:ext cx="76176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629400" y="36115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DD3-6707-4AFB-97DE-4D2208B67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D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3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2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104880" y="1849320"/>
            <a:ext cx="1715400" cy="3367800"/>
            <a:chOff x="6104880" y="1849320"/>
            <a:chExt cx="1715400" cy="3367800"/>
          </a:xfrm>
        </p:grpSpPr>
        <p:sp>
          <p:nvSpPr>
            <p:cNvPr id="83" name=""/>
            <p:cNvSpPr/>
            <p:nvPr/>
          </p:nvSpPr>
          <p:spPr>
            <a:xfrm>
              <a:off x="6145920" y="1849320"/>
              <a:ext cx="16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78000" y="1849320"/>
              <a:ext cx="19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5240" y="2820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4080" y="3510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5240" y="4064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6840" y="500364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=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63960" y="273168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663960" y="2968560"/>
              <a:ext cx="76212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663960" y="326052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63960" y="3606840"/>
              <a:ext cx="7621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663960" y="3800160"/>
              <a:ext cx="7621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663960" y="4211640"/>
              <a:ext cx="76212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651720" y="4218120"/>
              <a:ext cx="7747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676920" y="4537080"/>
              <a:ext cx="74916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104880" y="2602080"/>
              <a:ext cx="142560" cy="2148480"/>
              <a:chOff x="6104880" y="2602080"/>
              <a:chExt cx="142560" cy="2148480"/>
            </a:xfrm>
          </p:grpSpPr>
          <p:sp>
            <p:nvSpPr>
              <p:cNvPr id="98" name=""/>
              <p:cNvSpPr/>
              <p:nvPr/>
            </p:nvSpPr>
            <p:spPr>
              <a:xfrm>
                <a:off x="6144480" y="2602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31880" y="31669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18920" y="36226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04880" y="4068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31880" y="4537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545240" y="4444920"/>
              <a:ext cx="2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E82-32CE-4014-A9ED-C12D19A0F8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n to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ing occurs when deviation from ‘ideal’ conditions exceeds tolerance level indicated by adjustment st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expected number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of backlogged stations with backoff value =1 is maint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Ideally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we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= 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 is the expected number of backlogged 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probability of having a backoff value 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an estimate o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up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lar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gt;=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down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smal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lt;= 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n &gt;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fter scaling, the probability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adj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creases for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creases for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878-83A1-433E-8CD7-B72EF73BC2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5945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expected number n of backlogged stations is estimated by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dle slots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ccessful or failed Contention-Based Transmissions (CB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[A CBT is a transmission </a:t>
            </a: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protected by a N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new estimate is obtained for each period between two instances of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end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end of idle and start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55600" y="3772080"/>
          <a:ext cx="68072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3772080"/>
                    <a:ext cx="68072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349-249B-4855-A20D-0F590C7EB6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Harry Worstell</cp:lastModifiedBy>
  <cp:lastPrinted>2000-12-12T22:28:27Z</cp:lastPrinted>
  <dcterms:modified xsi:type="dcterms:W3CDTF">2001-03-12T14:47:49Z</dcterms:modified>
  <cp:revision>147</cp:revision>
  <dc:subject/>
  <dc:title>No Slide Title</dc:title>
</cp:coreProperties>
</file>