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52A-2B36-47EA-8846-5E4A46C3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C2D9-40F0-43E4-9BDD-5109B41D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F0E1-5813-4470-85DC-C11BCFE5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F92-7935-4377-8E07-DDB41956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EACE-8DE3-44E2-B56A-72E3FAB8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F9D-6064-4E78-A778-2A2959B8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5BC-0983-4231-9E99-6DF3D8B2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B25-835C-43BF-B06E-2E2948EF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13B-07EA-4887-AEF9-B785C90C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B8C-A821-4CAC-A7B9-93FF9865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2FC6-24DA-4060-8B21-AF7D8482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C14-DB6B-4447-93B4-AB642F72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5360" y="6474960"/>
            <a:ext cx="465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3D26C3F-277D-4BB9-9CEC-74AB12D89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08960" y="396000"/>
            <a:ext cx="26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26a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rst Ack Mec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rian P Stephens, Mobilian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chael Fischer, Inters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rinivas Kandala, Sharp Labs of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reg Chesson, Ath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rian Stephens, Mobilian et 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E11C-A08B-4449-869E-B6A14BC9515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of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ood technical feedback on 01/126r0 from presentation discussion and subsequent “coffee/tea/OJ-break” ad-h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rmative text is in 01/126r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ced in “to doc keeper” before 11:00am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rian Stephens, Mobilian et 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F29-6615-4ABB-970C-548FA1F474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nges since 01/126r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quence numbering is a concatenation of fragment number and sequence number.  Individual MPDUs are acknowledged in the burst Ack MP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ions supporting this mechanism must maintain a group ack record per 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rst Ack Request is now a new control 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rsts and burst acknowledgement exchange can be in different TXOPs.  Bursts can be interleaved by 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fragments of up to 16 MSDUs can be acknowleged in a BurstAck MP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rian Stephens, Mobilian et 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512-12C1-4E63-B92E-3B1CB1B26E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ower the TGe editor to revise the TGe draft according to instructions in 11-01-126r1 replacing all text and mechanism relating to the Delayed Acknowledgement mechanism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rian Stephens, Mobilian et 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D7FC-D2F7-4402-9E5F-6E42187756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7:06:42Z</dcterms:created>
  <dc:creator>Adrian P Stephens</dc:creator>
  <dc:description/>
  <dc:language>en-US</dc:language>
  <cp:lastModifiedBy>Adrian P Stephens - 4</cp:lastModifiedBy>
  <cp:lastPrinted>1998-02-10T13:28:06Z</cp:lastPrinted>
  <dcterms:modified xsi:type="dcterms:W3CDTF">2001-11-15T17:30:33Z</dcterms:modified>
  <cp:revision>2</cp:revision>
  <dc:subject/>
  <dc:title>Burst Ack Mechanism</dc:title>
</cp:coreProperties>
</file>