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1FF-3387-4454-A3A2-9C79F3FA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4396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05DE-029A-4EA4-A5EB-75956E5E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772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404-C0DE-4B62-8E5B-AC539E37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439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9720" y="41439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3640" y="414396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C09-61EF-40E4-BF02-88D64171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81B-785B-494E-AD6D-AC22E96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C6B0-9A26-4228-97BF-F01DB14E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65E-3BA0-47F9-9CB3-AD738623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DA6-3336-44AA-94DC-CED24BA1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1C5-A8EA-4DA1-B32B-23A31BA7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210-1349-4991-8BA0-0714F0E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7720" y="41439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EF6-C9D2-4068-90A5-72801EED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4396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120-F60A-4467-AF93-5CE5851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9051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A3A53B-81EC-49A5-93BD-D9DBB2C33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0" y="38016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brid Coordination Function (HCF) Frame Exchange and NAV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276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n Antonio, TX  7822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:  +1-210-614-4096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x:  +1-210-614-819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5E5-AB6A-448C-BB7C-0E2A48D9A60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mbols for Frame Exchange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s are shown using 4- and 6-sided symbols, with enclosing round-cornered rectangle to show the scope of optional or repeatable subs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)DCF contention and IFS periods are shown using 3- and 5-sided symbo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283360" cy="812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81080" y="4724280"/>
            <a:ext cx="4775400" cy="5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CF7-A30F-41EF-9183-B4F838F5F4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gacy Frame Exchange 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743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right are the frame exchanges defined in Table 21 of 802.11-1999 illustrated using this symb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72000" cy="477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F20-49B2-4E96-A582-6D67E0495D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CF Frame Exchanges for CF-Burs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1337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right are the frame exchanges required for HCF QoS Data transf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F-Burst comprises one or more Tx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 Management frames can only be sent as sole or final frame of a TxOp, since with no TCID field they have NF=0 by defaul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689800" cy="424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AB7-BA99-43C9-A78D-EA3BEADFBD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Frame Exchanges for HC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200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 to activate/deactivate polling under a periodic Tspec (BW reserv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 for immediate TX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needed to obtain a TXOP longer than the EDCF TXOP Limit in force for the QB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 to start a controlled contention interval (CCI) to solicit RRs and/or to provide feedback from previous CC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2133360" cy="507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673520" cy="711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62520" y="4038480"/>
            <a:ext cx="2133360" cy="15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AE3-467D-4698-B528-292535E274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t of TXOP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one null and one non-null case for the start of a polled TX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are three possible optimizations/deoptimizations of the non-null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689440" cy="41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E38-3EB8-4A5D-B8E6-E9354EB884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TXOP Deta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cases for the end of a TXOP, based on whether the HC has additional traffic to transmit and/or additional ESTAs to po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6311880" cy="261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F41-3A84-4B3C-BA23-71F29C7C16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V Usage During TX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agram shows the periods covered by the NAV, based on Duration field values in the various frames of a TXOP during which the polled ESTA initiates several QoS Data frame ex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22960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2F9-D30F-4CDA-9631-FE54E0E43DF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6:41:17Z</dcterms:created>
  <dc:creator>Michael Fischer</dc:creator>
  <dc:description/>
  <dc:language>en-US</dc:language>
  <cp:lastModifiedBy>Harry Worstell</cp:lastModifiedBy>
  <cp:lastPrinted>1998-02-10T13:28:06Z</cp:lastPrinted>
  <dcterms:modified xsi:type="dcterms:W3CDTF">2001-02-07T19:15:08Z</dcterms:modified>
  <cp:revision>111</cp:revision>
  <dc:subject/>
  <dc:title>A Hybrid Coordination Function</dc:title>
</cp:coreProperties>
</file>