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1BD-8FF7-4959-A41F-D9B313D6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3C2-CDA9-419B-84B3-7CB1CE98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005F-9266-4257-95FE-2BFD2355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EF8-D57E-4EC1-90E6-98839033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4931-7E4C-43C9-814D-B70DD09A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CF9-4ABB-4092-A6E5-0DA427C5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0EC-1BAB-439F-9F78-DEBCE671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2F5-FD76-40CC-BB15-1B7D3C02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F23-5304-4AC0-A8A2-3B714BB1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E8E-6EFA-414A-ACB2-84ED9053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A3F-CA4A-4C29-B2A7-5721AA4D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907-4223-4CFC-B22A-96BA6329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1905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Halford and  Mark Webster, Inter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1A9BEF9-1D7E-49CC-B865-5CD57491A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verview of OFDM for a High Rate Extens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ve Hal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 Web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lm Bay, 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4040" y="3070080"/>
            <a:ext cx="535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verview and Outline of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CC7-492C-4E29-ADDB-7F6146B57A9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Perform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1561680"/>
            <a:ext cx="845820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WGN Performance is very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qualizer complexity can be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ear Equalizer requires a matrix inverse to comp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ng equalizer required for good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aptive equalizers may not converge quickly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linear Equalizers:  MMSE offers optimal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annel impulse response estimat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 be combined with decoder (Joint MM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ementation will not scale easily with increasing data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xity increases exponentially with delay spread &amp; data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duced state version may be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optimal &amp; sensitive to estimation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4135-6171-4D15-9DEF-6A28E2077F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685800"/>
            <a:ext cx="80010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08040" y="176616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7 tap eq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48120" y="18424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25 tap eq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0AA-148D-47C7-96DB-AA2C16FCCB2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7000"/>
          </a:bodyPr>
          <a:p>
            <a:pPr marL="126720" indent="-12672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Well-known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xcellent AWGN perform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PSK Versions:  Low Peak-to-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01400" indent="-8424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PAR &gt; 1 due to pulse shaping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o inherent multipath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01400" indent="-8424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EC provides some he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qualizer complexity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01400" indent="-8424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Linear equalizer needs to be 25 taps or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ot easy to extend receiver to highe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463-3E55-45C9-8C7F-30416BEFAAF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1440" y="685800"/>
            <a:ext cx="59594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3 Multi-code Modul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526760"/>
            <a:ext cx="891540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formation is transmitted by modulating multiple code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words are summed and transmitted simultane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re both time and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words create independent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sed in IS-95 for multipl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4838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076640"/>
            <a:ext cx="99072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M outpu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4229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915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5600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8600" y="416556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78600" y="552132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3962520"/>
            <a:ext cx="1295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N 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n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AM or PS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4660920"/>
            <a:ext cx="1295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N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n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AM or PS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5334120"/>
            <a:ext cx="1295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N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n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AM or PS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4229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53040" y="4915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5600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65640" y="483552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45200" y="46864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11680" y="4686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5365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5365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4000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400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2240" y="4597560"/>
            <a:ext cx="8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06640" y="3809880"/>
            <a:ext cx="94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13120" y="4495680"/>
            <a:ext cx="94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1280" y="5189400"/>
            <a:ext cx="94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4241880"/>
            <a:ext cx="387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21480" y="4241880"/>
            <a:ext cx="59688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271920" y="4756320"/>
            <a:ext cx="269280" cy="276480"/>
            <a:chOff x="6271920" y="4756320"/>
            <a:chExt cx="269280" cy="276480"/>
          </a:xfrm>
        </p:grpSpPr>
        <p:sp>
          <p:nvSpPr>
            <p:cNvPr id="184" name=""/>
            <p:cNvSpPr/>
            <p:nvPr/>
          </p:nvSpPr>
          <p:spPr>
            <a:xfrm>
              <a:off x="6292800" y="47797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1920" y="47563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715000" y="49150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21480" y="4978080"/>
            <a:ext cx="60300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27640" y="4915080"/>
            <a:ext cx="387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5600880"/>
            <a:ext cx="387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24640" y="48927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26120" y="4714920"/>
            <a:ext cx="64800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82080" y="482292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74120" y="49053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55160" y="4305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051760" y="4095720"/>
          <a:ext cx="380880" cy="2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51760" y="4095720"/>
                    <a:ext cx="38088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8337600" y="4889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15280" y="379260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rier Mod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07320" y="3579840"/>
            <a:ext cx="111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dewor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L chips/ symbo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61320" y="4475160"/>
            <a:ext cx="111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dewor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L chips/ symbo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9400" y="5154480"/>
            <a:ext cx="111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dewor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L chips/ symbo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39DD-4655-4C78-AB6F-247B098D36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74640" y="685800"/>
            <a:ext cx="7802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7240" y="67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1.3 MCM: Receiver Consider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ceiver must separate each codeword prior to dete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a bank of correlators  to separate data str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ect modulation after correlator for each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dewords with fast correlator structure reduce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  CCK, Walsh words, and complex exponent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61840" y="4678200"/>
            <a:ext cx="876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22400" y="3479760"/>
            <a:ext cx="1719360" cy="256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38440" y="3970440"/>
            <a:ext cx="7920" cy="145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46360" y="3979800"/>
            <a:ext cx="707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5720" y="5413320"/>
            <a:ext cx="70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38440" y="4680000"/>
            <a:ext cx="707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65280" y="3760920"/>
            <a:ext cx="87624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word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48000" y="4446720"/>
            <a:ext cx="858600" cy="46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word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75000" y="5253120"/>
            <a:ext cx="87480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word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81240" y="569736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rrelator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330720" y="3943440"/>
            <a:ext cx="68256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314880" y="4650840"/>
            <a:ext cx="682560" cy="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348000" y="5419800"/>
            <a:ext cx="68256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2920" y="4214880"/>
            <a:ext cx="74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29120" y="3697200"/>
            <a:ext cx="977760" cy="44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-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29120" y="4440240"/>
            <a:ext cx="977760" cy="44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-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9120" y="5214960"/>
            <a:ext cx="977760" cy="44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-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4040" y="3562200"/>
            <a:ext cx="990360" cy="224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ll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M inpu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91160" y="452448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00760" y="391788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10120" y="466884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18040" y="543564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85680" y="42148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431-733F-4338-8FE2-0E5754E684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2880" y="685800"/>
            <a:ext cx="6107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7240" y="67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1.3 MCM: Codeword Sele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2240" y="1263600"/>
            <a:ext cx="86900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erformance is determined by codeword set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thogonal codeword give zero cross-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orthogonal codewords generate “noise” due to cross-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duces the AWGN performance significa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360" y="3046320"/>
            <a:ext cx="4008600" cy="340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8280" y="304812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lsh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2960" y="3429000"/>
            <a:ext cx="34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lsh Sequences are well kn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ces of  +/-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d in IS-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 Correlator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thogonal se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3040" y="5232240"/>
            <a:ext cx="413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s peak-to-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thogonality is destroyed by multi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to equalize to re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4920" y="483228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roblem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25760" y="3983040"/>
            <a:ext cx="1230480" cy="480960"/>
          </a:xfrm>
          <a:prstGeom prst="rightArrow">
            <a:avLst>
              <a:gd name="adj1" fmla="val 50000"/>
              <a:gd name="adj2" fmla="val 6396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13280" y="2976480"/>
            <a:ext cx="376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mo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ll sequences lose orthogonality in multi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42400" y="390528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70320" y="4781520"/>
            <a:ext cx="491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sequences are not eigenfunctions of the multipath channe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F786-2DF9-40DB-B43D-D634555E20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879480" y="2554200"/>
            <a:ext cx="7421400" cy="243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2880" y="685800"/>
            <a:ext cx="6267600" cy="48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7240" y="67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1.3 MCM:Multipath &amp; Orthogon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82520" y="1362240"/>
            <a:ext cx="8653680" cy="122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en the channel is known, can design functions to retain orthog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ly a “hot topic” for researchers in CDMA &amp; Equ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actical for wireless 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38040" y="25081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19080" y="3086280"/>
            <a:ext cx="727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x Exponentials are eigenfunctions of linear syste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, eigenfunctions for any multi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alizers not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ath causes a change in magnitude &amp; phase only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s of complex exponentials are orthogonal frequency is 1/(symbol leng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FT &amp; IFFT provide for fast corre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7760" y="5529240"/>
            <a:ext cx="974520" cy="358920"/>
          </a:xfrm>
          <a:prstGeom prst="rightArrow">
            <a:avLst>
              <a:gd name="adj1" fmla="val 50000"/>
              <a:gd name="adj2" fmla="val 67879"/>
            </a:avLst>
          </a:prstGeom>
          <a:solidFill>
            <a:srgbClr val="3333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6040" y="5464080"/>
            <a:ext cx="64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DM uses complex exponentials as code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BE4-E3C6-4EF2-9160-CCD4DEB9EEA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3 MCM using OFDM: 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22000" y="1295280"/>
            <a:ext cx="7907400" cy="37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Good AWGN performance via error correction 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xcellent multipath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qualizer is greatly simplifi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880" indent="-19188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Equalizer complexity is the same for all data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xisting Wireless LAN standard (802.11a) provides gu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880" indent="-19188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Reduces time to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eak to average ratio requires more PA back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quires block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880" indent="-1918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ay increase gate count due to memory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requency roll-off not as fast as symbol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AB6-F42C-4950-9D51-0C94238449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for High Rate at 2.4 GHz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6800" y="1387440"/>
            <a:ext cx="829152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802.11a standard as a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ed by Task Group A as best waveform for wireless 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tain all mandatory and optional PHY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elerates the standards process by re-using existing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al band Access Points could provide smooth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crease sample rate from 20 MHz to 22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on clock rate with existing 11 Mbp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intain the same channe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: 25 MHz center frequency spacing, 3 channels in 9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existing long &amp; short preamble for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ltra-short preamble is also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rsil will comply with all IEEE patent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008-27EA-4E71-AAB2-447FB49E894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685800"/>
            <a:ext cx="825804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8680" y="685800"/>
            <a:ext cx="83170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for High Rate: Modulation Detai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680" y="1523520"/>
            <a:ext cx="8524800" cy="23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ansmit information using orthogonal 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riers/Codewords generated efficiently using 64 pt. I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48 tones fo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4 tones for pilot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s good method for carrier, timing, &amp; AGC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maining 12 orthogonal tones are null (z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41520" y="5857920"/>
            <a:ext cx="551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89864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07648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2543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4321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6100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78748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653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1431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3210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545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0323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21020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38768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5655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7433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9212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09904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27688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98788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1657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3435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5214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69924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43160" y="455616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21000" y="455616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320640" y="463716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76400" y="463716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26720" y="4483440"/>
            <a:ext cx="23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343.75 KHz Tone Sp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9880" y="4588200"/>
            <a:ext cx="117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Subcarr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20800" y="50900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86240" y="594720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898640" y="4149360"/>
            <a:ext cx="0" cy="5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699240" y="4149360"/>
            <a:ext cx="0" cy="5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17920" y="4158000"/>
            <a:ext cx="124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~17.875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32280" y="4311720"/>
            <a:ext cx="186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898640" y="4311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33240" y="51440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85A-3423-407E-96C6-AE1CE7AFB5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line of Proposal Present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9240" y="1308240"/>
            <a:ext cx="8559720" cy="49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g Regulatory Approval Plan  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 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verview of OFDM for High Rat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use of 802.11b Preambles with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ltra-short Preamble with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DM System Performance 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Am Effects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nnelization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ase Noise Sensitivity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 and Complexity Issues for OFDM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OFDM for the High Rate 802.11b Extension?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Speaker: 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44D5-A860-431C-8717-1B6FC8561F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685800"/>
            <a:ext cx="77151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: Modulation Detai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74680" y="1523520"/>
            <a:ext cx="8524800" cy="24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ach data tone is symbol modul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mbol Modulation is standard BPSK, QPSK, 16-QAM, or 64-Q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rate 1/2, k = 7 convolutional code for error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ncture code to rate 2/3 and 3/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ilot tones are modulated with a BPSK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quence is determined by the data scramb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45960" y="4132440"/>
          <a:ext cx="8040960" cy="22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4132440"/>
                    <a:ext cx="804096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8B28-F5A7-4D36-B68B-AD9EB0821E9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95360" y="685800"/>
            <a:ext cx="8123040" cy="58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25516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for High Rate: Modulation Detai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24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ded Information is interleaved over one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leaved after pun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ces adjacent “bits” on non-adjacent subcarr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 is also scrambled prior to co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27160" y="4056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87600" y="3787920"/>
            <a:ext cx="877680" cy="50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ramb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62040" y="4032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16360" y="3718080"/>
            <a:ext cx="1100160" cy="65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volu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k = 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14720" y="4048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08640" y="3809880"/>
            <a:ext cx="914400" cy="48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40320" y="40622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91040" y="3759120"/>
            <a:ext cx="1038240" cy="6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le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75680" y="3699000"/>
            <a:ext cx="1296720" cy="766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el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bits to symbo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1080" y="4071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88160" y="4929120"/>
            <a:ext cx="741600" cy="73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-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e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1640" y="3691080"/>
            <a:ext cx="976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co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53560" y="447840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705720" y="5257800"/>
            <a:ext cx="976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3271680"/>
            <a:ext cx="10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Depends on data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97560" y="4784760"/>
            <a:ext cx="1187280" cy="93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yc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 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533840" y="5237280"/>
            <a:ext cx="976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2600" y="499284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RF sub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2E6F-1023-41A1-8F90-2ADBC5B7B53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20880" y="685800"/>
            <a:ext cx="7208640" cy="48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2 OFDM for High Rate:  Symbol Struc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560" y="1389240"/>
            <a:ext cx="8869320" cy="16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utput of the 64 pt. IFFT is cyclically extended by 16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 of 80 samples -- Any 64 pts valid for de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16 are used to “absorb” multipath from preceding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6800" y="4071960"/>
            <a:ext cx="1067040" cy="85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03840" y="4071960"/>
            <a:ext cx="3962160" cy="85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3480" y="505512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75800" y="505512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78640" y="427572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FFT/FFT S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88720" y="4197600"/>
            <a:ext cx="81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Gu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ter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6800" y="50720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03840" y="507204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36800" y="392904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080920" y="51328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75720" y="3632760"/>
            <a:ext cx="23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63  usecs OFDM 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36160" y="3327120"/>
            <a:ext cx="46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64 + 16 = 80 samples @ 22 MHz = 3.63637 u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4184640" y="5084640"/>
            <a:ext cx="172800" cy="1176120"/>
          </a:xfrm>
          <a:custGeom>
            <a:avLst/>
            <a:gdLst>
              <a:gd name="textAreaLeft" fmla="*/ 110520 w 172800"/>
              <a:gd name="textAreaRight" fmla="*/ 173160 w 172800"/>
              <a:gd name="textAreaTop" fmla="*/ 30600 h 1176120"/>
              <a:gd name="textAreaBottom" fmla="*/ 114552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8760" y="4075200"/>
            <a:ext cx="3306600" cy="857160"/>
          </a:xfrm>
          <a:prstGeom prst="rect">
            <a:avLst/>
          </a:prstGeom>
          <a:solidFill>
            <a:srgbClr val="c0c0c0">
              <a:alpha val="50000"/>
            </a:srgbClr>
          </a:solidFill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15280" y="43480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99ff"/>
                </a:solidFill>
                <a:latin typeface="Times New Roman"/>
              </a:rPr>
              <a:t>Preceding 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89000" y="5742000"/>
            <a:ext cx="455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ultipath will cause preceding symbol to”bleed” into current symbol. Guard interval absorbs this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1C5C-87D3-4560-8183-102E800D69A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846000" y="685800"/>
            <a:ext cx="7444080" cy="4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2 OFDM for High Rate:  Receiver Struc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360" y="300672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47840" y="2844720"/>
            <a:ext cx="97452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j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8480" y="294156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865080" y="3097080"/>
            <a:ext cx="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17400" y="3911760"/>
            <a:ext cx="506520" cy="34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N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9600" y="4299120"/>
            <a:ext cx="95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equency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95600" y="3873600"/>
            <a:ext cx="12110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rier/Tim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954080" y="3254040"/>
            <a:ext cx="0" cy="61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125360" y="4083120"/>
            <a:ext cx="570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39960" y="3019320"/>
            <a:ext cx="40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25600" y="3030480"/>
            <a:ext cx="681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94120" y="2695680"/>
            <a:ext cx="777960" cy="69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ua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81400" y="2770200"/>
            <a:ext cx="901800" cy="50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2 t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 rot="5400000">
            <a:off x="4510800" y="1923120"/>
            <a:ext cx="233280" cy="1212840"/>
          </a:xfrm>
          <a:custGeom>
            <a:avLst/>
            <a:gdLst>
              <a:gd name="textAreaLeft" fmla="*/ 149040 w 233280"/>
              <a:gd name="textAreaRight" fmla="*/ 233640 w 233280"/>
              <a:gd name="textAreaTop" fmla="*/ 59760 h 1212840"/>
              <a:gd name="textAreaBottom" fmla="*/ 1153080 h 121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0"/>
                  <a:pt x="10800" y="3420"/>
                </a:cubicBezTo>
                <a:lnTo>
                  <a:pt x="10800" y="7380"/>
                </a:lnTo>
                <a:cubicBezTo>
                  <a:pt x="10800" y="9090"/>
                  <a:pt x="5400" y="10800"/>
                  <a:pt x="0" y="10800"/>
                </a:cubicBezTo>
                <a:cubicBezTo>
                  <a:pt x="5400" y="10800"/>
                  <a:pt x="10800" y="12510"/>
                  <a:pt x="10800" y="14220"/>
                </a:cubicBezTo>
                <a:lnTo>
                  <a:pt x="10800" y="18180"/>
                </a:lnTo>
                <a:cubicBezTo>
                  <a:pt x="10800" y="1989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89320" y="1650960"/>
            <a:ext cx="271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equency Domain Equaliz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each tone by inverse gain &amp; phase of the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2926800">
            <a:off x="2548440" y="2239200"/>
            <a:ext cx="569880" cy="222120"/>
          </a:xfrm>
          <a:prstGeom prst="rightArrow">
            <a:avLst>
              <a:gd name="adj1" fmla="val 50000"/>
              <a:gd name="adj2" fmla="val 6414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93720" y="1405080"/>
            <a:ext cx="125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to know “when” a symbol 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73520" y="301932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81760" y="3006720"/>
            <a:ext cx="59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78640" y="2722680"/>
            <a:ext cx="1288800" cy="70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ft-Deci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n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symbol to 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02360" y="3043080"/>
            <a:ext cx="382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86480" y="2859120"/>
            <a:ext cx="1144800" cy="36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-interle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27880" y="3790800"/>
            <a:ext cx="1144800" cy="37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-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916760" y="32288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08440" y="3848040"/>
            <a:ext cx="1176480" cy="53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ract 4 Pi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81560" y="3006720"/>
            <a:ext cx="0" cy="84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78680" y="4157640"/>
            <a:ext cx="0" cy="66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37320" y="4937040"/>
            <a:ext cx="1052280" cy="47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terb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461360" y="4840200"/>
            <a:ext cx="1065240" cy="61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6791400" y="5133960"/>
            <a:ext cx="668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906640" y="4105440"/>
            <a:ext cx="1819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390840" y="5010120"/>
            <a:ext cx="1181160" cy="3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-Scramb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572000" y="5159520"/>
            <a:ext cx="1168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820600" y="5172120"/>
            <a:ext cx="56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14120" y="497664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o 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5760" y="2401920"/>
            <a:ext cx="78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rom A-to-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DFB2-677C-4425-AA32-43A27A76B83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155600" y="685800"/>
            <a:ext cx="6775560" cy="4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3 OFDM for High Rate:  Summa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803160" y="4029120"/>
          <a:ext cx="7645680" cy="196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4029120"/>
                    <a:ext cx="76456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1386000" y="1695600"/>
          <a:ext cx="6159240" cy="1879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86000" y="1695600"/>
                    <a:ext cx="61592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0D7-0916-43DC-83AF-9AF04F7063B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595520" y="1706400"/>
          <a:ext cx="5776920" cy="398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706400"/>
                    <a:ext cx="5776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51AE-0F24-4E43-A989-694220A386F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595520" y="1706400"/>
          <a:ext cx="5753160" cy="43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706400"/>
                    <a:ext cx="575316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B98-C854-4153-99E2-9CA062C450F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228760" y="1171440"/>
          <a:ext cx="5078520" cy="52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8760" y="1171440"/>
                    <a:ext cx="5078520" cy="52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4C8-E604-496C-9CD5-8A00EFA8E64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760400" y="1422360"/>
          <a:ext cx="5618160" cy="444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0" y="1422360"/>
                    <a:ext cx="5618160" cy="44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BCF0-4AB7-4028-AC57-2B0E118D684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0120" y="685800"/>
            <a:ext cx="7864560" cy="544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0 Why go to higher rates at 2.4GHz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802.11b has been very 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existing Infra-structure &amp; customer famili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sumer demands for higher data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multi-media for home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perior Range and Performance i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 GHz will have better range than 5 GHz for same po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for antenna divers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GHz won’t be as clean as promised (802.15.3, 802.16 co-ex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ployment of 802.11a is s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5562720"/>
            <a:ext cx="7696080" cy="5331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05120" y="5573880"/>
            <a:ext cx="71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portunity exists now for 802.11b to expand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D5B-CA92-483F-8795-EAF3BB8366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0 Keys for Successful High Rate Syst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erformance vs. Complexity must be attr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WGN performance is important to maintain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ies Error correcting code for higher rat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 to multi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K is inherently robust &amp; need to maintain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ime to market must be 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s &amp; FCC will drive time to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intain backward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asy to extend to higher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y stop at 22 Mb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B8CB-2F92-427E-AEA7-486D9EBAE4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0 Waveforms for High Rate Exten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deword Modulation </a:t>
            </a:r>
            <a:r>
              <a:rPr b="1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CCK-like ex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tion is transmitted by codeword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ach group of n bits select one of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ode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 coding with inherent multipath prote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ymbol Modulation </a:t>
            </a:r>
            <a:r>
              <a:rPr b="1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PBCC-like ex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d bits used to select constellatio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AM or PSK with convolutional or block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ard modulation for satellite communic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ulti-Code Modulation </a:t>
            </a:r>
            <a:r>
              <a:rPr b="1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OFDM &amp; DS-CD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d bits are sent in parallel using orthogonal basis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d in OFDM and in synchronous DS-CDMA (e.g, downlink of IS-95 cellu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ADB-43BB-4DC2-9957-364C389339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1 Codeword Modul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urrent CCK systems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8 chip code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 Mbps: Each codeword sends 8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 bits used to select one of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64 code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bits used to QPSK modulate code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r must correlate for 64 codewords &amp; determine QPSK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s a fast correlator structure akin to fast Walsh and F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codeword size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25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xtension of CCK is possible to 22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ch codeword sends 16 un-coded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codeword size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65536 code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 very large correlator -- Some simplification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Example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V. S. Somayazulu, et. al. , “</a:t>
            </a: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Proposal for extension of the IEEE 802.11b PHY to higher rates (&gt;20Mbps)”, IEEE 802.11-00/069, May 2000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3FCD-BC08-4216-96E1-4B6703D8F6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1 Codeword Modulation: 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marL="140400" indent="-14040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Backward Compati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Simple Rake Receiver for multipath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Re-use of some existing baseba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Low Peak to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960" indent="-936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PAR &gt; 1 due to pulse shaping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oesn’t scale easily to highe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dding FEC would only increase number of code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960" indent="-9360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WGN performance &amp; range would be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19D5-E557-431E-919B-1128A92076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685800"/>
            <a:ext cx="7516800" cy="44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3680" y="3429000"/>
            <a:ext cx="8613720" cy="29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urrent PBCC systems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 information bit per symbol @ 11 Mbp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e 1/2 Convolutional Code is used for AWG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xtension of PBCC is possible to higher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 Use 8-PSK &amp; Rate 2/3 punctured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PSK gives 33 Mbps co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e 2/3 gives 22 Mbps information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uld use block code instead of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1480" y="2019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5880" y="1822320"/>
            <a:ext cx="7621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n,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79920" y="1600200"/>
            <a:ext cx="123804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bits to P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 QA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598760"/>
            <a:ext cx="90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ate =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444760" y="2006280"/>
            <a:ext cx="1216080" cy="4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11840" y="2006640"/>
            <a:ext cx="76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67480" y="1773360"/>
            <a:ext cx="965160" cy="43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lse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42040" y="192888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4080" y="2011320"/>
            <a:ext cx="50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15120" y="170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32720" y="1565280"/>
          <a:ext cx="566640" cy="29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720" y="1565280"/>
                    <a:ext cx="56664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297560" y="19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99440" y="127620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rier Mod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13680" y="1701720"/>
            <a:ext cx="33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97040" y="2087640"/>
          <a:ext cx="792360" cy="6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7040" y="2087640"/>
                    <a:ext cx="7923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035680" y="2103480"/>
          <a:ext cx="442800" cy="3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5680" y="2103480"/>
                    <a:ext cx="4428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867280" y="2728800"/>
          <a:ext cx="19764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2728800"/>
                    <a:ext cx="1976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778800" y="2227320"/>
            <a:ext cx="136440" cy="495360"/>
          </a:xfrm>
          <a:prstGeom prst="upArrow">
            <a:avLst>
              <a:gd name="adj1" fmla="val 50000"/>
              <a:gd name="adj2" fmla="val 90765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7CE0-6AFA-4C39-9F8A-48EC1EC3582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685800"/>
            <a:ext cx="80010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3429000"/>
            <a:ext cx="7467840" cy="220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523880"/>
            <a:ext cx="59436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480" y="1828800"/>
            <a:ext cx="89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te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er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8288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7080" y="159912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7280" y="159912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27560" y="198000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1828800"/>
            <a:ext cx="762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0" y="15991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34200" y="1903680"/>
            <a:ext cx="95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: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1828800"/>
            <a:ext cx="990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7480" y="159912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205632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864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74600" y="3778560"/>
            <a:ext cx="78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3733920"/>
            <a:ext cx="7621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5320" y="342828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2680" y="3503880"/>
            <a:ext cx="45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1600200"/>
            <a:ext cx="2667240" cy="129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5720" y="255888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Rate 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33120" y="3687840"/>
            <a:ext cx="52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32400" y="3657600"/>
            <a:ext cx="6094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41880" y="4038480"/>
            <a:ext cx="420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2200" y="35046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5960" y="3808800"/>
            <a:ext cx="117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: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02320" y="37339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5120" y="35046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95160" y="3733920"/>
            <a:ext cx="89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te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er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73920" y="37339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200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13080" y="350388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453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92480" y="4037760"/>
            <a:ext cx="47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M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808800"/>
            <a:ext cx="122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ear Equal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3657600"/>
            <a:ext cx="914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4800600"/>
            <a:ext cx="914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875480"/>
            <a:ext cx="122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R 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65760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DEF-950F-4915-AFB9-9D525CAD97C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15:31:01Z</dcterms:created>
  <dc:creator>Steve Halford and Mark Webster</dc:creator>
  <dc:description/>
  <dc:language>en-US</dc:language>
  <cp:lastModifiedBy>Harry Worstell</cp:lastModifiedBy>
  <cp:lastPrinted>2000-05-04T15:07:54Z</cp:lastPrinted>
  <dcterms:modified xsi:type="dcterms:W3CDTF">2000-11-06T22:08:49Z</dcterms:modified>
  <cp:revision>78</cp:revision>
  <dc:subject/>
  <dc:title>389 Overview of OFDM for a High Rate Extension</dc:title>
</cp:coreProperties>
</file>