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9FE-C57A-4EF2-8311-49ECF0C7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861-B1A0-4CAA-8E32-2C26132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93C-75E1-49FA-BD58-363A56F5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CDF-5341-4901-8F5F-26558450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7F7-1696-4265-839D-07B29CC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33E-F661-48B7-8354-DF40B66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1AC-504B-4FDB-A628-6FA7EED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0F8-CBF8-49B4-97E1-679BCED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2C7-F2EB-4CAF-BF88-FE9EF51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351-6532-4E46-AF26-3ABE07A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6AC-0435-4930-B05F-C09A0D6F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435-515B-4BF1-BAA6-89C2D1E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249275-6347-46E5-AE31-B71DE0C5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BB3-4E62-44B3-8C20-6517B81649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L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498-E2D1-4037-81E9-10FA901047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753-CC7A-4AA1-B91E-35F953416A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6FE-4503-4D98-9068-B131CBBDC7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390-9A8F-44FE-9A5F-40D5B82E84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3EB-C3CD-4A44-BD93-F7E4201AEA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AAD-55E2-402C-B92E-B8C3F84CD5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957-01DF-42A8-AC52-CDBD8A3582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399-1A53-4BCD-9DC9-DD19701161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6E8-1A5C-4FFF-9E09-E300504F32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0B1-333A-454F-B35A-0C91059533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921-3AD0-43EA-A5D2-B5DE91A805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9C9-E334-4511-AF1C-85919BBC87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0C9-9A62-4E83-8A43-CCE8D35D1C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675-70BD-4948-8648-1682659382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045-9D12-4096-A03A-6413509420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32360"/>
          <a:ext cx="7583760" cy="194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32360"/>
                    <a:ext cx="75837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2A7-A25E-463A-AFA1-F3770863A6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F33-5CE4-4DC2-91B5-4DE50B9225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A7B-2849-4C38-91B5-8AD36204B2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5CB-FCD6-487D-9C38-2D0B993785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37-967A-4958-829B-B3DB1B0F50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248-41E6-4863-B21B-AE29A8E15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0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F64-95AE-4CA0-93D0-C8F4230722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A02-B504-49EA-9D3F-052328D299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516-78C3-485E-B0AB-062B348CBE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3CA-3DB1-4742-BD8E-CECF3D28D3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00-6AD3-4EDA-83EE-8FE5B146FF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683-05A9-45E2-8447-74A0504070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7T21:51:09Z</dcterms:modified>
  <cp:revision>82</cp:revision>
  <dc:subject/>
  <dc:title>389 Overview of OFDM for a High Rate Extension</dc:title>
</cp:coreProperties>
</file>