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25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1.jpeg" ContentType="image/jpeg"/>
  <Override PartName="/ppt/media/image21.png" ContentType="image/png"/>
  <Override PartName="/ppt/media/image20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4.wmf" ContentType="image/x-wmf"/>
  <Override PartName="/ppt/media/image15.png" ContentType="image/pn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D6D8-34E1-4D30-BED5-8193D49C58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AC408-4B0C-4A50-B7F4-F648EE8AB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47B2-8348-4643-BE23-5152C0286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50920" y="690480"/>
            <a:ext cx="4556160" cy="341784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E680B-E4DC-45F4-8D35-3F6642B71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A983-6238-4652-AC9C-3D05735C18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EF2CF-B1B3-4A8A-A35C-423BE5F1E2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6412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6412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80208-4B40-4A09-8588-F9B9DE07BB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1796D6-AEED-420D-A1CE-FD313DCA516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28449F-E3F9-4BDD-9043-57ACA3676D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6ED60-BC2F-4F24-9645-A0E2BBF02C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A0B54-62E2-4812-A9CF-FCDC258708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9994F0-05A4-4D5E-AEF5-D787E716070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467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7F0A74-AA20-4183-A20F-C9192B5FF9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655506-3AA3-4E04-A7BC-82849CBF63B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EB442-C17E-4F39-80F8-33E583D4DA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A7D34-0253-4E30-9906-71A41DA67DE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45D10-FCA4-4CF8-84B6-8CE4A6F4A2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BB7E23-B417-4127-8C75-6893DAC2FE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A77F765-F303-4608-AAE5-7F404EB101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43908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964120" y="213336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43908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5964120" y="4163400"/>
            <a:ext cx="2404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DA08D8-DF17-450E-AB4F-58C837AE44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07384-5902-4172-811B-6C81563E01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6DC82-8248-422B-B491-EA46304CE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5A7F7-829E-4C89-8CC8-9CB67006D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990720"/>
            <a:ext cx="746748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4AF1D4-4329-42E9-84C0-F3895822BC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7B318-A189-46BE-BB61-C055E6094F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0480" y="416340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D03DB-245B-4448-9F1A-00261A4BDB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0480" y="2133360"/>
            <a:ext cx="3643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63400"/>
            <a:ext cx="74674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F2B7E-CE3C-4477-B2DD-C977F9DC1A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 algn="just">
              <a:spcBef>
                <a:spcPts val="4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609480"/>
            <a:ext cx="9144000" cy="914400"/>
            <a:chOff x="0" y="609480"/>
            <a:chExt cx="9144000" cy="91440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543800" y="1052280"/>
              <a:ext cx="14479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3"/>
            <a:stretch/>
          </p:blipFill>
          <p:spPr>
            <a:xfrm>
              <a:off x="0" y="609480"/>
              <a:ext cx="9144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"/>
          <p:cNvSpPr/>
          <p:nvPr/>
        </p:nvSpPr>
        <p:spPr>
          <a:xfrm>
            <a:off x="493920" y="366840"/>
            <a:ext cx="1058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"/>
          <p:cNvSpPr/>
          <p:nvPr/>
        </p:nvSpPr>
        <p:spPr>
          <a:xfrm>
            <a:off x="5998680" y="396000"/>
            <a:ext cx="254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doc.: IEEE 802.11-00/384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8186400" y="6474960"/>
            <a:ext cx="4237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4368960" y="6474960"/>
            <a:ext cx="48240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4B32E7A8-9BC2-4EAB-A308-57B5CD59CE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21360" y="64753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90720" y="304920"/>
            <a:ext cx="7011720" cy="63133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9480"/>
            <a:ext cx="9144000" cy="914400"/>
            <a:chOff x="0" y="609480"/>
            <a:chExt cx="9144000" cy="9144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7543800" y="1052280"/>
              <a:ext cx="14479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4"/>
            <a:stretch/>
          </p:blipFill>
          <p:spPr>
            <a:xfrm>
              <a:off x="0" y="609480"/>
              <a:ext cx="91440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"/>
          <p:cNvSpPr/>
          <p:nvPr/>
        </p:nvSpPr>
        <p:spPr>
          <a:xfrm>
            <a:off x="493920" y="366840"/>
            <a:ext cx="105840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"/>
          <p:cNvSpPr/>
          <p:nvPr/>
        </p:nvSpPr>
        <p:spPr>
          <a:xfrm>
            <a:off x="5998680" y="396000"/>
            <a:ext cx="254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lvl="4" marL="45720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doc.: IEEE 802.11-00/384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8186400" y="6474960"/>
            <a:ext cx="423720" cy="2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4368960" y="6474960"/>
            <a:ext cx="48240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E1B19000-C7F1-44D9-A40B-1DB4C947DA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1360" y="647532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5181480"/>
            <a:ext cx="6248520" cy="11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Texas Instruments</a:t>
            </a: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41 Stony Circle, Suite 130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anta Rosa California  9540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707) 521-3060, heegard@ti.com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Texas Instruments Proposal for IEEE 802.11g High-Rate Standard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Chris Heegard, PhD, 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Eric Rossin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Matthew Shoemake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, Sean Coffey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Garamond"/>
              </a:rPr>
              <a:t>and Anuj Batra </a:t>
            </a:r>
            <a:r>
              <a:rPr b="0" i="1" lang="en-US" sz="2200" spc="-1" strike="noStrike">
                <a:solidFill>
                  <a:srgbClr val="000000"/>
                </a:solidFill>
                <a:latin typeface="Garamond"/>
              </a:rPr>
              <a:t>, PhD</a:t>
            </a:r>
            <a:endParaRPr b="0" lang="en-US" sz="2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5C63D3-D82A-4ED6-ABA7-4CDB12E44C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Symbol Scrambler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59" name=""/>
          <p:cNvSpPr/>
          <p:nvPr/>
        </p:nvSpPr>
        <p:spPr>
          <a:xfrm>
            <a:off x="1908720" y="2343240"/>
            <a:ext cx="726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QPSK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0" name=""/>
          <p:cNvSpPr/>
          <p:nvPr/>
        </p:nvSpPr>
        <p:spPr>
          <a:xfrm>
            <a:off x="1970280" y="2622600"/>
            <a:ext cx="67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od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"/>
          <p:cNvSpPr/>
          <p:nvPr/>
        </p:nvSpPr>
        <p:spPr>
          <a:xfrm>
            <a:off x="1751400" y="2901960"/>
            <a:ext cx="116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1 bit p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"/>
          <p:cNvSpPr/>
          <p:nvPr/>
        </p:nvSpPr>
        <p:spPr>
          <a:xfrm>
            <a:off x="2017080" y="3181320"/>
            <a:ext cx="96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ymbol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352320" y="2400480"/>
            <a:ext cx="1143000" cy="1143000"/>
            <a:chOff x="3352320" y="2400480"/>
            <a:chExt cx="1143000" cy="1143000"/>
          </a:xfrm>
        </p:grpSpPr>
        <p:sp>
          <p:nvSpPr>
            <p:cNvPr id="364" name=""/>
            <p:cNvSpPr/>
            <p:nvPr/>
          </p:nvSpPr>
          <p:spPr>
            <a:xfrm>
              <a:off x="3924360" y="2400480"/>
              <a:ext cx="1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3352320" y="297180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280040" y="252720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479760" y="25272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80040" y="33274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479760" y="33274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5752800" y="2400480"/>
            <a:ext cx="1143000" cy="1143000"/>
            <a:chOff x="5752800" y="2400480"/>
            <a:chExt cx="1143000" cy="1143000"/>
          </a:xfrm>
        </p:grpSpPr>
        <p:sp>
          <p:nvSpPr>
            <p:cNvPr id="371" name=""/>
            <p:cNvSpPr/>
            <p:nvPr/>
          </p:nvSpPr>
          <p:spPr>
            <a:xfrm>
              <a:off x="6324480" y="2400480"/>
              <a:ext cx="180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752800" y="297180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680160" y="25272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80240" y="252720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680160" y="33274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80240" y="3327480"/>
              <a:ext cx="12672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3852720" y="20509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8" name=""/>
          <p:cNvSpPr/>
          <p:nvPr/>
        </p:nvSpPr>
        <p:spPr>
          <a:xfrm>
            <a:off x="6240600" y="20509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/>
          <p:nvPr/>
        </p:nvSpPr>
        <p:spPr>
          <a:xfrm>
            <a:off x="1752480" y="1828800"/>
            <a:ext cx="5613480" cy="2184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0" name=""/>
          <p:cNvSpPr/>
          <p:nvPr/>
        </p:nvSpPr>
        <p:spPr>
          <a:xfrm>
            <a:off x="1809000" y="4514760"/>
            <a:ext cx="1357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8PSK Mod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/>
          <p:nvPr/>
        </p:nvSpPr>
        <p:spPr>
          <a:xfrm>
            <a:off x="1805400" y="4800600"/>
            <a:ext cx="1168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(2 bit per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2" name=""/>
          <p:cNvSpPr/>
          <p:nvPr/>
        </p:nvSpPr>
        <p:spPr>
          <a:xfrm>
            <a:off x="2042640" y="5073480"/>
            <a:ext cx="969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ymbol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/>
          <p:nvPr/>
        </p:nvSpPr>
        <p:spPr>
          <a:xfrm>
            <a:off x="1752480" y="4000680"/>
            <a:ext cx="5613480" cy="2184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452988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"/>
          <p:cNvSpPr/>
          <p:nvPr/>
        </p:nvSpPr>
        <p:spPr>
          <a:xfrm>
            <a:off x="567288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6" name=""/>
          <p:cNvSpPr/>
          <p:nvPr/>
        </p:nvSpPr>
        <p:spPr>
          <a:xfrm>
            <a:off x="328500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"/>
          <p:cNvSpPr/>
          <p:nvPr/>
        </p:nvSpPr>
        <p:spPr>
          <a:xfrm>
            <a:off x="328500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8" name=""/>
          <p:cNvSpPr/>
          <p:nvPr/>
        </p:nvSpPr>
        <p:spPr>
          <a:xfrm>
            <a:off x="452988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"/>
          <p:cNvSpPr/>
          <p:nvPr/>
        </p:nvSpPr>
        <p:spPr>
          <a:xfrm>
            <a:off x="567288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"/>
          <p:cNvSpPr/>
          <p:nvPr/>
        </p:nvSpPr>
        <p:spPr>
          <a:xfrm>
            <a:off x="6930000" y="3371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"/>
          <p:cNvSpPr/>
          <p:nvPr/>
        </p:nvSpPr>
        <p:spPr>
          <a:xfrm>
            <a:off x="6930000" y="25718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2" name=""/>
          <p:cNvSpPr/>
          <p:nvPr/>
        </p:nvSpPr>
        <p:spPr>
          <a:xfrm>
            <a:off x="3852720" y="41083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0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"/>
          <p:cNvSpPr/>
          <p:nvPr/>
        </p:nvSpPr>
        <p:spPr>
          <a:xfrm>
            <a:off x="6240600" y="4108320"/>
            <a:ext cx="637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 = 1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095640" y="4425840"/>
            <a:ext cx="1853280" cy="1598040"/>
            <a:chOff x="3095640" y="4425840"/>
            <a:chExt cx="1853280" cy="1598040"/>
          </a:xfrm>
        </p:grpSpPr>
        <p:grpSp>
          <p:nvGrpSpPr>
            <p:cNvPr id="395" name=""/>
            <p:cNvGrpSpPr/>
            <p:nvPr/>
          </p:nvGrpSpPr>
          <p:grpSpPr>
            <a:xfrm>
              <a:off x="3352320" y="4572000"/>
              <a:ext cx="1143000" cy="1143000"/>
              <a:chOff x="3352320" y="4572000"/>
              <a:chExt cx="1143000" cy="1143000"/>
            </a:xfrm>
          </p:grpSpPr>
          <p:sp>
            <p:nvSpPr>
              <p:cNvPr id="396" name=""/>
              <p:cNvSpPr/>
              <p:nvPr/>
            </p:nvSpPr>
            <p:spPr>
              <a:xfrm>
                <a:off x="3924360" y="4572000"/>
                <a:ext cx="1440" cy="1143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 flipH="1">
                <a:off x="3352320" y="5143680"/>
                <a:ext cx="1143000" cy="1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4280040" y="469908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479760" y="469908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4280040" y="5499000"/>
                <a:ext cx="12672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479760" y="549900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402" name=""/>
            <p:cNvSpPr/>
            <p:nvPr/>
          </p:nvSpPr>
          <p:spPr>
            <a:xfrm>
              <a:off x="4467240" y="4667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0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210120" y="46544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0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190320" y="5619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1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85960" y="55436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01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3352680" y="4521240"/>
              <a:ext cx="1257480" cy="1257120"/>
              <a:chOff x="3352680" y="4521240"/>
              <a:chExt cx="1257480" cy="1257120"/>
            </a:xfrm>
          </p:grpSpPr>
          <p:sp>
            <p:nvSpPr>
              <p:cNvPr id="407" name=""/>
              <p:cNvSpPr/>
              <p:nvPr/>
            </p:nvSpPr>
            <p:spPr>
              <a:xfrm>
                <a:off x="3898800" y="452124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3352680" y="5105520"/>
                <a:ext cx="127080" cy="12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4483080" y="5079960"/>
                <a:ext cx="127080" cy="12708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3924360" y="5651640"/>
                <a:ext cx="127080" cy="12672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411" name=""/>
            <p:cNvSpPr/>
            <p:nvPr/>
          </p:nvSpPr>
          <p:spPr>
            <a:xfrm>
              <a:off x="4061160" y="44258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95640" y="51753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647520" y="58104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10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650840" y="5060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Garamond"/>
                </a:rPr>
                <a:t>111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415" name=""/>
          <p:cNvGrpSpPr/>
          <p:nvPr/>
        </p:nvGrpSpPr>
        <p:grpSpPr>
          <a:xfrm>
            <a:off x="5676480" y="4572000"/>
            <a:ext cx="1143000" cy="1143000"/>
            <a:chOff x="5676480" y="4572000"/>
            <a:chExt cx="1143000" cy="1143000"/>
          </a:xfrm>
        </p:grpSpPr>
        <p:sp>
          <p:nvSpPr>
            <p:cNvPr id="416" name=""/>
            <p:cNvSpPr/>
            <p:nvPr/>
          </p:nvSpPr>
          <p:spPr>
            <a:xfrm>
              <a:off x="6248520" y="4572000"/>
              <a:ext cx="1440" cy="1143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5676480" y="5143680"/>
              <a:ext cx="11430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03840" y="46990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803920" y="469908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603840" y="54990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803920" y="549900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6759000" y="46674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3" name=""/>
          <p:cNvSpPr/>
          <p:nvPr/>
        </p:nvSpPr>
        <p:spPr>
          <a:xfrm>
            <a:off x="5534280" y="46544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4" name=""/>
          <p:cNvSpPr/>
          <p:nvPr/>
        </p:nvSpPr>
        <p:spPr>
          <a:xfrm>
            <a:off x="5546880" y="5619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5" name=""/>
          <p:cNvSpPr/>
          <p:nvPr/>
        </p:nvSpPr>
        <p:spPr>
          <a:xfrm>
            <a:off x="6809760" y="55436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0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5676840" y="4521240"/>
            <a:ext cx="1257480" cy="1257120"/>
            <a:chOff x="5676840" y="4521240"/>
            <a:chExt cx="1257480" cy="1257120"/>
          </a:xfrm>
        </p:grpSpPr>
        <p:sp>
          <p:nvSpPr>
            <p:cNvPr id="427" name=""/>
            <p:cNvSpPr/>
            <p:nvPr/>
          </p:nvSpPr>
          <p:spPr>
            <a:xfrm>
              <a:off x="6222960" y="452124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676840" y="5105520"/>
              <a:ext cx="12708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807240" y="5079960"/>
              <a:ext cx="127080" cy="12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248520" y="5651640"/>
              <a:ext cx="126720" cy="126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6352560" y="442584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"/>
          <p:cNvSpPr/>
          <p:nvPr/>
        </p:nvSpPr>
        <p:spPr>
          <a:xfrm>
            <a:off x="5419800" y="517536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3" name=""/>
          <p:cNvSpPr/>
          <p:nvPr/>
        </p:nvSpPr>
        <p:spPr>
          <a:xfrm>
            <a:off x="6004080" y="58104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4" name=""/>
          <p:cNvSpPr/>
          <p:nvPr/>
        </p:nvSpPr>
        <p:spPr>
          <a:xfrm>
            <a:off x="6975000" y="506088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110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"/>
          <p:cNvSpPr/>
          <p:nvPr/>
        </p:nvSpPr>
        <p:spPr>
          <a:xfrm>
            <a:off x="2157840" y="358128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"/>
          <p:cNvSpPr/>
          <p:nvPr/>
        </p:nvSpPr>
        <p:spPr>
          <a:xfrm>
            <a:off x="2135880" y="5638680"/>
            <a:ext cx="106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(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y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09157-2399-4D46-AF8E-BF9F5AC5752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“s” Sequence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38" name=""/>
          <p:cNvGraphicFramePr/>
          <p:nvPr/>
        </p:nvGraphicFramePr>
        <p:xfrm>
          <a:off x="3505320" y="3048120"/>
          <a:ext cx="4878360" cy="2993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3048120"/>
                    <a:ext cx="4878360" cy="29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 length 256 sequence generated from a length 16 seque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[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c1,…,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Garamond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] = [0011001110001011]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eriodically extended for &gt;256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EEDAC-21F4-4202-B64A-6DFD5A052C5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AWGN Performance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2" name=""/>
          <p:cNvGraphicFramePr/>
          <p:nvPr/>
        </p:nvGraphicFramePr>
        <p:xfrm>
          <a:off x="1601640" y="1531800"/>
          <a:ext cx="5938920" cy="479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1640" y="1531800"/>
                    <a:ext cx="5938920" cy="47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818A1-E29E-4620-AB4A-62925C85CC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roughpu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1600200" y="1736640"/>
          <a:ext cx="5951520" cy="481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36640"/>
                    <a:ext cx="59515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CD95E-D1A7-4D21-84D7-993A6EFD6F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roughput (cont.)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aphicFrame>
        <p:nvGraphicFramePr>
          <p:cNvPr id="448" name=""/>
          <p:cNvGraphicFramePr/>
          <p:nvPr/>
        </p:nvGraphicFramePr>
        <p:xfrm>
          <a:off x="1595520" y="1736640"/>
          <a:ext cx="5951520" cy="481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5520" y="1736640"/>
                    <a:ext cx="59515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F5202-8E4D-4D12-A237-8C6518C5C53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Certification Issues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BCC-22 should be certified under existing rules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240057-29F3-435B-99F4-49C207B8249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2 Principle Aspects to Certificati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ransmission: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The nature of the transmitted signa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at is the power level?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ower Spectrum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ception: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Robustness at the receive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epends on the character of the transmitted signal and the sophistication of the receiv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easured with respect to a referenc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omparison of Shannon Limit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terference Rejec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W Jamming Margi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arrow Band Gaussia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74240" indent="-21456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Nois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620E8-F1EE-4096-96DF-6EAEC000E1D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Transmitted Signa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1117440" y="1523880"/>
            <a:ext cx="2921040" cy="233856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047760" cy="244008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3"/>
          <a:stretch/>
        </p:blipFill>
        <p:spPr>
          <a:xfrm>
            <a:off x="990720" y="4038480"/>
            <a:ext cx="3047760" cy="244008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4"/>
          <a:stretch/>
        </p:blipFill>
        <p:spPr>
          <a:xfrm>
            <a:off x="4876920" y="4037040"/>
            <a:ext cx="3047760" cy="2440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830160" y="1752480"/>
            <a:ext cx="111816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Barker 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0" name=""/>
          <p:cNvSpPr/>
          <p:nvPr/>
        </p:nvSpPr>
        <p:spPr>
          <a:xfrm>
            <a:off x="4795200" y="1752480"/>
            <a:ext cx="9367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CCK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1" name=""/>
          <p:cNvSpPr/>
          <p:nvPr/>
        </p:nvSpPr>
        <p:spPr>
          <a:xfrm>
            <a:off x="894960" y="4267080"/>
            <a:ext cx="1064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PBCC 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2" name=""/>
          <p:cNvSpPr/>
          <p:nvPr/>
        </p:nvSpPr>
        <p:spPr>
          <a:xfrm>
            <a:off x="4857480" y="4267080"/>
            <a:ext cx="10645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6ef5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Garamond"/>
              </a:rPr>
              <a:t>PBCC 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A41316-E335-4C09-87FC-A106021F303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Definition of Spread Spectrum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 Don’t Know How to Define It, But I Know It When I See It”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s ignores the long history to the science of digital communica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17000" indent="-20340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orse, Nyquist, Shannon, Weiner, Hamming, Elias,…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lthough one does need to make logical definitions, similar difficulties exist with other important communications parameter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gnal-to-Noise ratio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ower Spectrum, etc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easonable Definitions Exist (examples to follow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05280" indent="-3052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s the definition important?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60960" indent="-2541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means to an end --&gt; robust communication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1887DC-D306-47E7-B635-E6E0E96AEF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Massey’s Definiti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owards an Information Theory of Spread- Spectrum Systems” ,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ode Division Multiple Access Communications (Eds. S. G. Glisic and P. A. Leppanen) , 1995, James L. Massey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fined 2 notions of Bandwidth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ier” or “Nyquest” 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elates to Spectrum Occupancy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annon” Bandwidt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elates to Signal Space Dimens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preading Ratio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05840" indent="-2008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 system is “spread spectrum” if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is larg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01680" indent="-3016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definition is mathematically precise and intuitiv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53760" indent="-25128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s definition argues that high rate (bits/sec/Hz) systems cannot have significant spreadi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6019920" y="3809880"/>
          <a:ext cx="2286000" cy="77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809880"/>
                    <a:ext cx="2286000" cy="770040"/>
                  </a:xfrm>
                  <a:prstGeom prst="rect">
                    <a:avLst/>
                  </a:prstGeom>
                  <a:ln w="3816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69" name=""/>
          <p:cNvSpPr/>
          <p:nvPr/>
        </p:nvSpPr>
        <p:spPr>
          <a:xfrm flipH="1">
            <a:off x="7924680" y="3429000"/>
            <a:ext cx="152640" cy="533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0" name=""/>
          <p:cNvSpPr/>
          <p:nvPr/>
        </p:nvSpPr>
        <p:spPr>
          <a:xfrm>
            <a:off x="7524000" y="3164040"/>
            <a:ext cx="1122480" cy="307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Garamond"/>
              </a:rPr>
              <a:t>A Theorem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7ACB-BB52-4472-A275-5D6CD2BFB44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mproved utilization of the 2.4 GHz ISM band for wireless Etherne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I/Alantro 22 Mbps solutio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ow it work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y it is goo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ertification Issu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Jamming Requiremen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CX101 Baseband Processo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60B74-CA6E-45AE-B6D8-E849DB3D07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Massey’s Definition Applied to Wireless Etherne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1"/>
          <a:stretch/>
        </p:blipFill>
        <p:spPr>
          <a:xfrm>
            <a:off x="2438280" y="2819520"/>
            <a:ext cx="4140360" cy="266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20BB1-3069-481B-B0D7-35FF9617606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Other Notions of Signal “Spreading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Uncoded Modulati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Break data stream into small piec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ap onto independent dimensions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Noise occasionally causes symbol erro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==&gt; data erro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948240" y="3429000"/>
            <a:ext cx="6595560" cy="1602720"/>
            <a:chOff x="948240" y="3429000"/>
            <a:chExt cx="6595560" cy="1602720"/>
          </a:xfrm>
        </p:grpSpPr>
        <p:sp>
          <p:nvSpPr>
            <p:cNvPr id="477" name=""/>
            <p:cNvSpPr/>
            <p:nvPr/>
          </p:nvSpPr>
          <p:spPr>
            <a:xfrm>
              <a:off x="2438280" y="3657600"/>
              <a:ext cx="5105520" cy="380880"/>
            </a:xfrm>
            <a:prstGeom prst="rect">
              <a:avLst/>
            </a:prstGeom>
            <a:solidFill>
              <a:srgbClr val="6ef5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19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200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3581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62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343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724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0516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48640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867280" y="34290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389240" y="35812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ata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7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895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429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276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0988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657600" y="46483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190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038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72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419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5288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00600" y="46483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33376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8148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5715000" y="40384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62360" y="46483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948240" y="45720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ymbols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24511-E82B-4D77-B972-56C8855655A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In FEC Systems, Information is Spread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ded Modulati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ave each bit of data affect many symbols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verage out the noise with the decod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298440" indent="-29844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esson of Shannon: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46200" indent="-248400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f you are willing to work (compute) then more throughput is possib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1176840" y="3200400"/>
            <a:ext cx="6595560" cy="1602720"/>
            <a:chOff x="1176840" y="3200400"/>
            <a:chExt cx="6595560" cy="1602720"/>
          </a:xfrm>
        </p:grpSpPr>
        <p:sp>
          <p:nvSpPr>
            <p:cNvPr id="508" name=""/>
            <p:cNvSpPr/>
            <p:nvPr/>
          </p:nvSpPr>
          <p:spPr>
            <a:xfrm>
              <a:off x="2666880" y="3429000"/>
              <a:ext cx="5105520" cy="380880"/>
            </a:xfrm>
            <a:prstGeom prst="rect">
              <a:avLst/>
            </a:prstGeom>
            <a:solidFill>
              <a:srgbClr val="6ef55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047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429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09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90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572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952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33376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1500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095880" y="3200400"/>
              <a:ext cx="0" cy="838080"/>
            </a:xfrm>
            <a:prstGeom prst="line">
              <a:avLst/>
            </a:prstGeom>
            <a:ln w="28440">
              <a:solidFill>
                <a:srgbClr val="b2b2b2"/>
              </a:solidFill>
              <a:prstDash val="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17840" y="3352680"/>
              <a:ext cx="9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Data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276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124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657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504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3848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886200" y="44197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419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67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800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647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18148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029200" y="4419720"/>
              <a:ext cx="30456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56236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41008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43600" y="380988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790960" y="4419720"/>
              <a:ext cx="304920" cy="304560"/>
            </a:xfrm>
            <a:prstGeom prst="ellipse">
              <a:avLst/>
            </a:prstGeom>
            <a:solidFill>
              <a:srgbClr val="33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176840" y="4343400"/>
              <a:ext cx="148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aramond"/>
                </a:rPr>
                <a:t>Symbols:</a:t>
              </a:r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76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65760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03848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419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0060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8148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62360" y="3809880"/>
              <a:ext cx="685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3657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3276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403848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4419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4800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518148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5562000" y="3809880"/>
              <a:ext cx="3812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5943600" y="3809880"/>
              <a:ext cx="38088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26284-7411-48E4-B90F-F384D77645B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-11 Pathmemory Requirem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4876920" y="2057400"/>
            <a:ext cx="3657600" cy="40910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perform within 0.5 dB of optimal requires the decoder to observe received symbols in a window that is &gt; 28 QPSK symbols lo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gt; 2.5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@ 11Msp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97146-717F-4EC2-9ED8-C64FDC922F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-22 Pathmemory Requirem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perform within 0.5 dB of optimal requires the decoder to observe received symbols in a window that is &gt; 40 8PSK symbols long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&gt; 3.6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ec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34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@ 11Msps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79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5C6F-E8C7-41D5-94E5-F0A0AB6E05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rocessing Gai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Gain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s respect to a reference, an uncoded signal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CK-11, PBCC-11 --&gt; QPS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22 --&gt; 8PSK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Process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defined as the difference between the SNR (Es/ No) required to achieve a threshold BER or PER with the reference scheme and the SNR (Es/ No) required to achieve the same threshold BER or PER when the signal is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processed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Process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f the signal includes error control coding and de-spreading of the sign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291600" indent="-2916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Repetition or Rate reduction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31440" indent="-2426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the energy gain achieved from the reduction of data rate relative to the referenc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0EEB-C489-425B-ABF7-5837B4A75F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rocessing Gain (cont.)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Cod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s measured on an Eb/ No scale rather than an Es/ No scale. This prevents the apparent increase in performance that has been gained as a tradeoff between Es/ No and rate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t is the </a:t>
            </a:r>
            <a:r>
              <a:rPr b="1" i="1" lang="en-US" sz="1800" spc="-1" strike="noStrike">
                <a:solidFill>
                  <a:srgbClr val="000000"/>
                </a:solidFill>
                <a:latin typeface="Garamond"/>
              </a:rPr>
              <a:t>excess gain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rom a repetition gai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Bandwidth expansion factor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ith ideal pulse shaping, the TI system which operates at 11 Msps, would occupy 11 MHz of bandwidth. However, the signal is spread to a bandwidth of ~20 MHz. This yields a waveform spreading gain of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~10 log( 20/ 11)= 2.6 dB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1EAAF-0E1D-4271-ACA1-A14F5827ECB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. G. Comparison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ocessing Gain = Coding Gain + Rate/Spreading Gai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+ Waveform/Spreading Gain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64" name="" descr=""/>
          <p:cNvPicPr/>
          <p:nvPr/>
        </p:nvPicPr>
        <p:blipFill>
          <a:blip r:embed="rId1"/>
          <a:stretch/>
        </p:blipFill>
        <p:spPr>
          <a:xfrm>
            <a:off x="5638680" y="4876920"/>
            <a:ext cx="2438640" cy="1481040"/>
          </a:xfrm>
          <a:prstGeom prst="rect">
            <a:avLst/>
          </a:prstGeom>
          <a:ln w="0">
            <a:noFill/>
          </a:ln>
        </p:spPr>
      </p:pic>
      <p:grpSp>
        <p:nvGrpSpPr>
          <p:cNvPr id="565" name=""/>
          <p:cNvGrpSpPr/>
          <p:nvPr/>
        </p:nvGrpSpPr>
        <p:grpSpPr>
          <a:xfrm>
            <a:off x="762120" y="1905120"/>
            <a:ext cx="7530840" cy="2006640"/>
            <a:chOff x="762120" y="1905120"/>
            <a:chExt cx="7530840" cy="2006640"/>
          </a:xfrm>
        </p:grpSpPr>
        <p:pic>
          <p:nvPicPr>
            <p:cNvPr id="566" name="" descr=""/>
            <p:cNvPicPr/>
            <p:nvPr/>
          </p:nvPicPr>
          <p:blipFill>
            <a:blip r:embed="rId2"/>
            <a:stretch/>
          </p:blipFill>
          <p:spPr>
            <a:xfrm>
              <a:off x="762120" y="1905120"/>
              <a:ext cx="7530840" cy="200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7467480" y="2514960"/>
              <a:ext cx="762120" cy="137160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3D376-4606-48A3-832C-20B62D12F5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CW Jamming Margin Test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CX101 will pass the existing test in all mod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cluding PBCC-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is test is useful for eliminating poorly designed system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hows some degree of robustnes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Other measures of robustness: (e.g., narrow band Gaussian)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PBCC-22 mode is as robust as the CCK-11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ny reasonable test that CCK-11 passes will be passed by PBCC-22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73FE4-16E6-4583-A5F9-1A02AC54C96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The ACX101 Baseband Processor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4680" rIns="94680" tIns="51480" bIns="514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F7136D-906C-4B9A-BAC2-F33668B0133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ffany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uble the Data Rate” Wireless Ethernet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95AE6D-76EC-4980-BFE1-079BD1D3767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he ACX 101 Baseband Processor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685800" y="1982880"/>
            <a:ext cx="8001000" cy="44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7E85-2033-4620-AA2F-C4219F1533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lantro/TI has built an extension to the existing IEEE 802.11b standard that is fully backward compati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solution will pass the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existing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FCC rule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spectrum is the same as the existing standar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ACX101, with PBCC-22, is as robust as existing CCK-11 product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Will deliver twice the data rate </a:t>
            </a: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n the same environmen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35480" indent="-2829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 22 Mbps achieves better performance through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ophisticated signal and FEC desig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131480" indent="-22608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dvanced digital communications signal processing algorithm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39480" indent="-33948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TI solution is the leading contender for the new IEEE 802.11g wireless Ethernet standard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5A638-4A9D-4948-AA48-29BE2F81728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2895480" y="2057400"/>
            <a:ext cx="5888520" cy="4038480"/>
            <a:chOff x="2895480" y="2057400"/>
            <a:chExt cx="5888520" cy="4038480"/>
          </a:xfrm>
        </p:grpSpPr>
        <p:sp>
          <p:nvSpPr>
            <p:cNvPr id="112" name=""/>
            <p:cNvSpPr/>
            <p:nvPr/>
          </p:nvSpPr>
          <p:spPr>
            <a:xfrm>
              <a:off x="5577480" y="5775480"/>
              <a:ext cx="262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Noise, Multipath Distortion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16200000">
              <a:off x="4064040" y="3724200"/>
              <a:ext cx="1564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Data Rate, Mbps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308560" y="2340000"/>
              <a:ext cx="308628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61348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9310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54048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8580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67480" y="2340000"/>
              <a:ext cx="180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72400" y="2340000"/>
              <a:ext cx="1440" cy="3238560"/>
            </a:xfrm>
            <a:custGeom>
              <a:avLst/>
              <a:gdLst/>
              <a:ahLst/>
              <a:rect l="l" t="t" r="r" b="b"/>
              <a:pathLst>
                <a:path w="0" h="2040">
                  <a:moveTo>
                    <a:pt x="0" y="204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394840" y="557856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308560" y="493092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394840" y="493092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308560" y="428292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94840" y="428292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308560" y="363528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94840" y="363528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308560" y="2987640"/>
              <a:ext cx="308628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94840" y="2987640"/>
              <a:ext cx="144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94840" y="2340000"/>
              <a:ext cx="144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394840" y="2340000"/>
              <a:ext cx="144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08560" y="557856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561348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61348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59310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9310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654048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54048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68580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580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7467480" y="554040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67480" y="234000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7772400" y="55404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72400" y="234000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8560" y="55785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8356680" y="55785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200200" y="55087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308560" y="49309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356680" y="493092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00200" y="48610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08560" y="428292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356680" y="428292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124240" y="4213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08560" y="36352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8356680" y="36352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124240" y="35654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08560" y="298764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8356680" y="298764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124240" y="2917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308560" y="234000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8356680" y="234000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24240" y="2270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0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308560" y="2340000"/>
              <a:ext cx="3086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08560" y="2340000"/>
              <a:ext cx="3086280" cy="3238560"/>
            </a:xfrm>
            <a:custGeom>
              <a:avLst/>
              <a:gdLst/>
              <a:ahLst/>
              <a:rect l="l" t="t" r="r" b="b"/>
              <a:pathLst>
                <a:path w="1944" h="2040">
                  <a:moveTo>
                    <a:pt x="0" y="2040"/>
                  </a:moveTo>
                  <a:lnTo>
                    <a:pt x="1944" y="2040"/>
                  </a:lnTo>
                  <a:lnTo>
                    <a:pt x="19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5308560" y="2340000"/>
              <a:ext cx="1800" cy="323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15000" y="4156200"/>
              <a:ext cx="317520" cy="142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60840" y="2733840"/>
              <a:ext cx="304920" cy="284472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629400" y="4867200"/>
              <a:ext cx="317520" cy="7113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543800" y="5324400"/>
              <a:ext cx="317520" cy="254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88200" y="4156200"/>
              <a:ext cx="304560" cy="142236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4867200"/>
              <a:ext cx="304920" cy="711360"/>
            </a:xfrm>
            <a:prstGeom prst="rect">
              <a:avLst/>
            </a:prstGeom>
            <a:solidFill>
              <a:srgbClr val="0000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315200" y="2352600"/>
              <a:ext cx="990720" cy="3812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iffany"/>
                </a:rPr>
                <a:t>Other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553080" y="2057400"/>
              <a:ext cx="1371600" cy="38088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ffany"/>
                </a:rPr>
                <a:t>T I</a:t>
              </a:r>
              <a:endParaRPr b="0" lang="en-US" sz="18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5791320" y="2733840"/>
              <a:ext cx="380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243120" y="2604960"/>
              <a:ext cx="79488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22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187400" y="4059360"/>
              <a:ext cx="79488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11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05720" y="4181400"/>
              <a:ext cx="457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948080" y="4714920"/>
              <a:ext cx="83592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5.5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620120" y="4867200"/>
              <a:ext cx="304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15040" y="5248440"/>
              <a:ext cx="708120" cy="276480"/>
            </a:xfrm>
            <a:prstGeom prst="rect">
              <a:avLst/>
            </a:prstGeom>
            <a:solidFill>
              <a:srgbClr val="6ef55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ffany"/>
                </a:rPr>
                <a:t>2 Mbps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48720" y="5324400"/>
              <a:ext cx="152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943600" y="5705640"/>
              <a:ext cx="18288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19600" y="5638680"/>
              <a:ext cx="1467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Garamond"/>
                </a:rPr>
                <a:t>IEEE 802.11b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4343400" y="5105160"/>
              <a:ext cx="1600200" cy="68580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4343400" y="5181480"/>
              <a:ext cx="220968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343400" y="5181480"/>
              <a:ext cx="251460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343400" y="5181480"/>
              <a:ext cx="3200400" cy="6098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343400" y="5409720"/>
              <a:ext cx="3429000" cy="381240"/>
            </a:xfrm>
            <a:prstGeom prst="line">
              <a:avLst/>
            </a:prstGeom>
            <a:ln w="9360">
              <a:solidFill>
                <a:srgbClr val="00809b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895480" y="5486400"/>
              <a:ext cx="1447920" cy="609480"/>
            </a:xfrm>
            <a:prstGeom prst="ellipse">
              <a:avLst/>
            </a:prstGeom>
            <a:noFill/>
            <a:ln w="28440">
              <a:solidFill>
                <a:srgbClr val="00809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TI Offers 2x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“Double the Data Rate”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dditive White Gaussian Nois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FEC has a “3db” coding gain advantag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ultipath Distor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“joint equalizer/decoder” can process much more distortion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he TI “CCK” solution takes advantage of the receiver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2E80-28DF-4C8F-9CD2-77997E758EC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Why Increase Performance?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pectrum is rare and valuabl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n order to be efficient it demands the most aggressive practical technical solu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story: as progress is made, more throughput is achieved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5992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xample: Telephone modem technology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Fixed 3 kHz channel 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itial progress: 300 -&gt; 1,200 -&gt; 2,400 -&gt; 4,800 bits/second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gress was stalled until: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 algn="just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Trellis coding, a form of FEC based on convolutional coding, was develop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 algn="just">
              <a:spcBef>
                <a:spcPts val="349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Garamond"/>
              </a:rPr>
              <a:t>Adaptive signal processing was developed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 algn="just"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spired new wave:  9,600 -&gt; 14,400 -&gt; 28,800  bits/second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2120" indent="-31212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The Alantro/TI technology provides the next wave in wireless Ethernet performance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97418-270F-473E-9988-26D9FCFFCF4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How to Increase Performance?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6553080" y="1905120"/>
            <a:ext cx="2146320" cy="1245960"/>
            <a:chOff x="6553080" y="1905120"/>
            <a:chExt cx="2146320" cy="1245960"/>
          </a:xfrm>
        </p:grpSpPr>
        <p:sp>
          <p:nvSpPr>
            <p:cNvPr id="202" name=""/>
            <p:cNvSpPr/>
            <p:nvPr/>
          </p:nvSpPr>
          <p:spPr>
            <a:xfrm>
              <a:off x="6553080" y="1905120"/>
              <a:ext cx="213372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0" y="776"/>
                  </a:lnTo>
                  <a:lnTo>
                    <a:pt x="0" y="0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0"/>
                  </a:lnTo>
                  <a:lnTo>
                    <a:pt x="1344" y="776"/>
                  </a:lnTo>
                  <a:lnTo>
                    <a:pt x="1344" y="776"/>
                  </a:lnTo>
                  <a:lnTo>
                    <a:pt x="0" y="776"/>
                  </a:lnTo>
                  <a:lnTo>
                    <a:pt x="0" y="776"/>
                  </a:lnTo>
                  <a:lnTo>
                    <a:pt x="0" y="0"/>
                  </a:lnTo>
                  <a:lnTo>
                    <a:pt x="1344" y="0"/>
                  </a:lnTo>
                  <a:lnTo>
                    <a:pt x="1344" y="776"/>
                  </a:lnTo>
                  <a:lnTo>
                    <a:pt x="0" y="776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566040" y="1917720"/>
              <a:ext cx="213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1344" y="776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6566040" y="1917720"/>
              <a:ext cx="1440" cy="12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66040" y="3149640"/>
              <a:ext cx="21333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0" y="0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66040" y="1917720"/>
              <a:ext cx="2133360" cy="1231920"/>
            </a:xfrm>
            <a:custGeom>
              <a:avLst/>
              <a:gdLst/>
              <a:ahLst/>
              <a:rect l="l" t="t" r="r" b="b"/>
              <a:pathLst>
                <a:path w="1344" h="776">
                  <a:moveTo>
                    <a:pt x="0" y="776"/>
                  </a:moveTo>
                  <a:lnTo>
                    <a:pt x="1344" y="776"/>
                  </a:lnTo>
                  <a:lnTo>
                    <a:pt x="1344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6566040" y="1917720"/>
              <a:ext cx="1440" cy="1231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88000" y="2025720"/>
              <a:ext cx="65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Shannon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692760" y="2070000"/>
              <a:ext cx="5083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440840" y="2178000"/>
              <a:ext cx="121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Shannon (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 = 11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692760" y="2222640"/>
              <a:ext cx="50832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88000" y="2330280"/>
              <a:ext cx="62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Barker 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08760" y="233676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488000" y="2495520"/>
              <a:ext cx="625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Barker 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908760" y="2540160"/>
              <a:ext cx="763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46920" y="2502000"/>
              <a:ext cx="1440" cy="759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21360" y="2514600"/>
              <a:ext cx="51120" cy="50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921360" y="2514600"/>
              <a:ext cx="51120" cy="507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542720" y="2647800"/>
              <a:ext cx="503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CCK 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908760" y="2692440"/>
              <a:ext cx="7632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946920" y="265428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921360" y="2666880"/>
              <a:ext cx="5112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921360" y="2666880"/>
              <a:ext cx="5112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32640" y="280044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PBCC 11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8760" y="2806560"/>
              <a:ext cx="88920" cy="88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532640" y="2952720"/>
              <a:ext cx="587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aramond"/>
                </a:rPr>
                <a:t>PBCC 2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08760" y="2997360"/>
              <a:ext cx="76320" cy="1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46920" y="2959200"/>
              <a:ext cx="1440" cy="759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921360" y="2971800"/>
              <a:ext cx="5112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921360" y="2971800"/>
              <a:ext cx="5112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06320" y="1755720"/>
            <a:ext cx="5456520" cy="4722120"/>
            <a:chOff x="706320" y="1755720"/>
            <a:chExt cx="5456520" cy="4722120"/>
          </a:xfrm>
        </p:grpSpPr>
        <p:sp>
          <p:nvSpPr>
            <p:cNvPr id="234" name=""/>
            <p:cNvSpPr/>
            <p:nvPr/>
          </p:nvSpPr>
          <p:spPr>
            <a:xfrm>
              <a:off x="1054080" y="1927440"/>
              <a:ext cx="3949560" cy="3403440"/>
            </a:xfrm>
            <a:custGeom>
              <a:avLst/>
              <a:gdLst/>
              <a:ahLst/>
              <a:rect l="l" t="t" r="r" b="b"/>
              <a:pathLst>
                <a:path w="2488" h="2144">
                  <a:moveTo>
                    <a:pt x="0" y="2144"/>
                  </a:moveTo>
                  <a:lnTo>
                    <a:pt x="0" y="2144"/>
                  </a:lnTo>
                  <a:lnTo>
                    <a:pt x="0" y="0"/>
                  </a:lnTo>
                  <a:lnTo>
                    <a:pt x="0" y="0"/>
                  </a:lnTo>
                  <a:lnTo>
                    <a:pt x="2488" y="0"/>
                  </a:lnTo>
                  <a:lnTo>
                    <a:pt x="2488" y="0"/>
                  </a:lnTo>
                  <a:lnTo>
                    <a:pt x="2488" y="2144"/>
                  </a:lnTo>
                  <a:lnTo>
                    <a:pt x="2488" y="2144"/>
                  </a:lnTo>
                  <a:lnTo>
                    <a:pt x="0" y="2144"/>
                  </a:lnTo>
                  <a:lnTo>
                    <a:pt x="0" y="2144"/>
                  </a:lnTo>
                  <a:lnTo>
                    <a:pt x="0" y="0"/>
                  </a:lnTo>
                  <a:lnTo>
                    <a:pt x="2488" y="0"/>
                  </a:lnTo>
                  <a:lnTo>
                    <a:pt x="2488" y="2144"/>
                  </a:lnTo>
                  <a:lnTo>
                    <a:pt x="0" y="2144"/>
                  </a:lnTo>
                  <a:close/>
                </a:path>
              </a:pathLst>
            </a:custGeom>
            <a:noFill/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05408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1468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37492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35160" y="1927440"/>
              <a:ext cx="180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316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43400" y="1927440"/>
              <a:ext cx="144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03640" y="1927440"/>
              <a:ext cx="1800" cy="3403440"/>
            </a:xfrm>
            <a:custGeom>
              <a:avLst/>
              <a:gdLst/>
              <a:ahLst/>
              <a:rect l="l" t="t" r="r" b="b"/>
              <a:pathLst>
                <a:path w="0" h="2144">
                  <a:moveTo>
                    <a:pt x="0" y="2144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003640" y="533088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054080" y="475920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003640" y="475920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054080" y="420048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003640" y="420048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054080" y="362916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003640" y="362916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054080" y="3057480"/>
              <a:ext cx="394956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003640" y="3057480"/>
              <a:ext cx="1800" cy="180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54080" y="249876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003640" y="249876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03640" y="1927440"/>
              <a:ext cx="1800" cy="1440"/>
            </a:xfrm>
            <a:prstGeom prst="line">
              <a:avLst/>
            </a:prstGeom>
            <a:ln cap="rnd"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054080" y="1927440"/>
              <a:ext cx="3949560" cy="3403440"/>
            </a:xfrm>
            <a:custGeom>
              <a:avLst/>
              <a:gdLst/>
              <a:ahLst/>
              <a:rect l="l" t="t" r="r" b="b"/>
              <a:pathLst>
                <a:path w="2488" h="2144">
                  <a:moveTo>
                    <a:pt x="0" y="2144"/>
                  </a:moveTo>
                  <a:lnTo>
                    <a:pt x="2488" y="2144"/>
                  </a:lnTo>
                  <a:lnTo>
                    <a:pt x="2488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105408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05408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996120" y="5388120"/>
              <a:ext cx="136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171468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1468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68192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237492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492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4216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035160" y="529272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035160" y="192744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00276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8316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68316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040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4343400" y="5292720"/>
              <a:ext cx="144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343400" y="1927440"/>
              <a:ext cx="144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11000" y="53881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5003640" y="5292720"/>
              <a:ext cx="180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003640" y="1927440"/>
              <a:ext cx="1800" cy="37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932360" y="5388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54080" y="533088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4965480" y="533088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45360" y="527364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054080" y="475920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4965480" y="475920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945360" y="47023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54080" y="42004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4965480" y="420048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8680" y="4143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54080" y="36291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4965480" y="36291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68680" y="35719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54080" y="3057480"/>
              <a:ext cx="3816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965480" y="3057480"/>
              <a:ext cx="3780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68680" y="30002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54080" y="249876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4965480" y="249876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8680" y="24415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054080" y="1927440"/>
              <a:ext cx="381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4965480" y="1927440"/>
              <a:ext cx="3780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68680" y="18702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054080" y="192744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054080" y="5330880"/>
              <a:ext cx="3949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1054080" y="1927440"/>
              <a:ext cx="144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5003640" y="1927440"/>
              <a:ext cx="1800" cy="3403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54080" y="1889280"/>
              <a:ext cx="3162240" cy="2565360"/>
            </a:xfrm>
            <a:custGeom>
              <a:avLst/>
              <a:gdLst/>
              <a:ahLst/>
              <a:rect l="l" t="t" r="r" b="b"/>
              <a:pathLst>
                <a:path w="1992" h="1616">
                  <a:moveTo>
                    <a:pt x="0" y="1616"/>
                  </a:moveTo>
                  <a:lnTo>
                    <a:pt x="0" y="1616"/>
                  </a:lnTo>
                  <a:lnTo>
                    <a:pt x="24" y="1600"/>
                  </a:lnTo>
                  <a:lnTo>
                    <a:pt x="24" y="1600"/>
                  </a:lnTo>
                  <a:lnTo>
                    <a:pt x="40" y="1592"/>
                  </a:lnTo>
                  <a:lnTo>
                    <a:pt x="40" y="1592"/>
                  </a:lnTo>
                  <a:lnTo>
                    <a:pt x="64" y="1584"/>
                  </a:lnTo>
                  <a:lnTo>
                    <a:pt x="64" y="1584"/>
                  </a:lnTo>
                  <a:lnTo>
                    <a:pt x="80" y="1568"/>
                  </a:lnTo>
                  <a:lnTo>
                    <a:pt x="80" y="1568"/>
                  </a:lnTo>
                  <a:lnTo>
                    <a:pt x="104" y="1560"/>
                  </a:lnTo>
                  <a:lnTo>
                    <a:pt x="104" y="1560"/>
                  </a:lnTo>
                  <a:lnTo>
                    <a:pt x="128" y="1552"/>
                  </a:lnTo>
                  <a:lnTo>
                    <a:pt x="128" y="1552"/>
                  </a:lnTo>
                  <a:lnTo>
                    <a:pt x="144" y="1536"/>
                  </a:lnTo>
                  <a:lnTo>
                    <a:pt x="144" y="1536"/>
                  </a:lnTo>
                  <a:lnTo>
                    <a:pt x="168" y="1528"/>
                  </a:lnTo>
                  <a:lnTo>
                    <a:pt x="168" y="1528"/>
                  </a:lnTo>
                  <a:lnTo>
                    <a:pt x="184" y="1520"/>
                  </a:lnTo>
                  <a:lnTo>
                    <a:pt x="184" y="1520"/>
                  </a:lnTo>
                  <a:lnTo>
                    <a:pt x="208" y="1504"/>
                  </a:lnTo>
                  <a:lnTo>
                    <a:pt x="208" y="1504"/>
                  </a:lnTo>
                  <a:lnTo>
                    <a:pt x="232" y="1496"/>
                  </a:lnTo>
                  <a:lnTo>
                    <a:pt x="232" y="1496"/>
                  </a:lnTo>
                  <a:lnTo>
                    <a:pt x="248" y="1480"/>
                  </a:lnTo>
                  <a:lnTo>
                    <a:pt x="248" y="1480"/>
                  </a:lnTo>
                  <a:lnTo>
                    <a:pt x="272" y="1472"/>
                  </a:lnTo>
                  <a:lnTo>
                    <a:pt x="272" y="1472"/>
                  </a:lnTo>
                  <a:lnTo>
                    <a:pt x="288" y="1456"/>
                  </a:lnTo>
                  <a:lnTo>
                    <a:pt x="288" y="1456"/>
                  </a:lnTo>
                  <a:lnTo>
                    <a:pt x="312" y="1448"/>
                  </a:lnTo>
                  <a:lnTo>
                    <a:pt x="312" y="1448"/>
                  </a:lnTo>
                  <a:lnTo>
                    <a:pt x="328" y="1432"/>
                  </a:lnTo>
                  <a:lnTo>
                    <a:pt x="328" y="1432"/>
                  </a:lnTo>
                  <a:lnTo>
                    <a:pt x="352" y="1424"/>
                  </a:lnTo>
                  <a:lnTo>
                    <a:pt x="352" y="1424"/>
                  </a:lnTo>
                  <a:lnTo>
                    <a:pt x="376" y="1408"/>
                  </a:lnTo>
                  <a:lnTo>
                    <a:pt x="376" y="1408"/>
                  </a:lnTo>
                  <a:lnTo>
                    <a:pt x="392" y="1392"/>
                  </a:lnTo>
                  <a:lnTo>
                    <a:pt x="392" y="1392"/>
                  </a:lnTo>
                  <a:lnTo>
                    <a:pt x="416" y="1384"/>
                  </a:lnTo>
                  <a:lnTo>
                    <a:pt x="416" y="1384"/>
                  </a:lnTo>
                  <a:lnTo>
                    <a:pt x="432" y="1368"/>
                  </a:lnTo>
                  <a:lnTo>
                    <a:pt x="432" y="1368"/>
                  </a:lnTo>
                  <a:lnTo>
                    <a:pt x="456" y="1352"/>
                  </a:lnTo>
                  <a:lnTo>
                    <a:pt x="456" y="1352"/>
                  </a:lnTo>
                  <a:lnTo>
                    <a:pt x="480" y="1344"/>
                  </a:lnTo>
                  <a:lnTo>
                    <a:pt x="480" y="1344"/>
                  </a:lnTo>
                  <a:lnTo>
                    <a:pt x="496" y="1328"/>
                  </a:lnTo>
                  <a:lnTo>
                    <a:pt x="496" y="1328"/>
                  </a:lnTo>
                  <a:lnTo>
                    <a:pt x="520" y="1312"/>
                  </a:lnTo>
                  <a:lnTo>
                    <a:pt x="520" y="1312"/>
                  </a:lnTo>
                  <a:lnTo>
                    <a:pt x="536" y="1304"/>
                  </a:lnTo>
                  <a:lnTo>
                    <a:pt x="536" y="1304"/>
                  </a:lnTo>
                  <a:lnTo>
                    <a:pt x="560" y="1288"/>
                  </a:lnTo>
                  <a:lnTo>
                    <a:pt x="560" y="1288"/>
                  </a:lnTo>
                  <a:lnTo>
                    <a:pt x="584" y="1272"/>
                  </a:lnTo>
                  <a:lnTo>
                    <a:pt x="584" y="1272"/>
                  </a:lnTo>
                  <a:lnTo>
                    <a:pt x="600" y="1256"/>
                  </a:lnTo>
                  <a:lnTo>
                    <a:pt x="600" y="1256"/>
                  </a:lnTo>
                  <a:lnTo>
                    <a:pt x="624" y="1240"/>
                  </a:lnTo>
                  <a:lnTo>
                    <a:pt x="624" y="1240"/>
                  </a:lnTo>
                  <a:lnTo>
                    <a:pt x="640" y="1232"/>
                  </a:lnTo>
                  <a:lnTo>
                    <a:pt x="640" y="1232"/>
                  </a:lnTo>
                  <a:lnTo>
                    <a:pt x="664" y="1216"/>
                  </a:lnTo>
                  <a:lnTo>
                    <a:pt x="664" y="1216"/>
                  </a:lnTo>
                  <a:lnTo>
                    <a:pt x="688" y="1200"/>
                  </a:lnTo>
                  <a:lnTo>
                    <a:pt x="688" y="1200"/>
                  </a:lnTo>
                  <a:lnTo>
                    <a:pt x="704" y="1184"/>
                  </a:lnTo>
                  <a:lnTo>
                    <a:pt x="704" y="1184"/>
                  </a:lnTo>
                  <a:lnTo>
                    <a:pt x="728" y="1168"/>
                  </a:lnTo>
                  <a:lnTo>
                    <a:pt x="728" y="1168"/>
                  </a:lnTo>
                  <a:lnTo>
                    <a:pt x="744" y="1152"/>
                  </a:lnTo>
                  <a:lnTo>
                    <a:pt x="744" y="1152"/>
                  </a:lnTo>
                  <a:lnTo>
                    <a:pt x="768" y="1136"/>
                  </a:lnTo>
                  <a:lnTo>
                    <a:pt x="768" y="1136"/>
                  </a:lnTo>
                  <a:lnTo>
                    <a:pt x="784" y="1120"/>
                  </a:lnTo>
                  <a:lnTo>
                    <a:pt x="784" y="1120"/>
                  </a:lnTo>
                  <a:lnTo>
                    <a:pt x="808" y="1104"/>
                  </a:lnTo>
                  <a:lnTo>
                    <a:pt x="808" y="1104"/>
                  </a:lnTo>
                  <a:lnTo>
                    <a:pt x="832" y="1088"/>
                  </a:lnTo>
                  <a:lnTo>
                    <a:pt x="832" y="1088"/>
                  </a:lnTo>
                  <a:lnTo>
                    <a:pt x="848" y="1072"/>
                  </a:lnTo>
                  <a:lnTo>
                    <a:pt x="848" y="1072"/>
                  </a:lnTo>
                  <a:lnTo>
                    <a:pt x="872" y="1056"/>
                  </a:lnTo>
                  <a:lnTo>
                    <a:pt x="872" y="1056"/>
                  </a:lnTo>
                  <a:lnTo>
                    <a:pt x="888" y="1040"/>
                  </a:lnTo>
                  <a:lnTo>
                    <a:pt x="888" y="1040"/>
                  </a:lnTo>
                  <a:lnTo>
                    <a:pt x="912" y="1024"/>
                  </a:lnTo>
                  <a:lnTo>
                    <a:pt x="912" y="1024"/>
                  </a:lnTo>
                  <a:lnTo>
                    <a:pt x="936" y="1008"/>
                  </a:lnTo>
                  <a:lnTo>
                    <a:pt x="936" y="1008"/>
                  </a:lnTo>
                  <a:lnTo>
                    <a:pt x="952" y="992"/>
                  </a:lnTo>
                  <a:lnTo>
                    <a:pt x="952" y="992"/>
                  </a:lnTo>
                  <a:lnTo>
                    <a:pt x="976" y="976"/>
                  </a:lnTo>
                  <a:lnTo>
                    <a:pt x="976" y="976"/>
                  </a:lnTo>
                  <a:lnTo>
                    <a:pt x="992" y="960"/>
                  </a:lnTo>
                  <a:lnTo>
                    <a:pt x="992" y="960"/>
                  </a:lnTo>
                  <a:lnTo>
                    <a:pt x="1016" y="944"/>
                  </a:lnTo>
                  <a:lnTo>
                    <a:pt x="1016" y="944"/>
                  </a:lnTo>
                  <a:lnTo>
                    <a:pt x="1040" y="920"/>
                  </a:lnTo>
                  <a:lnTo>
                    <a:pt x="1040" y="920"/>
                  </a:lnTo>
                  <a:lnTo>
                    <a:pt x="1056" y="904"/>
                  </a:lnTo>
                  <a:lnTo>
                    <a:pt x="1056" y="904"/>
                  </a:lnTo>
                  <a:lnTo>
                    <a:pt x="1080" y="888"/>
                  </a:lnTo>
                  <a:lnTo>
                    <a:pt x="1080" y="888"/>
                  </a:lnTo>
                  <a:lnTo>
                    <a:pt x="1096" y="872"/>
                  </a:lnTo>
                  <a:lnTo>
                    <a:pt x="1096" y="872"/>
                  </a:lnTo>
                  <a:lnTo>
                    <a:pt x="1120" y="856"/>
                  </a:lnTo>
                  <a:lnTo>
                    <a:pt x="1120" y="856"/>
                  </a:lnTo>
                  <a:lnTo>
                    <a:pt x="1144" y="832"/>
                  </a:lnTo>
                  <a:lnTo>
                    <a:pt x="1144" y="832"/>
                  </a:lnTo>
                  <a:lnTo>
                    <a:pt x="1160" y="816"/>
                  </a:lnTo>
                  <a:lnTo>
                    <a:pt x="1160" y="816"/>
                  </a:lnTo>
                  <a:lnTo>
                    <a:pt x="1184" y="800"/>
                  </a:lnTo>
                  <a:lnTo>
                    <a:pt x="1184" y="800"/>
                  </a:lnTo>
                  <a:lnTo>
                    <a:pt x="1200" y="784"/>
                  </a:lnTo>
                  <a:lnTo>
                    <a:pt x="1200" y="784"/>
                  </a:lnTo>
                  <a:lnTo>
                    <a:pt x="1224" y="760"/>
                  </a:lnTo>
                  <a:lnTo>
                    <a:pt x="1224" y="760"/>
                  </a:lnTo>
                  <a:lnTo>
                    <a:pt x="1248" y="744"/>
                  </a:lnTo>
                  <a:lnTo>
                    <a:pt x="1248" y="744"/>
                  </a:lnTo>
                  <a:lnTo>
                    <a:pt x="1264" y="728"/>
                  </a:lnTo>
                  <a:lnTo>
                    <a:pt x="1264" y="728"/>
                  </a:lnTo>
                  <a:lnTo>
                    <a:pt x="1288" y="704"/>
                  </a:lnTo>
                  <a:lnTo>
                    <a:pt x="1288" y="704"/>
                  </a:lnTo>
                  <a:lnTo>
                    <a:pt x="1304" y="688"/>
                  </a:lnTo>
                  <a:lnTo>
                    <a:pt x="1304" y="688"/>
                  </a:lnTo>
                  <a:lnTo>
                    <a:pt x="1328" y="664"/>
                  </a:lnTo>
                  <a:lnTo>
                    <a:pt x="1328" y="664"/>
                  </a:lnTo>
                  <a:lnTo>
                    <a:pt x="1344" y="648"/>
                  </a:lnTo>
                  <a:lnTo>
                    <a:pt x="1344" y="648"/>
                  </a:lnTo>
                  <a:lnTo>
                    <a:pt x="1368" y="632"/>
                  </a:lnTo>
                  <a:lnTo>
                    <a:pt x="1368" y="632"/>
                  </a:lnTo>
                  <a:lnTo>
                    <a:pt x="1392" y="608"/>
                  </a:lnTo>
                  <a:lnTo>
                    <a:pt x="1392" y="608"/>
                  </a:lnTo>
                  <a:lnTo>
                    <a:pt x="1408" y="592"/>
                  </a:lnTo>
                  <a:lnTo>
                    <a:pt x="1408" y="592"/>
                  </a:lnTo>
                  <a:lnTo>
                    <a:pt x="1432" y="568"/>
                  </a:lnTo>
                  <a:lnTo>
                    <a:pt x="1432" y="568"/>
                  </a:lnTo>
                  <a:lnTo>
                    <a:pt x="1448" y="552"/>
                  </a:lnTo>
                  <a:lnTo>
                    <a:pt x="1448" y="552"/>
                  </a:lnTo>
                  <a:lnTo>
                    <a:pt x="1472" y="528"/>
                  </a:lnTo>
                  <a:lnTo>
                    <a:pt x="1472" y="528"/>
                  </a:lnTo>
                  <a:lnTo>
                    <a:pt x="1496" y="512"/>
                  </a:lnTo>
                  <a:lnTo>
                    <a:pt x="1496" y="512"/>
                  </a:lnTo>
                  <a:lnTo>
                    <a:pt x="1512" y="488"/>
                  </a:lnTo>
                  <a:lnTo>
                    <a:pt x="1512" y="488"/>
                  </a:lnTo>
                  <a:lnTo>
                    <a:pt x="1536" y="472"/>
                  </a:lnTo>
                  <a:lnTo>
                    <a:pt x="1536" y="472"/>
                  </a:lnTo>
                  <a:lnTo>
                    <a:pt x="1552" y="448"/>
                  </a:lnTo>
                  <a:lnTo>
                    <a:pt x="1552" y="448"/>
                  </a:lnTo>
                  <a:lnTo>
                    <a:pt x="1576" y="432"/>
                  </a:lnTo>
                  <a:lnTo>
                    <a:pt x="1576" y="432"/>
                  </a:lnTo>
                  <a:lnTo>
                    <a:pt x="1600" y="408"/>
                  </a:lnTo>
                  <a:lnTo>
                    <a:pt x="1600" y="408"/>
                  </a:lnTo>
                  <a:lnTo>
                    <a:pt x="1616" y="392"/>
                  </a:lnTo>
                  <a:lnTo>
                    <a:pt x="1616" y="392"/>
                  </a:lnTo>
                  <a:lnTo>
                    <a:pt x="1640" y="368"/>
                  </a:lnTo>
                  <a:lnTo>
                    <a:pt x="1640" y="368"/>
                  </a:lnTo>
                  <a:lnTo>
                    <a:pt x="1656" y="344"/>
                  </a:lnTo>
                  <a:lnTo>
                    <a:pt x="1656" y="344"/>
                  </a:lnTo>
                  <a:lnTo>
                    <a:pt x="1680" y="328"/>
                  </a:lnTo>
                  <a:lnTo>
                    <a:pt x="1680" y="328"/>
                  </a:lnTo>
                  <a:lnTo>
                    <a:pt x="1704" y="304"/>
                  </a:lnTo>
                  <a:lnTo>
                    <a:pt x="1704" y="304"/>
                  </a:lnTo>
                  <a:lnTo>
                    <a:pt x="1720" y="280"/>
                  </a:lnTo>
                  <a:lnTo>
                    <a:pt x="1720" y="280"/>
                  </a:lnTo>
                  <a:lnTo>
                    <a:pt x="1744" y="264"/>
                  </a:lnTo>
                  <a:lnTo>
                    <a:pt x="1744" y="264"/>
                  </a:lnTo>
                  <a:lnTo>
                    <a:pt x="1760" y="240"/>
                  </a:lnTo>
                  <a:lnTo>
                    <a:pt x="1760" y="240"/>
                  </a:lnTo>
                  <a:lnTo>
                    <a:pt x="1784" y="224"/>
                  </a:lnTo>
                  <a:lnTo>
                    <a:pt x="1784" y="224"/>
                  </a:lnTo>
                  <a:lnTo>
                    <a:pt x="1800" y="200"/>
                  </a:lnTo>
                  <a:lnTo>
                    <a:pt x="1800" y="200"/>
                  </a:lnTo>
                  <a:lnTo>
                    <a:pt x="1824" y="176"/>
                  </a:lnTo>
                  <a:lnTo>
                    <a:pt x="1824" y="176"/>
                  </a:lnTo>
                  <a:lnTo>
                    <a:pt x="1848" y="152"/>
                  </a:lnTo>
                  <a:lnTo>
                    <a:pt x="1848" y="152"/>
                  </a:lnTo>
                  <a:lnTo>
                    <a:pt x="1864" y="136"/>
                  </a:lnTo>
                  <a:lnTo>
                    <a:pt x="1864" y="136"/>
                  </a:lnTo>
                  <a:lnTo>
                    <a:pt x="1888" y="112"/>
                  </a:lnTo>
                  <a:lnTo>
                    <a:pt x="1888" y="112"/>
                  </a:lnTo>
                  <a:lnTo>
                    <a:pt x="1904" y="88"/>
                  </a:lnTo>
                  <a:lnTo>
                    <a:pt x="1904" y="88"/>
                  </a:lnTo>
                  <a:lnTo>
                    <a:pt x="1928" y="64"/>
                  </a:lnTo>
                  <a:lnTo>
                    <a:pt x="1928" y="64"/>
                  </a:lnTo>
                  <a:lnTo>
                    <a:pt x="1952" y="48"/>
                  </a:lnTo>
                  <a:lnTo>
                    <a:pt x="1952" y="48"/>
                  </a:lnTo>
                  <a:lnTo>
                    <a:pt x="1968" y="24"/>
                  </a:lnTo>
                  <a:lnTo>
                    <a:pt x="1968" y="24"/>
                  </a:lnTo>
                  <a:lnTo>
                    <a:pt x="1992" y="0"/>
                  </a:lnTo>
                  <a:lnTo>
                    <a:pt x="19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054080" y="1889280"/>
              <a:ext cx="3162240" cy="2565360"/>
            </a:xfrm>
            <a:custGeom>
              <a:avLst/>
              <a:gdLst/>
              <a:ahLst/>
              <a:rect l="l" t="t" r="r" b="b"/>
              <a:pathLst>
                <a:path w="1992" h="1616">
                  <a:moveTo>
                    <a:pt x="0" y="1616"/>
                  </a:moveTo>
                  <a:lnTo>
                    <a:pt x="24" y="1600"/>
                  </a:lnTo>
                  <a:lnTo>
                    <a:pt x="40" y="1592"/>
                  </a:lnTo>
                  <a:lnTo>
                    <a:pt x="64" y="1584"/>
                  </a:lnTo>
                  <a:lnTo>
                    <a:pt x="80" y="1568"/>
                  </a:lnTo>
                  <a:lnTo>
                    <a:pt x="104" y="1560"/>
                  </a:lnTo>
                  <a:lnTo>
                    <a:pt x="128" y="1552"/>
                  </a:lnTo>
                  <a:lnTo>
                    <a:pt x="144" y="1536"/>
                  </a:lnTo>
                  <a:lnTo>
                    <a:pt x="168" y="1528"/>
                  </a:lnTo>
                  <a:lnTo>
                    <a:pt x="184" y="1520"/>
                  </a:lnTo>
                  <a:lnTo>
                    <a:pt x="208" y="1504"/>
                  </a:lnTo>
                  <a:lnTo>
                    <a:pt x="232" y="1496"/>
                  </a:lnTo>
                  <a:lnTo>
                    <a:pt x="248" y="1480"/>
                  </a:lnTo>
                  <a:lnTo>
                    <a:pt x="272" y="1472"/>
                  </a:lnTo>
                  <a:lnTo>
                    <a:pt x="288" y="1456"/>
                  </a:lnTo>
                  <a:lnTo>
                    <a:pt x="312" y="1448"/>
                  </a:lnTo>
                  <a:lnTo>
                    <a:pt x="328" y="1432"/>
                  </a:lnTo>
                  <a:lnTo>
                    <a:pt x="352" y="1424"/>
                  </a:lnTo>
                  <a:lnTo>
                    <a:pt x="376" y="1408"/>
                  </a:lnTo>
                  <a:lnTo>
                    <a:pt x="392" y="1392"/>
                  </a:lnTo>
                  <a:lnTo>
                    <a:pt x="416" y="1384"/>
                  </a:lnTo>
                  <a:lnTo>
                    <a:pt x="432" y="1368"/>
                  </a:lnTo>
                  <a:lnTo>
                    <a:pt x="456" y="1352"/>
                  </a:lnTo>
                  <a:lnTo>
                    <a:pt x="480" y="1344"/>
                  </a:lnTo>
                  <a:lnTo>
                    <a:pt x="496" y="1328"/>
                  </a:lnTo>
                  <a:lnTo>
                    <a:pt x="520" y="1312"/>
                  </a:lnTo>
                  <a:lnTo>
                    <a:pt x="536" y="1304"/>
                  </a:lnTo>
                  <a:lnTo>
                    <a:pt x="560" y="1288"/>
                  </a:lnTo>
                  <a:lnTo>
                    <a:pt x="584" y="1272"/>
                  </a:lnTo>
                  <a:lnTo>
                    <a:pt x="600" y="1256"/>
                  </a:lnTo>
                  <a:lnTo>
                    <a:pt x="624" y="1240"/>
                  </a:lnTo>
                  <a:lnTo>
                    <a:pt x="640" y="1232"/>
                  </a:lnTo>
                  <a:lnTo>
                    <a:pt x="664" y="1216"/>
                  </a:lnTo>
                  <a:lnTo>
                    <a:pt x="688" y="1200"/>
                  </a:lnTo>
                  <a:lnTo>
                    <a:pt x="704" y="1184"/>
                  </a:lnTo>
                  <a:lnTo>
                    <a:pt x="728" y="1168"/>
                  </a:lnTo>
                  <a:lnTo>
                    <a:pt x="744" y="1152"/>
                  </a:lnTo>
                  <a:lnTo>
                    <a:pt x="768" y="1136"/>
                  </a:lnTo>
                  <a:lnTo>
                    <a:pt x="784" y="1120"/>
                  </a:lnTo>
                  <a:lnTo>
                    <a:pt x="808" y="1104"/>
                  </a:lnTo>
                  <a:lnTo>
                    <a:pt x="832" y="1088"/>
                  </a:lnTo>
                  <a:lnTo>
                    <a:pt x="848" y="1072"/>
                  </a:lnTo>
                  <a:lnTo>
                    <a:pt x="872" y="1056"/>
                  </a:lnTo>
                  <a:lnTo>
                    <a:pt x="888" y="1040"/>
                  </a:lnTo>
                  <a:lnTo>
                    <a:pt x="912" y="1024"/>
                  </a:lnTo>
                  <a:lnTo>
                    <a:pt x="936" y="1008"/>
                  </a:lnTo>
                  <a:lnTo>
                    <a:pt x="952" y="992"/>
                  </a:lnTo>
                  <a:lnTo>
                    <a:pt x="976" y="976"/>
                  </a:lnTo>
                  <a:lnTo>
                    <a:pt x="992" y="960"/>
                  </a:lnTo>
                  <a:lnTo>
                    <a:pt x="1016" y="944"/>
                  </a:lnTo>
                  <a:lnTo>
                    <a:pt x="1040" y="920"/>
                  </a:lnTo>
                  <a:lnTo>
                    <a:pt x="1056" y="904"/>
                  </a:lnTo>
                  <a:lnTo>
                    <a:pt x="1080" y="888"/>
                  </a:lnTo>
                  <a:lnTo>
                    <a:pt x="1096" y="872"/>
                  </a:lnTo>
                  <a:lnTo>
                    <a:pt x="1120" y="856"/>
                  </a:lnTo>
                  <a:lnTo>
                    <a:pt x="1144" y="832"/>
                  </a:lnTo>
                  <a:lnTo>
                    <a:pt x="1160" y="816"/>
                  </a:lnTo>
                  <a:lnTo>
                    <a:pt x="1184" y="800"/>
                  </a:lnTo>
                  <a:lnTo>
                    <a:pt x="1200" y="784"/>
                  </a:lnTo>
                  <a:lnTo>
                    <a:pt x="1224" y="760"/>
                  </a:lnTo>
                  <a:lnTo>
                    <a:pt x="1248" y="744"/>
                  </a:lnTo>
                  <a:lnTo>
                    <a:pt x="1264" y="728"/>
                  </a:lnTo>
                  <a:lnTo>
                    <a:pt x="1288" y="704"/>
                  </a:lnTo>
                  <a:lnTo>
                    <a:pt x="1304" y="688"/>
                  </a:lnTo>
                  <a:lnTo>
                    <a:pt x="1328" y="664"/>
                  </a:lnTo>
                  <a:lnTo>
                    <a:pt x="1344" y="648"/>
                  </a:lnTo>
                  <a:lnTo>
                    <a:pt x="1368" y="632"/>
                  </a:lnTo>
                  <a:lnTo>
                    <a:pt x="1392" y="608"/>
                  </a:lnTo>
                  <a:lnTo>
                    <a:pt x="1408" y="592"/>
                  </a:lnTo>
                  <a:lnTo>
                    <a:pt x="1432" y="568"/>
                  </a:lnTo>
                  <a:lnTo>
                    <a:pt x="1448" y="552"/>
                  </a:lnTo>
                  <a:lnTo>
                    <a:pt x="1472" y="528"/>
                  </a:lnTo>
                  <a:lnTo>
                    <a:pt x="1496" y="512"/>
                  </a:lnTo>
                  <a:lnTo>
                    <a:pt x="1512" y="488"/>
                  </a:lnTo>
                  <a:lnTo>
                    <a:pt x="1536" y="472"/>
                  </a:lnTo>
                  <a:lnTo>
                    <a:pt x="1552" y="448"/>
                  </a:lnTo>
                  <a:lnTo>
                    <a:pt x="1576" y="432"/>
                  </a:lnTo>
                  <a:lnTo>
                    <a:pt x="1600" y="408"/>
                  </a:lnTo>
                  <a:lnTo>
                    <a:pt x="1616" y="392"/>
                  </a:lnTo>
                  <a:lnTo>
                    <a:pt x="1640" y="368"/>
                  </a:lnTo>
                  <a:lnTo>
                    <a:pt x="1656" y="344"/>
                  </a:lnTo>
                  <a:lnTo>
                    <a:pt x="1680" y="328"/>
                  </a:lnTo>
                  <a:lnTo>
                    <a:pt x="1704" y="304"/>
                  </a:lnTo>
                  <a:lnTo>
                    <a:pt x="1720" y="280"/>
                  </a:lnTo>
                  <a:lnTo>
                    <a:pt x="1744" y="264"/>
                  </a:lnTo>
                  <a:lnTo>
                    <a:pt x="1760" y="240"/>
                  </a:lnTo>
                  <a:lnTo>
                    <a:pt x="1784" y="224"/>
                  </a:lnTo>
                  <a:lnTo>
                    <a:pt x="1800" y="200"/>
                  </a:lnTo>
                  <a:lnTo>
                    <a:pt x="1824" y="176"/>
                  </a:lnTo>
                  <a:lnTo>
                    <a:pt x="1848" y="152"/>
                  </a:lnTo>
                  <a:lnTo>
                    <a:pt x="1864" y="136"/>
                  </a:lnTo>
                  <a:lnTo>
                    <a:pt x="1888" y="112"/>
                  </a:lnTo>
                  <a:lnTo>
                    <a:pt x="1904" y="88"/>
                  </a:lnTo>
                  <a:lnTo>
                    <a:pt x="1928" y="64"/>
                  </a:lnTo>
                  <a:lnTo>
                    <a:pt x="1952" y="48"/>
                  </a:lnTo>
                  <a:lnTo>
                    <a:pt x="1968" y="24"/>
                  </a:lnTo>
                  <a:lnTo>
                    <a:pt x="1992" y="0"/>
                  </a:lnTo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054080" y="4556160"/>
              <a:ext cx="3949560" cy="431640"/>
            </a:xfrm>
            <a:custGeom>
              <a:avLst/>
              <a:gdLst/>
              <a:ahLst/>
              <a:rect l="l" t="t" r="r" b="b"/>
              <a:pathLst>
                <a:path w="2488" h="272">
                  <a:moveTo>
                    <a:pt x="0" y="272"/>
                  </a:moveTo>
                  <a:lnTo>
                    <a:pt x="24" y="272"/>
                  </a:lnTo>
                  <a:lnTo>
                    <a:pt x="40" y="272"/>
                  </a:lnTo>
                  <a:lnTo>
                    <a:pt x="64" y="272"/>
                  </a:lnTo>
                  <a:lnTo>
                    <a:pt x="80" y="264"/>
                  </a:lnTo>
                  <a:lnTo>
                    <a:pt x="104" y="264"/>
                  </a:lnTo>
                  <a:lnTo>
                    <a:pt x="128" y="264"/>
                  </a:lnTo>
                  <a:lnTo>
                    <a:pt x="144" y="256"/>
                  </a:lnTo>
                  <a:lnTo>
                    <a:pt x="168" y="256"/>
                  </a:lnTo>
                  <a:lnTo>
                    <a:pt x="184" y="256"/>
                  </a:lnTo>
                  <a:lnTo>
                    <a:pt x="208" y="256"/>
                  </a:lnTo>
                  <a:lnTo>
                    <a:pt x="232" y="248"/>
                  </a:lnTo>
                  <a:lnTo>
                    <a:pt x="248" y="248"/>
                  </a:lnTo>
                  <a:lnTo>
                    <a:pt x="272" y="248"/>
                  </a:lnTo>
                  <a:lnTo>
                    <a:pt x="288" y="248"/>
                  </a:lnTo>
                  <a:lnTo>
                    <a:pt x="312" y="240"/>
                  </a:lnTo>
                  <a:lnTo>
                    <a:pt x="328" y="240"/>
                  </a:lnTo>
                  <a:lnTo>
                    <a:pt x="352" y="240"/>
                  </a:lnTo>
                  <a:lnTo>
                    <a:pt x="376" y="240"/>
                  </a:lnTo>
                  <a:lnTo>
                    <a:pt x="392" y="232"/>
                  </a:lnTo>
                  <a:lnTo>
                    <a:pt x="416" y="232"/>
                  </a:lnTo>
                  <a:lnTo>
                    <a:pt x="432" y="232"/>
                  </a:lnTo>
                  <a:lnTo>
                    <a:pt x="456" y="224"/>
                  </a:lnTo>
                  <a:lnTo>
                    <a:pt x="480" y="224"/>
                  </a:lnTo>
                  <a:lnTo>
                    <a:pt x="496" y="224"/>
                  </a:lnTo>
                  <a:lnTo>
                    <a:pt x="520" y="224"/>
                  </a:lnTo>
                  <a:lnTo>
                    <a:pt x="536" y="216"/>
                  </a:lnTo>
                  <a:lnTo>
                    <a:pt x="560" y="216"/>
                  </a:lnTo>
                  <a:lnTo>
                    <a:pt x="584" y="216"/>
                  </a:lnTo>
                  <a:lnTo>
                    <a:pt x="600" y="216"/>
                  </a:lnTo>
                  <a:lnTo>
                    <a:pt x="624" y="208"/>
                  </a:lnTo>
                  <a:lnTo>
                    <a:pt x="640" y="208"/>
                  </a:lnTo>
                  <a:lnTo>
                    <a:pt x="664" y="208"/>
                  </a:lnTo>
                  <a:lnTo>
                    <a:pt x="688" y="200"/>
                  </a:lnTo>
                  <a:lnTo>
                    <a:pt x="704" y="200"/>
                  </a:lnTo>
                  <a:lnTo>
                    <a:pt x="728" y="200"/>
                  </a:lnTo>
                  <a:lnTo>
                    <a:pt x="744" y="200"/>
                  </a:lnTo>
                  <a:lnTo>
                    <a:pt x="768" y="192"/>
                  </a:lnTo>
                  <a:lnTo>
                    <a:pt x="784" y="192"/>
                  </a:lnTo>
                  <a:lnTo>
                    <a:pt x="808" y="192"/>
                  </a:lnTo>
                  <a:lnTo>
                    <a:pt x="832" y="184"/>
                  </a:lnTo>
                  <a:lnTo>
                    <a:pt x="848" y="184"/>
                  </a:lnTo>
                  <a:lnTo>
                    <a:pt x="872" y="184"/>
                  </a:lnTo>
                  <a:lnTo>
                    <a:pt x="888" y="184"/>
                  </a:lnTo>
                  <a:lnTo>
                    <a:pt x="912" y="176"/>
                  </a:lnTo>
                  <a:lnTo>
                    <a:pt x="936" y="176"/>
                  </a:lnTo>
                  <a:lnTo>
                    <a:pt x="952" y="176"/>
                  </a:lnTo>
                  <a:lnTo>
                    <a:pt x="976" y="168"/>
                  </a:lnTo>
                  <a:lnTo>
                    <a:pt x="992" y="168"/>
                  </a:lnTo>
                  <a:lnTo>
                    <a:pt x="1016" y="168"/>
                  </a:lnTo>
                  <a:lnTo>
                    <a:pt x="1040" y="168"/>
                  </a:lnTo>
                  <a:lnTo>
                    <a:pt x="1056" y="160"/>
                  </a:lnTo>
                  <a:lnTo>
                    <a:pt x="1080" y="160"/>
                  </a:lnTo>
                  <a:lnTo>
                    <a:pt x="1096" y="160"/>
                  </a:lnTo>
                  <a:lnTo>
                    <a:pt x="1120" y="152"/>
                  </a:lnTo>
                  <a:lnTo>
                    <a:pt x="1144" y="152"/>
                  </a:lnTo>
                  <a:lnTo>
                    <a:pt x="1160" y="152"/>
                  </a:lnTo>
                  <a:lnTo>
                    <a:pt x="1184" y="152"/>
                  </a:lnTo>
                  <a:lnTo>
                    <a:pt x="1200" y="144"/>
                  </a:lnTo>
                  <a:lnTo>
                    <a:pt x="1224" y="144"/>
                  </a:lnTo>
                  <a:lnTo>
                    <a:pt x="1248" y="144"/>
                  </a:lnTo>
                  <a:lnTo>
                    <a:pt x="1264" y="136"/>
                  </a:lnTo>
                  <a:lnTo>
                    <a:pt x="1288" y="136"/>
                  </a:lnTo>
                  <a:lnTo>
                    <a:pt x="1304" y="136"/>
                  </a:lnTo>
                  <a:lnTo>
                    <a:pt x="1328" y="136"/>
                  </a:lnTo>
                  <a:lnTo>
                    <a:pt x="1344" y="128"/>
                  </a:lnTo>
                  <a:lnTo>
                    <a:pt x="1368" y="128"/>
                  </a:lnTo>
                  <a:lnTo>
                    <a:pt x="1392" y="128"/>
                  </a:lnTo>
                  <a:lnTo>
                    <a:pt x="1408" y="120"/>
                  </a:lnTo>
                  <a:lnTo>
                    <a:pt x="1432" y="120"/>
                  </a:lnTo>
                  <a:lnTo>
                    <a:pt x="1448" y="120"/>
                  </a:lnTo>
                  <a:lnTo>
                    <a:pt x="1472" y="120"/>
                  </a:lnTo>
                  <a:lnTo>
                    <a:pt x="1496" y="112"/>
                  </a:lnTo>
                  <a:lnTo>
                    <a:pt x="1512" y="112"/>
                  </a:lnTo>
                  <a:lnTo>
                    <a:pt x="1536" y="112"/>
                  </a:lnTo>
                  <a:lnTo>
                    <a:pt x="1552" y="104"/>
                  </a:lnTo>
                  <a:lnTo>
                    <a:pt x="1576" y="104"/>
                  </a:lnTo>
                  <a:lnTo>
                    <a:pt x="1600" y="104"/>
                  </a:lnTo>
                  <a:lnTo>
                    <a:pt x="1616" y="104"/>
                  </a:lnTo>
                  <a:lnTo>
                    <a:pt x="1640" y="96"/>
                  </a:lnTo>
                  <a:lnTo>
                    <a:pt x="1656" y="96"/>
                  </a:lnTo>
                  <a:lnTo>
                    <a:pt x="1680" y="96"/>
                  </a:lnTo>
                  <a:lnTo>
                    <a:pt x="1704" y="88"/>
                  </a:lnTo>
                  <a:lnTo>
                    <a:pt x="1720" y="88"/>
                  </a:lnTo>
                  <a:lnTo>
                    <a:pt x="1744" y="88"/>
                  </a:lnTo>
                  <a:lnTo>
                    <a:pt x="1760" y="88"/>
                  </a:lnTo>
                  <a:lnTo>
                    <a:pt x="1784" y="80"/>
                  </a:lnTo>
                  <a:lnTo>
                    <a:pt x="1800" y="80"/>
                  </a:lnTo>
                  <a:lnTo>
                    <a:pt x="1824" y="80"/>
                  </a:lnTo>
                  <a:lnTo>
                    <a:pt x="1848" y="72"/>
                  </a:lnTo>
                  <a:lnTo>
                    <a:pt x="1864" y="72"/>
                  </a:lnTo>
                  <a:lnTo>
                    <a:pt x="1888" y="72"/>
                  </a:lnTo>
                  <a:lnTo>
                    <a:pt x="1904" y="72"/>
                  </a:lnTo>
                  <a:lnTo>
                    <a:pt x="1928" y="64"/>
                  </a:lnTo>
                  <a:lnTo>
                    <a:pt x="1952" y="64"/>
                  </a:lnTo>
                  <a:lnTo>
                    <a:pt x="1968" y="64"/>
                  </a:lnTo>
                  <a:lnTo>
                    <a:pt x="1992" y="56"/>
                  </a:lnTo>
                  <a:lnTo>
                    <a:pt x="2008" y="56"/>
                  </a:lnTo>
                  <a:lnTo>
                    <a:pt x="2032" y="56"/>
                  </a:lnTo>
                  <a:lnTo>
                    <a:pt x="2056" y="48"/>
                  </a:lnTo>
                  <a:lnTo>
                    <a:pt x="2072" y="48"/>
                  </a:lnTo>
                  <a:lnTo>
                    <a:pt x="2096" y="48"/>
                  </a:lnTo>
                  <a:lnTo>
                    <a:pt x="2112" y="48"/>
                  </a:lnTo>
                  <a:lnTo>
                    <a:pt x="2136" y="40"/>
                  </a:lnTo>
                  <a:lnTo>
                    <a:pt x="2160" y="40"/>
                  </a:lnTo>
                  <a:lnTo>
                    <a:pt x="2176" y="40"/>
                  </a:lnTo>
                  <a:lnTo>
                    <a:pt x="2200" y="32"/>
                  </a:lnTo>
                  <a:lnTo>
                    <a:pt x="2216" y="32"/>
                  </a:lnTo>
                  <a:lnTo>
                    <a:pt x="2240" y="32"/>
                  </a:lnTo>
                  <a:lnTo>
                    <a:pt x="2256" y="32"/>
                  </a:lnTo>
                  <a:lnTo>
                    <a:pt x="2280" y="24"/>
                  </a:lnTo>
                  <a:lnTo>
                    <a:pt x="2304" y="24"/>
                  </a:lnTo>
                  <a:lnTo>
                    <a:pt x="2320" y="24"/>
                  </a:lnTo>
                  <a:lnTo>
                    <a:pt x="2344" y="16"/>
                  </a:lnTo>
                  <a:lnTo>
                    <a:pt x="2360" y="16"/>
                  </a:lnTo>
                  <a:lnTo>
                    <a:pt x="2384" y="16"/>
                  </a:lnTo>
                  <a:lnTo>
                    <a:pt x="2408" y="8"/>
                  </a:lnTo>
                  <a:lnTo>
                    <a:pt x="2424" y="8"/>
                  </a:lnTo>
                  <a:lnTo>
                    <a:pt x="2448" y="8"/>
                  </a:lnTo>
                  <a:lnTo>
                    <a:pt x="2464" y="8"/>
                  </a:lnTo>
                  <a:lnTo>
                    <a:pt x="2488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01720" y="5178600"/>
              <a:ext cx="88920" cy="88920"/>
            </a:xfrm>
            <a:prstGeom prst="ellipse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692440" y="5102280"/>
              <a:ext cx="76320" cy="144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730600" y="5064120"/>
              <a:ext cx="1440" cy="763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05040" y="5076720"/>
              <a:ext cx="50760" cy="51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2704680" y="5076720"/>
              <a:ext cx="50760" cy="511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70480" y="4086360"/>
              <a:ext cx="759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508640" y="4048200"/>
              <a:ext cx="1440" cy="76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483080" y="4060800"/>
              <a:ext cx="507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4482720" y="4060800"/>
              <a:ext cx="50760" cy="5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187800" y="4048200"/>
              <a:ext cx="88920" cy="8892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46440" y="2828880"/>
              <a:ext cx="76320" cy="1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84600" y="2790720"/>
              <a:ext cx="1800" cy="76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59400" y="2803680"/>
              <a:ext cx="5076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559040" y="2803680"/>
              <a:ext cx="50760" cy="507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543400" y="1755720"/>
              <a:ext cx="1180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e versus SNR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10080" y="5540400"/>
              <a:ext cx="747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s/No (dB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6" name=""/>
            <p:cNvSpPr/>
            <p:nvPr/>
          </p:nvSpPr>
          <p:spPr>
            <a:xfrm rot="16200000">
              <a:off x="377280" y="3477600"/>
              <a:ext cx="840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ate (Mbps)</a:t>
              </a:r>
              <a:endParaRPr b="0" lang="en-US" sz="12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225960" y="4454640"/>
              <a:ext cx="144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559400" y="4454640"/>
              <a:ext cx="144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3238560" y="5889600"/>
              <a:ext cx="1282680" cy="88920"/>
              <a:chOff x="3238560" y="5889600"/>
              <a:chExt cx="1282680" cy="88920"/>
            </a:xfrm>
          </p:grpSpPr>
          <p:sp>
            <p:nvSpPr>
              <p:cNvPr id="330" name=""/>
              <p:cNvSpPr/>
              <p:nvPr/>
            </p:nvSpPr>
            <p:spPr>
              <a:xfrm>
                <a:off x="4330800" y="5889600"/>
                <a:ext cx="190440" cy="88920"/>
              </a:xfrm>
              <a:custGeom>
                <a:avLst/>
                <a:gdLst/>
                <a:ahLst/>
                <a:rect l="l" t="t" r="r" b="b"/>
                <a:pathLst>
                  <a:path w="120" h="56">
                    <a:moveTo>
                      <a:pt x="120" y="32"/>
                    </a:moveTo>
                    <a:lnTo>
                      <a:pt x="0" y="56"/>
                    </a:lnTo>
                    <a:lnTo>
                      <a:pt x="0" y="32"/>
                    </a:lnTo>
                    <a:lnTo>
                      <a:pt x="0" y="0"/>
                    </a:lnTo>
                    <a:lnTo>
                      <a:pt x="12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3238560" y="5889600"/>
                <a:ext cx="177840" cy="8892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0" y="32"/>
                    </a:moveTo>
                    <a:lnTo>
                      <a:pt x="112" y="0"/>
                    </a:lnTo>
                    <a:lnTo>
                      <a:pt x="112" y="32"/>
                    </a:lnTo>
                    <a:lnTo>
                      <a:pt x="112" y="56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3416400" y="5940360"/>
                <a:ext cx="914400" cy="1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33" name=""/>
            <p:cNvSpPr/>
            <p:nvPr/>
          </p:nvSpPr>
          <p:spPr>
            <a:xfrm>
              <a:off x="3405240" y="606096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Increas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7400" y="6264360"/>
              <a:ext cx="1024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Robustness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75040" y="2803680"/>
              <a:ext cx="800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75040" y="4060800"/>
              <a:ext cx="8002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grpSp>
          <p:nvGrpSpPr>
            <p:cNvPr id="337" name=""/>
            <p:cNvGrpSpPr/>
            <p:nvPr/>
          </p:nvGrpSpPr>
          <p:grpSpPr>
            <a:xfrm>
              <a:off x="5372280" y="2803680"/>
              <a:ext cx="88560" cy="1257120"/>
              <a:chOff x="5372280" y="2803680"/>
              <a:chExt cx="88560" cy="1257120"/>
            </a:xfrm>
          </p:grpSpPr>
          <p:sp>
            <p:nvSpPr>
              <p:cNvPr id="338" name=""/>
              <p:cNvSpPr/>
              <p:nvPr/>
            </p:nvSpPr>
            <p:spPr>
              <a:xfrm>
                <a:off x="5372280" y="2803680"/>
                <a:ext cx="88560" cy="17784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24" y="0"/>
                    </a:moveTo>
                    <a:lnTo>
                      <a:pt x="56" y="112"/>
                    </a:lnTo>
                    <a:lnTo>
                      <a:pt x="24" y="112"/>
                    </a:lnTo>
                    <a:lnTo>
                      <a:pt x="0" y="112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372280" y="3882960"/>
                <a:ext cx="88560" cy="177840"/>
              </a:xfrm>
              <a:custGeom>
                <a:avLst/>
                <a:gdLst/>
                <a:ahLst/>
                <a:rect l="l" t="t" r="r" b="b"/>
                <a:pathLst>
                  <a:path w="56" h="112">
                    <a:moveTo>
                      <a:pt x="24" y="112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56" y="0"/>
                    </a:lnTo>
                    <a:lnTo>
                      <a:pt x="24" y="11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10080" y="2981520"/>
                <a:ext cx="1800" cy="901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Garamond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5386320" y="3184560"/>
              <a:ext cx="776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Increas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34640" y="3381480"/>
              <a:ext cx="423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65240" y="3584520"/>
              <a:ext cx="407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ff"/>
                  </a:solidFill>
                  <a:latin typeface="Garamond"/>
                </a:rPr>
                <a:t>Rate</a:t>
              </a:r>
              <a:endParaRPr b="0" lang="en-US" sz="1400" spc="-1" strike="noStrike">
                <a:solidFill>
                  <a:srgbClr val="000000"/>
                </a:solidFill>
                <a:latin typeface="Garamond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518840" y="2346480"/>
              <a:ext cx="1108800" cy="33732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aramond"/>
                </a:rPr>
                <a:t>PER = 10</a:t>
              </a:r>
              <a:r>
                <a:rPr b="0" lang="en-US" sz="1600" spc="-1" strike="noStrike" baseline="30000">
                  <a:solidFill>
                    <a:srgbClr val="000000"/>
                  </a:solidFill>
                  <a:latin typeface="Garamond"/>
                </a:rPr>
                <a:t>-2</a:t>
              </a:r>
              <a:endParaRPr b="0" lang="en-US" sz="1600" spc="-1" strike="noStrike">
                <a:solidFill>
                  <a:srgbClr val="000000"/>
                </a:solidFill>
                <a:latin typeface="Garamond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04B6C-E8B8-41AD-84AC-9671EE6D742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acket Binary Convolutional Coding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467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mbines Binary Convolutional Coding with Codeword Scrambling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 11 (and 5.5) Mb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te k=1, n = 2 enco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64 st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QPSK (BPSK) modul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free^2/Es = 9/2 = 6.5 d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 algn="just"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or 22 Mbps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ate k=2, n=3 encod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256 stat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8PSK modulation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-268560" algn="just">
              <a:spcBef>
                <a:spcPts val="45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free^2/Es = 704/98 = 8.6 dB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9840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73DDD-E642-4241-9CB1-A815C5C1BB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PBCC Components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629892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0C78A-484B-4167-965A-0383035328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990720"/>
            <a:ext cx="7467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ffany"/>
              </a:rPr>
              <a:t>BCC Encoder</a:t>
            </a:r>
            <a:endParaRPr b="0" lang="en-US" sz="3600" spc="-1" strike="noStrike">
              <a:solidFill>
                <a:srgbClr val="000000"/>
              </a:solidFill>
              <a:latin typeface="Tiffany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2133360"/>
            <a:ext cx="3657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11: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BCC-22: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"/>
          <p:cNvSpPr/>
          <p:nvPr/>
        </p:nvSpPr>
        <p:spPr>
          <a:xfrm>
            <a:off x="1066680" y="3581280"/>
            <a:ext cx="746784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1"/>
          <a:stretch/>
        </p:blipFill>
        <p:spPr>
          <a:xfrm>
            <a:off x="2590920" y="1905120"/>
            <a:ext cx="5524560" cy="137160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3200400" y="3619440"/>
            <a:ext cx="4533840" cy="278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4" name=""/>
          <p:cNvGraphicFramePr/>
          <p:nvPr/>
        </p:nvGraphicFramePr>
        <p:xfrm>
          <a:off x="533520" y="5334120"/>
          <a:ext cx="2222280" cy="46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334120"/>
                    <a:ext cx="222228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6" name=""/>
          <p:cNvGraphicFramePr/>
          <p:nvPr/>
        </p:nvGraphicFramePr>
        <p:xfrm>
          <a:off x="457200" y="3276720"/>
          <a:ext cx="3492360" cy="241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3276720"/>
                    <a:ext cx="349236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Chris Heegard, Texas Instrument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23004-61F7-4FE0-98CD-C22C62CF17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9T20:27:00Z</dcterms:created>
  <dc:creator>Bozo T. Clown</dc:creator>
  <dc:description/>
  <dc:language>en-US</dc:language>
  <cp:lastModifiedBy>batra</cp:lastModifiedBy>
  <dcterms:modified xsi:type="dcterms:W3CDTF">2000-12-04T16:21:00Z</dcterms:modified>
  <cp:revision>53</cp:revision>
  <dc:subject/>
  <dc:title>High Performance Wireless Local Area Networks in the 2.4GHz ISM Band</dc:title>
</cp:coreProperties>
</file>