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1E25-E14D-484E-8DF4-BD5704735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46B7-A0FD-43F0-933E-134FAFED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1C9E-ABBB-4F40-8CEA-B80AE17C2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EDCF-DAC1-4D46-83A1-BA2A4C5E5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B5E8-2AB3-4772-A9B7-FB052F2A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F227-F039-4F9B-9C60-D9271F3A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F50A-A1EC-4A62-83A3-1DF07CD6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8488-BF8B-45E7-938A-F91BE7D2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5FC2-E46B-4F74-BB24-F2D0A801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4D03-F3E8-4DE0-81B6-02CFFD1F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CD3B-AC56-414B-9556-E53846DF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0D09-B9FA-4EA6-A842-496716F1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379800"/>
            <a:ext cx="1752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09720" y="6476760"/>
            <a:ext cx="31244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9A8D2B0-750A-45A1-BD76-949F511AA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37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ic Management Actions</a:t>
            </a:r>
            <a:br>
              <a:rPr sz="44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echanism for_x0008__x0008_ all MAC enhancement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657240" y="3352320"/>
            <a:ext cx="3809880" cy="26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chael Fis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OICE-Inters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242-3 Medical Dr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n Antonio, TX 782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1-210-614-4096 x1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fischer@choicemicr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Fisch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C4EA-3178-4F50-A20E-531298E2F3C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et of functional enhancements to the 802.11 MAC requires new management fram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only 5 reserved management sub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ng elements to existing subtypes is only a partial solution, and may reduce efficiency and reliability as the management frame bodies get longer and lo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some functions that need unique sub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ly frames that use_x0008__x0008_ special rules, like Beacon, Probe &amp; AT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"Container" for MPDU aggregation is a new special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need to save a few management subtypes for future special cases, because backward compatibility constraints make it messy to add MMPDUs as control sub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Fisch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5FA9-B1F3-465C-BC15-E5FF740742F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posed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 mechanism to add all new generic management frames using 1 subtype, and leave the last 3 management subtypes for future special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"generic Management Action" subtype in the QoS baseline proposal achieves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s both request/response and notification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for uniform status reporting (where benefic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ces no format or content restrictions on frame body con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ever, unless there is clear justification for a different approach, generic action frames will use fixed fields and 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ates non-conflicting, parallel work by different task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Fisch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E7BB-FA3D-4EFB-93AD-DE302C8367A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ic Action Request Fr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 subtype 14, with (at least) 1, 4-octet fixed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egory code, assigned per task group or sub-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entifies general subject, such as QoS Actions, Security Action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ws non-conflicting assignment of Action codes by each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 code (even), for a specific function within the 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est and notification actions use even action code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ion Delay, allows occurrence of action to be dela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lay=0 for immediate actions, &gt;0 is count of TBTTs prior to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lay&gt;0 only for Category,Action specified to allow or require dela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log Token (octet needed for alignment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 ignored, but returned in corresponding octet of Action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st of the frame body is specific to the Category,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09480" y="1447920"/>
            <a:ext cx="7925040" cy="765000"/>
            <a:chOff x="609480" y="1447920"/>
            <a:chExt cx="7925040" cy="765000"/>
          </a:xfrm>
        </p:grpSpPr>
        <p:sp>
          <p:nvSpPr>
            <p:cNvPr id="54" name=""/>
            <p:cNvSpPr/>
            <p:nvPr/>
          </p:nvSpPr>
          <p:spPr>
            <a:xfrm>
              <a:off x="7696080" y="1676520"/>
              <a:ext cx="838440" cy="536400"/>
            </a:xfrm>
            <a:prstGeom prst="rect">
              <a:avLst/>
            </a:prstGeom>
            <a:noFill/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69696"/>
                  </a:solidFill>
                  <a:latin typeface="Arial"/>
                </a:rPr>
                <a:t>F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1676520"/>
              <a:ext cx="1266840" cy="536400"/>
            </a:xfrm>
            <a:prstGeom prst="rect">
              <a:avLst/>
            </a:prstGeom>
            <a:noFill/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69696"/>
                  </a:solidFill>
                  <a:latin typeface="Arial"/>
                </a:rPr>
                <a:t>MAC_x0008__x0008_ Hea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Arial"/>
                </a:rPr>
                <a:t>(subtype 1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790720" y="1676520"/>
              <a:ext cx="91440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eve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76320" y="1676520"/>
              <a:ext cx="91440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tegory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705120" y="1676520"/>
              <a:ext cx="91440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ivation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l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619520" y="1676520"/>
              <a:ext cx="91440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alog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k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40400" y="1447920"/>
              <a:ext cx="43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24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8340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9780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1220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92660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98560" y="1447920"/>
              <a:ext cx="71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0-230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33920" y="1676520"/>
              <a:ext cx="216216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ion-specific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xed fields &amp; ele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2684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4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Fisch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4B7F-00CA-4E73-81F6-EC87C39DDA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ic Action Response Fr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onse frames only used to return results and report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ification-style actions do not require respon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egory code:  same as in request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category is not recognized, frame is ignored without error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 code (odd):  ResponseCode:= RequestCode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 unrecognized action in a recognized category causes an error 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us code:  indicates success or failure of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us=0 for success;  Status=1 for unrecognized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us&gt;1 is failure code specific to Category,Ac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log Token:  value copied from Dialog Token of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be useful in matching responses at stations that may have more than one request outstanding concurrent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st of the frame body is specific to the Category,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09480" y="1447920"/>
            <a:ext cx="7925040" cy="765000"/>
            <a:chOff x="609480" y="1447920"/>
            <a:chExt cx="7925040" cy="765000"/>
          </a:xfrm>
        </p:grpSpPr>
        <p:sp>
          <p:nvSpPr>
            <p:cNvPr id="71" name=""/>
            <p:cNvSpPr/>
            <p:nvPr/>
          </p:nvSpPr>
          <p:spPr>
            <a:xfrm>
              <a:off x="7696080" y="1676520"/>
              <a:ext cx="838440" cy="536400"/>
            </a:xfrm>
            <a:prstGeom prst="rect">
              <a:avLst/>
            </a:prstGeom>
            <a:noFill/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69696"/>
                  </a:solidFill>
                  <a:latin typeface="Arial"/>
                </a:rPr>
                <a:t>F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9480" y="1676520"/>
              <a:ext cx="1266840" cy="536400"/>
            </a:xfrm>
            <a:prstGeom prst="rect">
              <a:avLst/>
            </a:prstGeom>
            <a:noFill/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69696"/>
                  </a:solidFill>
                  <a:latin typeface="Arial"/>
                </a:rPr>
                <a:t>MAC_x0008__x0008_ Hea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Arial"/>
                </a:rPr>
                <a:t>(subtype 1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90720" y="1676520"/>
              <a:ext cx="91440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od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6320" y="1676520"/>
              <a:ext cx="91440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tegory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705120" y="1676520"/>
              <a:ext cx="91440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619520" y="1676520"/>
              <a:ext cx="91440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alog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k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40400" y="1447920"/>
              <a:ext cx="43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24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8340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9780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1220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2660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298560" y="1447920"/>
              <a:ext cx="71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0-230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533920" y="1676520"/>
              <a:ext cx="216216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ion-specific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xed fields &amp; ele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92684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4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Fisch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7505-8172-4596-9CA3-552094B302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5T22:59:43Z</dcterms:created>
  <dc:creator>Michael Fischer</dc:creator>
  <dc:description/>
  <dc:language>en-US</dc:language>
  <cp:lastModifiedBy>Harry Worstell</cp:lastModifiedBy>
  <cp:lastPrinted>1998-02-10T13:28:06Z</cp:lastPrinted>
  <dcterms:modified xsi:type="dcterms:W3CDTF">2000-11-06T21:49:53Z</dcterms:modified>
  <cp:revision>12</cp:revision>
  <dc:subject/>
  <dc:title>No Slide Title</dc:title>
</cp:coreProperties>
</file>