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FF4-2FE0-44C9-9EBB-4A658FD8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B7C-E141-442E-8594-6DF08D9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D1D-4BB8-4C4D-835D-27F3522E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A96-E5D6-4FDD-A9C6-81A6E4A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82F-9F49-485B-812A-C1DDB1F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B24-60E2-457D-B829-49FFA0D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45B-FEEE-4BC2-8EE6-B25CFE6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3B9-1FBE-43BA-BC48-606E005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72E-012B-492D-82E2-566B993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B12-5650-4462-BFE7-49AAB2D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AF-954D-436E-961B-98823CD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9F0-DD7C-454D-BA64-2F84A86B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C108DF-AC56-440A-B4C0-3640BEC5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55A-E432-4DB4-912F-02BA1DFA36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ECF-C77F-400F-81D0-9C29F0BEBE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1A1-DD6A-44E4-A092-EE226AD88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4, 1-octet fixed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4DD-3F8D-436C-82E6-E40E7F217A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263-D999-4D59-8F9C-AD048B284F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13T18:58:53Z</dcterms:modified>
  <cp:revision>10</cp:revision>
  <dc:subject/>
  <dc:title>No Slide Title</dc:title>
</cp:coreProperties>
</file>