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5EC6-9EBB-4256-9FF5-D46EF5168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718A-7B5B-42C4-8F1F-BA6F015C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43E2-4DD0-4684-A0B6-42BD2F578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3F0A-9FB8-4A1B-B686-BDC912F58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475E-23D1-4BCC-ABD1-A73D56C0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6DEE-3B38-4CF1-B5A5-36BD2518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9BD8-CB4A-441E-B47B-3A1DCBB6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59D7-66A5-4051-8893-A7D84090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A0D5-D5F0-45FC-BDD5-010AE4DF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43F5-4CA6-47F6-B42D-9B8366A9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61E7-C3CF-44E9-968A-9ABC5159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9AEF-058D-4044-B450-9B7B5C6F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90720"/>
            <a:ext cx="56196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/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. Webster, Mike Se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BDB14AB-DE9D-4AED-98B4-39CE7D7F4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uggested Phase Noise Model for 802.11 HR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k Webster and Mike Se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sil Cor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tember,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8D52-1170-44CF-A13E-6BB82A9FCD5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015560" y="1447920"/>
            <a:ext cx="685584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Design VCO phz noise fil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1-pole Butterwo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coPnNPoles = 1;  </a:t>
            </a: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Gives 20 dB/dec phase-noise roll-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hanSampRateHz = chanSampRateMHz * 1e6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n = 2 * vcoPnBwHz / chanSampRateHz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vcoPnB,vcoPnA] = butter( vcoPnNPoles, Wn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Compute the resulting RMS phz noise in dBc/Hz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coPnRadiansRms = vcoPnDegRms * pi/18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coPnVar = vcoPnRadiansRms ^ 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xcessBw1PoleButter = pi/2;  </a:t>
            </a: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Relative excess bandwith of 1-pole fil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coPnPwrPerHzOneSided = vcoPnVar / (vcoPnBwHz * excessBw1PoleButter) 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coPnPwrPerHzSsb = vcoPnPwrPerHzOneSided / 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coPnLvldBcPerHzSsb = 10 * log10( vcoPnPwrPerHzSsb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Compute AWGN source level feeding Butterworth fil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wgnPnPwr = vcoPnPwrPerHzSsb * chanSampRateHz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wgnPnRms = sqrt(awgnPnPwr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Generate a VCO phase-noise sample wave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PnSamps = 10000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wgnPn = awgnPnRms * randn(nSamples,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loredGaussianPn = filter(vcoPnB,vcoPnA, awgnPn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hzNoise = exp(j*coloredGaussianPn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lab Code for Generator (page 2 of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77E9-B66D-4EF6-BB8E-EB01FD068FB5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lab Code for Test Shell (page 1 of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8720" y="1295280"/>
            <a:ext cx="77551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**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MainPhzNoiseTest.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This routine tests the procedure for simulating phase 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using 1-pole LPF spectral shaping.  In this routine, th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se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   (1) The 3 dB bandwidth of the LPF 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   (2) The desired RMS phase noise in degre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   (3) The number of phase noise samples desir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   (4) The simulation channel sample ra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Simulation verifies the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Mark Webster        September 9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**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ear 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ose 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Settable paramete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coPnDegRms = 1;          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Desired RMS phase error in degre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coPnBwHz = 10e3;         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LPF 3 dB bandwidth in Hz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amples = 1e6;           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Length of transmit signal (packet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anSampRateMHz = 44;     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Signal (packet) sample ra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20A3-FB8B-4268-A92D-F8BEEC5E4E8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05400" y="2279520"/>
            <a:ext cx="743508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------------------------------------------------------------------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Monte-Carlo simulation to verify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Note, the 1-pole filter has a start-up transi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But, that is OK for examining effects of phase devi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Output samples have the form exp(j*radian_deviation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------------------------------------------------------------------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Generate a VCO sample wavefor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coPnPhasor = PhzNoiseGen( vcoPnDegRms, vcoPnBwHz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amples, chanSampRateMHz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Estimate the VCO's output phz noise in degrees R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gRx = angle(vcoPnPhasor) * 180/p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gRmsEst = sqrt(mean(degRx.^2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lab Code for Test Shell (page 2 of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CFD1-95E0-441C-A975-65DD9B762843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28720" y="1371600"/>
            <a:ext cx="775512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--------------------------------------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Plot and print stochastic resul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--------------------------------------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ig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ot(degR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r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sample #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y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Degrees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r = sprintf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Phz Noise Sample: %2.2f degrees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degRmsEs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tle(st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isp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 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isp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*********************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r = sprintf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Target RMS phz error (degrees): %d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vcoPnDegRm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isp(st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r = sprintf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Estimated RMS phz error (deg) using %d samples: %d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amples, degRmsEs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isp(st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isp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*******************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isp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 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lab Code for Test Shell (page 3 of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EF2A-F1CC-41E5-AB02-C8716BB3EB64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072080" y="5086440"/>
            <a:ext cx="6340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******************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rget RMS phz error (degrees):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imated RMS phz error (deg) using 1000000 samples: 1.005964e+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****************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5029200" cy="3772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xample Test Shell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8120" y="2209680"/>
            <a:ext cx="228600" cy="1447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4240" y="1752480"/>
            <a:ext cx="152352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4480" y="1447920"/>
            <a:ext cx="203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Startup Trans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is OK because w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seek phase devi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927C-48BC-4F13-9E08-A4C92B9F8EC6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mmend 1-pole phase noise sha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3 dB  bandwidth of 20 KH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eep RMS phase noise in deg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 influence on Carrier Degradation in AWG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-up transient is OK, since devi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ave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assumes “ideal” carrier recovery lo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FAF0-8D0A-42E8-B67D-456F3057B91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2017800"/>
            <a:ext cx="7478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resentation recommends a phase-noi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model for 802.11 HRb propos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ase noise impacts packet-error-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 is a fair representation of phase noi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behavior and “ideal” carrier recovery loo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 is easy to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by 802.11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A513-997D-48E5-B7DC-9A000C89E65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03080" y="837720"/>
            <a:ext cx="6840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VCO Phase Noise and Ideal 2nd-order Carrier Recovery Loo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33920" y="4311720"/>
            <a:ext cx="136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2nd-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P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49760" y="4311720"/>
            <a:ext cx="13557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6040" y="447516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V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0440" y="4311720"/>
            <a:ext cx="685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4616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05520" y="46162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06800" y="281952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25909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78200" y="2590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1000" y="289548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20 dB/d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5480" y="2944800"/>
            <a:ext cx="98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V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Bc/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38040" y="225756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5257800" y="2819160"/>
            <a:ext cx="5716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91040" y="25909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91040" y="2590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335268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20 dB/d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5520" y="2819520"/>
            <a:ext cx="78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Res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8440" y="225756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1320" y="2819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7696080" y="4784760"/>
            <a:ext cx="495360" cy="54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96160" y="4556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96160" y="45561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203600" y="5226120"/>
            <a:ext cx="109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20 dB/d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66200" y="4800600"/>
            <a:ext cx="134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mpo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91280" y="422280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86600" y="4800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880" y="5486400"/>
            <a:ext cx="213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ssumes Id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Phase Det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44280" y="4114800"/>
            <a:ext cx="506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96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55000" y="2133720"/>
            <a:ext cx="506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0716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14600" y="3809880"/>
            <a:ext cx="609480" cy="38124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935000">
            <a:off x="4647960" y="3809880"/>
            <a:ext cx="609480" cy="38124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F16A-10C4-4ACC-9525-A70C1929191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03440" y="1066680"/>
            <a:ext cx="6840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quivalent Phase Nois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7400" y="3489480"/>
            <a:ext cx="128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1st-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LP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63960" y="3489480"/>
            <a:ext cx="13557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4240" y="365292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AW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3489480"/>
            <a:ext cx="1006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37940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79404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6934320" y="2879640"/>
            <a:ext cx="495360" cy="54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34040" y="26510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34040" y="265104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41480" y="3321000"/>
            <a:ext cx="109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20 dB/d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04440" y="2666880"/>
            <a:ext cx="134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mpo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29160" y="231768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24480" y="28954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82160" y="2209680"/>
            <a:ext cx="506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343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5029200" y="4692600"/>
            <a:ext cx="495360" cy="54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29280" y="4464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29280" y="4464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84080" y="4952880"/>
            <a:ext cx="109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20 dB/d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3400" y="4495680"/>
            <a:ext cx="78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st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P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24040" y="413064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4708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7400" y="4022640"/>
            <a:ext cx="506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4327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09760" y="4540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09760" y="4540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1240" y="4572000"/>
            <a:ext cx="10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W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S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04880" y="420696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447920" y="4784760"/>
            <a:ext cx="76176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4267080"/>
            <a:ext cx="533160" cy="22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9461000">
            <a:off x="3505320" y="4266720"/>
            <a:ext cx="533160" cy="22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4114800"/>
            <a:ext cx="1523880" cy="83808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96480" y="5181480"/>
            <a:ext cx="274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atches Compo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Hardware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2743200"/>
            <a:ext cx="15235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42560" y="2438280"/>
            <a:ext cx="102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Start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Trans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63DD-96BA-4744-A662-F118D0D00E7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wo Fre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4267080" y="3108240"/>
            <a:ext cx="495360" cy="54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67160" y="2879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67160" y="287964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74600" y="3549600"/>
            <a:ext cx="109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20 dB/d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5960" y="2819520"/>
            <a:ext cx="14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mpo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hase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62280" y="254628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57600" y="3124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15280" y="2438280"/>
            <a:ext cx="506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8680" y="2995560"/>
            <a:ext cx="87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Pssb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124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11640" y="4829040"/>
            <a:ext cx="6095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Free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1.  3 dB 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2.  SSB Phase noise level at 0 Hz (or RMS Phase noi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2E95-148F-4734-8146-47C95076ECE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03440" y="812880"/>
            <a:ext cx="6840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quivalent Noise Bandwidth of 1-pole Butterworth Filter used for phase noise shap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219320" y="1980720"/>
            <a:ext cx="7596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198108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371600" y="198072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1981080"/>
            <a:ext cx="7596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523880" y="198072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1981080"/>
            <a:ext cx="7632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1143000" y="2057040"/>
            <a:ext cx="7632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837720" y="2057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2133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810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1828800" y="2514600"/>
            <a:ext cx="30384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2514600"/>
            <a:ext cx="30456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81080" y="2514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20760" y="16383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73040" y="2330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666880" y="1752480"/>
          <a:ext cx="1371600" cy="10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752480"/>
                    <a:ext cx="137160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666880" y="2685960"/>
          <a:ext cx="3657600" cy="66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2685960"/>
                    <a:ext cx="36576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2666880" y="3416400"/>
          <a:ext cx="3505320" cy="900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3416400"/>
                    <a:ext cx="350532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1143000" y="4818240"/>
          <a:ext cx="6553080" cy="104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4818240"/>
                    <a:ext cx="6553080" cy="10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990720" y="4495680"/>
            <a:ext cx="739116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BD44-26B9-4AA6-BA72-0E7100144A2F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79400" y="738360"/>
            <a:ext cx="6840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mpute RMS Phase Noise as Function of Flat SSB Power P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ssb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d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2743200" y="2500200"/>
            <a:ext cx="495360" cy="54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43280" y="2271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43280" y="22716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50360" y="2941560"/>
            <a:ext cx="109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20 dB/d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760" y="2728800"/>
            <a:ext cx="81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38040" y="193824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133720" y="2516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91400" y="1830240"/>
            <a:ext cx="506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43200" y="213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4800" y="2387520"/>
            <a:ext cx="87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Pssb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25160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419720" y="2211480"/>
          <a:ext cx="2044440" cy="5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211480"/>
                    <a:ext cx="204444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419720" y="2973240"/>
          <a:ext cx="2286000" cy="58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973240"/>
                    <a:ext cx="228600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2514600" y="4040280"/>
          <a:ext cx="4724280" cy="87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4040280"/>
                    <a:ext cx="472428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76280" y="546120"/>
          <a:ext cx="112680" cy="176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6280" y="546120"/>
                    <a:ext cx="112680" cy="17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4038480" y="5259240"/>
          <a:ext cx="1524240" cy="68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38480" y="5259240"/>
                    <a:ext cx="152424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0FDC-E223-450D-9C0F-733089165D8E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lab Code U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9800" y="1447920"/>
            <a:ext cx="84711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Settable paramet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coPnDegRms = 1;           </a:t>
            </a: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Desired RMS phase error in deg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coPnBwHz = 10e3;          </a:t>
            </a: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LPF 3 dB bandwidth in H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amples = 1e6;            </a:t>
            </a: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Length of transmit signal (packet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nSampRateMHz = 44;      </a:t>
            </a: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Signal (packet) sample ra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------------------------------------------------------------------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Monte-Carlo simulation to verify mod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Note, the 1-pole filter has a start-up transi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But, that is OK for examining effects of phase devi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Output samples have the form exp(j*radian_deviatio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------------------------------------------------------------------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Generate a VCO sample wave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coPnPhasor = PhzNoiseGen( vcoPnDegRms, vcoPnBwHz,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amples, chanSampRateMHz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Phase-noise distort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Sig = inSig .* phzNo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F383-4D5E-42B1-B27E-CFE9DB8D97BC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lab Code for Generator (page 1 of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36200" y="1447920"/>
            <a:ext cx="777024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*************************************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PhzNoiseGen.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VCO Phase Noise modeled using a 1-pole Butterworth filte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give 20 dB/dec slope.  Gaussian white noise is pa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through the Butterworth filter, with the correct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to generate the radian variation.  Output samples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 the form exp(j*radian_devi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Input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    vcoPnDegRms           % Desired RMS phase error in degr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    vcoPnBwHz             % LPF 3 dB bandwidth in Hz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    nSamples              % Size of output ve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    chanSampRateMHz       % Simulation sample r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Output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    phzNoise      % nSamples length complex ve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                  % Each sample has abs() equal to 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                  % Example usa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                  %      outSig = inSig .* phzNo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Mark Webster        September 19,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*************************************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hzNoise = PhzNoiseGen( vcoPnDegRms, vcoPnBwHz, nSamples, chanSampRate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EDF1-5728-4FAE-8275-9406984A65A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1T16:31:50Z</dcterms:created>
  <dc:creator>Mark Webster, Mike Seals</dc:creator>
  <dc:description/>
  <dc:language>en-US</dc:language>
  <cp:lastModifiedBy>Harris Semiconductor</cp:lastModifiedBy>
  <cp:lastPrinted>2000-05-04T15:07:54Z</cp:lastPrinted>
  <dcterms:modified xsi:type="dcterms:W3CDTF">2000-09-19T18:33:49Z</dcterms:modified>
  <cp:revision>56</cp:revision>
  <dc:subject/>
  <dc:title>Suggest Phase Noise Model for 802.11 HRb</dc:title>
</cp:coreProperties>
</file>