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90A-F134-42E0-8BB3-27D8CC56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EB-6664-4848-A90D-34E6E13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F51-A153-49E3-9833-D3502733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F5-1E1E-4729-9A8C-6BA380F3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AC7-A202-471D-8466-3DB49BA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548-46B9-401C-9BC2-53405CE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DAA-ED48-4330-93D6-766EA99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D6D-7498-42D0-90B1-69708AF3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1A2-508F-4B69-A706-B5848ACB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486-C0AD-4F9C-990F-A9A8365A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0E7-C1EA-44C0-8F1E-183666D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5D2-966E-4BE6-B84A-C993FCD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00F8E9-C8E3-4EDC-BA92-C634F58E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1B6-61ED-4E16-9FBA-E6972F3EF8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51960" y="1676520"/>
            <a:ext cx="796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B34-9A35-4B3B-B128-7461E721466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9000" y="2612880"/>
            <a:ext cx="7328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re-energize lowpass filter to eliminate start-up trans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y setting initial lowpass filter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nergize with Gaussian variable equal to desired rms phase no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FiltInitState = vcoPnRadiansRms*rand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oredGaussianPn = filter(vcoPnB,vcoPnA,awgnPn,lpFiltInit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18F-246E-44CF-BE30-FA1582418D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E65-92FB-41E7-BAC9-152154E5A0D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B22-428F-42C4-B64C-EA4E2F8F274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718-57AD-4DB2-8B25-BEF459B8388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0E4-0B39-43E6-A38A-BEC8559A81D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oomed Plot of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590920"/>
            <a:ext cx="1066680" cy="228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2320" y="2206800"/>
            <a:ext cx="289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-up Transient Avoid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e-energizing Low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ith Gaussian variable h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esired RMS degree phz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828800" y="2513880"/>
            <a:ext cx="2437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1B0-1E0C-437B-B005-53C66030241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avo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0B-23F8-4B1A-A77D-F5714E8F69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871-6A9A-4D09-9F14-879E450378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E68-65D2-46FF-8A0B-C53C0D0D76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2520" y="2286000"/>
            <a:ext cx="22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andomly Pre-ener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o prev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ED9-8D1F-49ED-859C-58791E9D25B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320" y="281952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C2-1976-4C92-B70C-450B8904C2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08000" y="81288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CA3-1303-4EC1-B6AB-D8630ECCFC1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C02-30EC-45C0-A076-180AA67883A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B28-D250-4CD3-8E2F-C8F28DDB94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4E4-8DC5-428C-9409-A9BEE9650F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y Worstell</cp:lastModifiedBy>
  <cp:lastPrinted>2000-05-04T15:07:54Z</cp:lastPrinted>
  <dcterms:modified xsi:type="dcterms:W3CDTF">2000-09-21T00:16:04Z</dcterms:modified>
  <cp:revision>60</cp:revision>
  <dc:subject/>
  <dc:title>Suggest Phase Noise Model for 802.11 HRb</dc:title>
</cp:coreProperties>
</file>