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2825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7D9-3C71-451F-9420-6D91F0B4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20E-2D9E-4DDE-BD18-0F6857FB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DE8-5B8E-49A8-B0C7-E23325D8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1CB-E6E7-401B-BF41-ADA52A01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9CC-007C-4A60-853E-02818D4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DD4-8F3C-46BF-8834-CECA2FF4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46D-211E-40A2-81AF-33C344A9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74F-EBEC-4583-A192-90FC9025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395-B055-4087-84EA-F4CA00F0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D42-354A-42BE-8EFB-2E4A5C2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001-EC4E-4A98-9EB3-C112CDB2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42C-2B75-4320-9A82-C1C8092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9564840" y="4800600"/>
          <a:ext cx="326880" cy="198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64840" y="4800600"/>
                    <a:ext cx="32688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160" indent="-2818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25000" indent="-223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75720" indent="-2253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42640" y="31968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19920" y="639900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878000" y="639900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439722-2EED-4F11-85E6-BF05F7CF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29200" y="32004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5335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639936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320" y="64008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762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lementation Options for th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tribution System in th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ireless LAN Infrastructu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86080" y="3200040"/>
            <a:ext cx="6930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re El-Hoiyd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EM, Switzer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EEE ICC 2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895-AFB5-43D9-965B-124307C923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 Options for the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ce of a distribution transport protocol and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LC Type 1 (connectionless) transport, MAC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DP/IP transport, IP layer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ce of a mobility management signalling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561-1B47-43CE-AD4A-E44D43F5E2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the discussed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629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 Laye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1: Separated Access Points and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2: Joined Access Point and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3: MAC Brid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Laye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4: Network Layer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CF2-9174-4D1C-B96B-32EA20DF7D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762120"/>
            <a:ext cx="6283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d AP / Por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0720" y="1447920"/>
          <a:ext cx="845820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84582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010-FF9B-492C-AFFB-6E9D19E535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43040" y="2133720"/>
            <a:ext cx="84168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 size of a 802.11 MSDU = 2304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 size of the payload in 802.3 = 1492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on protocol needed to avoid mixing segments from different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ort 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D67-C2D7-422A-9332-2F2D102A3F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626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the mobility management signalling is that each access point or portal knows through which access point or portal a given MAC address can be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ccess point correspond to what MAC addres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posed to use a dynamic route resolution protocol similar to the Ethernet Address Resolution Protocol (ARP, RCF8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D6B-A172-4D54-9CA6-A3F9BF0E71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622520"/>
          <a:ext cx="91598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22520"/>
                    <a:ext cx="91598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7DD-466F-47DD-A004-2ED57C64D3C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905120"/>
          <a:ext cx="9068040" cy="33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906804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88E-0419-4308-AA7D-FC91E44CDBC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1181160"/>
          <a:ext cx="876312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1160"/>
                    <a:ext cx="87631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9480" y="1522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522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ed AP / Port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EB8-9CE4-4760-AA97-F7D7AA1ACBE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 versus Op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1676520"/>
            <a:ext cx="841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bility management signalling protocol is identical as in op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the portal functions in the access points prevents the need of forwarding over the distribution medium the traffic to/from the wired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E6F-1CC4-4B45-8BA4-7B46FBBA17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42680" y="1752120"/>
            <a:ext cx="870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SDU maximum size in 802.11 is reduced from 2304 to 1476, each access point can be a filtering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ess point will forward into the cell the frames destined to associated s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of mobility management sign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protocol is sufficient to give enough information for the filter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 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C1B-8C53-40EC-833F-AA31781D77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41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equency-Hopping / DSSS / Infra R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reless Ethern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25C-B1AB-4FB2-9A13-84C469AF5F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85680" y="1228680"/>
          <a:ext cx="80060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228680"/>
                    <a:ext cx="80060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F6F-70A8-40AE-B062-ACB9F17059D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295280"/>
          <a:ext cx="8382240" cy="539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382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049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 Layer Addr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B6E-1273-4D12-8D98-759B0841E26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43040" y="1447560"/>
            <a:ext cx="8477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not linked through a broadcast medium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Request and RoutingIndication messages cannot be broadcast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posed to use a dynamic address resolution protocol similar to the Address Resolution Protocol over ATM (ARP over ATM, RCF22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ess point must be given the IP address of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45E-19FE-47E6-9923-2500EC8584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50760" y="1371600"/>
          <a:ext cx="79534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371600"/>
                    <a:ext cx="79534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E18-9237-49DC-8791-B65B09CCC17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676520"/>
          <a:ext cx="9296280" cy="35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929628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1C9-8CC8-44E3-8594-944FA302FEC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297080"/>
          <a:ext cx="10287000" cy="49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7080"/>
                    <a:ext cx="1028700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1DC-09B7-4E70-81D6-B9638C27FA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9067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TGf Task Group has started the work on I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APP proposal made in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IP layer address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mission of unsolicited “announce”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57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2000, fist meeting he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uly 2000, propos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pt 2000, first dra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EAF-3A7A-42FE-AC31-A6F0FEEFF1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3040" y="1676520"/>
            <a:ext cx="841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bridge solution simple but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ugmented with a network layer I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points to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los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crossed handover messages (RoutingInd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between schemes based on requests or on unsolici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E0A-59E1-42A2-8E07-3BBF065CD7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70120" y="1981080"/>
          <a:ext cx="4335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1981080"/>
                    <a:ext cx="4335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FE7-3605-4819-AAFF-F060DCACB3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1413000"/>
          <a:ext cx="77724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13000"/>
                    <a:ext cx="77724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BF3-E935-4BDD-AA2E-27FB844EDE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Service Se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wireless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ded Service Se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l wireless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: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Poin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nection DS - B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al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nection DS - Wired 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819520"/>
            <a:ext cx="419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lue between the BSS to form the 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075-AABD-449C-93BB-8507818B92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cells form a virtual single shared-me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 responsible of routing fr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 transparent to L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al + Access Points = MAC Bridge between the wired LAN and the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4278240"/>
          <a:ext cx="720540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78240"/>
                    <a:ext cx="720540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EB7-CAF9-4E58-BC06-D371A4320A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: 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traffic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76520"/>
          <a:ext cx="8991720" cy="17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9917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200400" y="3809880"/>
          <a:ext cx="587520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58752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9D3-EE72-47E7-9B06-3FEF853BF3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: Roa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371600"/>
          <a:ext cx="79246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9246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43040" y="4800600"/>
            <a:ext cx="841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 fontScale="87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ion protocol gives to the distribution system the necessary information to perform the mobility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2AA-606A-4202-90E8-D52EAD34B5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2960" y="38052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ical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660840" y="1371600"/>
          <a:ext cx="571176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0840" y="1371600"/>
                    <a:ext cx="57117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44520" indent="-34452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on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DU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System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(unspecified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(unspec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4E4-80B0-4E5A-A8D3-FF85774355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8:02:14Z</dcterms:created>
  <dc:creator>Amre El-Hoiydi</dc:creator>
  <dc:description/>
  <dc:language>en-US</dc:language>
  <cp:lastModifiedBy>Harry R. Worstell</cp:lastModifiedBy>
  <cp:lastPrinted>2000-06-09T12:50:42Z</cp:lastPrinted>
  <dcterms:modified xsi:type="dcterms:W3CDTF">2000-07-11T23:24:05Z</dcterms:modified>
  <cp:revision>45</cp:revision>
  <dc:subject>Submission</dc:subject>
  <dc:title>Implementation Options for the              Distribution System in the 802.11 Wireless LAN Infrastructure Network</dc:title>
</cp:coreProperties>
</file>